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jpeg" ContentType="image/jpeg"/>
  <Override PartName="/ppt/media/image21.gif" ContentType="image/gif"/>
  <Override PartName="/ppt/media/image1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4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20.gif" ContentType="image/gif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17B-92A2-4CD0-B0AA-EB915F6E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8201-490A-45BA-BE20-8CB48EB4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4C86-EA40-450F-886F-40E5EE20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48AB-2871-4670-958F-D2B0CADE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6EB8-D800-4B2B-8B3A-8DA571F1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8C89-5E88-4A6A-8C4F-CF448464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DA26-BB23-40E1-8F59-9D60F5BA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634A-E75D-4C75-B1DD-3DFEA79B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2683-2A81-47D0-B746-6D417517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65BB-E852-46EE-9383-76DBFADD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F3D3-58E2-4177-8AC8-6FFF0E9A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A322-E800-4B1A-8664-6CC69FAA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3DFA-110C-4653-9C29-A850F215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2FFF-AAED-4946-BC4A-C34216D0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1AF7-64F7-42AB-B289-637F2E41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74F9-892B-4AC6-862D-5B6666EA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1F72-97A0-42DD-AFFC-5C03F4F4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7F2A1-34B5-472C-ACEA-232F97C4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E6440-CC0C-485E-BC89-8B5E6F2E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991CF-FD1B-4BCE-BA01-2BF29255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B71E9-E3F7-4ACF-858A-DDF23DE6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EB501-6103-4857-826D-7FAE2CCC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C314-1D17-4316-BE94-E791A32A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86F39-5F5D-41E5-B584-8A4F2AA8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43737-54A4-4ED4-90F5-4937AD20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207DC-1C8A-4F1B-ABDC-6C6C8372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78CB2-FD21-441C-9E7D-D3C12A46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A6B0F-2036-4312-961B-C4E9EE08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8A273-5BAF-481C-AC92-4157C223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5B618-E7D4-4AA4-AE88-D4FD2A61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8DC6-6A61-4530-9DE7-274F2D6B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9ABE-B185-42B0-89F3-9529A252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A93-0398-437C-BE8F-F725040C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C30-1D10-4B00-8E8A-301C0953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3067-96C1-438B-B0E9-B8B39250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F07-68A0-4C84-9351-FE5208D3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770298-66E6-4673-9231-FD31C886B87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28DA7C-B9D8-4F4A-8EF9-DEFCFDE9BD6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8DEDDE-C86B-4295-95AD-B84E768A3F1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3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C:/Users/&#1057;&#1074;&#1077;&#1090;&#1083;&#1072;&#1085;&#1072;/Music/yumoristicheskiy_kaleydoskop.mp3" TargetMode="External"/><Relationship Id="rId2" Type="http://schemas.microsoft.com/office/2007/relationships/media" Target="file:///C:/Users/&#1057;&#1074;&#1077;&#1090;&#1083;&#1072;&#1085;&#1072;/Music/yumoristicheskiy_kaleydoskop.mp3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 ИЮНЯ ДЕНЬ ЗАЩИТЫ ДЕТЕЙ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F:\фон-1\21785_1024_76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5" name="Прямоугольник 5"/>
          <p:cNvSpPr/>
          <p:nvPr/>
        </p:nvSpPr>
        <p:spPr>
          <a:xfrm>
            <a:off x="2510280" y="476640"/>
            <a:ext cx="5824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 июня- день защиты де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2711160" y="2033640"/>
            <a:ext cx="6432480" cy="482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76360" cy="4868640"/>
          </a:xfrm>
          <a:prstGeom prst="rect">
            <a:avLst/>
          </a:prstGeom>
          <a:ln w="9525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ние на теплоходе «Москва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:\Фон-3\1024172312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80" name="Picture 2" descr="F:\Фон-3\10241723127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3"/>
          <a:stretch/>
        </p:blipFill>
        <p:spPr>
          <a:xfrm>
            <a:off x="251640" y="2366280"/>
            <a:ext cx="5988960" cy="4491360"/>
          </a:xfrm>
          <a:prstGeom prst="rect">
            <a:avLst/>
          </a:prstGeom>
          <a:ln w="9525">
            <a:noFill/>
          </a:ln>
        </p:spPr>
      </p:pic>
      <p:sp>
        <p:nvSpPr>
          <p:cNvPr id="182" name="Прямоугольник 4"/>
          <p:cNvSpPr/>
          <p:nvPr/>
        </p:nvSpPr>
        <p:spPr>
          <a:xfrm>
            <a:off x="899640" y="548640"/>
            <a:ext cx="619236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арке «Солнечный ветер можно покататься на маленькой лошадке по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Мама\Мои документы\Мои рисунки\фоны\smile90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84" name="Прямоугольник 2"/>
          <p:cNvSpPr/>
          <p:nvPr/>
        </p:nvSpPr>
        <p:spPr>
          <a:xfrm>
            <a:off x="2195640" y="548640"/>
            <a:ext cx="4571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0.06.06. Спортивный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спортивные ребят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им эстафет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оветуем всем детя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еть на э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C:\Users\u1\Desktop\Новая папка\DSCF6307.JPG"/>
          <p:cNvPicPr/>
          <p:nvPr/>
        </p:nvPicPr>
        <p:blipFill>
          <a:blip r:embed="rId2"/>
          <a:stretch/>
        </p:blipFill>
        <p:spPr>
          <a:xfrm rot="20870400">
            <a:off x="249480" y="2274120"/>
            <a:ext cx="3686760" cy="2764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C:\Users\u1\Desktop\Новая папка\DSCF5614.JPG"/>
          <p:cNvPicPr/>
          <p:nvPr/>
        </p:nvPicPr>
        <p:blipFill>
          <a:blip r:embed="rId3"/>
          <a:stretch/>
        </p:blipFill>
        <p:spPr>
          <a:xfrm rot="1016400">
            <a:off x="5627520" y="1802520"/>
            <a:ext cx="3012840" cy="2259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Users\u1\Desktop\Новая папка\DSCF6471 (5).JPG"/>
          <p:cNvPicPr/>
          <p:nvPr/>
        </p:nvPicPr>
        <p:blipFill>
          <a:blip r:embed="rId4"/>
          <a:stretch/>
        </p:blipFill>
        <p:spPr>
          <a:xfrm rot="915600">
            <a:off x="4110840" y="3998520"/>
            <a:ext cx="3249720" cy="24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Documents and Settings\Мама\Мои документы\Мои рисунки\фоны\smile80.gif"/>
          <p:cNvPicPr/>
          <p:nvPr/>
        </p:nvPicPr>
        <p:blipFill>
          <a:blip r:embed="rId1"/>
          <a:stretch/>
        </p:blipFill>
        <p:spPr>
          <a:xfrm>
            <a:off x="0" y="11160"/>
            <a:ext cx="9143640" cy="6846480"/>
          </a:xfrm>
          <a:prstGeom prst="rect">
            <a:avLst/>
          </a:prstGeom>
          <a:ln w="9525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10548720" y="836640"/>
            <a:ext cx="7115760" cy="5337000"/>
          </a:xfrm>
          <a:prstGeom prst="rect">
            <a:avLst/>
          </a:prstGeom>
          <a:ln w="9525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3"/>
          <a:stretch/>
        </p:blipFill>
        <p:spPr>
          <a:xfrm>
            <a:off x="14509080" y="-13132800"/>
            <a:ext cx="29260440" cy="21945240"/>
          </a:xfrm>
          <a:prstGeom prst="rect">
            <a:avLst/>
          </a:prstGeom>
          <a:ln w="9525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4"/>
          <a:stretch/>
        </p:blipFill>
        <p:spPr>
          <a:xfrm>
            <a:off x="24806160" y="-4563720"/>
            <a:ext cx="6432480" cy="482400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5"/>
          <a:stretch/>
        </p:blipFill>
        <p:spPr>
          <a:xfrm>
            <a:off x="24958800" y="-4411440"/>
            <a:ext cx="6432480" cy="4824000"/>
          </a:xfrm>
          <a:prstGeom prst="rect">
            <a:avLst/>
          </a:prstGeom>
          <a:ln w="9525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6"/>
          <a:stretch/>
        </p:blipFill>
        <p:spPr>
          <a:xfrm>
            <a:off x="14661360" y="-12980520"/>
            <a:ext cx="29260440" cy="21945240"/>
          </a:xfrm>
          <a:prstGeom prst="rect">
            <a:avLst/>
          </a:prstGeom>
          <a:ln w="9525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7"/>
          <a:stretch/>
        </p:blipFill>
        <p:spPr>
          <a:xfrm>
            <a:off x="2267640" y="2565000"/>
            <a:ext cx="6305040" cy="3816000"/>
          </a:xfrm>
          <a:prstGeom prst="rect">
            <a:avLst/>
          </a:prstGeom>
          <a:ln w="9525">
            <a:noFill/>
          </a:ln>
        </p:spPr>
      </p:pic>
      <p:sp>
        <p:nvSpPr>
          <p:cNvPr id="195" name="Прямоугольник 9"/>
          <p:cNvSpPr/>
          <p:nvPr/>
        </p:nvSpPr>
        <p:spPr>
          <a:xfrm>
            <a:off x="2555640" y="764640"/>
            <a:ext cx="460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дили в походы, игр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Documents and Settings\Мама\Мои документы\Мои рисунки\фоны\orange79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875520" y="1196640"/>
            <a:ext cx="7224480" cy="5418360"/>
          </a:xfrm>
          <a:prstGeom prst="rect">
            <a:avLst/>
          </a:prstGeom>
          <a:ln w="9525">
            <a:noFill/>
          </a:ln>
        </p:spPr>
      </p:pic>
      <p:sp>
        <p:nvSpPr>
          <p:cNvPr id="198" name="Прямоугольник 4"/>
          <p:cNvSpPr/>
          <p:nvPr/>
        </p:nvSpPr>
        <p:spPr>
          <a:xfrm>
            <a:off x="-67680" y="332640"/>
            <a:ext cx="85276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дили пешком в музей с.Шелаболихи, там с нами работники музея провели конкурс «Знаем ли мы природу», ознакомили с экспонатами музея, с выставкой  поделок из ЦДТ. И в тот же день побывали в гостях в ЦДТ. Ребята нам показали концерт. Было интересн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0" y="-997560"/>
            <a:ext cx="4571640" cy="7351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02.06.06. “Космическое путешествие с любимыми героями мультфильмов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йболит и Винни-Пу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ли на ракету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решили, что пора бы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етать по све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ним Дюймовочка просилас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езнайка тож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дь без путешествий жит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никак не мож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осмос вместе полетел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 повидал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лескоп луну смотрел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вёздочки счит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ло очень интересно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кторина, конкурс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хотим мы возвращатьс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акете с косм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Documents and Settings\Мама\Мои документы\Мои рисунки\фоны\black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49720"/>
          </a:xfrm>
          <a:prstGeom prst="rect">
            <a:avLst/>
          </a:prstGeom>
          <a:ln w="9525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0" y="-2513880"/>
            <a:ext cx="12650760" cy="941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07.06.06.                   “Космическое путешеств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 любимыми героями мультфильмов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йболит и Винни-Пух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ли на ракету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решили, что пора б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етать по св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ним Дюймовочка просилас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Незнайка тож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дь без путешествий жит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никак не мож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осмос вместе полетел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 повидал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телескоп луну смотрели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вёздочки счи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ло очень интересно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кторина, конкурсы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хотим мы возвращатьс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акете с косм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Куб 3"/>
          <p:cNvSpPr/>
          <p:nvPr/>
        </p:nvSpPr>
        <p:spPr>
          <a:xfrm rot="655800">
            <a:off x="264960" y="202320"/>
            <a:ext cx="999720" cy="999720"/>
          </a:xfrm>
          <a:prstGeom prst="cube">
            <a:avLst>
              <a:gd name="adj" fmla="val 25000"/>
            </a:avLst>
          </a:prstGeom>
          <a:solidFill>
            <a:srgbClr val="f35f0d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Куб 5"/>
          <p:cNvSpPr/>
          <p:nvPr/>
        </p:nvSpPr>
        <p:spPr>
          <a:xfrm rot="341400">
            <a:off x="4258800" y="46800"/>
            <a:ext cx="999720" cy="999720"/>
          </a:xfrm>
          <a:prstGeom prst="cube">
            <a:avLst>
              <a:gd name="adj" fmla="val 25000"/>
            </a:avLst>
          </a:prstGeom>
          <a:solidFill>
            <a:schemeClr val="accent5">
              <a:lumMod val="75000"/>
            </a:schemeClr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Куб 7"/>
          <p:cNvSpPr/>
          <p:nvPr/>
        </p:nvSpPr>
        <p:spPr>
          <a:xfrm rot="21058200">
            <a:off x="1331640" y="188640"/>
            <a:ext cx="999720" cy="99972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Куб 9"/>
          <p:cNvSpPr/>
          <p:nvPr/>
        </p:nvSpPr>
        <p:spPr>
          <a:xfrm rot="197400">
            <a:off x="3735720" y="5617080"/>
            <a:ext cx="999720" cy="9997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Куб 11"/>
          <p:cNvSpPr/>
          <p:nvPr/>
        </p:nvSpPr>
        <p:spPr>
          <a:xfrm rot="235800">
            <a:off x="2228400" y="149400"/>
            <a:ext cx="999720" cy="99972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Куб 13"/>
          <p:cNvSpPr/>
          <p:nvPr/>
        </p:nvSpPr>
        <p:spPr>
          <a:xfrm rot="21177600">
            <a:off x="4845240" y="5574600"/>
            <a:ext cx="999720" cy="999720"/>
          </a:xfrm>
          <a:prstGeom prst="cube">
            <a:avLst>
              <a:gd name="adj" fmla="val 25000"/>
            </a:avLst>
          </a:prstGeom>
          <a:solidFill>
            <a:srgbClr val="005696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Куб 14"/>
          <p:cNvSpPr/>
          <p:nvPr/>
        </p:nvSpPr>
        <p:spPr>
          <a:xfrm rot="21203400">
            <a:off x="6282360" y="54000"/>
            <a:ext cx="999720" cy="99972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Куб 15"/>
          <p:cNvSpPr/>
          <p:nvPr/>
        </p:nvSpPr>
        <p:spPr>
          <a:xfrm rot="768600">
            <a:off x="2653920" y="5543640"/>
            <a:ext cx="999720" cy="999720"/>
          </a:xfrm>
          <a:prstGeom prst="cube">
            <a:avLst>
              <a:gd name="adj" fmla="val 25000"/>
            </a:avLst>
          </a:prstGeom>
          <a:solidFill>
            <a:srgbClr val="246e2d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Куб 17"/>
          <p:cNvSpPr/>
          <p:nvPr/>
        </p:nvSpPr>
        <p:spPr>
          <a:xfrm rot="771600">
            <a:off x="7407000" y="98640"/>
            <a:ext cx="999720" cy="999720"/>
          </a:xfrm>
          <a:prstGeom prst="cube">
            <a:avLst>
              <a:gd name="adj" fmla="val 25000"/>
            </a:avLst>
          </a:prstGeom>
          <a:solidFill>
            <a:srgbClr val="7030a0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Куб 18"/>
          <p:cNvSpPr/>
          <p:nvPr/>
        </p:nvSpPr>
        <p:spPr>
          <a:xfrm>
            <a:off x="6012000" y="5517360"/>
            <a:ext cx="999720" cy="999720"/>
          </a:xfrm>
          <a:prstGeom prst="cube">
            <a:avLst>
              <a:gd name="adj" fmla="val 25000"/>
            </a:avLst>
          </a:prstGeom>
          <a:solidFill>
            <a:srgbClr val="f35f0d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Куб 6"/>
          <p:cNvSpPr/>
          <p:nvPr/>
        </p:nvSpPr>
        <p:spPr>
          <a:xfrm rot="538200">
            <a:off x="3203640" y="71640"/>
            <a:ext cx="999720" cy="99972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  <a:reflection algn="bl" blurRad="6350" dir="5400000" dist="50800" endA="300" endPos="55500" rotWithShape="0" stA="50000" sy="-100000"/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з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30"/>
          <p:cNvSpPr/>
          <p:nvPr/>
        </p:nvSpPr>
        <p:spPr>
          <a:xfrm>
            <a:off x="147600" y="6634080"/>
            <a:ext cx="11854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http://aida.ucoz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612360" y="5805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4" name="Куб 19"/>
          <p:cNvSpPr/>
          <p:nvPr/>
        </p:nvSpPr>
        <p:spPr>
          <a:xfrm rot="655800">
            <a:off x="5233680" y="85680"/>
            <a:ext cx="999720" cy="999720"/>
          </a:xfrm>
          <a:prstGeom prst="cube">
            <a:avLst>
              <a:gd name="adj" fmla="val 25000"/>
            </a:avLst>
          </a:prstGeom>
          <a:solidFill>
            <a:srgbClr val="f35f0d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lt1"/>
                </a:solidFill>
                <a:latin typeface="Calibri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5" descr=""/>
          <p:cNvPicPr/>
          <p:nvPr/>
        </p:nvPicPr>
        <p:blipFill>
          <a:blip r:embed="rId4"/>
          <a:stretch/>
        </p:blipFill>
        <p:spPr>
          <a:xfrm rot="20079000">
            <a:off x="836280" y="1379520"/>
            <a:ext cx="2244240" cy="1682280"/>
          </a:xfrm>
          <a:prstGeom prst="rect">
            <a:avLst/>
          </a:prstGeom>
          <a:ln w="9525">
            <a:noFill/>
          </a:ln>
        </p:spPr>
      </p:pic>
      <p:pic>
        <p:nvPicPr>
          <p:cNvPr id="146" name="Picture 26" descr=""/>
          <p:cNvPicPr/>
          <p:nvPr/>
        </p:nvPicPr>
        <p:blipFill>
          <a:blip r:embed="rId5"/>
          <a:stretch/>
        </p:blipFill>
        <p:spPr>
          <a:xfrm>
            <a:off x="3564000" y="1413000"/>
            <a:ext cx="2015640" cy="1510920"/>
          </a:xfrm>
          <a:prstGeom prst="rect">
            <a:avLst/>
          </a:prstGeom>
          <a:ln w="9525">
            <a:noFill/>
          </a:ln>
        </p:spPr>
      </p:pic>
      <p:pic>
        <p:nvPicPr>
          <p:cNvPr id="147" name="Picture 27" descr=""/>
          <p:cNvPicPr/>
          <p:nvPr/>
        </p:nvPicPr>
        <p:blipFill>
          <a:blip r:embed="rId6"/>
          <a:stretch/>
        </p:blipFill>
        <p:spPr>
          <a:xfrm rot="1724400">
            <a:off x="6656400" y="1471320"/>
            <a:ext cx="1787040" cy="134100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28" descr=""/>
          <p:cNvPicPr/>
          <p:nvPr/>
        </p:nvPicPr>
        <p:blipFill>
          <a:blip r:embed="rId7"/>
          <a:stretch/>
        </p:blipFill>
        <p:spPr>
          <a:xfrm rot="19491000">
            <a:off x="695160" y="3109680"/>
            <a:ext cx="1828440" cy="1371240"/>
          </a:xfrm>
          <a:prstGeom prst="rect">
            <a:avLst/>
          </a:prstGeom>
          <a:ln w="9525">
            <a:noFill/>
          </a:ln>
        </p:spPr>
      </p:pic>
      <p:pic>
        <p:nvPicPr>
          <p:cNvPr id="149" name="Picture 29" descr=""/>
          <p:cNvPicPr/>
          <p:nvPr/>
        </p:nvPicPr>
        <p:blipFill>
          <a:blip r:embed="rId8"/>
          <a:stretch/>
        </p:blipFill>
        <p:spPr>
          <a:xfrm>
            <a:off x="3348000" y="3284640"/>
            <a:ext cx="1953720" cy="1466640"/>
          </a:xfrm>
          <a:prstGeom prst="rect">
            <a:avLst/>
          </a:prstGeom>
          <a:ln w="9525">
            <a:noFill/>
          </a:ln>
        </p:spPr>
      </p:pic>
      <p:pic>
        <p:nvPicPr>
          <p:cNvPr id="150" name="Picture 30" descr=""/>
          <p:cNvPicPr/>
          <p:nvPr/>
        </p:nvPicPr>
        <p:blipFill>
          <a:blip r:embed="rId9"/>
          <a:stretch/>
        </p:blipFill>
        <p:spPr>
          <a:xfrm rot="915600">
            <a:off x="5659200" y="2569680"/>
            <a:ext cx="1875960" cy="1407600"/>
          </a:xfrm>
          <a:prstGeom prst="rect">
            <a:avLst/>
          </a:prstGeom>
          <a:ln w="9525">
            <a:noFill/>
          </a:ln>
        </p:spPr>
      </p:pic>
      <p:pic>
        <p:nvPicPr>
          <p:cNvPr id="151" name="Picture 31" descr=""/>
          <p:cNvPicPr/>
          <p:nvPr/>
        </p:nvPicPr>
        <p:blipFill>
          <a:blip r:embed="rId10"/>
          <a:stretch/>
        </p:blipFill>
        <p:spPr>
          <a:xfrm rot="1333200">
            <a:off x="7064280" y="3732120"/>
            <a:ext cx="1882440" cy="1412640"/>
          </a:xfrm>
          <a:prstGeom prst="rect">
            <a:avLst/>
          </a:prstGeom>
          <a:ln w="9525">
            <a:noFill/>
          </a:ln>
        </p:spPr>
      </p:pic>
      <p:pic>
        <p:nvPicPr>
          <p:cNvPr id="152" name="Picture 32" descr=""/>
          <p:cNvPicPr/>
          <p:nvPr/>
        </p:nvPicPr>
        <p:blipFill>
          <a:blip r:embed="rId11"/>
          <a:stretch/>
        </p:blipFill>
        <p:spPr>
          <a:xfrm rot="20254200">
            <a:off x="515520" y="4733640"/>
            <a:ext cx="1823760" cy="1366560"/>
          </a:xfrm>
          <a:prstGeom prst="rect">
            <a:avLst/>
          </a:prstGeom>
          <a:ln w="9525">
            <a:noFill/>
          </a:ln>
        </p:spPr>
      </p:pic>
      <p:pic>
        <p:nvPicPr>
          <p:cNvPr id="153" name="Picture 33" descr=""/>
          <p:cNvPicPr/>
          <p:nvPr/>
        </p:nvPicPr>
        <p:blipFill>
          <a:blip r:embed="rId12"/>
          <a:stretch/>
        </p:blipFill>
        <p:spPr>
          <a:xfrm rot="1985400">
            <a:off x="5457960" y="4339800"/>
            <a:ext cx="1918800" cy="1439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120" cy="7314840"/>
          </a:xfrm>
          <a:prstGeom prst="rect">
            <a:avLst/>
          </a:prstGeom>
          <a:ln w="9525">
            <a:noFill/>
          </a:ln>
        </p:spPr>
      </p:pic>
      <p:sp>
        <p:nvSpPr>
          <p:cNvPr id="156" name="Прямоугольник 3"/>
          <p:cNvSpPr/>
          <p:nvPr/>
        </p:nvSpPr>
        <p:spPr>
          <a:xfrm>
            <a:off x="4572000" y="1779840"/>
            <a:ext cx="4571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03.06.06. “Безопасное поведение на дорогах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важно выполня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дорожны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ь без правил на дорог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о 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шеход и пассажи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должны их зна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обязаны, конечн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го выполня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грайте на дороге!”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понима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ь дорога для машин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каждый зн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орогу если вышел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внимательно смотр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т машины всюду ездя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не стой на их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http://im8-tub.yandex.net/i?id=127900492-51-72"/>
          <p:cNvPicPr/>
          <p:nvPr/>
        </p:nvPicPr>
        <p:blipFill>
          <a:blip r:embed="rId2"/>
          <a:stretch/>
        </p:blipFill>
        <p:spPr>
          <a:xfrm>
            <a:off x="0" y="0"/>
            <a:ext cx="1114200" cy="1066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Картинка 32 из 96000"/>
          <p:cNvPicPr/>
          <p:nvPr/>
        </p:nvPicPr>
        <p:blipFill>
          <a:blip r:embed="rId3"/>
          <a:stretch/>
        </p:blipFill>
        <p:spPr>
          <a:xfrm>
            <a:off x="0" y="0"/>
            <a:ext cx="9900360" cy="73101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6"/>
          <p:cNvSpPr/>
          <p:nvPr/>
        </p:nvSpPr>
        <p:spPr>
          <a:xfrm>
            <a:off x="2339640" y="332640"/>
            <a:ext cx="457164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08.06.06. “Безопасное поведение на дорогах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ень важно выполнят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а дорожны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дь без правил на дорог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о 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шеход и пассажи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должны их знат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бязаны, конечно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го выполня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играйте на дороге!”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ый понимае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дь дорога для машин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каждый зн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рогу если вышел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внимательно смотр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т машины всюду ездя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 не стой на их пу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Documents and Settings\Мама\Мои документы\Мои рисунки\фоны\293914-1873cebfb4c7fb4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61" name="Rectangle 1"/>
          <p:cNvSpPr/>
          <p:nvPr/>
        </p:nvSpPr>
        <p:spPr>
          <a:xfrm>
            <a:off x="395640" y="1031400"/>
            <a:ext cx="3168000" cy="3931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08.06.06. Музыкальный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о песен хороши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ем мы и поё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о песен разучи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ы о том, как жив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 походы, про лет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 каникулы всё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учили мы вмест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 родное се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о песен пропел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ещё пропоё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ашем лагере чудн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нь дружно жив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C:\Users\u1\Desktop\Новая папка\DSCF5579.JPG"/>
          <p:cNvPicPr/>
          <p:nvPr/>
        </p:nvPicPr>
        <p:blipFill>
          <a:blip r:embed="rId2"/>
          <a:stretch/>
        </p:blipFill>
        <p:spPr>
          <a:xfrm>
            <a:off x="4428000" y="404640"/>
            <a:ext cx="360000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C:\Documents and Settings\Мама\Мои документы\Мои рисунки\фоны\293931-bf9db42550b4f05c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65" name="Rectangle 1"/>
          <p:cNvSpPr/>
          <p:nvPr/>
        </p:nvSpPr>
        <p:spPr>
          <a:xfrm>
            <a:off x="0" y="-1627560"/>
            <a:ext cx="5472360" cy="8444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09.06.06. “На солнечной полянке” (Поле чуде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олнечной поляночк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видели цвет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торые оберегать должн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н, и я, и 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говорили о цветах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многое узнал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думали, они расту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 их в букет собр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ако если будем рва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веты мы как попал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 не останется совсе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ь будет очень м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 не порадует простре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он-трава весною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колокольчик голубо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расцветёт на п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лилия-кувшин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воде не расцветё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ь мы не будем их береч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это пропад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7164360" y="4797000"/>
            <a:ext cx="1295640" cy="129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Documents and Settings\Мама\Мои документы\Мои рисунки\фоны\smile80.gif"/>
          <p:cNvPicPr/>
          <p:nvPr/>
        </p:nvPicPr>
        <p:blipFill>
          <a:blip r:embed="rId1"/>
          <a:stretch/>
        </p:blipFill>
        <p:spPr>
          <a:xfrm>
            <a:off x="0" y="11160"/>
            <a:ext cx="9143640" cy="6846480"/>
          </a:xfrm>
          <a:prstGeom prst="rect">
            <a:avLst/>
          </a:prstGeom>
          <a:ln w="9525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5004000" y="1124640"/>
            <a:ext cx="3726000" cy="4968360"/>
          </a:xfrm>
          <a:prstGeom prst="rect">
            <a:avLst/>
          </a:prstGeom>
          <a:ln w="9525">
            <a:noFill/>
          </a:ln>
        </p:spPr>
      </p:pic>
      <p:sp>
        <p:nvSpPr>
          <p:cNvPr id="169" name="Прямоугольник 3"/>
          <p:cNvSpPr/>
          <p:nvPr/>
        </p:nvSpPr>
        <p:spPr>
          <a:xfrm>
            <a:off x="251640" y="1124640"/>
            <a:ext cx="4571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6 июня ездили в Барнаул. Катались на теплоходе , а после катания нас ждал парк развлечений «Солнечный ветер», а там множество аттракционов и слад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F:\Фон-3\1024172312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2" descr="F:\Фон-3\10241723127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3"/>
          <a:stretch/>
        </p:blipFill>
        <p:spPr>
          <a:xfrm>
            <a:off x="179640" y="2853000"/>
            <a:ext cx="4992120" cy="374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:\Фон-3\1024172312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74" name="Picture 2" descr="F:\Фон-3\10241723127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3"/>
          <a:stretch/>
        </p:blipFill>
        <p:spPr>
          <a:xfrm>
            <a:off x="227520" y="2997000"/>
            <a:ext cx="4896360" cy="3672000"/>
          </a:xfrm>
          <a:prstGeom prst="rect">
            <a:avLst/>
          </a:prstGeom>
          <a:ln w="9525">
            <a:noFill/>
          </a:ln>
        </p:spPr>
      </p:pic>
      <p:sp>
        <p:nvSpPr>
          <p:cNvPr id="176" name="Прямоугольник 4"/>
          <p:cNvSpPr/>
          <p:nvPr/>
        </p:nvSpPr>
        <p:spPr>
          <a:xfrm>
            <a:off x="539640" y="620640"/>
            <a:ext cx="6336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ещё здесь можно было полакомиться сладкой ва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  <Words>213</Words>
  <Paragraphs>1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10:24:16Z</dcterms:created>
  <dc:creator>Антон</dc:creator>
  <dc:description/>
  <dc:language>en-US</dc:language>
  <cp:lastModifiedBy>мои документы</cp:lastModifiedBy>
  <dcterms:modified xsi:type="dcterms:W3CDTF">2011-06-24T01:58:17Z</dcterms:modified>
  <cp:revision>11</cp:revision>
  <dc:subject/>
  <dc:title>1 ИЮНЯ ДЕНЬ ЗАЩИТЫ ДЕТЕ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4</vt:r8>
  </property>
</Properties>
</file>