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20.gif" ContentType="image/gif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2DB-9FAF-4486-B317-3F559495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000-94E1-454C-B4C3-D935BB1C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1CB-5EEB-4B8C-ACBB-A962F1A7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EA3-6C86-4DE7-820D-4078209E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C308-C281-403B-BC0D-09558CBB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F2B5-D544-43F2-B1F4-3D08348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EDCF-F71F-4869-A153-87C134B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A17-F8B3-41E9-87CE-25E108AF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46E-F9E7-4FC9-91B1-20C553B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1241-9229-481F-9CC2-FCC9BD78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E17B-2638-4F32-BE4D-31C3244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4F7-4AE6-4E97-AE36-224E79B3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2264-6F3E-4EA5-8965-417E2AF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F56E-4B47-4425-8856-25F03C5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C645-26AB-474D-B42F-0C445C89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F61D-2ED9-4B08-93DC-3A808935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B89F-4A72-4BF0-90FE-DC115653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F0C6-7E2F-49DE-AC5E-D509E24D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844A-A802-42D9-AEEE-34DDB960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98DC-9DCD-4DCB-817A-799CE044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1A6E-4D79-4C78-85CC-A2A08FD1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1BA2-932F-4EB1-A782-263286B8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02A-6B90-4D96-A450-C2ADD55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9EEC-663A-4F45-9AF6-B0AEF4B2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E549-F31A-4C17-BFFC-8E25B8B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34F8-9A9B-49B2-B0BE-1845DAA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27AE-AC49-4082-9E2A-A3455363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C815-3C4A-4B66-943E-3AE2795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AB62-882B-42EB-929E-0926F62F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E7EB-392C-47C5-AED3-7AAEE8CD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461-8A51-44C8-B347-8B34F7DF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B08-DAE7-4DAA-899D-A17612BF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1B8-F083-4297-A3BE-AB05534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825-6ADD-49F4-A8DA-254E8CC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B85-4B13-4F54-AFA2-AADE152F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284-36B4-4C26-8893-A860ADD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69DC44-E255-4D04-95BE-F0C7D8C494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715F3C-F194-4CD0-90CB-CF76540FBF7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75FFC1-62E3-41A3-A945-9EBB4EE30C3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3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C:/Users/&#1057;&#1074;&#1077;&#1090;&#1083;&#1072;&#1085;&#1072;/Music/yumoristicheskiy_kaleydoskop.mp3" TargetMode="External"/><Relationship Id="rId2" Type="http://schemas.microsoft.com/office/2007/relationships/media" Target="file:///C:/Users/&#1057;&#1074;&#1077;&#1090;&#1083;&#1072;&#1085;&#1072;/Music/yumoristicheskiy_kaleydoskop.mp3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ИЮНЯ ДЕНЬ ЗАЩИТЫ ДЕТЕ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F:\фон-1\21785_1024_76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2510280" y="476640"/>
            <a:ext cx="582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июня- день защиты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2711160" y="2033640"/>
            <a:ext cx="6432480" cy="48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6360" cy="4868640"/>
          </a:xfrm>
          <a:prstGeom prst="rect">
            <a:avLst/>
          </a:prstGeom>
          <a:ln w="9525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ние на теплоходе «Москв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251640" y="2366280"/>
            <a:ext cx="5988960" cy="4491360"/>
          </a:xfrm>
          <a:prstGeom prst="rect">
            <a:avLst/>
          </a:prstGeom>
          <a:ln w="9525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899640" y="548640"/>
            <a:ext cx="6192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арке «Солнечный ветер можно покататься на маленькой лошадке п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Мама\Мои документы\Мои рисунки\фоны\smile90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2195640" y="54864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.06.06. Спортив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портивные ребя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 эстафе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ветуем всем дет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ть на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u1\Desktop\Новая папка\DSCF6307.JPG"/>
          <p:cNvPicPr/>
          <p:nvPr/>
        </p:nvPicPr>
        <p:blipFill>
          <a:blip r:embed="rId2"/>
          <a:stretch/>
        </p:blipFill>
        <p:spPr>
          <a:xfrm rot="20870400">
            <a:off x="249480" y="2274120"/>
            <a:ext cx="3686760" cy="276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u1\Desktop\Новая папка\DSCF5614.JPG"/>
          <p:cNvPicPr/>
          <p:nvPr/>
        </p:nvPicPr>
        <p:blipFill>
          <a:blip r:embed="rId3"/>
          <a:stretch/>
        </p:blipFill>
        <p:spPr>
          <a:xfrm rot="1016400">
            <a:off x="5627520" y="1802520"/>
            <a:ext cx="3012840" cy="2259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u1\Desktop\Новая папка\DSCF6471 (5).JPG"/>
          <p:cNvPicPr/>
          <p:nvPr/>
        </p:nvPicPr>
        <p:blipFill>
          <a:blip r:embed="rId4"/>
          <a:stretch/>
        </p:blipFill>
        <p:spPr>
          <a:xfrm rot="915600">
            <a:off x="4110840" y="3998520"/>
            <a:ext cx="3249720" cy="24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Мама\Мои документы\Мои рисунки\фоны\smile80.gif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4648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0548720" y="836640"/>
            <a:ext cx="7115760" cy="533700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4509080" y="-13132800"/>
            <a:ext cx="29260440" cy="2194524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24806160" y="-4563720"/>
            <a:ext cx="6432480" cy="482400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5"/>
          <a:stretch/>
        </p:blipFill>
        <p:spPr>
          <a:xfrm>
            <a:off x="24958800" y="-4411440"/>
            <a:ext cx="6432480" cy="482400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6"/>
          <a:stretch/>
        </p:blipFill>
        <p:spPr>
          <a:xfrm>
            <a:off x="14661360" y="-12980520"/>
            <a:ext cx="29260440" cy="2194524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7"/>
          <a:stretch/>
        </p:blipFill>
        <p:spPr>
          <a:xfrm>
            <a:off x="2267640" y="2565000"/>
            <a:ext cx="6305040" cy="3816000"/>
          </a:xfrm>
          <a:prstGeom prst="rect">
            <a:avLst/>
          </a:prstGeom>
          <a:ln w="9525">
            <a:noFill/>
          </a:ln>
        </p:spPr>
      </p:pic>
      <p:sp>
        <p:nvSpPr>
          <p:cNvPr id="195" name="Прямоугольник 9"/>
          <p:cNvSpPr/>
          <p:nvPr/>
        </p:nvSpPr>
        <p:spPr>
          <a:xfrm>
            <a:off x="2555640" y="764640"/>
            <a:ext cx="46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ли в походы, иг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Мама\Мои документы\Мои рисунки\фоны\orange79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875520" y="1196640"/>
            <a:ext cx="7224480" cy="5418360"/>
          </a:xfrm>
          <a:prstGeom prst="rect">
            <a:avLst/>
          </a:prstGeom>
          <a:ln w="9525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-67680" y="332640"/>
            <a:ext cx="8527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или пешком в музей с.Шелаболихи, там с нами работники музея провели конкурс «Знаем ли мы природу», ознакомили с экспонатами музея, с выставкой  поделок из ЦДТ. И в тот же день побывали в гостях в ЦДТ. Ребята нам показали концерт. Было интерес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0" y="-997560"/>
            <a:ext cx="4571640" cy="735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02.06.06. “Космическое путешествие с любимыми героями мультфильмов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йболит и Винни-Пу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и на ракет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ешили, что пора б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етать по св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ним Дюймовочка просилас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езнайка тож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без путешествий ж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никак не 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смос вместе полетел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повида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лескоп луну смотрел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ёздочки счи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о очень интересно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, конкур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хотим мы возвращать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акете 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Мама\Мои документы\Мои рисунки\фоны\black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720"/>
          </a:xfrm>
          <a:prstGeom prst="rect">
            <a:avLst/>
          </a:prstGeom>
          <a:ln w="9525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0" y="-2513880"/>
            <a:ext cx="12650760" cy="941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7.06.06.                   “Космическое путешеств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любимыми героями мультфильм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болит и Винни-Пу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и на ракет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ешили, что пора б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тать по с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ним Дюймовочка просилас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знайка тож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ь без путешествий ж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икак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ос вместе полетел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повид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лескоп луну смотрел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ёздочки сч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очень интересно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торина, конкурс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хотим мы возвращать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кете с косм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Куб 3"/>
          <p:cNvSpPr/>
          <p:nvPr/>
        </p:nvSpPr>
        <p:spPr>
          <a:xfrm rot="655800">
            <a:off x="264960" y="20232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Куб 5"/>
          <p:cNvSpPr/>
          <p:nvPr/>
        </p:nvSpPr>
        <p:spPr>
          <a:xfrm rot="341400">
            <a:off x="4258800" y="46800"/>
            <a:ext cx="999720" cy="999720"/>
          </a:xfrm>
          <a:prstGeom prst="cube">
            <a:avLst>
              <a:gd name="adj" fmla="val 25000"/>
            </a:avLst>
          </a:prstGeom>
          <a:solidFill>
            <a:schemeClr val="accent5">
              <a:lumMod val="75000"/>
            </a:schemeClr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уб 7"/>
          <p:cNvSpPr/>
          <p:nvPr/>
        </p:nvSpPr>
        <p:spPr>
          <a:xfrm rot="21058200">
            <a:off x="1331640" y="188640"/>
            <a:ext cx="999720" cy="99972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уб 9"/>
          <p:cNvSpPr/>
          <p:nvPr/>
        </p:nvSpPr>
        <p:spPr>
          <a:xfrm rot="197400">
            <a:off x="3735720" y="5617080"/>
            <a:ext cx="999720" cy="999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Куб 11"/>
          <p:cNvSpPr/>
          <p:nvPr/>
        </p:nvSpPr>
        <p:spPr>
          <a:xfrm rot="235800">
            <a:off x="2228400" y="149400"/>
            <a:ext cx="999720" cy="9997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Куб 13"/>
          <p:cNvSpPr/>
          <p:nvPr/>
        </p:nvSpPr>
        <p:spPr>
          <a:xfrm rot="21177600">
            <a:off x="4845240" y="5574600"/>
            <a:ext cx="999720" cy="999720"/>
          </a:xfrm>
          <a:prstGeom prst="cube">
            <a:avLst>
              <a:gd name="adj" fmla="val 25000"/>
            </a:avLst>
          </a:prstGeom>
          <a:solidFill>
            <a:srgbClr val="005696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Куб 14"/>
          <p:cNvSpPr/>
          <p:nvPr/>
        </p:nvSpPr>
        <p:spPr>
          <a:xfrm rot="21203400">
            <a:off x="6282360" y="54000"/>
            <a:ext cx="999720" cy="999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Куб 15"/>
          <p:cNvSpPr/>
          <p:nvPr/>
        </p:nvSpPr>
        <p:spPr>
          <a:xfrm rot="768600">
            <a:off x="2653920" y="5543640"/>
            <a:ext cx="999720" cy="999720"/>
          </a:xfrm>
          <a:prstGeom prst="cube">
            <a:avLst>
              <a:gd name="adj" fmla="val 25000"/>
            </a:avLst>
          </a:prstGeom>
          <a:solidFill>
            <a:srgbClr val="246e2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Куб 17"/>
          <p:cNvSpPr/>
          <p:nvPr/>
        </p:nvSpPr>
        <p:spPr>
          <a:xfrm rot="771600">
            <a:off x="7407000" y="98640"/>
            <a:ext cx="999720" cy="99972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Куб 18"/>
          <p:cNvSpPr/>
          <p:nvPr/>
        </p:nvSpPr>
        <p:spPr>
          <a:xfrm>
            <a:off x="6012000" y="551736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Куб 6"/>
          <p:cNvSpPr/>
          <p:nvPr/>
        </p:nvSpPr>
        <p:spPr>
          <a:xfrm rot="538200">
            <a:off x="3203640" y="71640"/>
            <a:ext cx="999720" cy="99972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147600" y="6634080"/>
            <a:ext cx="11854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612360" y="5805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Куб 19"/>
          <p:cNvSpPr/>
          <p:nvPr/>
        </p:nvSpPr>
        <p:spPr>
          <a:xfrm rot="655800">
            <a:off x="5233680" y="8568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4"/>
          <a:stretch/>
        </p:blipFill>
        <p:spPr>
          <a:xfrm rot="20079000">
            <a:off x="836280" y="1379520"/>
            <a:ext cx="2244240" cy="16822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015640" cy="151092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6"/>
          <a:stretch/>
        </p:blipFill>
        <p:spPr>
          <a:xfrm rot="1724400">
            <a:off x="6656400" y="1471320"/>
            <a:ext cx="1787040" cy="134100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8" descr=""/>
          <p:cNvPicPr/>
          <p:nvPr/>
        </p:nvPicPr>
        <p:blipFill>
          <a:blip r:embed="rId7"/>
          <a:stretch/>
        </p:blipFill>
        <p:spPr>
          <a:xfrm rot="19491000">
            <a:off x="695160" y="3109680"/>
            <a:ext cx="1828440" cy="137124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29" descr=""/>
          <p:cNvPicPr/>
          <p:nvPr/>
        </p:nvPicPr>
        <p:blipFill>
          <a:blip r:embed="rId8"/>
          <a:stretch/>
        </p:blipFill>
        <p:spPr>
          <a:xfrm>
            <a:off x="3348000" y="3284640"/>
            <a:ext cx="1953720" cy="14666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0" descr=""/>
          <p:cNvPicPr/>
          <p:nvPr/>
        </p:nvPicPr>
        <p:blipFill>
          <a:blip r:embed="rId9"/>
          <a:stretch/>
        </p:blipFill>
        <p:spPr>
          <a:xfrm rot="915600">
            <a:off x="5659200" y="2569680"/>
            <a:ext cx="1875960" cy="140760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31" descr=""/>
          <p:cNvPicPr/>
          <p:nvPr/>
        </p:nvPicPr>
        <p:blipFill>
          <a:blip r:embed="rId10"/>
          <a:stretch/>
        </p:blipFill>
        <p:spPr>
          <a:xfrm rot="1333200">
            <a:off x="7064280" y="3732120"/>
            <a:ext cx="1882440" cy="141264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32" descr=""/>
          <p:cNvPicPr/>
          <p:nvPr/>
        </p:nvPicPr>
        <p:blipFill>
          <a:blip r:embed="rId11"/>
          <a:stretch/>
        </p:blipFill>
        <p:spPr>
          <a:xfrm rot="20254200">
            <a:off x="515520" y="4733640"/>
            <a:ext cx="1823760" cy="136656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33" descr=""/>
          <p:cNvPicPr/>
          <p:nvPr/>
        </p:nvPicPr>
        <p:blipFill>
          <a:blip r:embed="rId12"/>
          <a:stretch/>
        </p:blipFill>
        <p:spPr>
          <a:xfrm rot="1985400">
            <a:off x="5457960" y="4339800"/>
            <a:ext cx="1918800" cy="143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4572000" y="1779840"/>
            <a:ext cx="4571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03.06.06. “Безопасное поведение на дорогах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ажно выполня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дорож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без правил на дорог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 и пассажи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лжны их зн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бязаны, конеч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о выполн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грайте на дороге!”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онима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дорога для маши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аждый з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рогу если выше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внимательно смот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машины всюду ездя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е стой на их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ttp://im8-tub.yandex.net/i?id=127900492-51-72"/>
          <p:cNvPicPr/>
          <p:nvPr/>
        </p:nvPicPr>
        <p:blipFill>
          <a:blip r:embed="rId2"/>
          <a:stretch/>
        </p:blipFill>
        <p:spPr>
          <a:xfrm>
            <a:off x="0" y="0"/>
            <a:ext cx="1114200" cy="106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артинка 32 из 96000"/>
          <p:cNvPicPr/>
          <p:nvPr/>
        </p:nvPicPr>
        <p:blipFill>
          <a:blip r:embed="rId3"/>
          <a:stretch/>
        </p:blipFill>
        <p:spPr>
          <a:xfrm>
            <a:off x="0" y="0"/>
            <a:ext cx="9900360" cy="7310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339640" y="332640"/>
            <a:ext cx="45716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08.06.06. “Безопасное поведение на дорогах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важно выполня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дорож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без правил на дорог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 и пассажи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должны их зна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бязаны, конечно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го выполн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грайте на дороге!”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понимае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дорога для маши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каждый з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рогу если выше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внимательно смотр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машины всюду ездя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не стой на их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Мама\Мои документы\Мои рисунки\фоны\293914-1873cebfb4c7fb4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395640" y="1031400"/>
            <a:ext cx="316800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08.06.06. Музыкаль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хорош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ем мы и по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разучи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о том, как жи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походы, про ле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каникулы всё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учили мы вмес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родное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пропе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ещё пропо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м лагере чуд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дружно жи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1\Desktop\Новая папка\DSCF5579.JPG"/>
          <p:cNvPicPr/>
          <p:nvPr/>
        </p:nvPicPr>
        <p:blipFill>
          <a:blip r:embed="rId2"/>
          <a:stretch/>
        </p:blipFill>
        <p:spPr>
          <a:xfrm>
            <a:off x="4428000" y="404640"/>
            <a:ext cx="3600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Documents and Settings\Мама\Мои документы\Мои рисунки\фоны\293931-bf9db42550b4f05c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0" y="-1627560"/>
            <a:ext cx="5472360" cy="84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09.06.06. “На солнечной полянке” (Поле чуде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лнечной поляночк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идели цве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оберегать долж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н, и я, и 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говорили о цветах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ногое узнал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думали, они расту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их в букет соб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ко если будем р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ы мы как попа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е останется совс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 будет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 не порадует простре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н-трава весно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локольчик голуб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асцветёт на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илия-кувшин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оде не расцветё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 мы не будем их береч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это пропа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164360" y="4797000"/>
            <a:ext cx="1295640" cy="12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Мама\Мои документы\Мои рисунки\фоны\smile80.gif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464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5004000" y="1124640"/>
            <a:ext cx="3726000" cy="4968360"/>
          </a:xfrm>
          <a:prstGeom prst="rect">
            <a:avLst/>
          </a:prstGeom>
          <a:ln w="9525">
            <a:noFill/>
          </a:ln>
        </p:spPr>
      </p:pic>
      <p:sp>
        <p:nvSpPr>
          <p:cNvPr id="169" name="Прямоугольник 3"/>
          <p:cNvSpPr/>
          <p:nvPr/>
        </p:nvSpPr>
        <p:spPr>
          <a:xfrm>
            <a:off x="251640" y="1124640"/>
            <a:ext cx="4571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 июня ездили в Барнаул. Катались на теплоходе , а после катания нас ждал парк развлечений «Солнечный ветер», а там множество аттракционов и слад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179640" y="2853000"/>
            <a:ext cx="4992120" cy="37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227520" y="2997000"/>
            <a:ext cx="4896360" cy="3672000"/>
          </a:xfrm>
          <a:prstGeom prst="rect">
            <a:avLst/>
          </a:prstGeom>
          <a:ln w="9525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539640" y="620640"/>
            <a:ext cx="633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ещё здесь можно было полакомиться сладкой ва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213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0:24:16Z</dcterms:created>
  <dc:creator>Антон</dc:creator>
  <dc:description/>
  <dc:language>en-US</dc:language>
  <cp:lastModifiedBy>мои документы</cp:lastModifiedBy>
  <dcterms:modified xsi:type="dcterms:W3CDTF">2011-06-24T01:58:17Z</dcterms:modified>
  <cp:revision>11</cp:revision>
  <dc:subject/>
  <dc:title>1 ИЮНЯ ДЕНЬ ЗАЩИТЫ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