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B22E-DE16-4245-8090-23740BF37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2DD9-C9F3-4FA6-B414-E69BC1CC5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787-EB52-4468-88E1-4CEAC7C8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2A8-D33F-4548-B29D-E12C66A2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7AD-82C8-408A-A58A-4B7A1CDD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B74-6047-42F9-9AAF-9E3F9BBB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C43-1E91-491B-8B10-D61F282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AE0-EB9C-4302-9DB3-F7E3F700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1BC-76DA-4EEE-9E8A-DD2DC32A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693-7767-443E-A29F-4E426AB7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736-03E1-4406-BBAD-9C10FCAC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03D-6702-4ADB-BF16-8AE0F64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A8A-04F9-4DA2-AB2B-9575C507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D24-5EBC-44CA-BD46-2C026814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1C81-3654-4D18-BA8E-C248DFB50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IMG_1597.PNG"/>
          <p:cNvPicPr/>
          <p:nvPr/>
        </p:nvPicPr>
        <p:blipFill>
          <a:blip r:embed="rId1"/>
          <a:stretch/>
        </p:blipFill>
        <p:spPr>
          <a:xfrm>
            <a:off x="380880" y="533520"/>
            <a:ext cx="8415360" cy="5856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90920" y="1905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066680" y="49528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ЗОЛОТАЯ 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066680" y="4114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IMG_1605.JPG"/>
          <p:cNvPicPr/>
          <p:nvPr/>
        </p:nvPicPr>
        <p:blipFill>
          <a:blip r:embed="rId1"/>
          <a:stretch/>
        </p:blipFill>
        <p:spPr>
          <a:xfrm>
            <a:off x="304920" y="380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IMG_1606.JPG"/>
          <p:cNvPicPr/>
          <p:nvPr/>
        </p:nvPicPr>
        <p:blipFill>
          <a:blip r:embed="rId2"/>
          <a:stretch/>
        </p:blipFill>
        <p:spPr>
          <a:xfrm>
            <a:off x="5562720" y="3276720"/>
            <a:ext cx="3174840" cy="3174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IMG_1607.JPG"/>
          <p:cNvPicPr/>
          <p:nvPr/>
        </p:nvPicPr>
        <p:blipFill>
          <a:blip r:embed="rId3"/>
          <a:stretch/>
        </p:blipFill>
        <p:spPr>
          <a:xfrm>
            <a:off x="3429000" y="1676520"/>
            <a:ext cx="353052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533520" y="3962520"/>
            <a:ext cx="419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тройную рябину вижу во дворе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умруд на ветках утром на заре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Много ягод красных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пелых и прекрасных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Гроздьями висят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х красив наряд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обери на нитку ягод- для души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 рябины бусы очень хорош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114800" y="38088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У забора облеп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Выросла по случаю.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оберешь немало л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 ягодой колюч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33520" y="4572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т мы и побывали с вами в гостях  у красавицы Осе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09480" y="1219320"/>
            <a:ext cx="807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Унылая пора! Очей очарованье!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риятна мне твоя прощальная краса —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Люблю я пышное природы увяд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багрец и в золото одетые л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их сенях ветра шум и свежее дых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мглой волнистою покрыты неб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редкий солнца луч, и первые морозы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отдаленные седой зимы у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1602.JPG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121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676520" y="2286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«ЗОЛОТАЯ ОС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(средня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09680" y="198108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грамм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Закрепить знания детей о ранней осен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рвом осеннем месяце – сентябрь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Развивать умение обобщать полученные знания, делать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Расширять словарный запас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Воспитывать интерес к окружающему миру,любовь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getImage2.jpg"/>
          <p:cNvPicPr/>
          <p:nvPr/>
        </p:nvPicPr>
        <p:blipFill>
          <a:blip r:embed="rId1"/>
          <a:stretch/>
        </p:blipFill>
        <p:spPr>
          <a:xfrm>
            <a:off x="3124080" y="304920"/>
            <a:ext cx="5715000" cy="6248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80880" y="1523880"/>
            <a:ext cx="2667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я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егодня мы с вами пойдем в гости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к красавице Осе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ес, точно терем распис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иловый, золотой, багря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тоит над солнечной поля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вороженный тишин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_1571.JPG"/>
          <p:cNvPicPr/>
          <p:nvPr/>
        </p:nvPicPr>
        <p:blipFill>
          <a:blip r:embed="rId1"/>
          <a:stretch/>
        </p:blipFill>
        <p:spPr>
          <a:xfrm>
            <a:off x="380880" y="380880"/>
            <a:ext cx="5105520" cy="6096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562720" y="304920"/>
            <a:ext cx="3200400" cy="65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для того, чтобы Осень впустила нас в сказочный лес, нам нужно отгадать загадки про осень. Вы гото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ни стали короч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линнее стали но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то скажет, кто зн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гда это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ришла без красок и без к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И перекрасила все листь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зовите первый месяц Осе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лодцы реб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е путешествие продолжа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457200" y="380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от мы и пришли в осенний лес, Скажите, что собирают в сентябре в лесу? Правильно. Ягоды  и грибы. Давайте с вами вспомним какие бывают  грибы? А теперь возьмем корзинки и отправим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да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SAM_0398.JPG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_1591.JPG"/>
          <p:cNvPicPr/>
          <p:nvPr/>
        </p:nvPicPr>
        <p:blipFill>
          <a:blip r:embed="rId1"/>
          <a:stretch/>
        </p:blipFill>
        <p:spPr>
          <a:xfrm>
            <a:off x="380880" y="30492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IMG_1592.JPG"/>
          <p:cNvPicPr/>
          <p:nvPr/>
        </p:nvPicPr>
        <p:blipFill>
          <a:blip r:embed="rId2"/>
          <a:stretch/>
        </p:blipFill>
        <p:spPr>
          <a:xfrm>
            <a:off x="4876920" y="2209680"/>
            <a:ext cx="3911400" cy="4292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419720" y="6094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ренастый, в шляпе 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иб растет в лесу сосн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й, схватили белки вм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от белый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880" y="5029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ял на крепкой н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 лежит в луко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IMG_1598.JPG"/>
          <p:cNvPicPr/>
          <p:nvPr/>
        </p:nvPicPr>
        <p:blipFill>
          <a:blip r:embed="rId1"/>
          <a:stretch/>
        </p:blipFill>
        <p:spPr>
          <a:xfrm>
            <a:off x="4952880" y="380880"/>
            <a:ext cx="383544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IMG_1593.JPG"/>
          <p:cNvPicPr/>
          <p:nvPr/>
        </p:nvPicPr>
        <p:blipFill>
          <a:blip r:embed="rId2"/>
          <a:stretch/>
        </p:blipFill>
        <p:spPr>
          <a:xfrm>
            <a:off x="380880" y="3124080"/>
            <a:ext cx="4064040" cy="3353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33520" y="914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аленький, удал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квозь землю про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расную шапочку наш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724280" y="47242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то стоит на крепкой н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 бурых листьях у дорож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IMG_1599.JPG"/>
          <p:cNvPicPr/>
          <p:nvPr/>
        </p:nvPicPr>
        <p:blipFill>
          <a:blip r:embed="rId1"/>
          <a:stretch/>
        </p:blipFill>
        <p:spPr>
          <a:xfrm>
            <a:off x="4724280" y="3505320"/>
            <a:ext cx="406404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IMG_1600.JPG"/>
          <p:cNvPicPr/>
          <p:nvPr/>
        </p:nvPicPr>
        <p:blipFill>
          <a:blip r:embed="rId2"/>
          <a:stretch/>
        </p:blipFill>
        <p:spPr>
          <a:xfrm>
            <a:off x="380880" y="304920"/>
            <a:ext cx="4064040" cy="2844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4724280" y="533520"/>
            <a:ext cx="396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ичка лисичке сказала в лесу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"Не даром лисичкой зовут и лису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а на лисичку похожа была б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гда бы не зубы, ни шерсть и не лапы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33520" y="350532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гда увидите опят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х собирайте всех подряд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е сотни - там, три сотни - ту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ята семьями расту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IMG_1603.PNG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457200" y="2514600"/>
            <a:ext cx="5791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ы  с вами набрали полные корзинки грибов. Давайте вспомним, какие грибы мы собирали? Молодцы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теперь идем за ягода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9-08T12:50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