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994-C3C5-423E-B940-1A596040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058-E1E6-478E-ABDF-72261450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00B-FD0F-46C2-BF49-DD8E22E9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729-8ABC-4C62-B2F5-FC67ADEC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FA6-EEDA-49C1-804B-4B17D2E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45D-845D-4DC0-B1F3-B18D465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21D-59A1-4E1F-A5A5-D3D2DF32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1A2-08F1-4450-ABAA-D44023FB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34E-2B30-415E-8F02-53A72586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824-CB2D-4281-AC34-B9B6868D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C25-CEDD-45F9-860E-5D3712B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C46-DDF8-429F-88A4-2DA603F1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d4dd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0D64-35C2-4479-B716-7563C2AEC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98100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e767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ЖИВОТНЫЕ СЕВЕРА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e7676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414612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443280" y="638172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ОГО ВО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276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229440" y="1557360"/>
            <a:ext cx="251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402000" y="63817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МОР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0809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91188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68360" y="63817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ТЮЛЕ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878160" y="364500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442920" y="638172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ПЕСЦ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194640" y="609300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Х ОЛЕ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277800" y="364500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4784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76120" y="609300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Х МЕДВЕ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516720" y="36450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443640" y="609300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Х ВО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941800" y="634536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050920" y="634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280240" y="3500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69080" y="3500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3"/>
          <p:cNvSpPr txBox="1"/>
          <p:nvPr/>
        </p:nvSpPr>
        <p:spPr>
          <a:xfrm>
            <a:off x="234000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15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16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WordArt 17"/>
          <p:cNvSpPr txBox="1"/>
          <p:nvPr/>
        </p:nvSpPr>
        <p:spPr>
          <a:xfrm>
            <a:off x="637236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5942160" y="63453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050920" y="634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341080" y="350028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5934240" y="350028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1"/>
          <p:cNvSpPr txBox="1"/>
          <p:nvPr/>
        </p:nvSpPr>
        <p:spPr>
          <a:xfrm>
            <a:off x="241308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WordArt 12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13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WordArt 14"/>
          <p:cNvSpPr txBox="1"/>
          <p:nvPr/>
        </p:nvSpPr>
        <p:spPr>
          <a:xfrm>
            <a:off x="6300720" y="981000"/>
            <a:ext cx="935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943240" y="634536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Ж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979640" y="6345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2280600" y="35002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5868360" y="35002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Д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1"/>
          <p:cNvSpPr txBox="1"/>
          <p:nvPr/>
        </p:nvSpPr>
        <p:spPr>
          <a:xfrm>
            <a:off x="234000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2" name="WordArt 12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WordArt 13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WordArt 14"/>
          <p:cNvSpPr txBox="1"/>
          <p:nvPr/>
        </p:nvSpPr>
        <p:spPr>
          <a:xfrm>
            <a:off x="637236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семью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636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071040" y="63453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2195640" y="6345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483640" y="3500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6012360" y="35002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1"/>
          <p:cNvSpPr txBox="1"/>
          <p:nvPr/>
        </p:nvSpPr>
        <p:spPr>
          <a:xfrm>
            <a:off x="234000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5" name="WordArt 12"/>
          <p:cNvSpPr txBox="1"/>
          <p:nvPr/>
        </p:nvSpPr>
        <p:spPr>
          <a:xfrm>
            <a:off x="2050920" y="386064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" name="WordArt 13"/>
          <p:cNvSpPr txBox="1"/>
          <p:nvPr/>
        </p:nvSpPr>
        <p:spPr>
          <a:xfrm>
            <a:off x="5796000" y="3860640"/>
            <a:ext cx="187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ЁНЫШ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6372360" y="981000"/>
            <a:ext cx="93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сширять представления детей о животных Сев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образовании имен существительных - названий детенышей живот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употреблении формы родительного падежа  прилагательных и существительных в единственном и множественном чис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согласовании существительных и прилагательных в роде и чис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звивать внимание и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050920" y="0"/>
            <a:ext cx="4896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4784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9492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6686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8"/>
          <p:cNvSpPr txBox="1"/>
          <p:nvPr/>
        </p:nvSpPr>
        <p:spPr>
          <a:xfrm>
            <a:off x="1619280" y="476280"/>
            <a:ext cx="626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де живут эти животны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WordArt 19"/>
          <p:cNvSpPr txBox="1"/>
          <p:nvPr/>
        </p:nvSpPr>
        <p:spPr>
          <a:xfrm>
            <a:off x="2843280" y="98100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евер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476360" y="260280"/>
            <a:ext cx="60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помни животных Сев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068720" y="36450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6805080" y="36450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6443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95280" y="364500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ОГО МЕДВЕД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414612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1640" y="6381720"/>
            <a:ext cx="27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ОГО ОЛ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414612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1:46:12Z</dcterms:created>
  <dc:creator>Ирина</dc:creator>
  <dc:description/>
  <dc:language>en-US</dc:language>
  <cp:lastModifiedBy>Ира</cp:lastModifiedBy>
  <dcterms:modified xsi:type="dcterms:W3CDTF">2012-04-19T15:36:34Z</dcterms:modified>
  <cp:revision>14</cp:revision>
  <dc:subject/>
  <dc:title>Слайд 1</dc:title>
</cp:coreProperties>
</file>