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796-7BD0-45B9-913B-8F56A9B2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53E-3454-4D29-9E95-DB550F39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3E7-DC78-4888-89F6-01953E8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1B0-AF2E-47F8-B327-281A5FE7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E21-C2FC-4ACD-9134-9F284E3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007-98D2-44BD-ADEC-1106B93C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2B5-8249-4344-BCF1-57AEF3B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4EF-9CAA-45C0-9A21-E552614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94B-BF9A-4FE8-8BEF-BA9C88D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CD0-7FFF-42AE-B481-F601CE1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C57-E452-475E-B388-8E9E69E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033-D962-4C79-B7B0-3EA2C8B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4dd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064B-0CBF-436F-AF8B-91FDA2802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98100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e767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 СЕВЕРА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443280" y="638172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ОГО ВО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76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229440" y="1557360"/>
            <a:ext cx="251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402000" y="63817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МОР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0809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91188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68360" y="63817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ТЮЛ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878160" y="364500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442920" y="638172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ПЕС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194640" y="609300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Х ОЛ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277800" y="364500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4784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6120" y="609300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Х МЕДВЕ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516720" y="36450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443640" y="609300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Х ВО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941800" y="63453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05092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280240" y="3500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69080" y="350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942160" y="63453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05092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341080" y="35002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5934240" y="350028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241308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6300720" y="981000"/>
            <a:ext cx="935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943240" y="634536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Ж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979640" y="6345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280600" y="3500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5868360" y="35002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1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WordArt 14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071040" y="63453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19564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483640" y="3500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012360" y="35002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1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5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 животных Сев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образовании имен существительных - названий детенышей живот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родительного падежа  прилагательных и существительных в единственном и множественном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согласовании существительных и прилагательных в роде и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вивать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050920" y="0"/>
            <a:ext cx="4896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4784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9492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686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1619280" y="476280"/>
            <a:ext cx="626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де живут эти животны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19"/>
          <p:cNvSpPr txBox="1"/>
          <p:nvPr/>
        </p:nvSpPr>
        <p:spPr>
          <a:xfrm>
            <a:off x="2843280" y="98100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еве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476360" y="26028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омни животных Сев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68720" y="3645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805080" y="36450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443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95280" y="364500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ОГО МЕДВЕД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1640" y="638172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ОГО О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1:46:12Z</dcterms:created>
  <dc:creator>Ирина</dc:creator>
  <dc:description/>
  <dc:language>en-US</dc:language>
  <cp:lastModifiedBy>Ира</cp:lastModifiedBy>
  <dcterms:modified xsi:type="dcterms:W3CDTF">2012-04-19T15:36:34Z</dcterms:modified>
  <cp:revision>14</cp:revision>
  <dc:subject/>
  <dc:title>Слайд 1</dc:title>
</cp:coreProperties>
</file>