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4C3-064B-49E0-B6F9-48BE2B27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98A-0142-477D-815D-DDA12A97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6AB-C320-4365-AAE2-350618DB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B13-642C-45F8-A727-ED613975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8D5-4159-49DD-874F-79053CE8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F29-D26D-434B-B562-EE03A77B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2C5-A61D-4739-9073-979E8DBA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F4E-A6EF-4D44-A907-D1CF2B23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324-A30A-40D3-9881-8E22B9D6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389-C46D-4C71-B2E9-742D4B8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9E6-DD0B-423F-86E9-B37D5E5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31E-6492-4631-B847-30184AF1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d4dd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2621-B23A-43AE-A886-572557AE12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2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98100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5e767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ЖИВОТНЫЕ СЕВЕРА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5e7676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344d5d"/>
                    </a:gs>
                    <a:gs pos="50000">
                      <a:srgbClr val="71a7c9"/>
                    </a:gs>
                    <a:gs pos="100000">
                      <a:srgbClr val="344d5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344d5d"/>
                  </a:gs>
                  <a:gs pos="50000">
                    <a:srgbClr val="71a7c9"/>
                  </a:gs>
                  <a:gs pos="100000">
                    <a:srgbClr val="344d5d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344d5d"/>
                    </a:gs>
                    <a:gs pos="50000">
                      <a:srgbClr val="71a7c9"/>
                    </a:gs>
                    <a:gs pos="100000">
                      <a:srgbClr val="344d5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344d5d"/>
                  </a:gs>
                  <a:gs pos="50000">
                    <a:srgbClr val="71a7c9"/>
                  </a:gs>
                  <a:gs pos="100000">
                    <a:srgbClr val="344d5d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9528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414612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443280" y="638172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ОГО ВО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2050920" y="33336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276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229440" y="1557360"/>
            <a:ext cx="251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402000" y="63817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МОР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0809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91188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68360" y="638172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ТЮЛЕ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878160" y="364500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442920" y="638172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ПЕСЦ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050920" y="33336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194640" y="609300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Х ОЛЕ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277800" y="364500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4784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76120" y="609300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Х МЕДВЕ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516720" y="36450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443640" y="6093000"/>
            <a:ext cx="219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Х ВО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941800" y="634536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050920" y="634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280240" y="35002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69080" y="350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234000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15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WordArt 16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WordArt 17"/>
          <p:cNvSpPr txBox="1"/>
          <p:nvPr/>
        </p:nvSpPr>
        <p:spPr>
          <a:xfrm>
            <a:off x="637236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5942160" y="63453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050920" y="634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2341080" y="350028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5934240" y="350028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1"/>
          <p:cNvSpPr txBox="1"/>
          <p:nvPr/>
        </p:nvSpPr>
        <p:spPr>
          <a:xfrm>
            <a:off x="241308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WordArt 12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13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WordArt 14"/>
          <p:cNvSpPr txBox="1"/>
          <p:nvPr/>
        </p:nvSpPr>
        <p:spPr>
          <a:xfrm>
            <a:off x="6300720" y="981000"/>
            <a:ext cx="935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943240" y="634536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Ж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979640" y="6345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Ж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2280600" y="35002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5868360" y="350028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Д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11"/>
          <p:cNvSpPr txBox="1"/>
          <p:nvPr/>
        </p:nvSpPr>
        <p:spPr>
          <a:xfrm>
            <a:off x="234000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2" name="WordArt 12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WordArt 13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4" name="WordArt 14"/>
          <p:cNvSpPr txBox="1"/>
          <p:nvPr/>
        </p:nvSpPr>
        <p:spPr>
          <a:xfrm>
            <a:off x="637236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6071040" y="63453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Ч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2195640" y="634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Ч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2483640" y="3500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6012360" y="35002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Ч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1"/>
          <p:cNvSpPr txBox="1"/>
          <p:nvPr/>
        </p:nvSpPr>
        <p:spPr>
          <a:xfrm>
            <a:off x="234000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5" name="WordArt 12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" name="WordArt 13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>
            <a:off x="637236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сширять представления детей о животных Сев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образовании имен существительных - названий детенышей живот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употреблении формы родительного падежа  прилагательных и существительных в единственном и множественном чис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согласовании существительных и прилагательных в роде и чис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звивать внимание и пам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050920" y="0"/>
            <a:ext cx="4896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живот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4784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40683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39492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668664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8"/>
          <p:cNvSpPr txBox="1"/>
          <p:nvPr/>
        </p:nvSpPr>
        <p:spPr>
          <a:xfrm>
            <a:off x="1619280" y="476280"/>
            <a:ext cx="626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де живут эти животны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WordArt 19"/>
          <p:cNvSpPr txBox="1"/>
          <p:nvPr/>
        </p:nvSpPr>
        <p:spPr>
          <a:xfrm>
            <a:off x="2843280" y="98100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евер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1476360" y="260280"/>
            <a:ext cx="60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помни животных Сев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0683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658800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068720" y="364500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58800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6805080" y="36450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644364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39528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6588000" y="6381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95280" y="364500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ОГО МЕДВЕД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414612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588000" y="6381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9528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1640" y="6381720"/>
            <a:ext cx="27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ОГО ОЛ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414612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588000" y="6381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1:46:12Z</dcterms:created>
  <dc:creator>Ирина</dc:creator>
  <dc:description/>
  <dc:language>en-US</dc:language>
  <cp:lastModifiedBy>Ира</cp:lastModifiedBy>
  <dcterms:modified xsi:type="dcterms:W3CDTF">2012-04-19T15:36:34Z</dcterms:modified>
  <cp:revision>14</cp:revision>
  <dc:subject/>
  <dc:title>Слайд 1</dc:title>
</cp:coreProperties>
</file>