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066F-ADAF-4DCD-B37D-AB87050C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B393-95E6-485E-A9A1-EA314D9A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847E-CFEF-4628-ADCF-0CE4E5EC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47DC-DBDF-4A3F-BBE9-DCF58B97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0EBA-9749-453B-882D-09334506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F675-293E-4361-A53C-62B0AB99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75F1-EB06-422E-AE8E-9FCED03E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59DA-9381-40F1-AA85-1B651C97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6D95-C730-48E7-A539-1E64A496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8BCB-B55A-4105-92B3-E7845F6C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0B88-6EF7-41AA-888E-B436F864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08DD-20A7-4D89-80AC-7218CD14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E79E-F298-4FC3-B228-B5A351EFE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11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43280" y="620640"/>
            <a:ext cx="4321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Ярусы леса</a:t>
            </a:r>
            <a:br>
              <a:rPr sz="5400"/>
            </a:b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Окружающий мир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4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435640" y="4508640"/>
            <a:ext cx="294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Панкстьянова Ю.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Школа №6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Приморски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оло половины территории нашей страны занимают леса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лиственных лесах хорошо заметны ярусы расти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77564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0" y="260280"/>
            <a:ext cx="4321080" cy="2162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1989000"/>
            <a:ext cx="374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2349360"/>
            <a:ext cx="295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842920" y="1484280"/>
            <a:ext cx="1584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981000"/>
            <a:ext cx="331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6720" y="90792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яру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773360"/>
            <a:ext cx="376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Пер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e5800"/>
                </a:solidFill>
                <a:latin typeface="Arial"/>
              </a:rPr>
              <a:t>Самые большие дере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916360" y="1916280"/>
            <a:ext cx="180000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357720"/>
            <a:ext cx="446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Вто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05c00"/>
                </a:solidFill>
                <a:latin typeface="Arial"/>
              </a:rPr>
              <a:t>Низкорослые</a:t>
            </a:r>
            <a:r>
              <a:rPr b="1" i="1" lang="en-US" sz="2800" spc="-1" strike="noStrike">
                <a:solidFill>
                  <a:srgbClr val="69c6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дере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003280" y="2349360"/>
            <a:ext cx="86364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2360" y="4941720"/>
            <a:ext cx="352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56200" y="4859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47640" y="5013360"/>
            <a:ext cx="35290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Тре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Кустар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2565360"/>
            <a:ext cx="720720" cy="32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1640" y="5805360"/>
            <a:ext cx="33130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Четвер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Тр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5084640"/>
            <a:ext cx="215640" cy="360360"/>
          </a:xfrm>
          <a:prstGeom prst="flowChartDecision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3500280"/>
            <a:ext cx="215640" cy="360360"/>
          </a:xfrm>
          <a:prstGeom prst="flowChartDecision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1916280"/>
            <a:ext cx="216000" cy="360360"/>
          </a:xfrm>
          <a:prstGeom prst="flowChartDecision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27640" y="5950080"/>
            <a:ext cx="216000" cy="360360"/>
          </a:xfrm>
          <a:prstGeom prst="flowChartDecision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5923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  <a:path fill="darken" w="38844" h="21600">
                <a:moveTo>
                  <a:pt x="12416" y="3794"/>
                </a:moveTo>
                <a:lnTo>
                  <a:pt x="14078" y="3794"/>
                </a:lnTo>
                <a:lnTo>
                  <a:pt x="14078" y="17806"/>
                </a:lnTo>
                <a:lnTo>
                  <a:pt x="1241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ПЕРВЫЙ ЯР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2806920" cy="3528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132000" y="1773360"/>
            <a:ext cx="2880000" cy="3528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156360" y="1773360"/>
            <a:ext cx="2808360" cy="3527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46200" y="57340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ЛИПА                  </a:t>
            </a: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ДУБ                ЯС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5923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  <a:path fill="darken" w="38844" h="21600">
                <a:moveTo>
                  <a:pt x="12416" y="3794"/>
                </a:moveTo>
                <a:lnTo>
                  <a:pt x="14078" y="3794"/>
                </a:lnTo>
                <a:lnTo>
                  <a:pt x="14078" y="17806"/>
                </a:lnTo>
                <a:lnTo>
                  <a:pt x="1241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ВТОРОЙ ЯР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2520720" cy="3960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059280" y="1413000"/>
            <a:ext cx="2685960" cy="396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940360" y="1413000"/>
            <a:ext cx="2916360" cy="3960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4000" y="5589720"/>
            <a:ext cx="8569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566100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РЯБИНА             ОСИНА              ОЛЬХ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675640" y="657072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4100" y="10800"/>
                </a:moveTo>
                <a:lnTo>
                  <a:pt x="24605" y="3794"/>
                </a:lnTo>
                <a:lnTo>
                  <a:pt x="24605" y="17806"/>
                </a:lnTo>
                <a:close/>
              </a:path>
              <a:path fill="darken" w="35198" h="21600">
                <a:moveTo>
                  <a:pt x="10593" y="3794"/>
                </a:moveTo>
                <a:lnTo>
                  <a:pt x="12255" y="3794"/>
                </a:lnTo>
                <a:lnTo>
                  <a:pt x="12255" y="17806"/>
                </a:lnTo>
                <a:lnTo>
                  <a:pt x="105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ТРЕТИЙ ЯР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2930400" cy="3456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348000" y="1557360"/>
            <a:ext cx="2808360" cy="3456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443640" y="1557360"/>
            <a:ext cx="2376360" cy="3456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4000" y="53737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ОРЕШНИК      БЕРЕСКЛЕТ   ЖИМОЛ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604360" y="6597720"/>
            <a:ext cx="539640" cy="260280"/>
          </a:xfrm>
          <a:custGeom>
            <a:avLst/>
            <a:gdLst>
              <a:gd name="textAreaLeft" fmla="*/ 16560 w 539640"/>
              <a:gd name="textAreaRight" fmla="*/ 523080 w 539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4751" h="21600">
                <a:moveTo>
                  <a:pt x="0" y="0"/>
                </a:moveTo>
                <a:lnTo>
                  <a:pt x="44751" y="0"/>
                </a:lnTo>
                <a:lnTo>
                  <a:pt x="44751" y="21600"/>
                </a:lnTo>
                <a:lnTo>
                  <a:pt x="0" y="21600"/>
                </a:lnTo>
                <a:close/>
              </a:path>
              <a:path fill="lightenLess" w="44751" h="21600">
                <a:moveTo>
                  <a:pt x="0" y="0"/>
                </a:moveTo>
                <a:lnTo>
                  <a:pt x="44751" y="0"/>
                </a:lnTo>
                <a:lnTo>
                  <a:pt x="43351" y="1400"/>
                </a:lnTo>
                <a:lnTo>
                  <a:pt x="1400" y="1400"/>
                </a:lnTo>
                <a:close/>
              </a:path>
              <a:path fill="darken" w="44751" h="21600">
                <a:moveTo>
                  <a:pt x="44751" y="0"/>
                </a:moveTo>
                <a:lnTo>
                  <a:pt x="44751" y="21600"/>
                </a:lnTo>
                <a:lnTo>
                  <a:pt x="43351" y="20200"/>
                </a:lnTo>
                <a:lnTo>
                  <a:pt x="43351" y="1400"/>
                </a:lnTo>
                <a:close/>
              </a:path>
              <a:path fill="darkenLess" w="44751" h="21600">
                <a:moveTo>
                  <a:pt x="44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51" y="20200"/>
                </a:lnTo>
                <a:close/>
              </a:path>
              <a:path fill="lighten" w="44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51" h="21600">
                <a:moveTo>
                  <a:pt x="18877" y="10800"/>
                </a:moveTo>
                <a:lnTo>
                  <a:pt x="29382" y="3794"/>
                </a:lnTo>
                <a:lnTo>
                  <a:pt x="29382" y="17806"/>
                </a:lnTo>
                <a:close/>
              </a:path>
              <a:path fill="darken" w="44751" h="21600">
                <a:moveTo>
                  <a:pt x="15369" y="3794"/>
                </a:moveTo>
                <a:lnTo>
                  <a:pt x="17032" y="3794"/>
                </a:lnTo>
                <a:lnTo>
                  <a:pt x="17032" y="17806"/>
                </a:lnTo>
                <a:lnTo>
                  <a:pt x="153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ЧЕТВЕРТЫЙ ЯР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449440" cy="3600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987640" y="1484280"/>
            <a:ext cx="2879640" cy="3600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084720" y="1484280"/>
            <a:ext cx="2737080" cy="3600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572292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КИСЛИЦА      ПАПОРОТНИК   ЗЕМЛЯ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604360" y="6597720"/>
            <a:ext cx="539640" cy="260280"/>
          </a:xfrm>
          <a:custGeom>
            <a:avLst/>
            <a:gdLst>
              <a:gd name="textAreaLeft" fmla="*/ 16560 w 539640"/>
              <a:gd name="textAreaRight" fmla="*/ 523080 w 539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4751" h="21600">
                <a:moveTo>
                  <a:pt x="0" y="0"/>
                </a:moveTo>
                <a:lnTo>
                  <a:pt x="44751" y="0"/>
                </a:lnTo>
                <a:lnTo>
                  <a:pt x="44751" y="21600"/>
                </a:lnTo>
                <a:lnTo>
                  <a:pt x="0" y="21600"/>
                </a:lnTo>
                <a:close/>
              </a:path>
              <a:path fill="lightenLess" w="44751" h="21600">
                <a:moveTo>
                  <a:pt x="0" y="0"/>
                </a:moveTo>
                <a:lnTo>
                  <a:pt x="44751" y="0"/>
                </a:lnTo>
                <a:lnTo>
                  <a:pt x="43351" y="1400"/>
                </a:lnTo>
                <a:lnTo>
                  <a:pt x="1400" y="1400"/>
                </a:lnTo>
                <a:close/>
              </a:path>
              <a:path fill="darken" w="44751" h="21600">
                <a:moveTo>
                  <a:pt x="44751" y="0"/>
                </a:moveTo>
                <a:lnTo>
                  <a:pt x="44751" y="21600"/>
                </a:lnTo>
                <a:lnTo>
                  <a:pt x="43351" y="20200"/>
                </a:lnTo>
                <a:lnTo>
                  <a:pt x="43351" y="1400"/>
                </a:lnTo>
                <a:close/>
              </a:path>
              <a:path fill="darkenLess" w="44751" h="21600">
                <a:moveTo>
                  <a:pt x="44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51" y="20200"/>
                </a:lnTo>
                <a:close/>
              </a:path>
              <a:path fill="lighten" w="44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51" h="21600">
                <a:moveTo>
                  <a:pt x="18877" y="10800"/>
                </a:moveTo>
                <a:lnTo>
                  <a:pt x="29382" y="3794"/>
                </a:lnTo>
                <a:lnTo>
                  <a:pt x="29382" y="17806"/>
                </a:lnTo>
                <a:close/>
              </a:path>
              <a:path fill="darken" w="44751" h="21600">
                <a:moveTo>
                  <a:pt x="15369" y="3794"/>
                </a:moveTo>
                <a:lnTo>
                  <a:pt x="17032" y="3794"/>
                </a:lnTo>
                <a:lnTo>
                  <a:pt x="17032" y="17806"/>
                </a:lnTo>
                <a:lnTo>
                  <a:pt x="153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положи данные растения по ярусам и приведи свои примеры растительности на каждый яр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516720" y="3141720"/>
            <a:ext cx="2425680" cy="2857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2089080" cy="2735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780000" y="1989000"/>
            <a:ext cx="2592360" cy="1873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916360" y="4076640"/>
            <a:ext cx="259236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пользованная 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А.Плешаков «Мир вокруг нас», 4 кл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сква, «Просвещение»,2006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goog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4:25:23Z</dcterms:created>
  <dc:creator>User</dc:creator>
  <dc:description/>
  <dc:language>en-US</dc:language>
  <cp:lastModifiedBy>Администратор</cp:lastModifiedBy>
  <dcterms:modified xsi:type="dcterms:W3CDTF">2007-12-05T12:22:26Z</dcterms:modified>
  <cp:revision>30</cp:revision>
  <dc:subject/>
  <dc:title>Ярусы леса  Презентация урока по окружающему миру 4 класс</dc:title>
</cp:coreProperties>
</file>