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8F6-4AD9-47EC-B903-44CFE5DF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499-E077-427F-9053-5D06D43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915-DB61-4126-9BE5-FF277B40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48E-7DBF-4CBA-B621-86B4D9EF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851-31A9-4BC0-BEFC-AED288E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8C0-EC2A-432A-A328-50D0B5F7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A38-207A-4F20-94AF-79DB47F2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7D5-6012-447F-A1CD-C1B23CF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106-EF78-48AB-9821-B134BF2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24C-C6F1-4C2B-99F6-624BE1F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15C-AEE5-4A9E-BDED-EE76436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610-83D5-4081-80E5-AAF2B2C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524-AC8E-472A-8525-9E900891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620640"/>
            <a:ext cx="43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Ярусы леса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кружающий мир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508640"/>
            <a:ext cx="294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анкстьянова Ю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Школа №6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имор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ло половины территории нашей страны занимают лес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лиственных лесах хорошо заметны ярусы раст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260280"/>
            <a:ext cx="4321080" cy="21621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89000"/>
            <a:ext cx="37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349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42920" y="1484280"/>
            <a:ext cx="1584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981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9079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яр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773360"/>
            <a:ext cx="37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e5800"/>
                </a:solidFill>
                <a:latin typeface="Arial"/>
              </a:rPr>
              <a:t>Самые большие 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916360" y="1916280"/>
            <a:ext cx="1800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35772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В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05c00"/>
                </a:solidFill>
                <a:latin typeface="Arial"/>
              </a:rPr>
              <a:t>Низкорослые</a:t>
            </a:r>
            <a:r>
              <a:rPr b="1" i="1" lang="en-US" sz="2800" spc="-1" strike="noStrike">
                <a:solidFill>
                  <a:srgbClr val="69c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003280" y="2349360"/>
            <a:ext cx="863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941720"/>
            <a:ext cx="35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56200" y="485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5013360"/>
            <a:ext cx="352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Тр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565360"/>
            <a:ext cx="720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805360"/>
            <a:ext cx="3313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Четве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508464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500280"/>
            <a:ext cx="21564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9162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5950080"/>
            <a:ext cx="216000" cy="360360"/>
          </a:xfrm>
          <a:prstGeom prst="flowChartDecision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ПЕРВ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06920" cy="35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2880000" cy="35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808360" cy="3527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6200" y="5734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ЛИПА                 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ДУБ                Я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5923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14078" y="3794"/>
                </a:lnTo>
                <a:lnTo>
                  <a:pt x="14078" y="17806"/>
                </a:lnTo>
                <a:lnTo>
                  <a:pt x="124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ВТОРО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59280" y="1413000"/>
            <a:ext cx="268596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0360" y="1413000"/>
            <a:ext cx="291636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5589720"/>
            <a:ext cx="85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661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РЯБИНА             ОСИНА              ОЛЬХ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75640" y="6570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4100" y="10800"/>
                </a:moveTo>
                <a:lnTo>
                  <a:pt x="24605" y="3794"/>
                </a:lnTo>
                <a:lnTo>
                  <a:pt x="24605" y="17806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12255" y="3794"/>
                </a:lnTo>
                <a:lnTo>
                  <a:pt x="12255" y="17806"/>
                </a:lnTo>
                <a:lnTo>
                  <a:pt x="10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ТРЕТИЙ Я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30400" cy="345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373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ОРЕШНИК      БЕРЕСКЛЕТ   ЖИМО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ЧЕТВЕРТЫЙ Я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4944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722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КИСЛИЦА      ПАПОРОТНИК   ЗЕМЛЯ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8877" y="10800"/>
                </a:moveTo>
                <a:lnTo>
                  <a:pt x="29382" y="3794"/>
                </a:lnTo>
                <a:lnTo>
                  <a:pt x="29382" y="17806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17032" y="3794"/>
                </a:lnTo>
                <a:lnTo>
                  <a:pt x="17032" y="17806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ложи данные растения по ярусам и приведи свои примеры растительности на каждый яр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3141720"/>
            <a:ext cx="2425680" cy="2857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08908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16360" y="407664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А.Плешаков «Мир вокруг нас», 4 к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«Просвещение»,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25:23Z</dcterms:created>
  <dc:creator>User</dc:creator>
  <dc:description/>
  <dc:language>en-US</dc:language>
  <cp:lastModifiedBy>Администратор</cp:lastModifiedBy>
  <dcterms:modified xsi:type="dcterms:W3CDTF">2007-12-05T12:22:26Z</dcterms:modified>
  <cp:revision>30</cp:revision>
  <dc:subject/>
  <dc:title>Ярусы леса  Презентация урока по окружающему миру 4 класс</dc:title>
</cp:coreProperties>
</file>