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D97A-B937-4FCB-A9BB-5CB02E526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D59B-BC62-4780-AA1B-F91081618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4DFB-9AEF-4222-8390-13711846F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7835-B767-4FEC-9FED-59E91723D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418F-02F2-4DCF-9466-FAFCC71F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BB41-372D-4C4A-B70F-DF680E385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1DBF-CF08-40A3-97D8-CEF61CCF0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DDB3-C6C3-4589-9EE6-416E987D3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502A-1403-44E9-B2BA-E6B4C052D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1C67-89F6-47D6-9FA2-01EDFD30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05C4-82BB-4C66-BA7E-A394FDDA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BB23-8793-4ED4-99ED-F31C3F47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46EE4-846D-462E-8307-CCEF28821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museum-online.ru/Avant-garde/Kazimir_Severinovich_Malevich/Canvas/3684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museum-online.ru/Symbolism/Viktor_Elpidiforovich_Borisov-Musatov/Canvas/2286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museum-online.ru/Impressionism/Alfred_Sisley/Canvas/3276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museum-online.ru/Impressionism/Alfred_Sisley/Canvas/3263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museum-online.ru/Impressionism/Alfred_Sisley/Canvas/3281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useum-online.ru/Impressionism/Alfred_Sisley/Canvas/330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9900"/>
                </a:solidFill>
                <a:latin typeface="Arial"/>
              </a:rPr>
              <a:t>ВЕСНА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Лес весной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.И.Шишк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Шишкин. Лес весной. 1884"/>
          <p:cNvPicPr/>
          <p:nvPr/>
        </p:nvPicPr>
        <p:blipFill>
          <a:blip r:embed="rId1"/>
          <a:stretch/>
        </p:blipFill>
        <p:spPr>
          <a:xfrm>
            <a:off x="2771640" y="1557360"/>
            <a:ext cx="368172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Яблоня в цвету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.С.Малеви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Малевич, Казимир Северинович. Яблоня в цвету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1700280"/>
            <a:ext cx="416700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есна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.Э. Борис-Муса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Борисов-Мусатов, Виктор Эльпидифорович. Весн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6360" y="1916280"/>
            <a:ext cx="6408720" cy="44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есенняя лужайка в Би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льфред Сисл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Сислей, Альфред. Весенняя лужайка в Би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44640"/>
            <a:ext cx="626436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Цветущие яблони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И.И.Левита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Левитан. Цветущие яблони. 1896"/>
          <p:cNvPicPr/>
          <p:nvPr/>
        </p:nvPicPr>
        <p:blipFill>
          <a:blip r:embed="rId1"/>
          <a:stretch/>
        </p:blipFill>
        <p:spPr>
          <a:xfrm>
            <a:off x="1258920" y="2060640"/>
            <a:ext cx="6769080" cy="44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есна. Журавли летят.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.И.Левита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Левитан. Весна. Журавли летят. 1880-е"/>
          <p:cNvPicPr/>
          <p:nvPr/>
        </p:nvPicPr>
        <p:blipFill>
          <a:blip r:embed="rId1"/>
          <a:stretch/>
        </p:blipFill>
        <p:spPr>
          <a:xfrm>
            <a:off x="1332000" y="1773360"/>
            <a:ext cx="619128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утор в Хёлленкаффе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льфред Сисл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Сислей, Альфред. Хутор в Хёлленкафф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1773360"/>
            <a:ext cx="6527880" cy="49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руктовый сад весной.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льфред Сисл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Сислей, Альфред. Фруктовый сад весной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700280"/>
            <a:ext cx="6480000" cy="48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ервая зелень. Май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.И.Левита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Левитан. Первая зелень. Май. 1883-1888"/>
          <p:cNvPicPr/>
          <p:nvPr/>
        </p:nvPicPr>
        <p:blipFill>
          <a:blip r:embed="rId1"/>
          <a:stretch/>
        </p:blipFill>
        <p:spPr>
          <a:xfrm>
            <a:off x="1476360" y="1700280"/>
            <a:ext cx="61912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 начале марта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.И.Левита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Левитан. В начале марта. 1900"/>
          <p:cNvPicPr/>
          <p:nvPr/>
        </p:nvPicPr>
        <p:blipFill>
          <a:blip r:embed="rId1"/>
          <a:stretch/>
        </p:blipFill>
        <p:spPr>
          <a:xfrm>
            <a:off x="1332000" y="1989000"/>
            <a:ext cx="6478560" cy="43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нняя весна.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уинджи А.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Куинджи. Ранняя весна. 1890-1895"/>
          <p:cNvPicPr/>
          <p:nvPr/>
        </p:nvPicPr>
        <p:blipFill>
          <a:blip r:embed="rId1"/>
          <a:stretch/>
        </p:blipFill>
        <p:spPr>
          <a:xfrm>
            <a:off x="1332000" y="1844640"/>
            <a:ext cx="634680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арт.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.И. Левита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Левитан, Исаак Ильич. Март"/>
          <p:cNvPicPr/>
          <p:nvPr/>
        </p:nvPicPr>
        <p:blipFill>
          <a:blip r:embed="rId1"/>
          <a:stretch/>
        </p:blipFill>
        <p:spPr>
          <a:xfrm>
            <a:off x="1692360" y="1557360"/>
            <a:ext cx="588780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нал Луэн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льфред Сисл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Сислей, Альфред. Канал Луэн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1628640"/>
            <a:ext cx="6216840" cy="49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нняя весна.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.И.Левита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Левитан. Ранняя весна. 1899"/>
          <p:cNvPicPr/>
          <p:nvPr/>
        </p:nvPicPr>
        <p:blipFill>
          <a:blip r:embed="rId1"/>
          <a:stretch/>
        </p:blipFill>
        <p:spPr>
          <a:xfrm>
            <a:off x="900000" y="1989000"/>
            <a:ext cx="7128000" cy="42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есна пришла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Левитан И.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Левитан. Весна пришла"/>
          <p:cNvPicPr/>
          <p:nvPr/>
        </p:nvPicPr>
        <p:blipFill>
          <a:blip r:embed="rId1"/>
          <a:stretch/>
        </p:blipFill>
        <p:spPr>
          <a:xfrm>
            <a:off x="684360" y="2133720"/>
            <a:ext cx="763092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есна. Большая вода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.И.Левита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Левитан. Весна. Большая вода. 1897.  Холст, масло. 64,2x57,5 см"/>
          <p:cNvPicPr/>
          <p:nvPr/>
        </p:nvPicPr>
        <p:blipFill>
          <a:blip r:embed="rId1"/>
          <a:stretch/>
        </p:blipFill>
        <p:spPr>
          <a:xfrm>
            <a:off x="2340000" y="1557360"/>
            <a:ext cx="431784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есной в лесу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.И.Левита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Левитан. Весной в лесу. 1882"/>
          <p:cNvPicPr/>
          <p:nvPr/>
        </p:nvPicPr>
        <p:blipFill>
          <a:blip r:embed="rId1"/>
          <a:stretch/>
        </p:blipFill>
        <p:spPr>
          <a:xfrm>
            <a:off x="2484360" y="1557360"/>
            <a:ext cx="39387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2T13:23:15Z</dcterms:created>
  <dc:creator>Ломакина Елена Александровына</dc:creator>
  <dc:description/>
  <dc:language>en-US</dc:language>
  <cp:lastModifiedBy>Admin</cp:lastModifiedBy>
  <dcterms:modified xsi:type="dcterms:W3CDTF">2013-02-23T15:40:42Z</dcterms:modified>
  <cp:revision>9</cp:revision>
  <dc:subject>Весна</dc:subject>
  <dc:title>Весна</dc:title>
</cp:coreProperties>
</file>