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778-0A4C-48F4-8716-0D43F3A7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268-CEC4-41E6-9A48-0B1AEA51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221-DC2C-4415-822E-E173F60A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9D5-69BD-4CFE-B1B6-73CD4A1B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3CD-4EBD-4843-8047-B86BB3D6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697-0D51-4C7E-98CE-7B3DC066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24C-69E7-4EA1-8CEE-9E4FBAB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727-AB10-4999-A122-E66A308B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384-EF16-42CD-A31F-2718E6B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68C-DEEC-4A1F-BC0F-43061DD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7EB-A95B-41A4-A182-209F2DF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BCF-4573-455A-921A-19F8FA0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6218-1EA4-40B3-9DD4-ED7954761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useum-online.ru/Avant-garde/Kazimir_Severinovich_Malevich/Canvas/3684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useum-online.ru/Symbolism/Viktor_Elpidiforovich_Borisov-Musatov/Canvas/2286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76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6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28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useum-online.ru/Impressionism/Alfred_Sisley/Canvas/330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9900"/>
                </a:solidFill>
                <a:latin typeface="Arial"/>
              </a:rPr>
              <a:t>ВЕСН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с весно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Шишкин. Лес весной. 1884"/>
          <p:cNvPicPr/>
          <p:nvPr/>
        </p:nvPicPr>
        <p:blipFill>
          <a:blip r:embed="rId1"/>
          <a:stretch/>
        </p:blipFill>
        <p:spPr>
          <a:xfrm>
            <a:off x="2771640" y="1557360"/>
            <a:ext cx="3681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блоня в цвет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.С.Мал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Малевич, Казимир Северинович. Яблоня в цвет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00280"/>
            <a:ext cx="4167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н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Э. Борис-Мус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Борисов-Мусатов, Виктор Эльпидифорович. Вес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640872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енняя лужайка в Б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Сислей, Альфред. Весенняя лужайка в Б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44640"/>
            <a:ext cx="6264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ущие яблони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Левитан. Цветущие яблони. 1896"/>
          <p:cNvPicPr/>
          <p:nvPr/>
        </p:nvPicPr>
        <p:blipFill>
          <a:blip r:embed="rId1"/>
          <a:stretch/>
        </p:blipFill>
        <p:spPr>
          <a:xfrm>
            <a:off x="1258920" y="2060640"/>
            <a:ext cx="6769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. Журавли летят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Левитан. Весна. Журавли летят. 1880-е"/>
          <p:cNvPicPr/>
          <p:nvPr/>
        </p:nvPicPr>
        <p:blipFill>
          <a:blip r:embed="rId1"/>
          <a:stretch/>
        </p:blipFill>
        <p:spPr>
          <a:xfrm>
            <a:off x="1332000" y="1773360"/>
            <a:ext cx="6191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тор в Хёлленкафф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Сислей, Альфред. Хутор в Хёлленкафф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773360"/>
            <a:ext cx="65278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руктовый сад весной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Сислей, Альфред. Фруктовый сад весн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00280"/>
            <a:ext cx="6480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ая зелень. Ма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Левитан. Первая зелень. Май. 1883-1888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ачале март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Левитан. В начале марта. 1900"/>
          <p:cNvPicPr/>
          <p:nvPr/>
        </p:nvPicPr>
        <p:blipFill>
          <a:blip r:embed="rId1"/>
          <a:stretch/>
        </p:blipFill>
        <p:spPr>
          <a:xfrm>
            <a:off x="1332000" y="1989000"/>
            <a:ext cx="64785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яя весна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инджи А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уинджи. Ранняя весна. 1890-1895"/>
          <p:cNvPicPr/>
          <p:nvPr/>
        </p:nvPicPr>
        <p:blipFill>
          <a:blip r:embed="rId1"/>
          <a:stretch/>
        </p:blipFill>
        <p:spPr>
          <a:xfrm>
            <a:off x="1332000" y="1844640"/>
            <a:ext cx="6346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т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 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Левитан, Исаак Ильич. Март"/>
          <p:cNvPicPr/>
          <p:nvPr/>
        </p:nvPicPr>
        <p:blipFill>
          <a:blip r:embed="rId1"/>
          <a:stretch/>
        </p:blipFill>
        <p:spPr>
          <a:xfrm>
            <a:off x="1692360" y="1557360"/>
            <a:ext cx="58878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нал Луэ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Сис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Сислей, Альфред. Канал Луэ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2168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яя весна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Левитан. Ранняя весна. 1899"/>
          <p:cNvPicPr/>
          <p:nvPr/>
        </p:nvPicPr>
        <p:blipFill>
          <a:blip r:embed="rId1"/>
          <a:stretch/>
        </p:blipFill>
        <p:spPr>
          <a:xfrm>
            <a:off x="900000" y="1989000"/>
            <a:ext cx="71280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 пришл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итан И.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Левитан. Весна пришла"/>
          <p:cNvPicPr/>
          <p:nvPr/>
        </p:nvPicPr>
        <p:blipFill>
          <a:blip r:embed="rId1"/>
          <a:stretch/>
        </p:blipFill>
        <p:spPr>
          <a:xfrm>
            <a:off x="684360" y="2133720"/>
            <a:ext cx="7630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а. Большая вод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Левитан. Весна. Большая вода. 1897.  Холст, масло. 64,2x57,5 см"/>
          <p:cNvPicPr/>
          <p:nvPr/>
        </p:nvPicPr>
        <p:blipFill>
          <a:blip r:embed="rId1"/>
          <a:stretch/>
        </p:blipFill>
        <p:spPr>
          <a:xfrm>
            <a:off x="2340000" y="1557360"/>
            <a:ext cx="4317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сной в лес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И.Леви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Левитан. Весной в лесу. 1882"/>
          <p:cNvPicPr/>
          <p:nvPr/>
        </p:nvPicPr>
        <p:blipFill>
          <a:blip r:embed="rId1"/>
          <a:stretch/>
        </p:blipFill>
        <p:spPr>
          <a:xfrm>
            <a:off x="2484360" y="1557360"/>
            <a:ext cx="3938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23:15Z</dcterms:created>
  <dc:creator>Ломакина Елена Александровына</dc:creator>
  <dc:description/>
  <dc:language>en-US</dc:language>
  <cp:lastModifiedBy>Admin</cp:lastModifiedBy>
  <dcterms:modified xsi:type="dcterms:W3CDTF">2013-02-23T15:40:42Z</dcterms:modified>
  <cp:revision>9</cp:revision>
  <dc:subject>Весна</dc:subject>
  <dc:title>Весна</dc:title>
</cp:coreProperties>
</file>