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DBCD-C249-4569-A7BA-7F6DE14A4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1F30-658F-4A82-A4D8-08EAC9EB3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8511-3FA6-4711-A7C0-8D0797469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AACC-5B30-4B24-A328-39FA01E7C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C1BF-1944-4D0E-8ED0-C1DFF68B0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AF34-1C10-4DD5-85E7-6A65EE999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9F98-01FE-437D-B958-779455FAB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BB62-784F-4A55-9BA2-5421F9854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850A-6D53-4C9E-A499-F09E8A43A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5B5D-B9F6-4EAA-A891-7A50DA9B5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0CEC-7944-4B4F-A8DE-6382A6152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EC73-1C16-42C3-8BDA-99D581E7D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4AB0E0-17B3-4D7F-A520-7B757D964138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93640"/>
            <a:ext cx="756144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Устный счет </a:t>
            </a:r>
            <a:br>
              <a:rPr sz="6600"/>
            </a:b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в</a:t>
            </a:r>
            <a:br>
              <a:rPr sz="6600"/>
            </a:b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1 класс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149720"/>
            <a:ext cx="481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Сауткина Ольга Михайл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5803920" cy="38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7320" y="4581360"/>
            <a:ext cx="5828040" cy="2276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бята, помогите сосчитать девоч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7320" y="669960"/>
            <a:ext cx="26222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0200" y="69228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5840" y="2697120"/>
            <a:ext cx="1895400" cy="144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075120" y="4762440"/>
            <a:ext cx="29718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5680" y="4788000"/>
            <a:ext cx="2766960" cy="179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313320" y="4762440"/>
            <a:ext cx="2457720" cy="179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627440" y="2408400"/>
            <a:ext cx="1703520" cy="2019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521400" y="2733840"/>
            <a:ext cx="2090880" cy="1500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521080" y="2408400"/>
            <a:ext cx="1662120" cy="19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5724360" y="692280"/>
            <a:ext cx="2719440" cy="15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30200"/>
            <a:ext cx="2771640" cy="32130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чита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2 до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1916280"/>
            <a:ext cx="3095640" cy="3600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чит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10 до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77880"/>
            <a:ext cx="2664000" cy="29653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чит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3до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728640"/>
            <a:ext cx="4319640" cy="5616720"/>
          </a:xfrm>
          <a:prstGeom prst="rect">
            <a:avLst/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18000" y="638280"/>
            <a:ext cx="5796000" cy="6119640"/>
          </a:xfrm>
          <a:prstGeom prst="verticalScroll">
            <a:avLst>
              <a:gd name="adj" fmla="val 12500"/>
            </a:avLst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38560" y="1133640"/>
            <a:ext cx="4359240" cy="128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065480" y="2798640"/>
            <a:ext cx="4383360" cy="14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780000" y="4297320"/>
            <a:ext cx="4681440" cy="145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325440"/>
            <a:ext cx="3222720" cy="1508040"/>
          </a:xfrm>
          <a:prstGeom prst="cloudCallout">
            <a:avLst>
              <a:gd name="adj1" fmla="val -17615"/>
              <a:gd name="adj2" fmla="val 20178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удьте внимательными и найдите ошибки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7480" y="325440"/>
            <a:ext cx="4128840" cy="44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5342040" cy="343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86840" y="692280"/>
            <a:ext cx="137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+3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2520" y="17733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-4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0120" y="294804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+3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6320" y="76212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+5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24000" y="19191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-1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000" y="290664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+2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4280" y="338040"/>
            <a:ext cx="2735280" cy="32353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95720" y="420840"/>
            <a:ext cx="3097080" cy="3889080"/>
          </a:xfrm>
          <a:prstGeom prst="ellipse">
            <a:avLst/>
          </a:prstGeom>
          <a:solidFill>
            <a:srgbClr val="9c9cd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06360"/>
            <a:ext cx="2663640" cy="3409920"/>
          </a:xfrm>
          <a:prstGeom prst="ellipse">
            <a:avLst/>
          </a:prstGeom>
          <a:solidFill>
            <a:srgbClr val="80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7400" y="858960"/>
            <a:ext cx="792000" cy="792000"/>
          </a:xfrm>
          <a:prstGeom prst="rect">
            <a:avLst/>
          </a:prstGeom>
          <a:solidFill>
            <a:srgbClr val="333399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528920"/>
            <a:ext cx="770040" cy="664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601640"/>
            <a:ext cx="792000" cy="63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6120" y="1539720"/>
            <a:ext cx="793800" cy="82548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190600"/>
            <a:ext cx="792000" cy="6796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16080" y="2228760"/>
            <a:ext cx="756000" cy="65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040" y="982800"/>
            <a:ext cx="792360" cy="80640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1760" y="1563840"/>
            <a:ext cx="79236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92800" y="1638360"/>
            <a:ext cx="792360" cy="7268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92360" y="1413000"/>
            <a:ext cx="5975280" cy="407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2133720"/>
          <a:ext cx="4680000" cy="3240000"/>
        </p:xfrm>
        <a:graphic>
          <a:graphicData uri="http://schemas.openxmlformats.org/drawingml/2006/table">
            <a:tbl>
              <a:tblPr/>
              <a:tblGrid>
                <a:gridCol w="1560600"/>
                <a:gridCol w="1558800"/>
                <a:gridCol w="1560600"/>
              </a:tblGrid>
              <a:tr h="107928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108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96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463760" y="265752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81240">
                <a:tc>
                  <a:txBody>
                    <a:bodyPr tIns="61200" bIns="45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588000" y="115920"/>
            <a:ext cx="2664000" cy="3137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гур мне не хват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2205000"/>
            <a:ext cx="914400" cy="9144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5160" y="33256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44146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9560" y="21574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8120" y="338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22800" y="20890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1200" y="450540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5360" y="337356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5160" y="44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32360" y="2560680"/>
            <a:ext cx="4067280" cy="2268360"/>
          </a:xfrm>
          <a:prstGeom prst="cloudCallout">
            <a:avLst>
              <a:gd name="adj1" fmla="val -54935"/>
              <a:gd name="adj2" fmla="val 149449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елаю удачи ва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84200"/>
            <a:ext cx="56167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natasha</cp:lastModifiedBy>
  <dcterms:modified xsi:type="dcterms:W3CDTF">2013-02-23T17:13:07Z</dcterms:modified>
  <cp:revision>55</cp:revision>
  <dc:subject/>
  <dc:title>Слайд 1</dc:title>
</cp:coreProperties>
</file>