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76FB-C5E6-4412-80CD-8C71CE25F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A4BC-3A07-4AC2-9A3E-4F3FB45EF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895A-A484-4334-B20F-1DDD8E824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D13D-08F1-44C0-BACB-185EC37896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DCAD-B6C9-44C7-B9E9-E2ED129462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6AA31-6321-476E-BCB2-903312ACE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034F-F3A0-457D-A747-195B46E83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49A8-FBE0-499E-A896-6103CBA1B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8C74F-1A62-4837-A821-9112F1362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1D33-A995-4CB0-89FE-199595924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BFC3-1B1C-4D29-B170-A8DBC449C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E087-965C-493F-BB0D-E026BAB2F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9EE1A5-18C7-4EF3-8BE4-0D5CADD0FF16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593640"/>
            <a:ext cx="756144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b00000"/>
                </a:solidFill>
                <a:latin typeface="Times New Roman"/>
              </a:rPr>
              <a:t>Устный счет </a:t>
            </a:r>
            <a:br>
              <a:rPr sz="6600"/>
            </a:br>
            <a:r>
              <a:rPr b="0" lang="ru-RU" sz="6600" spc="-1" strike="noStrike">
                <a:solidFill>
                  <a:srgbClr val="b00000"/>
                </a:solidFill>
                <a:latin typeface="Times New Roman"/>
              </a:rPr>
              <a:t>в</a:t>
            </a:r>
            <a:br>
              <a:rPr sz="6600"/>
            </a:br>
            <a:r>
              <a:rPr b="0" lang="ru-RU" sz="6600" spc="-1" strike="noStrike">
                <a:solidFill>
                  <a:srgbClr val="b00000"/>
                </a:solidFill>
                <a:latin typeface="Times New Roman"/>
              </a:rPr>
              <a:t>1 класс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27280" y="4149720"/>
            <a:ext cx="4816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Сауткина Ольга Михайл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476280"/>
            <a:ext cx="5803920" cy="383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57320" y="4581360"/>
            <a:ext cx="5828040" cy="2276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бята, помогите сосчитать девоче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7320" y="669960"/>
            <a:ext cx="2622240" cy="13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040200" y="692280"/>
            <a:ext cx="2519280" cy="1368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85840" y="2697120"/>
            <a:ext cx="1895400" cy="144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075120" y="4762440"/>
            <a:ext cx="2971800" cy="156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85680" y="4788000"/>
            <a:ext cx="2766960" cy="1790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6313320" y="4762440"/>
            <a:ext cx="2457720" cy="1797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627440" y="2408400"/>
            <a:ext cx="1703520" cy="2019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6521400" y="2733840"/>
            <a:ext cx="2090880" cy="1500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2521080" y="2408400"/>
            <a:ext cx="1662120" cy="1969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5724360" y="692280"/>
            <a:ext cx="2719440" cy="152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430200"/>
            <a:ext cx="2771640" cy="321300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чита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2 до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1916280"/>
            <a:ext cx="3095640" cy="360036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чита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10 до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77880"/>
            <a:ext cx="2664000" cy="29653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чита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 3до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356000" y="728640"/>
            <a:ext cx="4319640" cy="5616720"/>
          </a:xfrm>
          <a:prstGeom prst="rect">
            <a:avLst/>
          </a:prstGeom>
          <a:solidFill>
            <a:srgbClr val="80808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18000" y="638280"/>
            <a:ext cx="5796000" cy="6119640"/>
          </a:xfrm>
          <a:prstGeom prst="verticalScroll">
            <a:avLst>
              <a:gd name="adj" fmla="val 12500"/>
            </a:avLst>
          </a:prstGeom>
          <a:solidFill>
            <a:srgbClr val="80808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38560" y="1133640"/>
            <a:ext cx="4359240" cy="1285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065480" y="2798640"/>
            <a:ext cx="4383360" cy="1455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780000" y="4297320"/>
            <a:ext cx="4681440" cy="1457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9280" y="325440"/>
            <a:ext cx="3222720" cy="1508040"/>
          </a:xfrm>
          <a:prstGeom prst="cloudCallout">
            <a:avLst>
              <a:gd name="adj1" fmla="val -17615"/>
              <a:gd name="adj2" fmla="val 20178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Будьте внимательными и найдите ошибки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87480" y="325440"/>
            <a:ext cx="4128840" cy="44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5342040" cy="3430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586840" y="692280"/>
            <a:ext cx="137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+3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82520" y="1773360"/>
            <a:ext cx="124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6-4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40120" y="2948040"/>
            <a:ext cx="13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7+3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56320" y="762120"/>
            <a:ext cx="13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4+5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24000" y="1919160"/>
            <a:ext cx="124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-1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2000" y="2906640"/>
            <a:ext cx="13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8+2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14280" y="338040"/>
            <a:ext cx="2735280" cy="32353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95720" y="420840"/>
            <a:ext cx="3097080" cy="3889080"/>
          </a:xfrm>
          <a:prstGeom prst="ellipse">
            <a:avLst/>
          </a:prstGeom>
          <a:solidFill>
            <a:srgbClr val="9c9cd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56360" y="306360"/>
            <a:ext cx="2663640" cy="3409920"/>
          </a:xfrm>
          <a:prstGeom prst="ellipse">
            <a:avLst/>
          </a:prstGeom>
          <a:solidFill>
            <a:srgbClr val="8000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57400" y="858960"/>
            <a:ext cx="792000" cy="792000"/>
          </a:xfrm>
          <a:prstGeom prst="rect">
            <a:avLst/>
          </a:prstGeom>
          <a:solidFill>
            <a:srgbClr val="333399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1528920"/>
            <a:ext cx="770040" cy="664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601640"/>
            <a:ext cx="792000" cy="63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56120" y="1539720"/>
            <a:ext cx="793800" cy="825480"/>
          </a:xfrm>
          <a:prstGeom prst="rect">
            <a:avLst/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2190600"/>
            <a:ext cx="792000" cy="67968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16080" y="2228760"/>
            <a:ext cx="756000" cy="65880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9040" y="982800"/>
            <a:ext cx="792360" cy="806400"/>
          </a:xfrm>
          <a:prstGeom prst="rect">
            <a:avLst/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51760" y="1563840"/>
            <a:ext cx="792360" cy="71424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92800" y="1638360"/>
            <a:ext cx="792360" cy="72684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2232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92360" y="1413000"/>
            <a:ext cx="5975280" cy="4076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340000" y="2133720"/>
          <a:ext cx="4680000" cy="3240000"/>
        </p:xfrm>
        <a:graphic>
          <a:graphicData uri="http://schemas.openxmlformats.org/drawingml/2006/table">
            <a:tbl>
              <a:tblPr/>
              <a:tblGrid>
                <a:gridCol w="1560600"/>
                <a:gridCol w="1558800"/>
                <a:gridCol w="1560600"/>
              </a:tblGrid>
              <a:tr h="107928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8108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7964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463760" y="2657520"/>
          <a:ext cx="207720" cy="3650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81240">
                <a:tc>
                  <a:txBody>
                    <a:bodyPr tIns="61200" bIns="453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6588000" y="115920"/>
            <a:ext cx="2664000" cy="3137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гур мне не хватае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2205000"/>
            <a:ext cx="914400" cy="91440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05160" y="3325680"/>
            <a:ext cx="914400" cy="914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4414680"/>
            <a:ext cx="914400" cy="914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59560" y="215748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8120" y="338472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22800" y="208908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81200" y="450540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05360" y="337356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05160" y="44146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932360" y="2560680"/>
            <a:ext cx="4067280" cy="2268360"/>
          </a:xfrm>
          <a:prstGeom prst="cloudCallout">
            <a:avLst>
              <a:gd name="adj1" fmla="val -54935"/>
              <a:gd name="adj2" fmla="val 149449"/>
            </a:avLst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 молодцы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елаю удачи вам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484200"/>
            <a:ext cx="5616720" cy="437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natasha</cp:lastModifiedBy>
  <dcterms:modified xsi:type="dcterms:W3CDTF">2013-02-23T17:13:07Z</dcterms:modified>
  <cp:revision>55</cp:revision>
  <dc:subject/>
  <dc:title>Слайд 1</dc:title>
</cp:coreProperties>
</file>