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99D-5911-46A6-8C7D-6FA44D14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E26-1E15-4681-96C3-0BE0490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1B0-7805-4486-A728-329A312A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8C6-FFB7-49AC-A7B2-685D751B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558-19D7-452B-96AD-7F26C0D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6CA-9CB9-4C6A-A3E6-53C526D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C77-816D-4A4E-8CDB-D695F9C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237-4F88-4B7C-934E-4BC46DE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3F2-22CD-49E6-AF59-49BFF0F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2F1-FB5D-4197-8609-F3B1FBD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9F7-3E01-4AAA-A5AD-810846C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0D4-FCFF-488A-B02D-4C14944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4D6-B3C3-47B3-AF30-458E14E6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Тема:Техника дифференц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Формирование навыков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716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508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0 кл,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1 к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работы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244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285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и достижения 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Отработать умение применять формулы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крепить понятие производной через ее геометрический и механически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звивать  « математическое вид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вать формулу производ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√х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/х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кх+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n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s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gx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ctg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(g(x)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7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ь форму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u+v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/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Cu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ь производные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5)(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4x-9)(4x+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1)(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+x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5C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2x+5Sin²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tg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tg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ыражение, которое является определением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ите предложенные функции в соответствующие кол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71760"/>
            <a:ext cx="81374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класс работает на компьюте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класс – 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8:56:22Z</dcterms:created>
  <dc:creator>1</dc:creator>
  <dc:description/>
  <dc:language>en-US</dc:language>
  <cp:lastModifiedBy>StariAdm</cp:lastModifiedBy>
  <dcterms:modified xsi:type="dcterms:W3CDTF">2008-03-02T09:47:07Z</dcterms:modified>
  <cp:revision>3</cp:revision>
  <dc:subject/>
  <dc:title>Тема:Техника дифференцирования</dc:title>
</cp:coreProperties>
</file>