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75D-F21E-4FA4-8F55-45BEC60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3BE-C02B-4822-AA80-61D97CF8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A2E-3A80-468F-8741-21EE630B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7C4-C960-40F9-A94E-5350BFFA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6BB-BBA6-451B-B98F-973C53D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98F-A00F-4DE1-B5B9-34AF0A3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0DC-9881-41B2-AB12-9EF7A76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000-5677-428E-A61E-9233C2B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65F-48B9-4AC2-9BC1-C3B42641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4CD-7862-46FB-920F-8B867A1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316-2FBE-487D-A0EE-F79FC57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FB2-781A-4CCA-8865-6C14DAF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9C15-1EAA-4D00-A938-A77CA3C4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Тема:Техника дифференц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Формирование навыков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716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508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0 кл,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1 к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работы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244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285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и достижения 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Отработать умение применять формулы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крепить понятие производной через ее геометрический и механически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звивать  « математическое вид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вать формулу производ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√х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/х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кх+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n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s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gx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ctg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(g(x)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7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ь форму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u+v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/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Cu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ь производные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5)(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4x-9)(4x+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1)(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+x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5C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2x+5Sin²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tg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tg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ыражение, которое является определением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ите предложенные функции в соответствующие кол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71760"/>
            <a:ext cx="81374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класс работает на компьюте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класс – 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8:56:22Z</dcterms:created>
  <dc:creator>1</dc:creator>
  <dc:description/>
  <dc:language>en-US</dc:language>
  <cp:lastModifiedBy>StariAdm</cp:lastModifiedBy>
  <dcterms:modified xsi:type="dcterms:W3CDTF">2008-03-02T09:47:07Z</dcterms:modified>
  <cp:revision>3</cp:revision>
  <dc:subject/>
  <dc:title>Тема:Техника дифференцирования</dc:title>
</cp:coreProperties>
</file>