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560E6-E6C4-40C1-8907-2948C0474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F1DA7-A437-4502-B74C-EBADAB040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E0F6E-29B9-4AA9-B78D-6B9F4E0A0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469B3-930D-4CE8-88BD-D4758EAA9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16654-591A-45E1-B1B2-66B18799E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B5D8A-7FAD-48D6-9533-CEB15E622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D4DFC-3FCD-47B2-9529-012116DDC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D6B97-2F7C-45D7-8363-39F188C80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73F5F-8365-46FE-8900-35B5FB2BE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CC01B-91F8-4CC5-A77F-82897B226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382D3-724C-4515-8E67-2CEE25C2B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83420-DC47-49AD-89ED-18EE52BB0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CFF1B-98EC-4F0E-B3F5-D2F3EB2937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00ff"/>
                </a:solidFill>
                <a:latin typeface="Arial"/>
              </a:rPr>
              <a:t>Тема:Техника дифференциров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Цель: Формирование навыков вычисления производной функц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1 клас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611280" y="1125360"/>
            <a:ext cx="8208720" cy="573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ровер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539640" y="1700280"/>
            <a:ext cx="7993080" cy="24289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539640" y="3716280"/>
            <a:ext cx="741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979640" y="292428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492360" y="292428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885080" y="292428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Работа в парах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(1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бучающийся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из 10 кл, 1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бучающийся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из 11 кл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роверка работы в пара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468360" y="1628640"/>
            <a:ext cx="8136000" cy="24480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468360" y="2852640"/>
            <a:ext cx="828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835280" y="2276640"/>
            <a:ext cx="0" cy="122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419640" y="2276640"/>
            <a:ext cx="0" cy="122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84720" y="2276640"/>
            <a:ext cx="0" cy="122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940360" y="2276640"/>
            <a:ext cx="0" cy="122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524720" y="2276640"/>
            <a:ext cx="0" cy="122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604360" y="2276640"/>
            <a:ext cx="0" cy="122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68360" y="234936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ути достижения цел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Отработать умение применять формулы вычисления производной функц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Укрепить понятие производной через ее геометрический и механический смыс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Развивать  « математическое видение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Назвать формулу производной функ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94920" y="1700280"/>
            <a:ext cx="84978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Х;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х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;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 х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³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;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 √х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1/х;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        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С;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       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(кх+в)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inx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;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Cosx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;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gx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   ctgx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 ;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f(g(x))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867280" y="177336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родолжить формул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u+v)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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(uv)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(u/v)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(Cu)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Вычислить производные функц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(x)=(x-5)(x+5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(x)=(4x-9)(4x+9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(x)=(x-1)(x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²+x+1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(x)=5Co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²2x+5Sin²2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(x)=tgx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  <a:cs typeface="Arial"/>
              </a:rPr>
              <a:t>٠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ctg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ыбрать выражение, которое является определением производно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36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539640" y="1700280"/>
            <a:ext cx="784872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аспределите предложенные функции в соответствующие колон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11280" y="1571760"/>
            <a:ext cx="8137440" cy="509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ровер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95280" y="1628640"/>
            <a:ext cx="8280360" cy="43927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95280" y="4149720"/>
            <a:ext cx="828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1628640"/>
            <a:ext cx="0" cy="396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1628640"/>
            <a:ext cx="0" cy="396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675640" y="1628640"/>
            <a:ext cx="0" cy="396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0 класс работает на компьютере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1 класс – самостоятельная рабо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1T08:56:22Z</dcterms:created>
  <dc:creator>1</dc:creator>
  <dc:description/>
  <dc:language>en-US</dc:language>
  <cp:lastModifiedBy>StariAdm</cp:lastModifiedBy>
  <dcterms:modified xsi:type="dcterms:W3CDTF">2008-03-02T09:47:07Z</dcterms:modified>
  <cp:revision>3</cp:revision>
  <dc:subject/>
  <dc:title>Тема:Техника дифференцирования</dc:title>
</cp:coreProperties>
</file>