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0A0-E768-43A7-A754-7EEC059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E4D-EBAD-4EC0-80A2-BF5B5F8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E52-E7B2-402D-9981-17B3BEF8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4E1-522E-4ED2-83FB-665F8648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D06C-3D7F-47B9-BA9B-1D809E45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4DCE-E7E0-4DCE-93CE-880F68A8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4686-5A25-4BEE-8380-5DF432F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2177-91D5-4EC9-A1E5-DA5F7E7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7AB-6445-4A7F-9820-C74ACA9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FC10-5999-4370-9EF9-2E1647A6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D745-9731-4808-BA67-D2C69EB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766-D631-4B1D-AEE5-1949A3FC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91E6-4E66-4966-A4B9-58F3835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13E6-4801-4423-A6ED-74F015E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57E-D6F8-4130-BCFB-F6AF113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5AA4-5758-4813-93A3-1B3F1567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A8D-D279-4571-BC3E-DC211EB0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C71-4FEA-4D9B-A592-C9B1A233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9B7-DD5D-48E3-8B4C-62A47C2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ADA-6BE4-44C7-B9CC-6D36D989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7E5-9801-45B3-B4F4-A490F07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FEC-7616-4374-9A19-8AE4380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26A-23B0-4F86-B0EF-20DFD949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CF1-68E3-408C-B5C6-5D34F95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A840-B807-4FE8-AF2D-C6C31369F4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C0AE-2039-491D-8967-990A349AAC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788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ложение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рок математик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Анисимова В.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Прочитай числ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3, 476, 58, 9, 24, 7, 385, 820, 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Назовите однозначные чис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Назовите двузначные чис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Что вы скажете об остальных числах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чис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400 + 70 + 8                    200 + 90 + 6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500 + 80 + 3                     300 + 50 + 4</a:t>
            </a: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гра «Живые примеры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241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+    </a:t>
            </a: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318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Сложение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пиши и вычис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412                   124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+  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813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                +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138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1225                   262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авай подума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ри друга – Вася, Витя и Коля – решили купить футбольный мяч, который стоит 150 р. У Васи 63 р., у Вити 55 р., а у Коли на 19 р. меньше, чем у Вити. Смогут ли друзья купить этот мяч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04000" y="4869000"/>
            <a:ext cx="1873080" cy="1655640"/>
            <a:chOff x="6804000" y="4869000"/>
            <a:chExt cx="1873080" cy="16556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804000" y="4869000"/>
              <a:ext cx="17989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476480" y="5353920"/>
              <a:ext cx="12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50 р.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) 55 – 19 = 36 (р.) – у Кол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) 63 + 55 = 118 (р.) – у Васи и Ви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) 118 + 36 = 154 (р.) – всего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твет:  смогут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20:04:42Z</dcterms:created>
  <dc:creator>Пользователь</dc:creator>
  <dc:description/>
  <dc:language>en-US</dc:language>
  <cp:lastModifiedBy>Пользователь</cp:lastModifiedBy>
  <dcterms:modified xsi:type="dcterms:W3CDTF">2013-10-15T21:23:38Z</dcterms:modified>
  <cp:revision>3</cp:revision>
  <dc:subject/>
  <dc:title>Сложение </dc:title>
</cp:coreProperties>
</file>