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9D0F-1342-474B-82AF-2388FC39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0A5A-4C5D-4B8B-BFB5-1E7A2BC2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00DE-6618-48EF-B83E-2BC0A224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1F71-AA95-497F-9C2E-F6E41C40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D1BE-2B9E-4C45-AE23-3362879B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0D01-A3C0-4FBC-BF03-023A3DE1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6E3B-D3C6-418D-A32D-835414BD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D72C-CC01-47B0-BF21-92EE7D1E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3742-F2B9-4046-983D-7824102C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F351-86FF-439E-84F4-C7E30163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C923-A549-4BB6-9254-68682D90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3353-465C-49AB-84B8-ED9C5A8B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2380-688B-47E2-9F8D-E6241ADD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2160-DE26-45DA-A9AD-D248B4E4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5807-68D4-477B-B548-9FE07F88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B9D1-5A64-4FCD-8727-D9CCD3F4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2452-98EE-43DF-8AAC-8F18619A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C414-83E5-48B6-8B0C-B532BE93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AA02-599B-43CE-8C28-965D4CE3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7805-4344-4323-8E4E-091ADD16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763-C1E6-4F04-BD75-5FCEB87E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3D73-76C3-4A1A-AF17-F2B296A4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B9BB-A92E-4DEA-B038-E0B55C80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D52B-A5FF-4D5F-83D0-D6002B41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64B3-4E54-4990-8B4D-A4F7FF1F05B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D6C8-AD1A-47BA-8E49-80B82944049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0788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ложение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Урок математики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3 класс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Анисимова В.И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Прочитай числа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3, 476, 58, 9, 24, 7, 385, 820, 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- Назовите однозначные числ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- Назовите двузначные числ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- Что вы скажете об остальных числах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ычис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400 + 70 + 8                    200 + 90 + 6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500 + 80 + 3                     300 + 50 + 4</a:t>
            </a: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гра «Живые примеры»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241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+    </a:t>
            </a:r>
            <a:r>
              <a:rPr b="0" lang="en-US" sz="4800" spc="-1" strike="noStrike" u="sng">
                <a:solidFill>
                  <a:srgbClr val="003366"/>
                </a:solidFill>
                <a:uFillTx/>
                <a:latin typeface="Arial"/>
              </a:rPr>
              <a:t>318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    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ема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Сложение 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пиши и вычис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412                   124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+   </a:t>
            </a:r>
            <a:r>
              <a:rPr b="1" lang="en-US" sz="4800" spc="-1" strike="noStrike" u="sng">
                <a:solidFill>
                  <a:srgbClr val="003366"/>
                </a:solidFill>
                <a:uFillTx/>
                <a:latin typeface="Arial"/>
              </a:rPr>
              <a:t>813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                + </a:t>
            </a:r>
            <a:r>
              <a:rPr b="1" lang="en-US" sz="4800" spc="-1" strike="noStrike" u="sng">
                <a:solidFill>
                  <a:srgbClr val="003366"/>
                </a:solidFill>
                <a:uFillTx/>
                <a:latin typeface="Arial"/>
              </a:rPr>
              <a:t>138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1225                   262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авай подумае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Три друга – Вася, Витя и Коля – решили купить футбольный мяч, который стоит 150 р. У Васи 63 р., у Вити 55 р., а у Коли на 19 р. меньше, чем у Вити. Смогут ли друзья купить этот мяч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804000" y="4869000"/>
            <a:ext cx="1873080" cy="1655640"/>
            <a:chOff x="6804000" y="4869000"/>
            <a:chExt cx="1873080" cy="165564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6804000" y="4869000"/>
              <a:ext cx="179892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7476480" y="5353920"/>
              <a:ext cx="120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150 р.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ше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1) 55 – 19 = 36 (р.) – у Кол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) 63 + 55 = 118 (р.) – у Васи и Вит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) 118 + 36 = 154 (р.) – всего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Ответ:  смогут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4T20:04:42Z</dcterms:created>
  <dc:creator>Пользователь</dc:creator>
  <dc:description/>
  <dc:language>en-US</dc:language>
  <cp:lastModifiedBy>Пользователь</cp:lastModifiedBy>
  <dcterms:modified xsi:type="dcterms:W3CDTF">2013-10-15T21:23:38Z</dcterms:modified>
  <cp:revision>3</cp:revision>
  <dc:subject/>
  <dc:title>Сложение </dc:title>
</cp:coreProperties>
</file>