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E9E4-2967-49D7-8BB8-90B6B71D5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57AA-B127-413D-BC4C-8099DBCE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F762-0D7E-4518-A68E-F5FCE3BB5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C9DD-9133-4495-96B3-62D5B0A32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7F54-9F13-440D-8340-BF3468093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F46E-3116-43D9-A064-11FD1354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C087-ABAA-4200-973B-FCB65AB4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FE32-7559-4EDC-AF37-F394D4E3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96F1-6FC0-440E-8A53-E865C2C2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34E8-9327-40BB-BA6F-A2535389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7C9F-7B7A-475F-90B4-8F496388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EAE0-9769-4C49-B3AA-614F3D42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A805-C897-4865-8515-4FDC424D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F258-9E8E-4326-A264-D94006C7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94A4-B076-4D14-8A18-444AA234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9138-F4C0-435C-B76E-759A5D1C3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B887-3F03-4072-96F6-92DB2F934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1B20-71DB-4024-982A-04077DAC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31E8-D95F-4DA4-86D6-AEA6FACC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3249-2CC6-4ABA-BDEA-F2DF5418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85ED-C31A-4357-A483-52121205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9DBA-0E32-4F95-807E-6C9B2F63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D0E0-7ED2-48A3-9181-DFDC415F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4EDD-B3AD-41D4-9BE3-4C51BE30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5720-DC17-442B-911D-B5E75A4502F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1A77-C4B3-4391-81BA-2918EAFF925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0788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Сложение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Урок математики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3 класс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Анисимова В.И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Arial"/>
              </a:rPr>
              <a:t>Прочитай числа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3, 476, 58, 9, 24, 7, 385, 820, 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- Назовите однозначные числ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- Назовите двузначные числ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- Что вы скажете об остальных числах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ычисл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400 + 70 + 8                    200 + 90 + 6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500 + 80 + 3                     300 + 50 + 4</a:t>
            </a:r>
            <a:r>
              <a:rPr b="0" lang="en-US" sz="5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гра «Живые примеры»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241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+    </a:t>
            </a:r>
            <a:r>
              <a:rPr b="0" lang="en-US" sz="4800" spc="-1" strike="noStrike" u="sng">
                <a:solidFill>
                  <a:srgbClr val="003366"/>
                </a:solidFill>
                <a:uFillTx/>
                <a:latin typeface="Arial"/>
              </a:rPr>
              <a:t>318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    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Тема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7200" spc="-1" strike="noStrike">
                <a:solidFill>
                  <a:srgbClr val="003366"/>
                </a:solidFill>
                <a:latin typeface="Arial"/>
              </a:rPr>
              <a:t>Сложение 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пиши и вычисл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412                   124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+   </a:t>
            </a:r>
            <a:r>
              <a:rPr b="1" lang="en-US" sz="4800" spc="-1" strike="noStrike" u="sng">
                <a:solidFill>
                  <a:srgbClr val="003366"/>
                </a:solidFill>
                <a:uFillTx/>
                <a:latin typeface="Arial"/>
              </a:rPr>
              <a:t>813</a:t>
            </a: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                + </a:t>
            </a:r>
            <a:r>
              <a:rPr b="1" lang="en-US" sz="4800" spc="-1" strike="noStrike" u="sng">
                <a:solidFill>
                  <a:srgbClr val="003366"/>
                </a:solidFill>
                <a:uFillTx/>
                <a:latin typeface="Arial"/>
              </a:rPr>
              <a:t>138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1225                   262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авай подумае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Три друга – Вася, Витя и Коля – решили купить футбольный мяч, который стоит 150 р. У Васи 63 р., у Вити 55 р., а у Коли на 19 р. меньше, чем у Вити. Смогут ли друзья купить этот мяч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804000" y="4869000"/>
            <a:ext cx="1873080" cy="1655640"/>
            <a:chOff x="6804000" y="4869000"/>
            <a:chExt cx="1873080" cy="165564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6804000" y="4869000"/>
              <a:ext cx="179892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7476480" y="5353920"/>
              <a:ext cx="120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150 р.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еше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1) 55 – 19 = 36 (р.) – у Кол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2) 63 + 55 = 118 (р.) – у Васи и Вит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3) 118 + 36 = 154 (р.) – всего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Ответ:  смогут.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4T20:04:42Z</dcterms:created>
  <dc:creator>Пользователь</dc:creator>
  <dc:description/>
  <dc:language>en-US</dc:language>
  <cp:lastModifiedBy>Пользователь</cp:lastModifiedBy>
  <dcterms:modified xsi:type="dcterms:W3CDTF">2013-10-15T21:23:38Z</dcterms:modified>
  <cp:revision>3</cp:revision>
  <dc:subject/>
  <dc:title>Сложение </dc:title>
</cp:coreProperties>
</file>