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320-738B-4AA6-8051-8E7A4BFB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162-66B5-419E-BD62-2083495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86A-9C96-4BE8-8D73-FFE6DECA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2FE-7693-4E24-8D8C-2FCE4A69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856-EB28-4BF8-A486-EA2376AE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6D98-47FC-447F-9A48-E7E1B54C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350-469B-4E42-AFD0-22F90B1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3ED-BC7A-4E40-80D4-BC990A3C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367F-3E76-415E-A6B5-9A89BA04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0C6D-1307-4AB0-812F-062C8048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67C2-6320-49FD-A67E-A376247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436-85A3-4EFE-B3A2-DD13ED9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8731-DCA0-4595-A3F7-B8511A3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194B-288C-4F28-ABD9-EE3C51F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4F2-C1E7-4645-AAA5-4B793B9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2E06-CFFA-4845-9117-C086E50E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32A-79E1-4793-A6BC-38506F2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353-28BB-437E-B30B-A64E2B22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617-5E1C-4776-A861-F7DDC848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855-66E5-437A-996D-E377D90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022-78B6-48FE-8515-C4BE072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334-58AE-4894-93C0-135B9FD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2C3-262A-4213-9F44-76838EF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E08-A2D2-493C-9B34-8955928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89A3-1CEB-4996-9EC3-954B1DFF93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A5E-5B60-4BC0-A4F1-328E58A61D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700280"/>
            <a:ext cx="7196400" cy="25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Тема урока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Системы счисления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7201080" cy="36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Домашнее задание.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думать свой вариант рисунка на координатной плоскости, составить для него таблицу.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бразовательная – закрепление, обобщение и систематизация знаний учащихся по теме «Системы счисления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спитательная – повышение мотивации учащихся путем использования нестандартных зада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вивающая – развитие мышления при помощи логических задач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истематизация теоретических зн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1.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полнение табл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828800"/>
          <a:ext cx="7696080" cy="3672000"/>
        </p:xfrm>
        <a:graphic>
          <a:graphicData uri="http://schemas.openxmlformats.org/drawingml/2006/table">
            <a:tbl>
              <a:tblPr/>
              <a:tblGrid>
                <a:gridCol w="3338640"/>
                <a:gridCol w="2044440"/>
                <a:gridCol w="231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,2,  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2. Графическ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Система счисления – это способ представления чисел и соответствующие ему правила действий над чис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Римский способ записи чисел – это позицион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В двоичной системе счисления 11+1=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Информация, хранящаяся в компьютере, представлена в дв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Существует множество позиционных систем счисления , и они отличаются друг от друга алфави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3. Доказательство тожде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ажите, чт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использую триады и тетрад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14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100010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9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001000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4. Решение задач (готовимся к ЕГ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ему равна сумма чисел 4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и 5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) 1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) 17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) 69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) 1000001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5. Рисуем по точ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различных системах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6. Решение неравен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вьте вместо звездочки знак &gt;, &lt;,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11111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111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 5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5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 10001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2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7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е  числа, записанные в различных системах счисления,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1000110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8:39:45Z</dcterms:created>
  <dc:creator>Sam</dc:creator>
  <dc:description/>
  <dc:language>en-US</dc:language>
  <cp:lastModifiedBy>Sam</cp:lastModifiedBy>
  <dcterms:modified xsi:type="dcterms:W3CDTF">2009-10-22T17:29:03Z</dcterms:modified>
  <cp:revision>3</cp:revision>
  <dc:subject/>
  <dc:title>Тема урока.   Системы счисления.</dc:title>
</cp:coreProperties>
</file>