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134-5727-41EB-B928-83D45D8D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9E1-D209-4E07-AC30-569062D1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04B2-6B78-48D3-903C-4C57235D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AD1-C680-4952-97E9-9435A213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78F2-D24C-4670-A3C1-F90B5796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F472-F202-4463-BC61-7F1C5498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3E46-30FD-4570-928B-C4C9ADD5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71CC-AA19-4015-A646-17B61F77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20B0-DD2A-444A-BA1B-B33CF052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3CC1-31F9-49FD-AEA2-FB8CA017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82F5-EFB7-4C18-8824-C34EDE29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BF23-B1CC-4CB3-99CF-7493D02D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A899-D99C-42E5-8EDB-F5F1ECF1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ADBC-FA66-4ADA-8552-876609E1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227E-CD61-4683-9215-D8D4FA40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32DE-27EE-4229-937C-3DD3980E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CB73-2E98-42C4-BB07-2CFF24DE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5C09-D726-4E9F-A17E-8FA5C71B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6247-5BA4-438D-946F-B9410E91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9AC-6428-4E5A-81D9-7A6E3948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F4B-1F86-4951-B445-A04BE861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B52-8325-47E8-8622-196E47CC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F81-8A57-4720-83F0-4E2A801F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BCBF-A23B-4C35-9532-EDDA643E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29CE-76BF-461C-BA8D-38285A48ABB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01B8-A94C-4D51-B043-99EA4674E39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47640" y="1700280"/>
            <a:ext cx="7196400" cy="252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Тема урока.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 Системы счисления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7201080" cy="3671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Домашнее задание.</a:t>
            </a:r>
            <a:br>
              <a:rPr sz="4400"/>
            </a:b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ридумать свой вариант рисунка на координатной плоскости, составить для него таблицу.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бразовательная – закрепление, обобщение и систематизация знаний учащихся по теме «Системы счисления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оспитательная – повышение мотивации учащихся путем использования нестандартных задач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азвивающая – развитие мышления при помощи логических задач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рганизационный момен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истематизация теоретических зна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ворческое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одведение итогов уро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дание 1.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полнение таблиц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5800" y="1828800"/>
          <a:ext cx="7696080" cy="3672000"/>
        </p:xfrm>
        <a:graphic>
          <a:graphicData uri="http://schemas.openxmlformats.org/drawingml/2006/table">
            <a:tbl>
              <a:tblPr/>
              <a:tblGrid>
                <a:gridCol w="3338640"/>
                <a:gridCol w="2044440"/>
                <a:gridCol w="231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сч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фав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,2,  , 4, 5,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ят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дание 2. Графический диктан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Система счисления – это способ представления чисел и соответствующие ему правила действий над числ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 Римский способ записи чисел – это позицион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В двоичной системе счисления 11+1=1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. Информация, хранящаяся в компьютере, представлена в двоичной системе счисл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. Существует множество позиционных систем счисления , и они отличаются друг от друга алфавит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дание 3. Доказательство тождеств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696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кажите, что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(использую триады и тетрады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.14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=1100010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.91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=10010001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дание 4. Решение задач (готовимся к ЕГЭ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Чему равна сумма чисел 43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и 56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) 12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) 17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) 69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) 1000001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Задание 5. Рисуем по точка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Таблица 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приведены номер точки и её координаты, записанные в двоичной системе счис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Таблица 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приведены номер точки и её координаты, записанные в двоичной системе счис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Таблица 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приведены номер точки и её координаты, записанные в различных системах счис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дание 6. Решение неравенст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тавьте вместо звездочки знак &gt;, &lt;,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) 111111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* 1111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) 51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* 5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) 100010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* 22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дание 7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оложите  числа, записанные в различных системах счисления, в порядке возраста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36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1000110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3C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8:39:45Z</dcterms:created>
  <dc:creator>Sam</dc:creator>
  <dc:description/>
  <dc:language>en-US</dc:language>
  <cp:lastModifiedBy>Sam</cp:lastModifiedBy>
  <dcterms:modified xsi:type="dcterms:W3CDTF">2009-10-22T17:29:03Z</dcterms:modified>
  <cp:revision>3</cp:revision>
  <dc:subject/>
  <dc:title>Тема урока.   Системы счисления.</dc:title>
</cp:coreProperties>
</file>