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B8E-DCBF-4829-8DF4-520EEBCF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0A1-B7B1-4EEE-8664-FDB22764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43C4-A604-4BAB-8A8B-03C2ABC7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F68-707E-423B-BDD5-2D01E969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0754-0DE0-4477-A437-FCE50488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6BC5-E4AD-40C5-A8DF-EBB730A3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4297-34FB-44AA-8620-3EE26144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D5F0-78B9-4806-A9B7-13666583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3CCD-9592-4FF9-A057-C452D60C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1014-DF00-4084-887C-2EAD19C0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5157-9DF3-4A6D-8176-D8FFD5D6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018-F7C7-4DE7-A3BE-701CF139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A6D1-FC09-4EB1-AC7E-3EAD49DC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E88F-2A24-45CB-AE85-106E1AD0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22BC-ACAE-4A60-AD2A-34170D8C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D548-0385-40BD-9AC3-C6DC5AF3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4E58-4E0B-4825-A1CA-DE2E9CD6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965-2A01-4A88-9E8E-041C74A7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DC3-91FF-4194-915C-C1BE52EB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096-F4E5-449D-9A27-91E58B40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926-FA36-40DD-9DF3-BBD0275B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765-3EDD-463A-BDA6-0DCC5944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333-A338-4D6A-B5B0-ABDF134E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E31-605C-4A3D-A003-184C51D3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21CE-00B6-4372-B2A3-DAB782191F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21B7-0AC4-40E8-AEA9-8053E496F8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640" y="1700280"/>
            <a:ext cx="7196400" cy="252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Тема урока.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 Системы счисления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7201080" cy="3671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Домашнее задание.</a:t>
            </a:r>
            <a:br>
              <a:rPr sz="4400"/>
            </a:b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ридумать свой вариант рисунка на координатной плоскости, составить для него таблицу.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бразовательная – закрепление, обобщение и систематизация знаний учащихся по теме «Системы счисления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оспитательная – повышение мотивации учащихся путем использования нестандартных задач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звивающая – развитие мышления при помощи логических задач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рганизационный мом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истематизация теоретических зна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ворческо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одведение итогов уро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1.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полнение табли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1828800"/>
          <a:ext cx="7696080" cy="3672000"/>
        </p:xfrm>
        <a:graphic>
          <a:graphicData uri="http://schemas.openxmlformats.org/drawingml/2006/table">
            <a:tbl>
              <a:tblPr/>
              <a:tblGrid>
                <a:gridCol w="3338640"/>
                <a:gridCol w="2044440"/>
                <a:gridCol w="231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фав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,2,  , 4, 5,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2. Графический диктан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Система счисления – это способ представления чисел и соответствующие ему правила действий над числ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Римский способ записи чисел – это позицион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В двоичной системе счисления 11+1=1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. Информация, хранящаяся в компьютере, представлена в двоичной системе счисл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Существует множество позиционных систем счисления , и они отличаются друг от друга алфави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3. Доказательство тождест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696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ажите, чт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(использую триады и тетрады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14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=1100010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91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=10010001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4. Решение задач (готовимся к ЕГЭ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Чему равна сумма чисел 43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и 56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) 12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) 17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) 69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) 1000001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Задание 5. Рисуем по точка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Таблица 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приведены номер точки и её координаты, записанные в двоичной системе счис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Таблица 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приведены номер точки и её координаты, записанные в двоичной системе счис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Таблица 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приведены номер точки и её координаты, записанные в различных системах счис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дание 6. Решение неравенст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тавьте вместо звездочки знак &gt;, &lt;,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) 111111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* 1111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) 51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* 5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) 100010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* 22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дание 7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ите  числа, записанные в различных системах счисления, в порядке возраст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36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1000110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3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8:39:45Z</dcterms:created>
  <dc:creator>Sam</dc:creator>
  <dc:description/>
  <dc:language>en-US</dc:language>
  <cp:lastModifiedBy>Sam</cp:lastModifiedBy>
  <dcterms:modified xsi:type="dcterms:W3CDTF">2009-10-22T17:29:03Z</dcterms:modified>
  <cp:revision>3</cp:revision>
  <dc:subject/>
  <dc:title>Тема урока.   Системы счисления.</dc:title>
</cp:coreProperties>
</file>