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A1E-A22A-4D35-A114-C38CB57B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AD6B-BF71-4530-A525-923C2497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AF9-CC8D-42B5-97BE-348EFC23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26E-5814-4845-8A3B-0EB7327E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285C-D085-4D55-A43F-93F20740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7ABC-1DDC-4208-A15C-F672D004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EE43-5FCE-48C6-9F1C-2BD4DA6A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A3D1-2162-441E-A7BB-D2663D18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D6CF-33A1-4258-8B2E-10ED88F6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CCAF-5725-4A20-98EE-91D18516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BDA6-EB09-443E-B4C0-A945BE62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2EA-2A31-48B9-B424-B5D03C16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1ECE-314D-4565-A8B7-AB5520FE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C037-5B1F-46A6-A7A3-7CDB1E6A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F480-9686-4CDE-AA49-3A4890EA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29DC-2D1A-4FD5-9A75-D37EE0FC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CBB0-98F8-4ECB-BC7B-CECCD3C9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E9E-4B5D-40B5-AAE7-85D585DA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F417-489A-4E0B-AC84-D1D921D4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00D-ED68-4FE3-B9E6-3359546B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0FDB-B08F-4D93-ABEE-4A01AFFB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48A-EC84-4172-9E8A-929F9710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2F0-7AEE-4D6E-AAC7-6F9F6BB7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3018-6434-412C-B5EE-E5D839EC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C1C6-5944-4047-B00E-51D1A0F05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0F95-6653-4596-B88B-2D93F9F0C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Урок математики в 3 классе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3933360"/>
            <a:ext cx="7758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Решение задач на сравнение чисе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Цели: </a:t>
            </a:r>
            <a:br>
              <a:rPr sz="20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1.  Ознакомить с правилом, по которому можно          узнать, во сколько раз одно из данных чисел больше или меньше другого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     2. Развивать умения анализировать, сравнивать, обобщать, делать  выводы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              3. Воспитывать аккуратность и умение помочь товарищу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4437000"/>
            <a:ext cx="79455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Оборудование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Опорные табли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Карт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Схемы</a:t>
            </a: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44080"/>
            <a:ext cx="835164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Ход урока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692280"/>
            <a:ext cx="8002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66"/>
                </a:solidFill>
                <a:latin typeface="Arial"/>
              </a:rPr>
              <a:t>1. Организационный момент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Математику, друзья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Не любить никак нельзя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Очень строгая наука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Очень точная наука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Это математик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Ребята, вы согласны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Так давайте скорее займемся интересной и важной работо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Запишите число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66"/>
                </a:solidFill>
                <a:latin typeface="Arial"/>
              </a:rPr>
              <a:t>2. Устный счет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). Проверка таблицы умножения и деления по карточкам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4 человек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2). Арифметический диктант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Первый множитель 5, второй множитель 6. Произведение -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Делимое 35, делитель 7.Частное -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Увеличь 7 в 4 раз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Увеличь  7 на 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Уменьши 24 в 3 раз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Уменьши 24 на 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Запишите ответы в порядке убыван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Каждому ответу соответствует определенная букв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Какое слово получилось? (задача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Как вы думаете: почему я взяла это слово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С каким видом задач мы познакомились вчера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9200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3. Сообщение темы и целей уро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ма урока: Решение задач на сравн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Что необходимо знать, чтобы решать такие задач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Зн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блицу умножения и де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 и вопрос зада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Уме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чит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шать зада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равнив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4. Повторение ранее изученного матери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А что значит сравнива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Давайте вспомн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Работа с комментирова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7 * 7  5                    3    9 * 5  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+0 * 12   0                 45: 9 * 45: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так: таблицу мы повторили, задание на сравнение выполнили, значит, мы теперь готовы решать зада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55280" y="476280"/>
            <a:ext cx="79311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Изучение нового матери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Я вам предлагаю условия трех зада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из данных задач соответствует тем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коладных – 20 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рамели - ?, в 2 р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коньках – 15 ч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? р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лыжах – 5 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тя – 7 сне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ша – в 4 р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Составьте задач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ак вы узнал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аким действием надо узна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ак узнать во сколько раз одно число больше или меньше другог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Запишите решение и ответ к данной задач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акое решение записал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то все правильно сдела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55280" y="692280"/>
            <a:ext cx="79311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Физминут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снежинки, мы пушин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кружиться мы не прочь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снежинки-балерин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танцуем день и ноч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деревья побели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ыши пухом замели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млю бархатом укры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от стужи сберег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так: как узнать во сколько раз одно число больше или меньше друг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Где можно применить это правило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000" y="692280"/>
            <a:ext cx="80024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6. Закрепление нового материа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Ребята, я вам предлагаю три вида рабо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дни ребята работают по карточкам, другие по учебни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уровень – с. 61 № 1 (учебни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уровень – синяя звездоч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рточка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катке было 10 мальчиков и 5 девоч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полни задачу и реши 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уровень – фиолетовая звездоч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рточка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 рисунку составь задачу, запиши условие, решение, отв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7. Самостоятельная работа у доски и в тетрад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8. Провер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000" y="692280"/>
            <a:ext cx="80024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66"/>
                </a:solidFill>
                <a:latin typeface="Arial"/>
              </a:rPr>
              <a:t>9. Постановка проблемного вопрос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-  Что общего во всех задачах? (задачи простые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- Какие еще бывают? (составные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- На следующем уроке мы будем решать составные задачи, используя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правило сегодняшнего урок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66"/>
                </a:solidFill>
                <a:latin typeface="Arial"/>
              </a:rPr>
              <a:t>10. Итог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- Ребята, что нужно было знать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- А что уметь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- Как узнать во сколько раз одно число больше или меньше другого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66"/>
                </a:solidFill>
                <a:latin typeface="Arial"/>
              </a:rPr>
              <a:t>11. Выставление оценок с комментированием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66"/>
                </a:solidFill>
                <a:latin typeface="Arial"/>
              </a:rPr>
              <a:t>12. Домашнее задание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С. 61 № 2,3 по заданию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По желанию – выполнить задачи по карточкам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Мне было интересно с вами работать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А кому из вас понравился урок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Поднимите снежинк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Посмотрите,  как красиво стало в классе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8:40:23Z</dcterms:created>
  <dc:creator>михаил</dc:creator>
  <dc:description/>
  <dc:language>en-US</dc:language>
  <cp:lastModifiedBy>михаил</cp:lastModifiedBy>
  <dcterms:modified xsi:type="dcterms:W3CDTF">2008-01-16T15:05:47Z</dcterms:modified>
  <cp:revision>3</cp:revision>
  <dc:subject/>
  <dc:title>Урок математики в 3 классе.</dc:title>
</cp:coreProperties>
</file>