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8D8-B68A-41F7-8D35-4BD0C9CD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158-7C91-425E-92B2-1BCACBB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3C9-924D-4E6B-BE66-0580111E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7C6-6E82-407D-B156-E3E47A9E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15B3-D569-4A14-BAA5-3C866ED9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BDC8-1A20-4F2A-9947-2FA5B0FC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06F-258A-4D06-865B-55B613B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EE44-B35B-45EE-8787-317C4ED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CFC8-59EE-4FA4-97DC-28081BE3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447C-DC01-4A47-BBCB-44E36DE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0DF0-A6A5-4A73-BA73-61756A4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91B-CC13-4AA7-9727-372D424F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37B-6642-4C0E-8231-25FF176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AC32-523C-4448-A90C-F57CD6F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6ED5-6188-42D4-AEE5-F12C909A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7B6D-23DF-4306-AD59-ADD899E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87B-E88B-4072-8362-8E566E79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5D8-786B-41F0-95FB-778AA60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6EA-2CFF-41CE-9B12-813B03B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C71-6CC2-426A-B0F6-C819ABD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173-64E5-4B18-B6B7-CFF5CE7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E46-9E82-4D76-BD98-7CA09BE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4A4-E3CD-45FA-9329-6052E72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477-A761-41C9-A754-7D63F6F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483-9A46-4377-9D38-5CFA3A768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0EAE-C449-47E7-ADE3-8D260B6D5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рок математики в 3 класс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775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Решение задач на сравнение чисе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Цели: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1.  Ознакомить с правилом, по которому можно          узнать, во сколько раз одно из данных чисел больше или меньше другого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2. Развивать умения анализировать, сравнивать, обобщать, делать  выводы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         3. Воспитывать аккуратность и умение помочь товарищ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437000"/>
            <a:ext cx="79455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Оборудование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Опорные таб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ар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хемы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516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од урок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1. Организационный моме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Математику, друзь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е любить никак нельз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строг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точн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Это математи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Ребята, вы согласны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Так давайте скорее займемся интересной и важной работо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числ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2. Устный сче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). Проверка таблицы умножения и деления по карточка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 челове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). Арифметический дикта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ервый множитель 5, второй множитель 6. Произведени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елимое 35, делитель 7.Частно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7 в 4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 7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в 3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ответы в порядке убыва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ждому ответу соответствует определенная букв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ое слово получилось? (задача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 вы думаете: почему я взяла это слово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С каким видом задач мы познакомились вчер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3. Сообщение темы и целей ур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а урока: Решение задач на срав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Что необходимо знать, чтобы решать такие задач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Зн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ицу умножения и 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 и вопрос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чит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вни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4. Повторение ранее изучен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А что значит сравнив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Давайте вспом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абота с коммен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7 * 7  5                    3    9 * 5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+0 * 12   0                 45: 9 * 45: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ак: таблицу мы повторили, задание на сравнение выполнили, значит, мы теперь готовы 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Изучение нов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Я вам предлагаю условия трех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из данных задач соответствует тем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ных – 20 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амели - ?, в 2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ньках – 15 ч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?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ыжах – 5 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тя – 7 сне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ша – в 4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ставьте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вы узн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им действием надо уз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апишите решение и ответ к данной задач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ое решение запис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то все правильно сдел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, мы пуш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ужиться мы не прочь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-балер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танцуем день и н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деревья побели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ши пухом замел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млю бархатом укры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т стужи сберег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: как узнать во сколько раз одно число больше или меньше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Где можно применить это правил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6. Закрепление нов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Ребята, я вам предлагаю три вида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 ребята работают по карточкам, другие по учебн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ровень – с. 61 № 1 (учеб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уровень – синяя звезд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катке было 10 мальчиков и 5 дево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и задачу и реши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уровень – фиолетовая звезд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рисунку составь задачу, запиши условие, решение,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7. Самостоятельная работа у доски и в тетрад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8. Прове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9. Постановка проблемного вопрос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 Что общего во всех задачах? (задачи прост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ие еще бывают? (составн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На следующем уроке мы будем решать составные задачи, использу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равило сегодняшнего урок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0. Итог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Ребята, что нужно было зна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А что уме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1. Выставление оценок с комментировани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2. Домашнее задани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. 61 № 2,3 по заданию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 желанию – выполнить задачи по карточка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Мне было интересно с вами работат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 кому из вас понравился урок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днимите снежин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смотрите,  как красиво стало в класс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0:23Z</dcterms:created>
  <dc:creator>михаил</dc:creator>
  <dc:description/>
  <dc:language>en-US</dc:language>
  <cp:lastModifiedBy>михаил</cp:lastModifiedBy>
  <dcterms:modified xsi:type="dcterms:W3CDTF">2008-01-16T15:05:47Z</dcterms:modified>
  <cp:revision>3</cp:revision>
  <dc:subject/>
  <dc:title>Урок математики в 3 классе.</dc:title>
</cp:coreProperties>
</file>