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699-325C-40D3-A68F-2505DFB9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0AF-B53D-4273-B9D1-B593B3F5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F50-17C9-4708-A6EE-5235B0A0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1699-29D7-4435-A0EA-8AAFBD71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4841-C5DF-419C-96D4-72DCDBF9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12CD-42DB-4275-AC9E-14AE29E8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A66A-CDBD-48FB-9083-37AD7DCA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C663-6A9D-4095-9BD6-F3A6CAA7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11D2-DDBE-4447-AFF5-DB516964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E453-DA1B-41BD-A57B-0FB7F2A4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B681-1D84-4277-875A-8109CED7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E9F-2283-4956-ABF7-B6ED0B6B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B635-F2B7-42D6-9699-93EF35D4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E697-3071-4891-9AF0-0D0C42F1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F663-B224-4D25-A54E-69F6C899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297F-81F4-4D6B-B144-7DB19607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991F-0944-45D5-979A-FF8538A2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9A7-0A68-462B-8702-33DBB6B4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C19A-04B5-4E44-B663-8DD9F607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E7E-3516-4736-A20A-369FA921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F42-3099-4356-A0BF-529871FE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4E26-DFB7-4860-B499-18559676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4A4-E940-4442-BEDE-14C2373C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BC5-8EEE-42B4-9A70-A0E56925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75C0-210D-4D2E-BF93-063F79E5E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5E01-BAF5-496C-8A1B-D20B10631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Урок математики в 3 классе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3933360"/>
            <a:ext cx="7758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Решение задач на сравнение чисе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Цели: </a:t>
            </a: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1.  Ознакомить с правилом, по которому можно          узнать, во сколько раз одно из данных чисел больше или меньше другого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     2. Развивать умения анализировать, сравнивать, обобщать, делать  выводы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              3. Воспитывать аккуратность и умение помочь товарищу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4437000"/>
            <a:ext cx="79455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Оборудование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Опорные табли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Карт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Схемы</a:t>
            </a: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44080"/>
            <a:ext cx="835164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Ход урок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692280"/>
            <a:ext cx="8002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66"/>
                </a:solidFill>
                <a:latin typeface="Arial"/>
              </a:rPr>
              <a:t>1. Организационный момент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Математику, друзья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Не любить никак нельзя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Очень строгая наука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Очень точная наука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Это математик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Ребята, вы согласны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Так давайте скорее займемся интересной и важной работо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Запишите число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66"/>
                </a:solidFill>
                <a:latin typeface="Arial"/>
              </a:rPr>
              <a:t>2. Устный счет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). Проверка таблицы умножения и деления по карточкам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4 человек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). Арифметический диктант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Первый множитель 5, второй множитель 6. Произведение -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Делимое 35, делитель 7.Частное -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Увеличь 7 в 4 раз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Увеличь  7 на 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Уменьши 24 в 3 раз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Уменьши 24 на 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Запишите ответы в порядке убыван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Каждому ответу соответствует определенная букв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Какое слово получилось? (задача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Как вы думаете: почему я взяла это слово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С каким видом задач мы познакомились вчера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9200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3. Сообщение темы и целей уро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ма урока: Решение задач на сравн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Что необходимо знать, чтобы решать такие задач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Зн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блицу умножения и де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 и вопрос зада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Уме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чит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шать зада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равни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4. Повторение ранее изученного матери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А что значит сравнив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Давайте вспом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Работа с комментирова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7 * 7  5                    3    9 * 5  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+0 * 12   0                 45: 9 * 45: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так: таблицу мы повторили, задание на сравнение выполнили, значит, мы теперь готовы решать зада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79311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Изучение нового матери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Я вам предлагаю условия трех зада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из данных задач соответствует тем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коладных – 20 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рамели - ?, в 2 р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коньках – 15 ч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? р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лыжах – 5 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тя – 7 сне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ша – в 4 р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Составьте задач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ак вы узнал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аким действием надо узн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ак узнать во сколько раз одно число больше или меньше другог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Запишите решение и ответ к данной задач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акое решение записал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то все правильно сдела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55280" y="692280"/>
            <a:ext cx="79311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Физминут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снежинки, мы пуши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ружиться мы не прочь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снежинки-балери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танцуем день и ноч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деревья побели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ыши пухом замели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млю бархатом укры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от стужи сберег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так: как узнать во сколько раз одно число больше или меньше друг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Где можно применить это правило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000" y="692280"/>
            <a:ext cx="80024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6. Закрепление нового матери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Ребята, я вам предлагаю три вида рабо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ни ребята работают по карточкам, другие по учебни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уровень – с. 61 № 1 (учеб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уровень – синяя звездоч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рточка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катке было 10 мальчиков и 5 девоч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олни задачу и реши 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уровень – фиолетовая звездоч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рточка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 рисунку составь задачу, запиши условие, решение, от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7. Самостоятельная работа у доски и в тетрад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8. Провер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692280"/>
            <a:ext cx="80024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66"/>
                </a:solidFill>
                <a:latin typeface="Arial"/>
              </a:rPr>
              <a:t>9. Постановка проблемного вопрос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  Что общего во всех задачах? (задачи простые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 Какие еще бывают? (составные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 На следующем уроке мы будем решать составные задачи, используя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правило сегодняшнего урок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66"/>
                </a:solidFill>
                <a:latin typeface="Arial"/>
              </a:rPr>
              <a:t>10. Итог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 Ребята, что нужно было знать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 А что уметь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 Как узнать во сколько раз одно число больше или меньше другого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66"/>
                </a:solidFill>
                <a:latin typeface="Arial"/>
              </a:rPr>
              <a:t>11. Выставление оценок с комментированием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66"/>
                </a:solidFill>
                <a:latin typeface="Arial"/>
              </a:rPr>
              <a:t>12. Домашнее задание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С. 61 № 2,3 по заданию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По желанию – выполнить задачи по карточкам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Мне было интересно с вами работать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А кому из вас понравился урок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Поднимите снежинк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Посмотрите,  как красиво стало в классе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8:40:23Z</dcterms:created>
  <dc:creator>михаил</dc:creator>
  <dc:description/>
  <dc:language>en-US</dc:language>
  <cp:lastModifiedBy>михаил</cp:lastModifiedBy>
  <dcterms:modified xsi:type="dcterms:W3CDTF">2008-01-16T15:05:47Z</dcterms:modified>
  <cp:revision>3</cp:revision>
  <dc:subject/>
  <dc:title>Урок математики в 3 классе.</dc:title>
</cp:coreProperties>
</file>