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A0D7-3ECF-40A7-A8C4-8D50FBDC2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D4C8-3B37-416B-8F23-48BFA5EEB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74E4-902D-4EBF-AAB0-43CD91BDC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274-2B02-4500-AF40-23FFE68A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071-82ED-4A4D-9E32-80EE1AD7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32C-1A25-43EC-83A2-E7F29E50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834-A3A1-4C2C-B51D-EC09AE1A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8AE-ACC1-47E5-AAC0-94FB79AB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3C7-C3C5-4B8E-8F05-48D4B165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429-2087-4A54-A8D6-C2BD4379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48C-D647-4B3D-B517-0FAE10A3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DA8-ABEF-42D9-B626-95686C31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72A-3BE5-444B-8202-330BE7D7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2BE-9873-4FF9-98D3-E725A8E7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BCE-C69E-4F4C-B16E-47088FC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7EDF-FF00-4605-A42C-9626FC689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e1e2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76360" y="5105160"/>
            <a:ext cx="37335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ОУ «СОШ№38» г.Сыктывк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рина Т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600200" y="16632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ёх корзинах было 97 груш. В первой корзине -41 груша, во второй на 5груш больше, чем в первой. Сколько груш было в третьей кор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1295280" y="403848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5943600" y="40402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4419720" y="465444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Calibri"/>
              </a:rPr>
              <a:t>1) 41 + 5 = 46(гр.) –во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Calibri"/>
              </a:rPr>
              <a:t>2) 41 + 46 = 87 (гр.)- в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Times New Roman"/>
              </a:rPr>
              <a:t>3)97 – 87 = 10(г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Calibri"/>
              </a:rPr>
              <a:t>Ответ: 10 груш в третьей корз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5"/>
          <p:cNvSpPr/>
          <p:nvPr/>
        </p:nvSpPr>
        <p:spPr>
          <a:xfrm>
            <a:off x="395280" y="2852640"/>
            <a:ext cx="1944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28"/>
          <p:cNvSpPr/>
          <p:nvPr/>
        </p:nvSpPr>
        <p:spPr>
          <a:xfrm>
            <a:off x="2411280" y="2852640"/>
            <a:ext cx="1944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31"/>
          <p:cNvSpPr/>
          <p:nvPr/>
        </p:nvSpPr>
        <p:spPr>
          <a:xfrm>
            <a:off x="4356000" y="2852640"/>
            <a:ext cx="720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8"/>
          <p:cNvSpPr/>
          <p:nvPr/>
        </p:nvSpPr>
        <p:spPr>
          <a:xfrm>
            <a:off x="0" y="4495680"/>
            <a:ext cx="4876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груш во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з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9"/>
          <p:cNvSpPr/>
          <p:nvPr/>
        </p:nvSpPr>
        <p:spPr>
          <a:xfrm>
            <a:off x="0" y="52578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груш в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зин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38"/>
          <p:cNvSpPr/>
          <p:nvPr/>
        </p:nvSpPr>
        <p:spPr>
          <a:xfrm>
            <a:off x="5148360" y="2852640"/>
            <a:ext cx="792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Дуга 44"/>
          <p:cNvSpPr/>
          <p:nvPr/>
        </p:nvSpPr>
        <p:spPr>
          <a:xfrm>
            <a:off x="468360" y="2492280"/>
            <a:ext cx="5398920" cy="432000"/>
          </a:xfrm>
          <a:custGeom>
            <a:avLst/>
            <a:gdLst>
              <a:gd name="textAreaLeft" fmla="*/ 2520 w 5398920"/>
              <a:gd name="textAreaRight" fmla="*/ 5399280 w 539892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399087" h="431800">
                <a:moveTo>
                  <a:pt x="2525" y="206564"/>
                </a:moveTo>
                <a:lnTo>
                  <a:pt x="2525" y="206564"/>
                </a:lnTo>
                <a:arcTo wR="2699544" hR="215900" stAng="-10788100" swAng="10788108"/>
                <a:lnTo>
                  <a:pt x="2699544" y="215900"/>
                </a:lnTo>
                <a:close/>
              </a:path>
              <a:path fill="none" w="5399087" h="431800">
                <a:moveTo>
                  <a:pt x="2525" y="206564"/>
                </a:moveTo>
                <a:lnTo>
                  <a:pt x="2525" y="206564"/>
                </a:lnTo>
                <a:arcTo wR="2699544" hR="215900" stAng="-10788100" swAng="10788108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5"/>
          <p:cNvSpPr/>
          <p:nvPr/>
        </p:nvSpPr>
        <p:spPr>
          <a:xfrm>
            <a:off x="3200400" y="22096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6"/>
          <p:cNvSpPr/>
          <p:nvPr/>
        </p:nvSpPr>
        <p:spPr>
          <a:xfrm>
            <a:off x="1318680" y="285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9"/>
          <p:cNvSpPr/>
          <p:nvPr/>
        </p:nvSpPr>
        <p:spPr>
          <a:xfrm>
            <a:off x="4259520" y="2895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54"/>
          <p:cNvSpPr/>
          <p:nvPr/>
        </p:nvSpPr>
        <p:spPr>
          <a:xfrm>
            <a:off x="6629400" y="106668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61"/>
          <p:cNvSpPr/>
          <p:nvPr/>
        </p:nvSpPr>
        <p:spPr>
          <a:xfrm>
            <a:off x="1676520" y="1447920"/>
            <a:ext cx="13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Дуга 62"/>
          <p:cNvSpPr/>
          <p:nvPr/>
        </p:nvSpPr>
        <p:spPr>
          <a:xfrm rot="5400000">
            <a:off x="3400920" y="1597680"/>
            <a:ext cx="563400" cy="2641320"/>
          </a:xfrm>
          <a:custGeom>
            <a:avLst/>
            <a:gdLst>
              <a:gd name="textAreaLeft" fmla="*/ 281880 w 563400"/>
              <a:gd name="textAreaRight" fmla="*/ 563760 w 563400"/>
              <a:gd name="textAreaTop" fmla="*/ 0 h 2641320"/>
              <a:gd name="textAreaBottom" fmla="*/ 2638080 h 2641320"/>
            </a:gdLst>
            <a:ahLst/>
            <a:rect l="textAreaLeft" t="textAreaTop" r="textAreaRight" b="textAreaBottom"/>
            <a:pathLst>
              <a:path stroke="0" w="563562" h="2641600">
                <a:moveTo>
                  <a:pt x="281783" y="0"/>
                </a:moveTo>
                <a:lnTo>
                  <a:pt x="281783" y="0"/>
                </a:lnTo>
                <a:arcTo wR="281781" hR="1320800" stAng="-5399995" swAng="10746288"/>
                <a:lnTo>
                  <a:pt x="281781" y="1320800"/>
                </a:lnTo>
                <a:close/>
              </a:path>
              <a:path fill="none" w="563562" h="2641600">
                <a:moveTo>
                  <a:pt x="281783" y="0"/>
                </a:moveTo>
                <a:lnTo>
                  <a:pt x="281783" y="0"/>
                </a:lnTo>
                <a:arcTo wR="281781" hR="1320800" stAng="-5399995" swAng="10746288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3"/>
          <p:cNvSpPr/>
          <p:nvPr/>
        </p:nvSpPr>
        <p:spPr>
          <a:xfrm>
            <a:off x="3559680" y="32767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Дуга 64"/>
          <p:cNvSpPr/>
          <p:nvPr/>
        </p:nvSpPr>
        <p:spPr>
          <a:xfrm rot="5400000">
            <a:off x="5292000" y="2564640"/>
            <a:ext cx="504720" cy="792000"/>
          </a:xfrm>
          <a:custGeom>
            <a:avLst/>
            <a:gdLst>
              <a:gd name="textAreaLeft" fmla="*/ 245160 w 504720"/>
              <a:gd name="textAreaRight" fmla="*/ 505080 w 504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stroke="0" w="504825" h="792162">
                <a:moveTo>
                  <a:pt x="252413" y="0"/>
                </a:moveTo>
                <a:lnTo>
                  <a:pt x="252413" y="0"/>
                </a:lnTo>
                <a:arcTo wR="252413" hR="396081" stAng="-5400000" swAng="10863666"/>
                <a:lnTo>
                  <a:pt x="252413" y="396081"/>
                </a:lnTo>
                <a:close/>
              </a:path>
              <a:path fill="none" w="504825" h="792162">
                <a:moveTo>
                  <a:pt x="252413" y="0"/>
                </a:moveTo>
                <a:lnTo>
                  <a:pt x="252413" y="0"/>
                </a:lnTo>
                <a:arcTo wR="252413" hR="396081" stAng="-5400000" swAng="10863666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5"/>
          <p:cNvSpPr/>
          <p:nvPr/>
        </p:nvSpPr>
        <p:spPr>
          <a:xfrm>
            <a:off x="5342400" y="3213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6"/>
          <p:cNvSpPr/>
          <p:nvPr/>
        </p:nvSpPr>
        <p:spPr>
          <a:xfrm>
            <a:off x="0" y="6027840"/>
            <a:ext cx="433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груш в треть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зи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Дуга 26"/>
          <p:cNvSpPr/>
          <p:nvPr/>
        </p:nvSpPr>
        <p:spPr>
          <a:xfrm rot="5400000">
            <a:off x="2108880" y="633960"/>
            <a:ext cx="1230480" cy="4533840"/>
          </a:xfrm>
          <a:custGeom>
            <a:avLst/>
            <a:gdLst>
              <a:gd name="textAreaLeft" fmla="*/ 615240 w 1230480"/>
              <a:gd name="textAreaRight" fmla="*/ 1230840 w 1230480"/>
              <a:gd name="textAreaTop" fmla="*/ 0 h 4533840"/>
              <a:gd name="textAreaBottom" fmla="*/ 4526640 h 4533840"/>
            </a:gdLst>
            <a:ahLst/>
            <a:rect l="textAreaLeft" t="textAreaTop" r="textAreaRight" b="textAreaBottom"/>
            <a:pathLst>
              <a:path stroke="0" w="1230313" h="4533900">
                <a:moveTo>
                  <a:pt x="615159" y="0"/>
                </a:moveTo>
                <a:lnTo>
                  <a:pt x="615159" y="0"/>
                </a:lnTo>
                <a:arcTo wR="615157" hR="2266950" stAng="-5399995" swAng="10723648"/>
                <a:lnTo>
                  <a:pt x="615157" y="2266950"/>
                </a:lnTo>
                <a:close/>
              </a:path>
              <a:path fill="none" w="1230313" h="4533900">
                <a:moveTo>
                  <a:pt x="615159" y="0"/>
                </a:moveTo>
                <a:lnTo>
                  <a:pt x="615159" y="0"/>
                </a:lnTo>
                <a:arcTo wR="615157" hR="2266950" stAng="-5399995" swAng="10723648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4 0 E">
                                      <p:cBhvr>
                                        <p:cTn id="94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503280" y="31248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 зооуголке было 15 волнистых попугаев, попугаев ара на 3 больше, чем волнистых, а канареек на 9 меньше, чем волнистых попугаев. Сколько всего птиц было в зооугол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1371600" y="4191120"/>
            <a:ext cx="18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4120" y="41162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572000" y="465444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1) 15 + 3 = 18 (пт.) – попугаев 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2) 15 – 9 = 6 (пт.) -канаре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3) 15 + 18 + 6 = 39(п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Ответ: 39 птиц вс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12"/>
          <p:cNvSpPr/>
          <p:nvPr/>
        </p:nvSpPr>
        <p:spPr>
          <a:xfrm>
            <a:off x="1258920" y="314172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5"/>
          <p:cNvSpPr/>
          <p:nvPr/>
        </p:nvSpPr>
        <p:spPr>
          <a:xfrm>
            <a:off x="1258920" y="3716280"/>
            <a:ext cx="2665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9"/>
          <p:cNvSpPr/>
          <p:nvPr/>
        </p:nvSpPr>
        <p:spPr>
          <a:xfrm>
            <a:off x="3924360" y="371628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22"/>
          <p:cNvSpPr/>
          <p:nvPr/>
        </p:nvSpPr>
        <p:spPr>
          <a:xfrm>
            <a:off x="1258920" y="2492280"/>
            <a:ext cx="33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25"/>
          <p:cNvSpPr/>
          <p:nvPr/>
        </p:nvSpPr>
        <p:spPr>
          <a:xfrm>
            <a:off x="4572000" y="2492280"/>
            <a:ext cx="504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139680" y="28526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н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8"/>
          <p:cNvSpPr/>
          <p:nvPr/>
        </p:nvSpPr>
        <p:spPr>
          <a:xfrm>
            <a:off x="2627280" y="2708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395280" y="220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4708800" y="20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393480" y="3500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3"/>
          <p:cNvSpPr/>
          <p:nvPr/>
        </p:nvSpPr>
        <p:spPr>
          <a:xfrm>
            <a:off x="4274640" y="3213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4"/>
          <p:cNvSpPr/>
          <p:nvPr/>
        </p:nvSpPr>
        <p:spPr>
          <a:xfrm>
            <a:off x="303120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5"/>
          <p:cNvSpPr/>
          <p:nvPr/>
        </p:nvSpPr>
        <p:spPr>
          <a:xfrm>
            <a:off x="2955240" y="3276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авая фигурная скобка 36"/>
          <p:cNvSpPr/>
          <p:nvPr/>
        </p:nvSpPr>
        <p:spPr>
          <a:xfrm>
            <a:off x="5435640" y="2421000"/>
            <a:ext cx="504720" cy="136836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1368360"/>
              <a:gd name="textAreaBottom" fmla="*/ 13554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2"/>
                  <a:pt x="10800" y="664"/>
                </a:cubicBezTo>
                <a:lnTo>
                  <a:pt x="10800" y="10136"/>
                </a:lnTo>
                <a:cubicBezTo>
                  <a:pt x="10800" y="10468"/>
                  <a:pt x="16200" y="10800"/>
                  <a:pt x="21600" y="10800"/>
                </a:cubicBezTo>
                <a:cubicBezTo>
                  <a:pt x="16200" y="10800"/>
                  <a:pt x="10800" y="11132"/>
                  <a:pt x="10800" y="11464"/>
                </a:cubicBezTo>
                <a:lnTo>
                  <a:pt x="10800" y="20936"/>
                </a:lnTo>
                <a:cubicBezTo>
                  <a:pt x="10800" y="2126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7"/>
          <p:cNvSpPr/>
          <p:nvPr/>
        </p:nvSpPr>
        <p:spPr>
          <a:xfrm>
            <a:off x="6068160" y="29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8"/>
          <p:cNvSpPr/>
          <p:nvPr/>
        </p:nvSpPr>
        <p:spPr>
          <a:xfrm>
            <a:off x="0" y="4800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колько попугаев а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9"/>
          <p:cNvSpPr/>
          <p:nvPr/>
        </p:nvSpPr>
        <p:spPr>
          <a:xfrm>
            <a:off x="0" y="5373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канаре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0"/>
          <p:cNvSpPr/>
          <p:nvPr/>
        </p:nvSpPr>
        <p:spPr>
          <a:xfrm>
            <a:off x="0" y="5950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птиц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42"/>
          <p:cNvSpPr/>
          <p:nvPr/>
        </p:nvSpPr>
        <p:spPr>
          <a:xfrm>
            <a:off x="1219320" y="1219320"/>
            <a:ext cx="19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45"/>
          <p:cNvSpPr/>
          <p:nvPr/>
        </p:nvSpPr>
        <p:spPr>
          <a:xfrm>
            <a:off x="7772400" y="1143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48"/>
          <p:cNvSpPr/>
          <p:nvPr/>
        </p:nvSpPr>
        <p:spPr>
          <a:xfrm>
            <a:off x="609480" y="160020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86120" y="620640"/>
            <a:ext cx="812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ателье сшили 8 платьев в горошек,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поло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648160" y="11430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 3 платья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62680" y="1628640"/>
            <a:ext cx="195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к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271600" y="162864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442320" y="1628640"/>
            <a:ext cx="54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латьев сшили в ател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68640" y="4419720"/>
            <a:ext cx="70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) Сколько платьев в полоску сш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12120" y="5181480"/>
            <a:ext cx="63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) Сколько всего платьев сш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970920" y="434340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) 8 – 3 = 5 (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740520" y="518148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) 8 + 5 = 13 (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783600" y="4343400"/>
            <a:ext cx="25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в полос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29400" y="5943600"/>
            <a:ext cx="72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 : 13 платьев всего сш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3"/>
          <p:cNvSpPr/>
          <p:nvPr/>
        </p:nvSpPr>
        <p:spPr>
          <a:xfrm>
            <a:off x="762120" y="1600200"/>
            <a:ext cx="19047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6"/>
          <p:cNvSpPr/>
          <p:nvPr/>
        </p:nvSpPr>
        <p:spPr>
          <a:xfrm>
            <a:off x="6400800" y="1143000"/>
            <a:ext cx="16765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0"/>
          <p:cNvSpPr/>
          <p:nvPr/>
        </p:nvSpPr>
        <p:spPr>
          <a:xfrm>
            <a:off x="1600200" y="2666880"/>
            <a:ext cx="33526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297468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0"/>
          <p:cNvSpPr/>
          <p:nvPr/>
        </p:nvSpPr>
        <p:spPr>
          <a:xfrm>
            <a:off x="1145880" y="2438280"/>
            <a:ext cx="3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1222200" y="3124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3"/>
          <p:cNvSpPr/>
          <p:nvPr/>
        </p:nvSpPr>
        <p:spPr>
          <a:xfrm>
            <a:off x="1676520" y="3352680"/>
            <a:ext cx="2438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41"/>
          <p:cNvSpPr/>
          <p:nvPr/>
        </p:nvSpPr>
        <p:spPr>
          <a:xfrm>
            <a:off x="4114800" y="3352680"/>
            <a:ext cx="838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4"/>
          <p:cNvSpPr/>
          <p:nvPr/>
        </p:nvSpPr>
        <p:spPr>
          <a:xfrm>
            <a:off x="4422960" y="28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авая фигурная скобка 45"/>
          <p:cNvSpPr/>
          <p:nvPr/>
        </p:nvSpPr>
        <p:spPr>
          <a:xfrm>
            <a:off x="5334120" y="2590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838080"/>
              <a:gd name="textAreaBottom" fmla="*/ 8283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5794920" y="2743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438480" y="685800"/>
            <a:ext cx="12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589040" y="68580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055320" y="6858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н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759200" y="68580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8 руб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7059600" y="68580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 аль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0" y="1295280"/>
            <a:ext cx="15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436760" y="129528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2484720" y="12952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3190680" y="12952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431240" y="1268280"/>
            <a:ext cx="47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блокнота 3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-195120" y="18288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стоит альб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4"/>
          <p:cNvSpPr/>
          <p:nvPr/>
        </p:nvSpPr>
        <p:spPr>
          <a:xfrm>
            <a:off x="971640" y="2781360"/>
            <a:ext cx="1439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7"/>
          <p:cNvSpPr/>
          <p:nvPr/>
        </p:nvSpPr>
        <p:spPr>
          <a:xfrm>
            <a:off x="971640" y="3213000"/>
            <a:ext cx="1439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21"/>
          <p:cNvSpPr/>
          <p:nvPr/>
        </p:nvSpPr>
        <p:spPr>
          <a:xfrm>
            <a:off x="900000" y="3141720"/>
            <a:ext cx="1429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22"/>
          <p:cNvSpPr/>
          <p:nvPr/>
        </p:nvSpPr>
        <p:spPr>
          <a:xfrm>
            <a:off x="2411280" y="3141720"/>
            <a:ext cx="1447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3"/>
          <p:cNvSpPr/>
          <p:nvPr/>
        </p:nvSpPr>
        <p:spPr>
          <a:xfrm>
            <a:off x="900000" y="2708280"/>
            <a:ext cx="142920" cy="1443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2411280" y="2708280"/>
            <a:ext cx="144720" cy="1443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6"/>
          <p:cNvSpPr/>
          <p:nvPr/>
        </p:nvSpPr>
        <p:spPr>
          <a:xfrm>
            <a:off x="2556000" y="321300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8"/>
          <p:cNvSpPr/>
          <p:nvPr/>
        </p:nvSpPr>
        <p:spPr>
          <a:xfrm>
            <a:off x="3132000" y="3141720"/>
            <a:ext cx="1447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30"/>
          <p:cNvSpPr/>
          <p:nvPr/>
        </p:nvSpPr>
        <p:spPr>
          <a:xfrm>
            <a:off x="971640" y="3645000"/>
            <a:ext cx="223200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36"/>
          <p:cNvSpPr/>
          <p:nvPr/>
        </p:nvSpPr>
        <p:spPr>
          <a:xfrm>
            <a:off x="900000" y="3573360"/>
            <a:ext cx="1429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37"/>
          <p:cNvSpPr/>
          <p:nvPr/>
        </p:nvSpPr>
        <p:spPr>
          <a:xfrm flipV="1">
            <a:off x="3203640" y="3572640"/>
            <a:ext cx="14436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39"/>
          <p:cNvSpPr/>
          <p:nvPr/>
        </p:nvSpPr>
        <p:spPr>
          <a:xfrm>
            <a:off x="3348000" y="3645000"/>
            <a:ext cx="576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1"/>
          <p:cNvSpPr/>
          <p:nvPr/>
        </p:nvSpPr>
        <p:spPr>
          <a:xfrm>
            <a:off x="3924360" y="3573360"/>
            <a:ext cx="1429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2"/>
          <p:cNvSpPr/>
          <p:nvPr/>
        </p:nvSpPr>
        <p:spPr>
          <a:xfrm>
            <a:off x="460440" y="24922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3"/>
          <p:cNvSpPr/>
          <p:nvPr/>
        </p:nvSpPr>
        <p:spPr>
          <a:xfrm>
            <a:off x="460800" y="29973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4"/>
          <p:cNvSpPr/>
          <p:nvPr/>
        </p:nvSpPr>
        <p:spPr>
          <a:xfrm>
            <a:off x="160560" y="3429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5"/>
          <p:cNvSpPr/>
          <p:nvPr/>
        </p:nvSpPr>
        <p:spPr>
          <a:xfrm>
            <a:off x="1463040" y="2421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6"/>
          <p:cNvSpPr/>
          <p:nvPr/>
        </p:nvSpPr>
        <p:spPr>
          <a:xfrm>
            <a:off x="2548440" y="2852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7"/>
          <p:cNvSpPr/>
          <p:nvPr/>
        </p:nvSpPr>
        <p:spPr>
          <a:xfrm>
            <a:off x="3348000" y="328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8"/>
          <p:cNvSpPr/>
          <p:nvPr/>
        </p:nvSpPr>
        <p:spPr>
          <a:xfrm>
            <a:off x="181584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9"/>
          <p:cNvSpPr/>
          <p:nvPr/>
        </p:nvSpPr>
        <p:spPr>
          <a:xfrm>
            <a:off x="1960560" y="3213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0"/>
          <p:cNvSpPr/>
          <p:nvPr/>
        </p:nvSpPr>
        <p:spPr>
          <a:xfrm>
            <a:off x="326160" y="422100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Сколько стоит ру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1"/>
          <p:cNvSpPr/>
          <p:nvPr/>
        </p:nvSpPr>
        <p:spPr>
          <a:xfrm>
            <a:off x="258840" y="479736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Сколько стоит альб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2"/>
          <p:cNvSpPr/>
          <p:nvPr/>
        </p:nvSpPr>
        <p:spPr>
          <a:xfrm>
            <a:off x="1089000" y="422100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30 + 8 = 38(р.)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3"/>
          <p:cNvSpPr/>
          <p:nvPr/>
        </p:nvSpPr>
        <p:spPr>
          <a:xfrm>
            <a:off x="1088280" y="479736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38 + 5 = 43(р.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4"/>
          <p:cNvSpPr/>
          <p:nvPr/>
        </p:nvSpPr>
        <p:spPr>
          <a:xfrm>
            <a:off x="1301760" y="5300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5"/>
          <p:cNvSpPr/>
          <p:nvPr/>
        </p:nvSpPr>
        <p:spPr>
          <a:xfrm>
            <a:off x="2253960" y="530064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3 рубля стоит аль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6"/>
          <p:cNvSpPr/>
          <p:nvPr/>
        </p:nvSpPr>
        <p:spPr>
          <a:xfrm>
            <a:off x="4074840" y="422100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ит ру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5429160" y="421632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427640" y="541368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914400" y="228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украшения класса принесли 9 гирлян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лажков – на 5 больше, чем гирлянд, а воздуш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ов на 7 меньше, чем гирлянд и флажков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шаров принесли для украшения 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533520" y="213372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0"/>
          <p:cNvSpPr/>
          <p:nvPr/>
        </p:nvSpPr>
        <p:spPr>
          <a:xfrm>
            <a:off x="990720" y="2438280"/>
            <a:ext cx="1800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533520" y="26668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6"/>
          <p:cNvSpPr/>
          <p:nvPr/>
        </p:nvSpPr>
        <p:spPr>
          <a:xfrm>
            <a:off x="971640" y="2924280"/>
            <a:ext cx="17287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9"/>
          <p:cNvSpPr/>
          <p:nvPr/>
        </p:nvSpPr>
        <p:spPr>
          <a:xfrm>
            <a:off x="2700360" y="2924280"/>
            <a:ext cx="7920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70880" y="320040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35"/>
          <p:cNvSpPr/>
          <p:nvPr/>
        </p:nvSpPr>
        <p:spPr>
          <a:xfrm>
            <a:off x="1042920" y="3500280"/>
            <a:ext cx="180036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38"/>
          <p:cNvSpPr/>
          <p:nvPr/>
        </p:nvSpPr>
        <p:spPr>
          <a:xfrm>
            <a:off x="2843280" y="3500280"/>
            <a:ext cx="1297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45"/>
          <p:cNvSpPr/>
          <p:nvPr/>
        </p:nvSpPr>
        <p:spPr>
          <a:xfrm>
            <a:off x="4140360" y="3500280"/>
            <a:ext cx="12952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8"/>
          <p:cNvSpPr/>
          <p:nvPr/>
        </p:nvSpPr>
        <p:spPr>
          <a:xfrm>
            <a:off x="1592640" y="1981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9"/>
          <p:cNvSpPr/>
          <p:nvPr/>
        </p:nvSpPr>
        <p:spPr>
          <a:xfrm>
            <a:off x="2687400" y="242100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0"/>
          <p:cNvSpPr/>
          <p:nvPr/>
        </p:nvSpPr>
        <p:spPr>
          <a:xfrm>
            <a:off x="4416480" y="3068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1"/>
          <p:cNvSpPr/>
          <p:nvPr/>
        </p:nvSpPr>
        <p:spPr>
          <a:xfrm>
            <a:off x="228600" y="4800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колько флажков принес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2"/>
          <p:cNvSpPr/>
          <p:nvPr/>
        </p:nvSpPr>
        <p:spPr>
          <a:xfrm>
            <a:off x="304920" y="53341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флажков и гирлян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ес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3"/>
          <p:cNvSpPr/>
          <p:nvPr/>
        </p:nvSpPr>
        <p:spPr>
          <a:xfrm>
            <a:off x="228600" y="6248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шаров принес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55"/>
          <p:cNvSpPr/>
          <p:nvPr/>
        </p:nvSpPr>
        <p:spPr>
          <a:xfrm>
            <a:off x="2819520" y="9907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9"/>
          <p:cNvSpPr/>
          <p:nvPr/>
        </p:nvSpPr>
        <p:spPr>
          <a:xfrm>
            <a:off x="4818240" y="1371600"/>
            <a:ext cx="4325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62"/>
          <p:cNvSpPr/>
          <p:nvPr/>
        </p:nvSpPr>
        <p:spPr>
          <a:xfrm>
            <a:off x="2209680" y="13716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Дуга 64"/>
          <p:cNvSpPr/>
          <p:nvPr/>
        </p:nvSpPr>
        <p:spPr>
          <a:xfrm rot="5400000">
            <a:off x="2339640" y="620640"/>
            <a:ext cx="1800360" cy="4968720"/>
          </a:xfrm>
          <a:custGeom>
            <a:avLst/>
            <a:gdLst>
              <a:gd name="textAreaLeft" fmla="*/ 1329120 w 1800360"/>
              <a:gd name="textAreaRight" fmla="*/ 1800720 w 1800360"/>
              <a:gd name="textAreaTop" fmla="*/ 352440 h 4968720"/>
              <a:gd name="textAreaBottom" fmla="*/ 4669200 h 4968720"/>
            </a:gdLst>
            <a:ahLst/>
            <a:rect l="textAreaLeft" t="textAreaTop" r="textAreaRight" b="textAreaBottom"/>
            <a:pathLst>
              <a:path stroke="0" w="1800225" h="4968875">
                <a:moveTo>
                  <a:pt x="1362299" y="352532"/>
                </a:moveTo>
                <a:lnTo>
                  <a:pt x="1362299" y="352531"/>
                </a:lnTo>
                <a:arcTo wR="900113" hR="2484438" stAng="-4666072" swAng="9399999"/>
                <a:lnTo>
                  <a:pt x="900113" y="2484438"/>
                </a:lnTo>
                <a:close/>
              </a:path>
              <a:path fill="none" w="1800225" h="4968875">
                <a:moveTo>
                  <a:pt x="1362299" y="352532"/>
                </a:moveTo>
                <a:lnTo>
                  <a:pt x="1362299" y="352531"/>
                </a:lnTo>
                <a:arcTo wR="900113" hR="2484438" stAng="-4666072" swAng="9399999"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5"/>
          <p:cNvSpPr/>
          <p:nvPr/>
        </p:nvSpPr>
        <p:spPr>
          <a:xfrm>
            <a:off x="3059280" y="3500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1"/>
          <p:cNvSpPr/>
          <p:nvPr/>
        </p:nvSpPr>
        <p:spPr>
          <a:xfrm>
            <a:off x="6256800" y="480060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9 + 5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6333840" y="541008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9 + 14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4"/>
          <p:cNvSpPr/>
          <p:nvPr/>
        </p:nvSpPr>
        <p:spPr>
          <a:xfrm>
            <a:off x="6334560" y="61722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23 – 7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37"/>
          <p:cNvSpPr/>
          <p:nvPr/>
        </p:nvSpPr>
        <p:spPr>
          <a:xfrm>
            <a:off x="1981080" y="5181480"/>
            <a:ext cx="13716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41"/>
          <p:cNvSpPr/>
          <p:nvPr/>
        </p:nvSpPr>
        <p:spPr>
          <a:xfrm>
            <a:off x="2133720" y="5715000"/>
            <a:ext cx="29718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46"/>
          <p:cNvSpPr/>
          <p:nvPr/>
        </p:nvSpPr>
        <p:spPr>
          <a:xfrm>
            <a:off x="1981080" y="6629400"/>
            <a:ext cx="990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1600200" y="6094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доль аллеи надо посадить 28 саженц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886200" y="1143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вёртую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676520" y="16765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женцев уже посад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752480" y="2209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саженц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5638680" y="2209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828800" y="27432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а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8"/>
          <p:cNvSpPr/>
          <p:nvPr/>
        </p:nvSpPr>
        <p:spPr>
          <a:xfrm>
            <a:off x="1042920" y="4221000"/>
            <a:ext cx="1513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1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2"/>
          <p:cNvSpPr/>
          <p:nvPr/>
        </p:nvSpPr>
        <p:spPr>
          <a:xfrm>
            <a:off x="4211640" y="4221000"/>
            <a:ext cx="1512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3"/>
          <p:cNvSpPr/>
          <p:nvPr/>
        </p:nvSpPr>
        <p:spPr>
          <a:xfrm>
            <a:off x="2627280" y="4221000"/>
            <a:ext cx="1513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уга 14"/>
          <p:cNvSpPr/>
          <p:nvPr/>
        </p:nvSpPr>
        <p:spPr>
          <a:xfrm rot="16200000">
            <a:off x="3887640" y="1015560"/>
            <a:ext cx="576360" cy="626580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6265800"/>
              <a:gd name="textAreaBottom" fmla="*/ 6262560 h 6265800"/>
            </a:gdLst>
            <a:ahLst/>
            <a:rect l="textAreaLeft" t="textAreaTop" r="textAreaRight" b="textAreaBottom"/>
            <a:pathLst>
              <a:path stroke="0" w="576263" h="6265862">
                <a:moveTo>
                  <a:pt x="288135" y="0"/>
                </a:moveTo>
                <a:lnTo>
                  <a:pt x="288135" y="0"/>
                </a:lnTo>
                <a:arcTo wR="288132" hR="3132931" stAng="-5399996" swAng="10785309"/>
                <a:lnTo>
                  <a:pt x="288132" y="3132931"/>
                </a:lnTo>
                <a:close/>
              </a:path>
              <a:path fill="none" w="576263" h="6265862">
                <a:moveTo>
                  <a:pt x="288135" y="0"/>
                </a:moveTo>
                <a:lnTo>
                  <a:pt x="288135" y="0"/>
                </a:lnTo>
                <a:arcTo wR="288132" hR="3132931" stAng="-5399996" swAng="10785309"/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414036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a8a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уга 16"/>
          <p:cNvSpPr/>
          <p:nvPr/>
        </p:nvSpPr>
        <p:spPr>
          <a:xfrm rot="5400000">
            <a:off x="1475280" y="3572640"/>
            <a:ext cx="647640" cy="1513080"/>
          </a:xfrm>
          <a:custGeom>
            <a:avLst/>
            <a:gdLst>
              <a:gd name="textAreaLeft" fmla="*/ 286560 w 647640"/>
              <a:gd name="textAreaRight" fmla="*/ 648000 w 647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stroke="0" w="647700" h="1512887">
                <a:moveTo>
                  <a:pt x="323851" y="0"/>
                </a:moveTo>
                <a:lnTo>
                  <a:pt x="323851" y="0"/>
                </a:lnTo>
                <a:arcTo wR="323850" hR="756444" stAng="-5399995" swAng="10970339"/>
                <a:lnTo>
                  <a:pt x="323850" y="756444"/>
                </a:lnTo>
                <a:close/>
              </a:path>
              <a:path fill="none" w="647700" h="1512887">
                <a:moveTo>
                  <a:pt x="323851" y="0"/>
                </a:moveTo>
                <a:lnTo>
                  <a:pt x="323851" y="0"/>
                </a:lnTo>
                <a:arcTo wR="323850" hR="756444" stAng="-5399995" swAng="10970339"/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965160" y="47242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сад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Дуга 18"/>
          <p:cNvSpPr/>
          <p:nvPr/>
        </p:nvSpPr>
        <p:spPr>
          <a:xfrm rot="5400000">
            <a:off x="4644000" y="1988280"/>
            <a:ext cx="647640" cy="4681440"/>
          </a:xfrm>
          <a:custGeom>
            <a:avLst/>
            <a:gdLst>
              <a:gd name="textAreaLeft" fmla="*/ 328680 w 647640"/>
              <a:gd name="textAreaRight" fmla="*/ 648000 w 647640"/>
              <a:gd name="textAreaTop" fmla="*/ 0 h 4681440"/>
              <a:gd name="textAreaBottom" fmla="*/ 4658040 h 4681440"/>
            </a:gdLst>
            <a:ahLst/>
            <a:rect l="textAreaLeft" t="textAreaTop" r="textAreaRight" b="textAreaBottom"/>
            <a:pathLst>
              <a:path stroke="0" w="647700" h="4681537">
                <a:moveTo>
                  <a:pt x="328766" y="270"/>
                </a:moveTo>
                <a:lnTo>
                  <a:pt x="328766" y="270"/>
                </a:lnTo>
                <a:arcTo wR="323850" hR="2340769" stAng="-5392779" swAng="10724901"/>
                <a:lnTo>
                  <a:pt x="323850" y="2340769"/>
                </a:lnTo>
                <a:close/>
              </a:path>
              <a:path fill="none" w="647700" h="4681537">
                <a:moveTo>
                  <a:pt x="328766" y="270"/>
                </a:moveTo>
                <a:lnTo>
                  <a:pt x="328766" y="270"/>
                </a:lnTo>
                <a:arcTo wR="323850" hR="2340769" stAng="-5392779" swAng="10724901"/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4768920" y="47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,20,-32)"/>
                                      </p:to>
                                    </p:set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,20,-32)"/>
                                      </p:to>
                                    </p:se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14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17701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124000" y="1152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воч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ыгали через скакалку. Таня прыгнула 40 раз, Лена на 8 раз больше, чем Таня, а Вика на 2 раза меньше, чем Лена. Сколько раз прыгнула через скакалку В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176120" y="400536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357880" y="39304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191200" y="4730760"/>
            <a:ext cx="395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) 40 + 8 = 48 (р.) – 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) 48 – 2 = 46 (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твет: 46 раз прыгнула В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7467480" y="99072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7010280" y="1523880"/>
            <a:ext cx="172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9"/>
          <p:cNvSpPr/>
          <p:nvPr/>
        </p:nvSpPr>
        <p:spPr>
          <a:xfrm>
            <a:off x="2209680" y="1447920"/>
            <a:ext cx="140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22"/>
          <p:cNvSpPr/>
          <p:nvPr/>
        </p:nvSpPr>
        <p:spPr>
          <a:xfrm>
            <a:off x="2209680" y="1981080"/>
            <a:ext cx="14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25"/>
          <p:cNvSpPr/>
          <p:nvPr/>
        </p:nvSpPr>
        <p:spPr>
          <a:xfrm>
            <a:off x="826920" y="2924280"/>
            <a:ext cx="23767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8"/>
          <p:cNvSpPr/>
          <p:nvPr/>
        </p:nvSpPr>
        <p:spPr>
          <a:xfrm>
            <a:off x="826920" y="3284640"/>
            <a:ext cx="24498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31"/>
          <p:cNvSpPr/>
          <p:nvPr/>
        </p:nvSpPr>
        <p:spPr>
          <a:xfrm>
            <a:off x="3203640" y="3284640"/>
            <a:ext cx="72072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4"/>
          <p:cNvSpPr/>
          <p:nvPr/>
        </p:nvSpPr>
        <p:spPr>
          <a:xfrm>
            <a:off x="826920" y="3645000"/>
            <a:ext cx="26654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7"/>
          <p:cNvSpPr/>
          <p:nvPr/>
        </p:nvSpPr>
        <p:spPr>
          <a:xfrm>
            <a:off x="3492360" y="3645000"/>
            <a:ext cx="4320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318240" y="2637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8"/>
          <p:cNvSpPr/>
          <p:nvPr/>
        </p:nvSpPr>
        <p:spPr>
          <a:xfrm>
            <a:off x="1681200" y="256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1"/>
          <p:cNvSpPr/>
          <p:nvPr/>
        </p:nvSpPr>
        <p:spPr>
          <a:xfrm>
            <a:off x="328680" y="2997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2"/>
          <p:cNvSpPr/>
          <p:nvPr/>
        </p:nvSpPr>
        <p:spPr>
          <a:xfrm>
            <a:off x="3413160" y="285264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3"/>
          <p:cNvSpPr/>
          <p:nvPr/>
        </p:nvSpPr>
        <p:spPr>
          <a:xfrm>
            <a:off x="389160" y="3357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5"/>
          <p:cNvSpPr/>
          <p:nvPr/>
        </p:nvSpPr>
        <p:spPr>
          <a:xfrm>
            <a:off x="3419640" y="3284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6"/>
          <p:cNvSpPr/>
          <p:nvPr/>
        </p:nvSpPr>
        <p:spPr>
          <a:xfrm>
            <a:off x="412632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7"/>
          <p:cNvSpPr/>
          <p:nvPr/>
        </p:nvSpPr>
        <p:spPr>
          <a:xfrm>
            <a:off x="4126320" y="33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8"/>
          <p:cNvSpPr/>
          <p:nvPr/>
        </p:nvSpPr>
        <p:spPr>
          <a:xfrm>
            <a:off x="0" y="4800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колько раз прыгнула  Ле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9"/>
          <p:cNvSpPr/>
          <p:nvPr/>
        </p:nvSpPr>
        <p:spPr>
          <a:xfrm>
            <a:off x="17280" y="55627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раз прыгнула В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468360" y="31428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пину тарелку положили 12 пельменей, а в тарелку Васи на 2 пельменя меньше. Потом добавили несколько пельменей в папину тарелку. Всего в двух тарелках стало 26 пельменей. Сколько пельменей добавили в папину тарел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212480" y="426708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6553080" y="442116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500800" y="492696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1) 12 - 2 = 10(п.) –у Ва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2) 12 + 10 = 22 (п.)- в двух тарел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3)26 – 22 = 4(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Ответ: 4 пельменя добавили па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5"/>
          <p:cNvSpPr/>
          <p:nvPr/>
        </p:nvSpPr>
        <p:spPr>
          <a:xfrm>
            <a:off x="2514600" y="3352680"/>
            <a:ext cx="2232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8"/>
          <p:cNvSpPr/>
          <p:nvPr/>
        </p:nvSpPr>
        <p:spPr>
          <a:xfrm>
            <a:off x="4800600" y="3352680"/>
            <a:ext cx="1512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31"/>
          <p:cNvSpPr/>
          <p:nvPr/>
        </p:nvSpPr>
        <p:spPr>
          <a:xfrm>
            <a:off x="6324480" y="3352680"/>
            <a:ext cx="720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8"/>
          <p:cNvSpPr/>
          <p:nvPr/>
        </p:nvSpPr>
        <p:spPr>
          <a:xfrm>
            <a:off x="0" y="4648320"/>
            <a:ext cx="52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 пельменей у Вас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9"/>
          <p:cNvSpPr/>
          <p:nvPr/>
        </p:nvSpPr>
        <p:spPr>
          <a:xfrm>
            <a:off x="12600" y="5257800"/>
            <a:ext cx="47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пельменей был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  тарел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38"/>
          <p:cNvSpPr/>
          <p:nvPr/>
        </p:nvSpPr>
        <p:spPr>
          <a:xfrm>
            <a:off x="1600200" y="3352680"/>
            <a:ext cx="792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Дуга 44"/>
          <p:cNvSpPr/>
          <p:nvPr/>
        </p:nvSpPr>
        <p:spPr>
          <a:xfrm>
            <a:off x="1523880" y="2781360"/>
            <a:ext cx="4776840" cy="799920"/>
          </a:xfrm>
          <a:custGeom>
            <a:avLst/>
            <a:gdLst>
              <a:gd name="textAreaLeft" fmla="*/ 3600 w 4776840"/>
              <a:gd name="textAreaRight" fmla="*/ 4777200 w 4776840"/>
              <a:gd name="textAreaTop" fmla="*/ 0 h 799920"/>
              <a:gd name="textAreaBottom" fmla="*/ 399960 h 799920"/>
            </a:gdLst>
            <a:ahLst/>
            <a:rect l="textAreaLeft" t="textAreaTop" r="textAreaRight" b="textAreaBottom"/>
            <a:pathLst>
              <a:path stroke="0" w="4776788" h="800100">
                <a:moveTo>
                  <a:pt x="3807" y="377472"/>
                </a:moveTo>
                <a:lnTo>
                  <a:pt x="3807" y="377472"/>
                </a:lnTo>
                <a:arcTo wR="2388394" hR="400050" stAng="-10767451" swAng="10767459"/>
                <a:lnTo>
                  <a:pt x="2388394" y="400050"/>
                </a:lnTo>
                <a:close/>
              </a:path>
              <a:path fill="none" w="4776788" h="800100">
                <a:moveTo>
                  <a:pt x="3807" y="377472"/>
                </a:moveTo>
                <a:lnTo>
                  <a:pt x="3807" y="377472"/>
                </a:lnTo>
                <a:arcTo wR="2388394" hR="400050" stAng="-10767451" swAng="10767459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61"/>
          <p:cNvSpPr/>
          <p:nvPr/>
        </p:nvSpPr>
        <p:spPr>
          <a:xfrm>
            <a:off x="2743200" y="1219320"/>
            <a:ext cx="360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Дуга 64"/>
          <p:cNvSpPr/>
          <p:nvPr/>
        </p:nvSpPr>
        <p:spPr>
          <a:xfrm rot="5400000">
            <a:off x="1767600" y="3033000"/>
            <a:ext cx="457200" cy="792000"/>
          </a:xfrm>
          <a:custGeom>
            <a:avLst/>
            <a:gdLst>
              <a:gd name="textAreaLeft" fmla="*/ 221400 w 457200"/>
              <a:gd name="textAreaRight" fmla="*/ 457560 w 4572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stroke="0" w="457200" h="792163">
                <a:moveTo>
                  <a:pt x="228600" y="0"/>
                </a:moveTo>
                <a:lnTo>
                  <a:pt x="228600" y="0"/>
                </a:lnTo>
                <a:arcTo wR="228600" hR="396082" stAng="-5400000" swAng="10863671"/>
                <a:lnTo>
                  <a:pt x="228600" y="396082"/>
                </a:lnTo>
                <a:close/>
              </a:path>
              <a:path fill="none" w="457200" h="792163">
                <a:moveTo>
                  <a:pt x="228600" y="0"/>
                </a:moveTo>
                <a:lnTo>
                  <a:pt x="228600" y="0"/>
                </a:lnTo>
                <a:arcTo wR="228600" hR="396082" stAng="-5400000" swAng="10863671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6"/>
          <p:cNvSpPr/>
          <p:nvPr/>
        </p:nvSpPr>
        <p:spPr>
          <a:xfrm>
            <a:off x="17640" y="6027840"/>
            <a:ext cx="51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пельменей добав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6" descr="Pelmeni-82a536f6-d66f-453b-9941-0da017bd6a6c.jpg"/>
          <p:cNvPicPr/>
          <p:nvPr/>
        </p:nvPicPr>
        <p:blipFill>
          <a:blip r:embed="rId1"/>
          <a:stretch/>
        </p:blipFill>
        <p:spPr>
          <a:xfrm>
            <a:off x="7467480" y="2362320"/>
            <a:ext cx="1676520" cy="10825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4"/>
          <p:cNvSpPr/>
          <p:nvPr/>
        </p:nvSpPr>
        <p:spPr>
          <a:xfrm>
            <a:off x="3283560" y="28954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5"/>
          <p:cNvSpPr/>
          <p:nvPr/>
        </p:nvSpPr>
        <p:spPr>
          <a:xfrm>
            <a:off x="3124080" y="342900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0"/>
          <p:cNvSpPr/>
          <p:nvPr/>
        </p:nvSpPr>
        <p:spPr>
          <a:xfrm>
            <a:off x="494352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1"/>
          <p:cNvSpPr/>
          <p:nvPr/>
        </p:nvSpPr>
        <p:spPr>
          <a:xfrm>
            <a:off x="6391080" y="3429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2"/>
          <p:cNvSpPr/>
          <p:nvPr/>
        </p:nvSpPr>
        <p:spPr>
          <a:xfrm>
            <a:off x="1835280" y="2971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3"/>
          <p:cNvSpPr/>
          <p:nvPr/>
        </p:nvSpPr>
        <p:spPr>
          <a:xfrm>
            <a:off x="1809720" y="3581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7"/>
          <p:cNvSpPr/>
          <p:nvPr/>
        </p:nvSpPr>
        <p:spPr>
          <a:xfrm>
            <a:off x="3635280" y="234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467320" y="3505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778680" y="2286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.с.31 №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3"/>
          <p:cNvSpPr/>
          <p:nvPr/>
        </p:nvSpPr>
        <p:spPr>
          <a:xfrm>
            <a:off x="2124000" y="907920"/>
            <a:ext cx="6193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7"/>
          <p:cNvSpPr/>
          <p:nvPr/>
        </p:nvSpPr>
        <p:spPr>
          <a:xfrm>
            <a:off x="2124000" y="907920"/>
            <a:ext cx="1224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1"/>
          <p:cNvSpPr/>
          <p:nvPr/>
        </p:nvSpPr>
        <p:spPr>
          <a:xfrm>
            <a:off x="3348000" y="907920"/>
            <a:ext cx="10080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2215080" y="105264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3452400" y="10526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Дуга 17"/>
          <p:cNvSpPr/>
          <p:nvPr/>
        </p:nvSpPr>
        <p:spPr>
          <a:xfrm rot="16200000">
            <a:off x="4715640" y="-2115000"/>
            <a:ext cx="936720" cy="6120000"/>
          </a:xfrm>
          <a:custGeom>
            <a:avLst/>
            <a:gdLst>
              <a:gd name="textAreaLeft" fmla="*/ 468360 w 936720"/>
              <a:gd name="textAreaRight" fmla="*/ 937080 w 936720"/>
              <a:gd name="textAreaTop" fmla="*/ 0 h 6120000"/>
              <a:gd name="textAreaBottom" fmla="*/ 6120360 h 6120000"/>
            </a:gdLst>
            <a:ahLst/>
            <a:rect l="textAreaLeft" t="textAreaTop" r="textAreaRight" b="textAreaBottom"/>
            <a:pathLst>
              <a:path stroke="0" w="936625" h="6119813">
                <a:moveTo>
                  <a:pt x="468316" y="0"/>
                </a:moveTo>
                <a:lnTo>
                  <a:pt x="468316" y="0"/>
                </a:lnTo>
                <a:arcTo wR="468313" hR="3059907" stAng="-5399996" swAng="10800004"/>
                <a:lnTo>
                  <a:pt x="468313" y="3059907"/>
                </a:lnTo>
                <a:close/>
              </a:path>
              <a:path fill="none" w="936625" h="6119813">
                <a:moveTo>
                  <a:pt x="468316" y="0"/>
                </a:moveTo>
                <a:lnTo>
                  <a:pt x="468316" y="0"/>
                </a:lnTo>
                <a:arcTo wR="468313" hR="3059907" stAng="-5399996" swAng="10800004"/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4754880" y="33336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Дуга 19"/>
          <p:cNvSpPr/>
          <p:nvPr/>
        </p:nvSpPr>
        <p:spPr>
          <a:xfrm rot="5400000">
            <a:off x="5976720" y="-1071720"/>
            <a:ext cx="718920" cy="3961080"/>
          </a:xfrm>
          <a:custGeom>
            <a:avLst/>
            <a:gdLst>
              <a:gd name="textAreaLeft" fmla="*/ 333720 w 718920"/>
              <a:gd name="textAreaRight" fmla="*/ 719280 w 718920"/>
              <a:gd name="textAreaTop" fmla="*/ 0 h 3961080"/>
              <a:gd name="textAreaBottom" fmla="*/ 3961440 h 3961080"/>
            </a:gdLst>
            <a:ahLst/>
            <a:rect l="textAreaLeft" t="textAreaTop" r="textAreaRight" b="textAreaBottom"/>
            <a:pathLst>
              <a:path stroke="0" w="719138" h="3960813">
                <a:moveTo>
                  <a:pt x="359571" y="0"/>
                </a:moveTo>
                <a:lnTo>
                  <a:pt x="359571" y="0"/>
                </a:lnTo>
                <a:arcTo wR="359569" hR="1980407" stAng="-5399997" swAng="10844519"/>
                <a:lnTo>
                  <a:pt x="359569" y="1980407"/>
                </a:lnTo>
                <a:close/>
              </a:path>
              <a:path fill="none" w="719138" h="3960813">
                <a:moveTo>
                  <a:pt x="359571" y="0"/>
                </a:moveTo>
                <a:lnTo>
                  <a:pt x="359571" y="0"/>
                </a:lnTo>
                <a:arcTo wR="359569" hR="1980407" stAng="-5399997" swAng="10844519"/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6345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1"/>
          <p:cNvSpPr/>
          <p:nvPr/>
        </p:nvSpPr>
        <p:spPr>
          <a:xfrm>
            <a:off x="526320" y="27432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2"/>
          <p:cNvSpPr/>
          <p:nvPr/>
        </p:nvSpPr>
        <p:spPr>
          <a:xfrm>
            <a:off x="509040" y="3276720"/>
            <a:ext cx="25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ест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696240" y="472428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3636000" y="2666880"/>
            <a:ext cx="48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Сколько белых гриб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3570840" y="3200400"/>
            <a:ext cx="52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Сколько подберёзов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3560040" y="3733920"/>
            <a:ext cx="535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Сколько белых и подберё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в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3646800" y="4724280"/>
            <a:ext cx="38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Сколько лисич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8"/>
          <p:cNvSpPr/>
          <p:nvPr/>
        </p:nvSpPr>
        <p:spPr>
          <a:xfrm>
            <a:off x="3131280" y="1981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вер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9"/>
          <p:cNvSpPr/>
          <p:nvPr/>
        </p:nvSpPr>
        <p:spPr>
          <a:xfrm>
            <a:off x="548640" y="274320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30 : 5 = 6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0"/>
          <p:cNvSpPr/>
          <p:nvPr/>
        </p:nvSpPr>
        <p:spPr>
          <a:xfrm>
            <a:off x="548640" y="335268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30 : 6 = 5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462960" y="3962520"/>
            <a:ext cx="29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5 + 6 = 11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235800" y="472428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30 – 11 = 19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2"/>
          <p:cNvSpPr/>
          <p:nvPr/>
        </p:nvSpPr>
        <p:spPr>
          <a:xfrm>
            <a:off x="114300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очке 80л воды. В 3-х вёдрах на 50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  Сколько  литров в одном  вед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о всех вёдрах воды поровн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5"/>
          <p:cNvSpPr/>
          <p:nvPr/>
        </p:nvSpPr>
        <p:spPr>
          <a:xfrm>
            <a:off x="1295280" y="83808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>
            <a:off x="4952880" y="83808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8001000" y="380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1278000" y="8380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4"/>
          <p:cNvSpPr/>
          <p:nvPr/>
        </p:nvSpPr>
        <p:spPr>
          <a:xfrm>
            <a:off x="2209680" y="2590920"/>
            <a:ext cx="482436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4312080" y="213372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8"/>
          <p:cNvSpPr/>
          <p:nvPr/>
        </p:nvSpPr>
        <p:spPr>
          <a:xfrm>
            <a:off x="2286000" y="3352680"/>
            <a:ext cx="237636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0"/>
          <p:cNvSpPr/>
          <p:nvPr/>
        </p:nvSpPr>
        <p:spPr>
          <a:xfrm flipH="1" flipV="1">
            <a:off x="4712760" y="2657160"/>
            <a:ext cx="11160" cy="695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5374440" y="26668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50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7"/>
          <p:cNvSpPr/>
          <p:nvPr/>
        </p:nvSpPr>
        <p:spPr>
          <a:xfrm flipV="1">
            <a:off x="3124080" y="3276360"/>
            <a:ext cx="0" cy="15228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30"/>
          <p:cNvSpPr/>
          <p:nvPr/>
        </p:nvSpPr>
        <p:spPr>
          <a:xfrm>
            <a:off x="3886200" y="3276720"/>
            <a:ext cx="0" cy="15228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9"/>
          <p:cNvSpPr/>
          <p:nvPr/>
        </p:nvSpPr>
        <p:spPr>
          <a:xfrm>
            <a:off x="2563560" y="3352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Дуга 40"/>
          <p:cNvSpPr/>
          <p:nvPr/>
        </p:nvSpPr>
        <p:spPr>
          <a:xfrm rot="16200000">
            <a:off x="2400120" y="2856960"/>
            <a:ext cx="644760" cy="720720"/>
          </a:xfrm>
          <a:custGeom>
            <a:avLst/>
            <a:gdLst>
              <a:gd name="textAreaLeft" fmla="*/ 254880 w 644760"/>
              <a:gd name="textAreaRight" fmla="*/ 645120 w 644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stroke="0" w="644525" h="720725">
                <a:moveTo>
                  <a:pt x="254724" y="8003"/>
                </a:moveTo>
                <a:lnTo>
                  <a:pt x="254724" y="8003"/>
                </a:lnTo>
                <a:arcTo wR="322263" hR="360363" stAng="-6051038" swAng="11896934"/>
                <a:lnTo>
                  <a:pt x="322263" y="360363"/>
                </a:lnTo>
                <a:close/>
              </a:path>
              <a:path fill="none" w="644525" h="720725">
                <a:moveTo>
                  <a:pt x="254724" y="8003"/>
                </a:moveTo>
                <a:lnTo>
                  <a:pt x="254724" y="8003"/>
                </a:lnTo>
                <a:arcTo wR="322263" hR="360363" stAng="-6051038" swAng="11896934"/>
              </a:path>
            </a:pathLst>
          </a:custGeom>
          <a:noFill/>
          <a:ln w="381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1"/>
          <p:cNvSpPr/>
          <p:nvPr/>
        </p:nvSpPr>
        <p:spPr>
          <a:xfrm>
            <a:off x="-404640" y="4267080"/>
            <a:ext cx="59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Сколько л воды в 3-х вёд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2"/>
          <p:cNvSpPr/>
          <p:nvPr/>
        </p:nvSpPr>
        <p:spPr>
          <a:xfrm>
            <a:off x="-407880" y="5105520"/>
            <a:ext cx="63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Сколько л воды в одном вед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1"/>
          <p:cNvSpPr/>
          <p:nvPr/>
        </p:nvSpPr>
        <p:spPr>
          <a:xfrm>
            <a:off x="4506480" y="373392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2"/>
          <p:cNvSpPr/>
          <p:nvPr/>
        </p:nvSpPr>
        <p:spPr>
          <a:xfrm>
            <a:off x="6109560" y="434340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 – 50 = 30(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3"/>
          <p:cNvSpPr/>
          <p:nvPr/>
        </p:nvSpPr>
        <p:spPr>
          <a:xfrm>
            <a:off x="6490080" y="510552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 : 3 = 10(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61808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61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2-12T18:18:5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