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26C-C6D3-4151-BF2F-EE2136C2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679-7477-416B-B330-5B4BCD88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AE84-DFA4-4462-A7C2-CD4C0B34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AD0-C9C3-4B36-8EDD-DC300E27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1F2-E29F-458D-85D5-DDDF3FD4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116-0FE8-40A6-948A-B269781F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1BC-0853-42C9-8734-76FD2A8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75D-D2F8-4320-AF23-11A8BB4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930-1D5D-4FF7-8075-C62585F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185-5B37-463A-8FC6-F36EA7F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0B6-B36C-4EB4-99FD-A683D8A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3EA-52FB-4743-9D79-3BA2ECFC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1CF5-A270-45D6-8C01-3209A0A35E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Школа № 154 для обучающихся с ограниченными возможностями здоровья» г. Перми    </a:t>
            </a:r>
            <a:br>
              <a:rPr sz="18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80880" y="1219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685800" y="2009160"/>
            <a:ext cx="8153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комендации для родител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/Пальчиковая гимнастика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в школе и дома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609480" y="-4897800"/>
            <a:ext cx="8229600" cy="11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– логопед: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пуштанова  Клавдия Степа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Для чего нужна пальчиковая гимнасти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04920" y="89064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ие руки находится в тесной связи с развитием речи и мышления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альчики помогают говорить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80880" y="182880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особствует овладению навыками мелкой мото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развивать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ет у ребенка психические процессы: мышление, внимание, память, воображение; слуховое и зрительное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мает тревожность, воспитывает усид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уется игровая и учебно-практи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ает работоспособность коры головного моз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304920" y="5707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ый педагог В.А. Сухомлинский сказа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"Ум ребенка находится на кончиках его пальцев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альчиковая гимнастика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«Чтобы чётко говорить, надо с пальчиками дружить</a:t>
            </a:r>
            <a:r>
              <a:rPr b="1" i="1" lang="en-US" sz="2200" spc="-1" strike="noStrike">
                <a:solidFill>
                  <a:srgbClr val="ff0000"/>
                </a:solidFill>
                <a:latin typeface="Calibri"/>
              </a:rPr>
              <a:t>!</a:t>
            </a: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ЫПОЛНЕНИЕ ФИГУРОК ИЗ ПАЛЬЦЕВ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38080" y="4586400"/>
            <a:ext cx="7620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domik"/>
          <p:cNvPicPr/>
          <p:nvPr/>
        </p:nvPicPr>
        <p:blipFill>
          <a:blip r:embed="rId2"/>
          <a:stretch/>
        </p:blipFill>
        <p:spPr>
          <a:xfrm>
            <a:off x="685800" y="2666880"/>
            <a:ext cx="2484360" cy="3327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othki"/>
          <p:cNvPicPr/>
          <p:nvPr/>
        </p:nvPicPr>
        <p:blipFill>
          <a:blip r:embed="rId3"/>
          <a:stretch/>
        </p:blipFill>
        <p:spPr>
          <a:xfrm>
            <a:off x="3733920" y="2743200"/>
            <a:ext cx="1822320" cy="3290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flagok"/>
          <p:cNvPicPr/>
          <p:nvPr/>
        </p:nvPicPr>
        <p:blipFill>
          <a:blip r:embed="rId4"/>
          <a:stretch/>
        </p:blipFill>
        <p:spPr>
          <a:xfrm>
            <a:off x="6067440" y="2743200"/>
            <a:ext cx="2085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lodka"/>
          <p:cNvPicPr/>
          <p:nvPr/>
        </p:nvPicPr>
        <p:blipFill>
          <a:blip r:embed="rId2"/>
          <a:stretch/>
        </p:blipFill>
        <p:spPr>
          <a:xfrm>
            <a:off x="762120" y="457200"/>
            <a:ext cx="1371600" cy="2730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stul"/>
          <p:cNvPicPr/>
          <p:nvPr/>
        </p:nvPicPr>
        <p:blipFill>
          <a:blip r:embed="rId3"/>
          <a:stretch/>
        </p:blipFill>
        <p:spPr>
          <a:xfrm>
            <a:off x="2438280" y="533520"/>
            <a:ext cx="1524240" cy="2754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stol"/>
          <p:cNvPicPr/>
          <p:nvPr/>
        </p:nvPicPr>
        <p:blipFill>
          <a:blip r:embed="rId4"/>
          <a:stretch/>
        </p:blipFill>
        <p:spPr>
          <a:xfrm>
            <a:off x="4343400" y="609480"/>
            <a:ext cx="215568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grably"/>
          <p:cNvPicPr/>
          <p:nvPr/>
        </p:nvPicPr>
        <p:blipFill>
          <a:blip r:embed="rId5"/>
          <a:stretch/>
        </p:blipFill>
        <p:spPr>
          <a:xfrm>
            <a:off x="6934320" y="457200"/>
            <a:ext cx="152388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8" descr="cepochka"/>
          <p:cNvPicPr/>
          <p:nvPr/>
        </p:nvPicPr>
        <p:blipFill>
          <a:blip r:embed="rId6"/>
          <a:stretch/>
        </p:blipFill>
        <p:spPr>
          <a:xfrm>
            <a:off x="372960" y="3886200"/>
            <a:ext cx="21970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skvorechnik"/>
          <p:cNvPicPr/>
          <p:nvPr/>
        </p:nvPicPr>
        <p:blipFill>
          <a:blip r:embed="rId7"/>
          <a:stretch/>
        </p:blipFill>
        <p:spPr>
          <a:xfrm>
            <a:off x="3200400" y="3581280"/>
            <a:ext cx="1981080" cy="2378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sharik"/>
          <p:cNvPicPr/>
          <p:nvPr/>
        </p:nvPicPr>
        <p:blipFill>
          <a:blip r:embed="rId8"/>
          <a:stretch/>
        </p:blipFill>
        <p:spPr>
          <a:xfrm>
            <a:off x="6019920" y="3276720"/>
            <a:ext cx="16570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4" descr="sobaka"/>
          <p:cNvPicPr/>
          <p:nvPr/>
        </p:nvPicPr>
        <p:blipFill>
          <a:blip r:embed="rId2"/>
          <a:stretch/>
        </p:blipFill>
        <p:spPr>
          <a:xfrm>
            <a:off x="533520" y="533520"/>
            <a:ext cx="1562040" cy="3124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koshka"/>
          <p:cNvPicPr/>
          <p:nvPr/>
        </p:nvPicPr>
        <p:blipFill>
          <a:blip r:embed="rId3"/>
          <a:stretch/>
        </p:blipFill>
        <p:spPr>
          <a:xfrm>
            <a:off x="2819520" y="685800"/>
            <a:ext cx="1981080" cy="3170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6" descr="myshka"/>
          <p:cNvPicPr/>
          <p:nvPr/>
        </p:nvPicPr>
        <p:blipFill>
          <a:blip r:embed="rId4"/>
          <a:stretch/>
        </p:blipFill>
        <p:spPr>
          <a:xfrm>
            <a:off x="5297400" y="566640"/>
            <a:ext cx="1865520" cy="29656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7" descr="zaika"/>
          <p:cNvPicPr/>
          <p:nvPr/>
        </p:nvPicPr>
        <p:blipFill>
          <a:blip r:embed="rId5"/>
          <a:stretch/>
        </p:blipFill>
        <p:spPr>
          <a:xfrm>
            <a:off x="762120" y="3886200"/>
            <a:ext cx="1752480" cy="2465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9" descr="zaika_b"/>
          <p:cNvPicPr/>
          <p:nvPr/>
        </p:nvPicPr>
        <p:blipFill>
          <a:blip r:embed="rId6"/>
          <a:stretch/>
        </p:blipFill>
        <p:spPr>
          <a:xfrm>
            <a:off x="3124080" y="4038480"/>
            <a:ext cx="2743200" cy="2295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loshadka"/>
          <p:cNvPicPr/>
          <p:nvPr/>
        </p:nvPicPr>
        <p:blipFill>
          <a:blip r:embed="rId7"/>
          <a:stretch/>
        </p:blipFill>
        <p:spPr>
          <a:xfrm>
            <a:off x="6553080" y="3505320"/>
            <a:ext cx="18288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I:\fons_for_powerpoint_nabor_1\100_new_fons_1\My_new_fons_next 100\1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2" descr="koza"/>
          <p:cNvPicPr/>
          <p:nvPr/>
        </p:nvPicPr>
        <p:blipFill>
          <a:blip r:embed="rId2"/>
          <a:stretch/>
        </p:blipFill>
        <p:spPr>
          <a:xfrm>
            <a:off x="3276720" y="533520"/>
            <a:ext cx="147636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3" descr="gus"/>
          <p:cNvPicPr/>
          <p:nvPr/>
        </p:nvPicPr>
        <p:blipFill>
          <a:blip r:embed="rId3"/>
          <a:stretch/>
        </p:blipFill>
        <p:spPr>
          <a:xfrm>
            <a:off x="6324480" y="457200"/>
            <a:ext cx="1676520" cy="2360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4" descr="petushok"/>
          <p:cNvPicPr/>
          <p:nvPr/>
        </p:nvPicPr>
        <p:blipFill>
          <a:blip r:embed="rId4"/>
          <a:stretch/>
        </p:blipFill>
        <p:spPr>
          <a:xfrm>
            <a:off x="685800" y="304920"/>
            <a:ext cx="1600200" cy="3511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kurochka"/>
          <p:cNvPicPr/>
          <p:nvPr/>
        </p:nvPicPr>
        <p:blipFill>
          <a:blip r:embed="rId5"/>
          <a:stretch/>
        </p:blipFill>
        <p:spPr>
          <a:xfrm>
            <a:off x="3429000" y="3048120"/>
            <a:ext cx="190008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8" descr="ptenchiki"/>
          <p:cNvPicPr/>
          <p:nvPr/>
        </p:nvPicPr>
        <p:blipFill>
          <a:blip r:embed="rId6"/>
          <a:stretch/>
        </p:blipFill>
        <p:spPr>
          <a:xfrm>
            <a:off x="6248520" y="2892600"/>
            <a:ext cx="1866960" cy="2993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0" descr="zamok"/>
          <p:cNvPicPr/>
          <p:nvPr/>
        </p:nvPicPr>
        <p:blipFill>
          <a:blip r:embed="rId7"/>
          <a:stretch/>
        </p:blipFill>
        <p:spPr>
          <a:xfrm>
            <a:off x="6858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on-blu_f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479840" y="31989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1476360" y="476280"/>
            <a:ext cx="7515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Уважаемые родител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дьте терпеливы и обязательно все получится у Ваших детише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</cp:lastModifiedBy>
  <dcterms:modified xsi:type="dcterms:W3CDTF">2016-04-11T07:09:09Z</dcterms:modified>
  <cp:revision>19</cp:revision>
  <dc:subject/>
  <dc:title>Тема: Дифференциация гласных Е-И в слогах, словах и прЛексическая тема: «Животные»     </dc:title>
</cp:coreProperties>
</file>