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6D7-7478-43C8-8478-EF3EC522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C28-B06A-4CB9-9BB4-AB79CBF7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088-8A32-4FD6-9A0C-9FC2F725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CB9-E6CB-43D8-9F80-73033E63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F95-F2F7-4AF6-8EA3-FD448AB5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0D3-060B-4BA9-BBCA-9C3C6D4A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64E-0462-402E-A459-02EF122F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0DE-EDF1-4A78-B66E-9640F7DE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765-B7C7-4EF5-BEE8-8BF778E4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63A-1996-40CB-9929-7BA5C53D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D14-0532-4256-9F4C-A0EF54D4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281-09FE-4257-AC93-2ACC989C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6C74-946C-4060-A591-7D0E0003EF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Региональный экзамен по математике 8клас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МОБУ « Новочеркас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Булдакова Л.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Овал 6"/>
          <p:cNvSpPr/>
          <p:nvPr/>
        </p:nvSpPr>
        <p:spPr>
          <a:xfrm>
            <a:off x="785880" y="4572000"/>
            <a:ext cx="714240" cy="714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5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Решите уравн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В ответе укажите меньший из его кор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"/>
              <p:cNvSpPr txBox="1"/>
              <p:nvPr/>
            </p:nvSpPr>
            <p:spPr>
              <a:xfrm>
                <a:off x="928800" y="2643120"/>
                <a:ext cx="54594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5"/>
          <p:cNvSpPr/>
          <p:nvPr/>
        </p:nvSpPr>
        <p:spPr>
          <a:xfrm>
            <a:off x="1000080" y="4643280"/>
            <a:ext cx="1214640" cy="642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 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6. Решить неравен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У&gt;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"/>
              <p:cNvSpPr txBox="1"/>
              <p:nvPr/>
            </p:nvSpPr>
            <p:spPr>
              <a:xfrm>
                <a:off x="1643040" y="2000160"/>
                <a:ext cx="62006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&lt;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Решить задач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«Две бригады должны были изготовить по 180 книжных полок каждая. Первая бригада в час изготавливала на 3 полки больше, чем вторая, поэтому закончила работу на 3 часа раньше. Сколько полок в час изготавливала вторая бригада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ыберите уравнение, соответствующее условию задачи, если буквой x обозначено количество полок, изготавливаемое второй бригадой за 1 ча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40096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ыберите уравнение, соответствующее условию задачи, если буквой x обозначено количество полок, изготавливаемое второй бригадой за 1 ча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33440" y="3679920"/>
          <a:ext cx="4677120" cy="365040"/>
        </p:xfrm>
        <a:graphic>
          <a:graphicData uri="http://schemas.openxmlformats.org/drawingml/2006/table">
            <a:tbl>
              <a:tblPr/>
              <a:tblGrid>
                <a:gridCol w="2332080"/>
                <a:gridCol w="234504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6"/>
          <p:cNvSpPr/>
          <p:nvPr/>
        </p:nvSpPr>
        <p:spPr>
          <a:xfrm>
            <a:off x="4399200" y="-137880"/>
            <a:ext cx="3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428760" y="1643040"/>
                <a:ext cx="26924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8"/>
          <p:cNvSpPr/>
          <p:nvPr/>
        </p:nvSpPr>
        <p:spPr>
          <a:xfrm>
            <a:off x="0" y="71640"/>
            <a:ext cx="51436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                                                                                                                        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                                                                                                                        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5143680" y="1643040"/>
                <a:ext cx="25714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500040" y="4071960"/>
                <a:ext cx="2154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1"/>
              <p:cNvSpPr txBox="1"/>
              <p:nvPr/>
            </p:nvSpPr>
            <p:spPr>
              <a:xfrm>
                <a:off x="5049720" y="4000680"/>
                <a:ext cx="30942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Овал 17"/>
          <p:cNvSpPr/>
          <p:nvPr/>
        </p:nvSpPr>
        <p:spPr>
          <a:xfrm>
            <a:off x="3214800" y="5929200"/>
            <a:ext cx="2000160" cy="714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8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ля каждой из функций укажте ном ер её график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1428840" y="1500120"/>
                <a:ext cx="1473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4340160" y="1428840"/>
                <a:ext cx="14461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"/>
              <p:cNvSpPr txBox="1"/>
              <p:nvPr/>
            </p:nvSpPr>
            <p:spPr>
              <a:xfrm>
                <a:off x="6715080" y="1357200"/>
                <a:ext cx="1268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5"/>
          <p:cNvSpPr/>
          <p:nvPr/>
        </p:nvSpPr>
        <p:spPr>
          <a:xfrm>
            <a:off x="468360" y="6858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68360" y="10764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9" descr=""/>
          <p:cNvPicPr/>
          <p:nvPr/>
        </p:nvPicPr>
        <p:blipFill>
          <a:blip r:embed="rId1"/>
          <a:stretch/>
        </p:blipFill>
        <p:spPr>
          <a:xfrm>
            <a:off x="420840" y="2639880"/>
            <a:ext cx="2011320" cy="2151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"/>
          <p:cNvPicPr/>
          <p:nvPr/>
        </p:nvPicPr>
        <p:blipFill>
          <a:blip r:embed="rId2"/>
          <a:stretch/>
        </p:blipFill>
        <p:spPr>
          <a:xfrm>
            <a:off x="2639880" y="2706840"/>
            <a:ext cx="2078280" cy="21571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"/>
          <p:cNvPicPr/>
          <p:nvPr/>
        </p:nvPicPr>
        <p:blipFill>
          <a:blip r:embed="rId3"/>
          <a:stretch/>
        </p:blipFill>
        <p:spPr>
          <a:xfrm>
            <a:off x="4992840" y="2706840"/>
            <a:ext cx="1798560" cy="2230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4"/>
          <a:stretch/>
        </p:blipFill>
        <p:spPr>
          <a:xfrm>
            <a:off x="7139160" y="2779560"/>
            <a:ext cx="1723680" cy="20844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3"/>
          <p:cNvSpPr/>
          <p:nvPr/>
        </p:nvSpPr>
        <p:spPr>
          <a:xfrm>
            <a:off x="1003680" y="18572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3861360" y="1928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6218280" y="1928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6"/>
          <p:cNvSpPr/>
          <p:nvPr/>
        </p:nvSpPr>
        <p:spPr>
          <a:xfrm>
            <a:off x="1428840" y="5643720"/>
            <a:ext cx="2500200" cy="857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В ромбе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ABCD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 угол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DAB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 равен 36º. Найдите угол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DBC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Овал 3"/>
          <p:cNvSpPr/>
          <p:nvPr/>
        </p:nvSpPr>
        <p:spPr>
          <a:xfrm>
            <a:off x="2643120" y="4857840"/>
            <a:ext cx="2143080" cy="1428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Часть 2. №10 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Решите урав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"/>
              <p:cNvSpPr txBox="1"/>
              <p:nvPr/>
            </p:nvSpPr>
            <p:spPr>
              <a:xfrm>
                <a:off x="857160" y="2214720"/>
                <a:ext cx="73947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Box 5"/>
          <p:cNvSpPr/>
          <p:nvPr/>
        </p:nvSpPr>
        <p:spPr>
          <a:xfrm>
            <a:off x="1214280" y="521496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У=12     у=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№ </a:t>
            </a: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Теплоход прошел 60 км по течению реки и 36 км против течения, затратив на весь путь 8ч. Какова собственная скорость теплохода, если скорость течения реки равна 3 км/ч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2357280" y="550080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2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КМ/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1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Нижнее основание равнобедренной трапеции равно 13, а верхнее равно 5. Найдите площадь трапеции, если ее диагональ перпендикулярна боковой сторо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95280" y="1268280"/>
            <a:ext cx="7561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иг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liveinternet.ru/users/4321745/post201324261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андаш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allforchildren.ru/pictures/showimg/school5/school0519jpg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нейка, циркуль, лекал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needsex.ru/main.php?g2_view=core.DownloadItem&amp;g2_itemId=345&amp;g2_serialNumber=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нспортир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http://knopka48.ru/images/detailed/1/26449_2.p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00000"/>
                </a:solidFill>
                <a:latin typeface="Times New Roman"/>
              </a:rPr>
              <a:t>Инстру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На выполнение экзаменационной работы отводится 90 минут. Работа состоит из двух частей. Первая часть содержит 9 заданий базового уровня сложности, вторая часть – 3 задания повышенного уровня слож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55640" y="765000"/>
            <a:ext cx="70563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асибо автору шабло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116000" y="5661000"/>
            <a:ext cx="40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йт: http://pedsovet.su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Решения всех задач экзаменационной работы (первой и второй частей) и ответы к ним записываются на отдельных листах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Формулировки заданий не переписываются, рисунки не перечерчиваются. После решения задачи записывается ответ. При его записи учитывается следующе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в заданиях с выбором ответа указывается номер верного отве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в заданиях с кратким ответом указывается число, получившееся в результате реш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в задании на соотнесение указывается последовательность цифр из таблицы ответов без использования букв, пробелов и других символов (неправильно: А-2, Б-1, В-3; правильно: 21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Все необходимые вычисления, преобразования производятся в черновике. Черновики не проверяются и не учитываются при выставлении отмет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1494000"/>
            <a:ext cx="66564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1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найти значение выра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                            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0,5;             б)                     в) 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03880" y="-1378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"/>
              <p:cNvSpPr txBox="1"/>
              <p:nvPr/>
            </p:nvSpPr>
            <p:spPr>
              <a:xfrm>
                <a:off x="1143000" y="1857240"/>
                <a:ext cx="356220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,8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Rectangle 4"/>
          <p:cNvSpPr/>
          <p:nvPr/>
        </p:nvSpPr>
        <p:spPr>
          <a:xfrm>
            <a:off x="4437360" y="-13788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6072120" y="1785960"/>
                <a:ext cx="18576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Rectangle 5"/>
          <p:cNvSpPr/>
          <p:nvPr/>
        </p:nvSpPr>
        <p:spPr>
          <a:xfrm>
            <a:off x="0" y="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3286080" y="3429000"/>
                <a:ext cx="3786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4071960" y="4857840"/>
            <a:ext cx="857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Стоимость участия в семинаре – 200 рублей с человека. Группам от организации предоставляются скидки: от 4 до 10 человек – 5%, более 10 человек – 8%. Сколько рублей должна заплатить организация, направившая на семинар группу из 8 челове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1) 1520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2) 152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3) 1368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4) 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Овал 3"/>
          <p:cNvSpPr/>
          <p:nvPr/>
        </p:nvSpPr>
        <p:spPr>
          <a:xfrm>
            <a:off x="7643880" y="4500720"/>
            <a:ext cx="114300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 таблице даны результаты забега девочек 8 класса на дистанцию 60 м. Зачет выставляется при условии, что показан результат не хуже 10,8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Содержимое 3" descr="C:\Users\Любовь_2\Desktop\Скриншот 23-01-2016 170438.png"/>
          <p:cNvPicPr/>
          <p:nvPr/>
        </p:nvPicPr>
        <p:blipFill>
          <a:blip r:embed="rId1"/>
          <a:srcRect l="30948" t="31913" r="25924" b="57553"/>
          <a:stretch/>
        </p:blipFill>
        <p:spPr>
          <a:xfrm>
            <a:off x="428760" y="1714680"/>
            <a:ext cx="8215200" cy="24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785880" y="4500720"/>
          <a:ext cx="2286000" cy="1288800"/>
        </p:xfrm>
        <a:graphic>
          <a:graphicData uri="http://schemas.openxmlformats.org/drawingml/2006/table">
            <a:tbl>
              <a:tblPr/>
              <a:tblGrid>
                <a:gridCol w="444600"/>
                <a:gridCol w="1841400"/>
              </a:tblGrid>
              <a:tr h="32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Овал 5"/>
          <p:cNvSpPr/>
          <p:nvPr/>
        </p:nvSpPr>
        <p:spPr>
          <a:xfrm>
            <a:off x="5286240" y="5429160"/>
            <a:ext cx="914400" cy="914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4. Упрости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"/>
              <p:cNvSpPr txBox="1"/>
              <p:nvPr/>
            </p:nvSpPr>
            <p:spPr>
              <a:xfrm>
                <a:off x="766800" y="1785960"/>
                <a:ext cx="48769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786040" y="4786200"/>
            <a:ext cx="1000080" cy="1000080"/>
          </a:xfrm>
          <a:prstGeom prst="rect">
            <a:avLst/>
          </a:prstGeom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Любовь</cp:lastModifiedBy>
  <dcterms:modified xsi:type="dcterms:W3CDTF">2016-01-23T15:59:12Z</dcterms:modified>
  <cp:revision>38</cp:revision>
  <dc:subject/>
  <dc:title>Слайд 1</dc:title>
</cp:coreProperties>
</file>