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A4E-E9DB-4AC0-BD0B-4EFDCE68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0D5C-EFA4-4DEB-A650-ADD7F9C1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A87B-AFA3-4B82-AC01-5A43BCD3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4370-107C-47FE-BF64-3E5C829B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516-2281-4F57-974E-6AE5005A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4A43-7111-4D6B-BE5B-833D5230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BEE-9B84-4B55-997D-2FFBBE81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FA9E-51E9-48B8-8732-C9652BCA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6A4A-02B8-4D3D-BA63-D1258A72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90B0-2481-43F1-8071-8A0CAAF7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6E97-187F-40AF-88C4-4A38AEEE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863-0953-4A24-B229-6BA688C4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6ECD-81D7-4B9D-924C-81E51C748F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Региональный экзамен по математике 8клас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076280"/>
            <a:ext cx="481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МОБУ « Новочеркасская СОШ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Булдакова Л.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Овал 6"/>
          <p:cNvSpPr/>
          <p:nvPr/>
        </p:nvSpPr>
        <p:spPr>
          <a:xfrm>
            <a:off x="785880" y="4572000"/>
            <a:ext cx="714240" cy="714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№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5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Решите уравнени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В ответе укажите меньший из его корн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"/>
              <p:cNvSpPr txBox="1"/>
              <p:nvPr/>
            </p:nvSpPr>
            <p:spPr>
              <a:xfrm>
                <a:off x="928800" y="2643120"/>
                <a:ext cx="54594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5"/>
          <p:cNvSpPr/>
          <p:nvPr/>
        </p:nvSpPr>
        <p:spPr>
          <a:xfrm>
            <a:off x="1000080" y="4643280"/>
            <a:ext cx="1214640" cy="642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№ 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6. Решить неравен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У&gt;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"/>
              <p:cNvSpPr txBox="1"/>
              <p:nvPr/>
            </p:nvSpPr>
            <p:spPr>
              <a:xfrm>
                <a:off x="1643040" y="2000160"/>
                <a:ext cx="620064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&lt;</m:t>
                    </m:r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Решить задачу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«Две бригады должны были изготовить по 180 книжных полок каждая. Первая бригада в час изготавливала на 3 полки больше, чем вторая, поэтому закончила работу на 3 часа раньше. Сколько полок в час изготавливала вторая бригада?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ыберите уравнение, соответствующее условию задачи, если буквой x обозначено количество полок, изготавливаемое второй бригадой за 1 ча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40096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ыберите уравнение, соответствующее условию задачи, если буквой x обозначено количество полок, изготавливаемое второй бригадой за 1 ча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33440" y="3679920"/>
          <a:ext cx="4677120" cy="365040"/>
        </p:xfrm>
        <a:graphic>
          <a:graphicData uri="http://schemas.openxmlformats.org/drawingml/2006/table">
            <a:tbl>
              <a:tblPr/>
              <a:tblGrid>
                <a:gridCol w="2332080"/>
                <a:gridCol w="234504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6"/>
          <p:cNvSpPr/>
          <p:nvPr/>
        </p:nvSpPr>
        <p:spPr>
          <a:xfrm>
            <a:off x="4399200" y="-137880"/>
            <a:ext cx="3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428760" y="1643040"/>
                <a:ext cx="26924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8"/>
          <p:cNvSpPr/>
          <p:nvPr/>
        </p:nvSpPr>
        <p:spPr>
          <a:xfrm>
            <a:off x="0" y="71640"/>
            <a:ext cx="514368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                                                                                                                        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                                                                                                                        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5143680" y="1643040"/>
                <a:ext cx="25714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9"/>
              <p:cNvSpPr txBox="1"/>
              <p:nvPr/>
            </p:nvSpPr>
            <p:spPr>
              <a:xfrm>
                <a:off x="500040" y="4071960"/>
                <a:ext cx="2154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1"/>
              <p:cNvSpPr txBox="1"/>
              <p:nvPr/>
            </p:nvSpPr>
            <p:spPr>
              <a:xfrm>
                <a:off x="5049720" y="4000680"/>
                <a:ext cx="309420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Овал 17"/>
          <p:cNvSpPr/>
          <p:nvPr/>
        </p:nvSpPr>
        <p:spPr>
          <a:xfrm>
            <a:off x="3214800" y="5929200"/>
            <a:ext cx="2000160" cy="714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8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Для каждой из функций укажте ном ер её график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1428840" y="1500120"/>
                <a:ext cx="1473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4340160" y="1428840"/>
                <a:ext cx="144612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"/>
              <p:cNvSpPr txBox="1"/>
              <p:nvPr/>
            </p:nvSpPr>
            <p:spPr>
              <a:xfrm>
                <a:off x="6715080" y="1357200"/>
                <a:ext cx="12682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Rectangle 5"/>
          <p:cNvSpPr/>
          <p:nvPr/>
        </p:nvSpPr>
        <p:spPr>
          <a:xfrm>
            <a:off x="468360" y="68580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68360" y="107640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Рисунок 9" descr=""/>
          <p:cNvPicPr/>
          <p:nvPr/>
        </p:nvPicPr>
        <p:blipFill>
          <a:blip r:embed="rId1"/>
          <a:stretch/>
        </p:blipFill>
        <p:spPr>
          <a:xfrm>
            <a:off x="420840" y="2639880"/>
            <a:ext cx="2011320" cy="21513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0" descr=""/>
          <p:cNvPicPr/>
          <p:nvPr/>
        </p:nvPicPr>
        <p:blipFill>
          <a:blip r:embed="rId2"/>
          <a:stretch/>
        </p:blipFill>
        <p:spPr>
          <a:xfrm>
            <a:off x="2639880" y="2706840"/>
            <a:ext cx="2078280" cy="21571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1" descr=""/>
          <p:cNvPicPr/>
          <p:nvPr/>
        </p:nvPicPr>
        <p:blipFill>
          <a:blip r:embed="rId3"/>
          <a:stretch/>
        </p:blipFill>
        <p:spPr>
          <a:xfrm>
            <a:off x="4992840" y="2706840"/>
            <a:ext cx="1798560" cy="22302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"/>
          <p:cNvPicPr/>
          <p:nvPr/>
        </p:nvPicPr>
        <p:blipFill>
          <a:blip r:embed="rId4"/>
          <a:stretch/>
        </p:blipFill>
        <p:spPr>
          <a:xfrm>
            <a:off x="7139160" y="2779560"/>
            <a:ext cx="1723680" cy="20844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3"/>
          <p:cNvSpPr/>
          <p:nvPr/>
        </p:nvSpPr>
        <p:spPr>
          <a:xfrm>
            <a:off x="1003680" y="18572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3861360" y="1928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6218280" y="1928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16"/>
          <p:cNvSpPr/>
          <p:nvPr/>
        </p:nvSpPr>
        <p:spPr>
          <a:xfrm>
            <a:off x="1428840" y="5643720"/>
            <a:ext cx="2500200" cy="857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В ромбе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ABCD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 угол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DAB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 равен 36º. Найдите угол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DBC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Овал 3"/>
          <p:cNvSpPr/>
          <p:nvPr/>
        </p:nvSpPr>
        <p:spPr>
          <a:xfrm>
            <a:off x="2643120" y="4857840"/>
            <a:ext cx="2143080" cy="1428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Часть 2. №10 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Решите уравн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"/>
              <p:cNvSpPr txBox="1"/>
              <p:nvPr/>
            </p:nvSpPr>
            <p:spPr>
              <a:xfrm>
                <a:off x="857160" y="2214720"/>
                <a:ext cx="73947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TextBox 5"/>
          <p:cNvSpPr/>
          <p:nvPr/>
        </p:nvSpPr>
        <p:spPr>
          <a:xfrm>
            <a:off x="1214280" y="521496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У=12     у=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№ </a:t>
            </a: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Теплоход прошел 60 км по течению реки и 36 км против течения, затратив на весь путь 8ч. Какова собственная скорость теплохода, если скорость течения реки равна 3 км/ч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Скругленный прямоугольник 3"/>
          <p:cNvSpPr/>
          <p:nvPr/>
        </p:nvSpPr>
        <p:spPr>
          <a:xfrm>
            <a:off x="2357280" y="5500800"/>
            <a:ext cx="228600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12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КМ/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1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Нижнее основание равнобедренной трапеции равно 13, а верхнее равно 5. Найдите площадь трапеции, если ее диагональ перпендикулярна боковой сторон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95280" y="1268280"/>
            <a:ext cx="75614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иг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liveinternet.ru/users/4321745/post201324261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андаш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allforchildren.ru/pictures/showimg/school5/school0519jpg.ht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нейка, циркуль, лекало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needsex.ru/main.php?g2_view=core.DownloadItem&amp;g2_itemId=345&amp;g2_serialNumber=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анспортир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http://knopka48.ru/images/detailed/1/26449_2.p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00000"/>
                </a:solidFill>
                <a:latin typeface="Times New Roman"/>
              </a:rPr>
              <a:t>Инстру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На выполнение экзаменационной работы отводится 90 минут. Работа состоит из двух частей. Первая часть содержит 9 заданий базового уровня сложности, вторая часть – 3 задания повышенного уровня слож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755640" y="765000"/>
            <a:ext cx="705636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асибо автору шабло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116000" y="5661000"/>
            <a:ext cx="40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йт: http://pedsovet.su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Решения всех задач экзаменационной работы (первой и второй частей) и ответы к ним записываются на отдельных листах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Формулировки заданий не переписываются, рисунки не перечерчиваются. После решения задачи записывается ответ. При его записи учитывается следующе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в заданиях с выбором ответа указывается номер верного отве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в заданиях с кратким ответом указывается число, получившееся в результате реш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в задании на соотнесение указывается последовательность цифр из таблицы ответов без использования букв, пробелов и других символов (неправильно: А-2, Б-1, В-3; правильно: 21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Все необходимые вычисления, преобразования производятся в черновике. Черновики не проверяются и не учитываются при выставлении отмет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Прямоугольник 3" descr=""/>
          <p:cNvPicPr/>
          <p:nvPr/>
        </p:nvPicPr>
        <p:blipFill>
          <a:blip r:embed="rId1"/>
          <a:stretch/>
        </p:blipFill>
        <p:spPr>
          <a:xfrm>
            <a:off x="993600" y="1494000"/>
            <a:ext cx="66564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1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найти значение выра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                                       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 0,5;             б)                     в) 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403880" y="-1378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"/>
              <p:cNvSpPr txBox="1"/>
              <p:nvPr/>
            </p:nvSpPr>
            <p:spPr>
              <a:xfrm>
                <a:off x="1143000" y="1857240"/>
                <a:ext cx="356220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,8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Rectangle 4"/>
          <p:cNvSpPr/>
          <p:nvPr/>
        </p:nvSpPr>
        <p:spPr>
          <a:xfrm>
            <a:off x="4437360" y="-13788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6072120" y="1785960"/>
                <a:ext cx="185760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Rectangle 5"/>
          <p:cNvSpPr/>
          <p:nvPr/>
        </p:nvSpPr>
        <p:spPr>
          <a:xfrm>
            <a:off x="0" y="4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3286080" y="3429000"/>
                <a:ext cx="3786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</m:e>
                        </m:rad>
                      </m:e>
                    </m: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4071960" y="4857840"/>
            <a:ext cx="857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Стоимость участия в семинаре – 200 рублей с человека. Группам от организации предоставляются скидки: от 4 до 10 человек – 5%, более 10 человек – 8%. Сколько рублей должна заплатить организация, направившая на семинар группу из 8 челове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1) 1520  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  2) 152  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3) 1368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4) 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Овал 3"/>
          <p:cNvSpPr/>
          <p:nvPr/>
        </p:nvSpPr>
        <p:spPr>
          <a:xfrm>
            <a:off x="7643880" y="4500720"/>
            <a:ext cx="1143000" cy="7855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 таблице даны результаты забега девочек 8 класса на дистанцию 60 м. Зачет выставляется при условии, что показан результат не хуже 10,8 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Содержимое 3" descr="C:\Users\Любовь_2\Desktop\Скриншот 23-01-2016 170438.png"/>
          <p:cNvPicPr/>
          <p:nvPr/>
        </p:nvPicPr>
        <p:blipFill>
          <a:blip r:embed="rId1"/>
          <a:srcRect l="30948" t="31913" r="25924" b="57553"/>
          <a:stretch/>
        </p:blipFill>
        <p:spPr>
          <a:xfrm>
            <a:off x="428760" y="1714680"/>
            <a:ext cx="8215200" cy="24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785880" y="4500720"/>
          <a:ext cx="2286000" cy="1288800"/>
        </p:xfrm>
        <a:graphic>
          <a:graphicData uri="http://schemas.openxmlformats.org/drawingml/2006/table">
            <a:tbl>
              <a:tblPr/>
              <a:tblGrid>
                <a:gridCol w="444600"/>
                <a:gridCol w="1841400"/>
              </a:tblGrid>
              <a:tr h="32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лько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лько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Овал 5"/>
          <p:cNvSpPr/>
          <p:nvPr/>
        </p:nvSpPr>
        <p:spPr>
          <a:xfrm>
            <a:off x="5286240" y="5429160"/>
            <a:ext cx="914400" cy="9144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4. Упростить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"/>
              <p:cNvSpPr txBox="1"/>
              <p:nvPr/>
            </p:nvSpPr>
            <p:spPr>
              <a:xfrm>
                <a:off x="766800" y="1785960"/>
                <a:ext cx="48769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786040" y="4786200"/>
            <a:ext cx="1000080" cy="1000080"/>
          </a:xfrm>
          <a:prstGeom prst="rect">
            <a:avLst/>
          </a:prstGeom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Любовь</cp:lastModifiedBy>
  <dcterms:modified xsi:type="dcterms:W3CDTF">2016-01-23T15:59:12Z</dcterms:modified>
  <cp:revision>38</cp:revision>
  <dc:subject/>
  <dc:title>Слайд 1</dc:title>
</cp:coreProperties>
</file>