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710-5DA1-4626-985C-D8DFF87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6F1-2F62-40C3-A050-B2A21D3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FFE-FD5C-41A7-9597-6184AABD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CDA-6D76-43FF-8D3A-B0573D1D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60C-48F5-4763-BB8A-E80E016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8E5-A8CB-45E9-9E16-EC2BD82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1FD-120A-4655-9133-3B2B19D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9B3-12A6-44AF-8734-012EFE5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77E-ECA3-461C-9A51-B762E215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845-2933-4A12-BBC5-E9969A1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C2B-C3AA-410A-86F5-9CA6EAD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709-1EC7-4409-A2B2-45B897C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47CC-A783-4E6F-862C-AEF8E8FDF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Региональный экзамен по математике 8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МОБУ « Новочеркас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улдакова Л.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6"/>
          <p:cNvSpPr/>
          <p:nvPr/>
        </p:nvSpPr>
        <p:spPr>
          <a:xfrm>
            <a:off x="785880" y="4572000"/>
            <a:ext cx="714240" cy="71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Решите уравн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ответе укажите меньший из его кор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928800" y="2643120"/>
                <a:ext cx="54594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5"/>
          <p:cNvSpPr/>
          <p:nvPr/>
        </p:nvSpPr>
        <p:spPr>
          <a:xfrm>
            <a:off x="1000080" y="4643280"/>
            <a:ext cx="1214640" cy="642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6. Решить нераве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У&gt;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1643040" y="2000160"/>
                <a:ext cx="6200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ь задач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«Две бригады должны были изготовить по 180 книжных полок каждая. Первая бригада в час изготавливала на 3 полки больше, чем вторая, поэтому закончила работу на 3 часа раньше. Сколько полок в час изготавливала вторая бригада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9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ыберите уравнение, соответствующее условию задачи, если буквой x обозначено количество полок, изготавливаемое второй бригадой за 1 ча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33440" y="3679920"/>
          <a:ext cx="4677120" cy="365040"/>
        </p:xfrm>
        <a:graphic>
          <a:graphicData uri="http://schemas.openxmlformats.org/drawingml/2006/table">
            <a:tbl>
              <a:tblPr/>
              <a:tblGrid>
                <a:gridCol w="2332080"/>
                <a:gridCol w="234504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6"/>
          <p:cNvSpPr/>
          <p:nvPr/>
        </p:nvSpPr>
        <p:spPr>
          <a:xfrm>
            <a:off x="4399200" y="-13788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8760" y="1643040"/>
                <a:ext cx="2692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0" y="71640"/>
            <a:ext cx="51436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                                                                                   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                                                                                   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143680" y="1643040"/>
                <a:ext cx="257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500040" y="4071960"/>
                <a:ext cx="215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5049720" y="4000680"/>
                <a:ext cx="30942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Овал 17"/>
          <p:cNvSpPr/>
          <p:nvPr/>
        </p:nvSpPr>
        <p:spPr>
          <a:xfrm>
            <a:off x="3214800" y="5929200"/>
            <a:ext cx="2000160" cy="714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8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ля каждой из функций укажте ном ер её графи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1428840" y="1500120"/>
                <a:ext cx="1473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340160" y="1428840"/>
                <a:ext cx="14461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6715080" y="1357200"/>
                <a:ext cx="1268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5"/>
          <p:cNvSpPr/>
          <p:nvPr/>
        </p:nvSpPr>
        <p:spPr>
          <a:xfrm>
            <a:off x="468360" y="6858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360" y="1076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" descr=""/>
          <p:cNvPicPr/>
          <p:nvPr/>
        </p:nvPicPr>
        <p:blipFill>
          <a:blip r:embed="rId1"/>
          <a:stretch/>
        </p:blipFill>
        <p:spPr>
          <a:xfrm>
            <a:off x="420840" y="2639880"/>
            <a:ext cx="2011320" cy="2151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2"/>
          <a:stretch/>
        </p:blipFill>
        <p:spPr>
          <a:xfrm>
            <a:off x="2639880" y="2706840"/>
            <a:ext cx="2078280" cy="2157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3"/>
          <a:stretch/>
        </p:blipFill>
        <p:spPr>
          <a:xfrm>
            <a:off x="4992840" y="2706840"/>
            <a:ext cx="1798560" cy="223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4"/>
          <a:stretch/>
        </p:blipFill>
        <p:spPr>
          <a:xfrm>
            <a:off x="7139160" y="2779560"/>
            <a:ext cx="1723680" cy="2084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1003680" y="1857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3861360" y="1928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218280" y="1928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1428840" y="5643720"/>
            <a:ext cx="250020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 ромбе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ABCD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AB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равен 36º. Найдите угол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DBC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2643120" y="4857840"/>
            <a:ext cx="2143080" cy="1428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Часть 2. №10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Решите урав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857160" y="2214720"/>
                <a:ext cx="7394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5"/>
          <p:cNvSpPr/>
          <p:nvPr/>
        </p:nvSpPr>
        <p:spPr>
          <a:xfrm>
            <a:off x="1214280" y="52149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У=12     у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еплоход прошел 60 км по течению реки и 36 км против течения, затратив на весь путь 8ч. Какова собственная скорость теплохода, если скорость течения реки равна 3 км/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2357280" y="550080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1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ижнее основание равнобедренной трапеции равно 13, а верхнее равно 5. Найдите площадь трапеции, если ее диагональ перпендикулярна боковой стор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5280" y="1268280"/>
            <a:ext cx="7561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liveinternet.ru/users/4321745/post201324261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allforchildren.ru/pictures/showimg/school5/school0519jpg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йка, циркуль, лекал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needsex.ru/main.php?g2_view=core.DownloadItem&amp;g2_itemId=345&amp;g2_serialNumber=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и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http://knopka48.ru/images/detailed/1/26449_2.p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На выполнение экзаменационной работы отводится 90 минут. Работа состоит из двух частей. Первая часть содержит 9 заданий базового уровня сложности, вторая часть – 3 задания повышенного уровня слож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автору шабл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16000" y="566100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ешения всех задач экзаменационной работы (первой и второй частей) и ответы к ним записываются на отдельных листах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Формулировки заданий не переписываются, рисунки не перечерчиваются. После решения задачи записывается ответ. При его записи учитывается следующ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выбором ответа указывается номер верного отве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 заданиях с кратким ответом указывается число, получившееся в результате реш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 задании на соотнесение указывается последовательность цифр из таблицы ответов без использования букв, пробелов и других символов (неправильно: А-2, Б-1, В-3; правильно: 21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Все необходимые вычисления, преобразования производятся в черновике. Черновики не проверяются и не учитываются при выставлении отм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1494000"/>
            <a:ext cx="66564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    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0,5;             б)                     в)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03880" y="-1378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1143000" y="1857240"/>
                <a:ext cx="3562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,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Rectangle 4"/>
          <p:cNvSpPr/>
          <p:nvPr/>
        </p:nvSpPr>
        <p:spPr>
          <a:xfrm>
            <a:off x="4437360" y="-1378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6072120" y="1785960"/>
                <a:ext cx="18576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3286080" y="3429000"/>
                <a:ext cx="378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071960" y="485784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тоимость участия в семинаре – 200 рублей с человека. Группам от организации предоставляются скидки: от 4 до 10 человек – 5%, более 10 человек – 8%. Сколько рублей должна заплатить организация, направившая на семинар группу из 8 челове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1) 1520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2) 152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3) 1368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4)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Овал 3"/>
          <p:cNvSpPr/>
          <p:nvPr/>
        </p:nvSpPr>
        <p:spPr>
          <a:xfrm>
            <a:off x="7643880" y="4500720"/>
            <a:ext cx="114300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 таблице даны результаты забега девочек 8 класса на дистанцию 60 м. Зачет выставляется при условии, что показан результат не хуже 10,8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3" descr="C:\Users\Любовь_2\Desktop\Скриншот 23-01-2016 170438.png"/>
          <p:cNvPicPr/>
          <p:nvPr/>
        </p:nvPicPr>
        <p:blipFill>
          <a:blip r:embed="rId1"/>
          <a:srcRect l="30948" t="31913" r="25924" b="57553"/>
          <a:stretch/>
        </p:blipFill>
        <p:spPr>
          <a:xfrm>
            <a:off x="428760" y="1714680"/>
            <a:ext cx="8215200" cy="24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785880" y="4500720"/>
          <a:ext cx="2286000" cy="1288800"/>
        </p:xfrm>
        <a:graphic>
          <a:graphicData uri="http://schemas.openxmlformats.org/drawingml/2006/table">
            <a:tbl>
              <a:tblPr/>
              <a:tblGrid>
                <a:gridCol w="444600"/>
                <a:gridCol w="1841400"/>
              </a:tblGrid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Овал 5"/>
          <p:cNvSpPr/>
          <p:nvPr/>
        </p:nvSpPr>
        <p:spPr>
          <a:xfrm>
            <a:off x="5286240" y="542916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4. Упрости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766800" y="1785960"/>
                <a:ext cx="48769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786040" y="4786200"/>
            <a:ext cx="1000080" cy="1000080"/>
          </a:xfrm>
          <a:prstGeom prst="rect">
            <a:avLst/>
          </a:prstGeom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юбовь</cp:lastModifiedBy>
  <dcterms:modified xsi:type="dcterms:W3CDTF">2016-01-23T15:59:12Z</dcterms:modified>
  <cp:revision>38</cp:revision>
  <dc:subject/>
  <dc:title>Слайд 1</dc:title>
</cp:coreProperties>
</file>