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16.png" ContentType="image/png"/>
  <Override PartName="/ppt/media/image15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D1AF-4070-4728-BEF3-0883F8C92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F581-17BF-4D0D-B0BC-A5DD54DA3563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BC4-C1A2-4407-91F2-4F26AF484ED7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F0F3-DEA3-4BF9-B1A5-EFEE5843CEC9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3B4C-1F6C-4EE0-B64E-8A3047DBAB96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D3B-96D1-4C64-B527-452C379F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978-CD0D-4F1E-9693-1CFA4707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892-99D9-452B-B0A6-ACCFAD87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F5A-3664-407A-BD6F-0518072B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518-D251-4FF0-AA94-D82B501B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2FC-1DCA-4A8C-AACB-6666F379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6F3-F4B4-48EF-B02A-65379BBC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946-1C4A-463A-A343-87C2EB96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F7E-9F11-4434-B6B3-1565EF17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BBC-F110-4651-A2D4-4FF84BB4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68E-720E-41D0-AE63-E08085B9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DCC-9334-4572-B0A8-F10B407D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41CF-FC58-4A30-AE00-ADAF26E43E0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3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019560" cy="3733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Разговор </a:t>
            </a:r>
            <a:br>
              <a:rPr sz="7200"/>
            </a:b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о здоровье</a:t>
            </a:r>
            <a:br>
              <a:rPr sz="7200"/>
            </a:b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" name="Чему учат в школе.mp3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5334120" y="4813200"/>
            <a:ext cx="1414440" cy="151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тюльпаны"/>
          <p:cNvPicPr/>
          <p:nvPr/>
        </p:nvPicPr>
        <p:blipFill>
          <a:blip r:embed="rId3"/>
          <a:stretch/>
        </p:blipFill>
        <p:spPr>
          <a:xfrm>
            <a:off x="3048120" y="4724280"/>
            <a:ext cx="14382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7238880" y="4754520"/>
            <a:ext cx="1413000" cy="186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колокольчики"/>
          <p:cNvPicPr/>
          <p:nvPr/>
        </p:nvPicPr>
        <p:blipFill>
          <a:blip r:embed="rId5"/>
          <a:stretch/>
        </p:blipFill>
        <p:spPr>
          <a:xfrm>
            <a:off x="380880" y="38088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87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Скругленный прямоугольник 2"/>
          <p:cNvSpPr/>
          <p:nvPr/>
        </p:nvSpPr>
        <p:spPr>
          <a:xfrm>
            <a:off x="2666880" y="457200"/>
            <a:ext cx="3200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13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543800" y="5257800"/>
            <a:ext cx="942840" cy="1190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1"/>
          <p:cNvSpPr/>
          <p:nvPr/>
        </p:nvSpPr>
        <p:spPr>
          <a:xfrm>
            <a:off x="4191120" y="2666880"/>
            <a:ext cx="46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5" name="Прямоугольник 24"/>
          <p:cNvSpPr/>
          <p:nvPr/>
        </p:nvSpPr>
        <p:spPr>
          <a:xfrm>
            <a:off x="304920" y="304920"/>
            <a:ext cx="85341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Обеспечение духовно-нравственного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(психического) здоровья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токи зарождения духовного здоровья  формируются  в раннем детстве, на основе любви к семье и близким, дружелюбного отношения к сверстникам. Как никто, дети умеют радоваться жизни, им присуща естественность поведения, внутренняя свобода.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Портрет здоровой в психическом плане личности ребенка выглядит следующим образом: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собный бескорыстно любить родителей, близких людей, друзей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декватно (в соответствии с возрастом) воспринимает реальность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меет понимать юмор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посредственен в поведении, 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блюдает культуру поведения;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собен к самоуправлению,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контролю</a:t>
            </a:r>
            <a:r>
              <a:rPr b="0" lang="ru-RU" sz="22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.</a:t>
            </a:r>
            <a:endParaRPr b="0" lang="en-US" sz="2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1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6629400" y="333360"/>
            <a:ext cx="9907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кругленный прямоугольник 2"/>
          <p:cNvSpPr/>
          <p:nvPr/>
        </p:nvSpPr>
        <p:spPr>
          <a:xfrm>
            <a:off x="1371600" y="457200"/>
            <a:ext cx="647712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заимодействие детского сада и семьи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533520" y="2590920"/>
            <a:ext cx="20574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навательные беседы о семь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3048120" y="2362320"/>
            <a:ext cx="25905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здники с участием родителей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6095880" y="2133720"/>
            <a:ext cx="2362320" cy="761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ворческие проекты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609480" y="3809880"/>
            <a:ext cx="205740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дительские гостиные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3200400" y="3581280"/>
            <a:ext cx="2286000" cy="1219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ление выставок с участием родителей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6019920" y="3276720"/>
            <a:ext cx="243828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ьбом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аша дружная семь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6095880" y="4572000"/>
            <a:ext cx="2438640" cy="1066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онный стенд для родител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25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848720" y="566748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колокольчики"/>
          <p:cNvPicPr/>
          <p:nvPr/>
        </p:nvPicPr>
        <p:blipFill>
          <a:blip r:embed="rId2"/>
          <a:stretch/>
        </p:blipFill>
        <p:spPr>
          <a:xfrm>
            <a:off x="380880" y="380880"/>
            <a:ext cx="943200" cy="119088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 стрелкой 14"/>
          <p:cNvCxnSpPr/>
          <p:nvPr/>
        </p:nvCxnSpPr>
        <p:spPr>
          <a:xfrm flipH="1">
            <a:off x="2819160" y="1905120"/>
            <a:ext cx="9151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Прямая со стрелкой 18"/>
          <p:cNvCxnSpPr/>
          <p:nvPr/>
        </p:nvCxnSpPr>
        <p:spPr>
          <a:xfrm>
            <a:off x="4266720" y="190512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20"/>
          <p:cNvCxnSpPr/>
          <p:nvPr/>
        </p:nvCxnSpPr>
        <p:spPr>
          <a:xfrm>
            <a:off x="4419360" y="1905120"/>
            <a:ext cx="16009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Прямоугольник 21"/>
          <p:cNvSpPr/>
          <p:nvPr/>
        </p:nvSpPr>
        <p:spPr>
          <a:xfrm>
            <a:off x="4191120" y="2666880"/>
            <a:ext cx="46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131" name="Прямая со стрелкой 23"/>
          <p:cNvCxnSpPr/>
          <p:nvPr/>
        </p:nvCxnSpPr>
        <p:spPr>
          <a:xfrm>
            <a:off x="4419360" y="327636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Прямая со стрелкой 25"/>
          <p:cNvCxnSpPr/>
          <p:nvPr/>
        </p:nvCxnSpPr>
        <p:spPr>
          <a:xfrm>
            <a:off x="7391160" y="2895120"/>
            <a:ext cx="108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Прямая со стрелкой 27"/>
          <p:cNvCxnSpPr/>
          <p:nvPr/>
        </p:nvCxnSpPr>
        <p:spPr>
          <a:xfrm>
            <a:off x="7467120" y="426672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Прямая со стрелкой 21"/>
          <p:cNvCxnSpPr/>
          <p:nvPr/>
        </p:nvCxnSpPr>
        <p:spPr>
          <a:xfrm>
            <a:off x="1599840" y="327672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3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8001000" y="685800"/>
            <a:ext cx="500040" cy="38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666880" y="4876920"/>
            <a:ext cx="10321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CC10-A8A7-4086-8DCC-CD249E03C95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759960"/>
            <a:ext cx="8153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Социальное здоровь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еализуется посредством специальных мероприятий: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рганизация среды пребывания (микроклимат в коллективе)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бщение взрослых с детьми, основанное на взаимном доверии и уважении мнения каждого)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рганизация режимных моментов (гибкий режим дня, постепенный подъем, учет состояния здоровья при организации режимных процессов)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бразовательная  и развивающая  деятельность с детьми с учетом индивидуального подхода к каждому ребенку, основанного на особенностях здоровья ребенка, его физического, психического развития и  возможностях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организация специальных занятий социально-психологической направленности (релаксация, музыкотерапия, социальные тренинги)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9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238880" y="4952880"/>
            <a:ext cx="1247760" cy="157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457200" y="388800"/>
            <a:ext cx="1219320" cy="92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3733920" y="4876920"/>
            <a:ext cx="1981080" cy="1539720"/>
          </a:xfrm>
          <a:prstGeom prst="rect">
            <a:avLst/>
          </a:prstGeom>
          <a:ln w="0">
            <a:noFill/>
          </a:ln>
        </p:spPr>
      </p:pic>
    </p:spTree>
  </p:cSld>
  <p:transition advTm="4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762120" y="380880"/>
            <a:ext cx="78483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Основные пути формирования социального здоровья: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формирование толерантности у детей и взрослых, как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но из направлений духовно-нравственного воспитания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оздание ситуации успеха в учебной и игровой деятельности, способствующей снятию тревожности, повышению самооценки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организация специальных игровых занятий с детьми, имеющих проблемы в социальном плане (гиперактивные дети, дети с  различными заболеваниями)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формирование коллектива сверстников, основанного на межличностных связях, симпатиях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вовлечение родителей в воспитательный процесс с целью ознакомления с особенностями процесса воспитания и способностями своего ребенка, принятие его таковым, каков он есть.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отслеживание  «семей группы риска», оказание своевременной помощи детям, находящимся в трудной жизненной ситуации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просветительская работа с родителями по профилактике  детских болезней, расстройств нервной системы, детской агрессивност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знаками социального нездоровья являютс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адекватное восприятие окружающих,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фликтность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4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124080" y="5867280"/>
            <a:ext cx="881280" cy="671760"/>
          </a:xfrm>
          <a:prstGeom prst="rect">
            <a:avLst/>
          </a:prstGeom>
          <a:ln w="0">
            <a:noFill/>
          </a:ln>
        </p:spPr>
      </p:pic>
    </p:spTree>
  </p:cSld>
  <p:transition advTm="6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4384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Итак: как же сохранить здоровье ребёнка?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сегда находите время поговорить с ребёнком. Интересуйтесь его проблемами, вникайте в возникающие у него сложности, обсуждайте их, давайте советы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учитесь относиться к ребёнку как к равноправному партнёру, который пока просто обладает меньшим жизненным опыто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ключите из практики семейного воспитания «психологические пощёчины»: окрики, словесное унижение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четайте разумную требовательность с похвалой. Радуйтесь вместе с ребёнком даже маленьким успеха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ознайте, что ребенок не всегда адекватен в своих поступках в силу физиологических особенностей. Умейте  понимать и прощать, «лечите» добро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 сравнивайте ребёнка с другими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олее успешными детьми,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этим вы снижаете его самооценку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равните его с ним же самим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о менее успешным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p:transition advTm="7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4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1676520" y="525780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147" name="Picture 15"/>
          <p:cNvSpPr/>
          <p:nvPr/>
        </p:nvSpPr>
        <p:spPr>
          <a:xfrm>
            <a:off x="0" y="2743200"/>
            <a:ext cx="41911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8" name="Picture 17"/>
          <p:cNvSpPr/>
          <p:nvPr/>
        </p:nvSpPr>
        <p:spPr>
          <a:xfrm>
            <a:off x="5943600" y="5486400"/>
            <a:ext cx="942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9" name="Picture 22"/>
          <p:cNvSpPr/>
          <p:nvPr/>
        </p:nvSpPr>
        <p:spPr>
          <a:xfrm>
            <a:off x="-304920" y="-228600"/>
            <a:ext cx="9753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80880" y="470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Уважаемые родители!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Сегодня мы лишь обозначили проблему и осмыслили её. Поиск её решения – процесс длительный и кропотливый. Давайте же объединим усилия и будем двигаться по этому трудному пути вместе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Здоровье и счастливое будущее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наших детей будет нам наградой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51" name="Picture 17" descr="колокольчики"/>
          <p:cNvPicPr/>
          <p:nvPr/>
        </p:nvPicPr>
        <p:blipFill>
          <a:blip r:embed="rId2"/>
          <a:stretch/>
        </p:blipFill>
        <p:spPr>
          <a:xfrm>
            <a:off x="7238880" y="4740120"/>
            <a:ext cx="1324080" cy="1671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7" descr="колокольчики"/>
          <p:cNvPicPr/>
          <p:nvPr/>
        </p:nvPicPr>
        <p:blipFill>
          <a:blip r:embed="rId3"/>
          <a:stretch/>
        </p:blipFill>
        <p:spPr>
          <a:xfrm>
            <a:off x="228600" y="2286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5105520" y="5029200"/>
            <a:ext cx="1771560" cy="134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514600" y="4648320"/>
            <a:ext cx="2438280" cy="1809720"/>
          </a:xfrm>
          <a:prstGeom prst="rect">
            <a:avLst/>
          </a:prstGeom>
          <a:ln w="0">
            <a:noFill/>
          </a:ln>
        </p:spPr>
      </p:pic>
    </p:spTree>
  </p:cSld>
  <p:transition advTm="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44F1-0DCC-4D3C-9DF0-2C61958D67C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D93D-A5AB-4850-A13E-5446D961E87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59" name="Picture 2" descr="C:\Users\Public\Desktop\ДОУ ПСИХОЛОГ\ДОУ\картинки\картинки солнце,природа\0_72b69_8cf594e7_L.png"/>
          <p:cNvPicPr/>
          <p:nvPr/>
        </p:nvPicPr>
        <p:blipFill>
          <a:blip r:embed="rId1"/>
          <a:stretch/>
        </p:blipFill>
        <p:spPr>
          <a:xfrm>
            <a:off x="380880" y="1752480"/>
            <a:ext cx="4038840" cy="3311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Users\User\Pictures\55.gif"/>
          <p:cNvPicPr/>
          <p:nvPr/>
        </p:nvPicPr>
        <p:blipFill>
          <a:blip r:embed="rId2"/>
          <a:stretch/>
        </p:blipFill>
        <p:spPr>
          <a:xfrm>
            <a:off x="4437000" y="1905120"/>
            <a:ext cx="440856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228600" y="228600"/>
            <a:ext cx="1219320" cy="928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1143000" y="21736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56" name="Picture 17" descr="колокольчики"/>
          <p:cNvPicPr/>
          <p:nvPr/>
        </p:nvPicPr>
        <p:blipFill>
          <a:blip r:embed="rId3"/>
          <a:stretch/>
        </p:blipFill>
        <p:spPr>
          <a:xfrm>
            <a:off x="7391520" y="4564080"/>
            <a:ext cx="1552320" cy="19605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304920" y="243720"/>
            <a:ext cx="830556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такое состояние организма, при котором он биологически полноценен, трудоспособе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В. И. Дубровский)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физическая, душевная и духовно-нравственная гармония челове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Самое популярное определение, данное Всемирной организацией Здравоохранения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«состояние полного физического, психического и социального благополучия, а не просто отсутствие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зней или физических дефекто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ACF7-CD95-4FEA-8CC9-773F40993C2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3121-3126-4DCE-86E8-4C8D1999A9D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609480" y="304920"/>
            <a:ext cx="8077320" cy="72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Обеспечить всестороннее и гармоничное развитие физических, душевных и духовно-нравственных качеств дошкольников, формируя у детей жизненно необходимые  умения и навыки в различных сферах - умственной, нравственной, эмоционально-волевой, эстетической и социальной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овершенствовать систему закаливания организма, прививать культурно-гигиенические навыки, используя современные эффективные методы и технологии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пособствовать созданию условий в детском саду и семье, способствующих сохранению положительного психоэмоционального состояния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у детей через организацию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воспитательного,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развивающего и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образовательного процессов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62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772400" y="5257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2438280" y="609480"/>
            <a:ext cx="5000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7CB5-82A8-4C9A-86E6-3B48D3358A5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65" name="Picture 17" descr="колокольчики"/>
          <p:cNvPicPr/>
          <p:nvPr/>
        </p:nvPicPr>
        <p:blipFill>
          <a:blip r:embed="rId1"/>
          <a:stretch/>
        </p:blipFill>
        <p:spPr>
          <a:xfrm>
            <a:off x="7696080" y="380880"/>
            <a:ext cx="943200" cy="1190880"/>
          </a:xfrm>
          <a:prstGeom prst="rect">
            <a:avLst/>
          </a:prstGeom>
          <a:ln w="0">
            <a:noFill/>
          </a:ln>
        </p:spPr>
      </p:pic>
      <p:sp>
        <p:nvSpPr>
          <p:cNvPr id="66" name="Скругленный прямоугольник 4"/>
          <p:cNvSpPr/>
          <p:nvPr/>
        </p:nvSpPr>
        <p:spPr>
          <a:xfrm>
            <a:off x="2895480" y="4572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Скругленный прямоугольник 9"/>
          <p:cNvSpPr/>
          <p:nvPr/>
        </p:nvSpPr>
        <p:spPr>
          <a:xfrm>
            <a:off x="3124080" y="1246320"/>
            <a:ext cx="2895840" cy="522252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5222520"/>
              <a:gd name="textAreaBottom" fmla="*/ 5081400 h 5222520"/>
            </a:gdLst>
            <a:ahLst/>
            <a:rect l="textAreaLeft" t="textAreaTop" r="textAreaRight" b="textAreaBottom"/>
            <a:pathLst>
              <a:path w="21600" h="38952">
                <a:moveTo>
                  <a:pt x="3600" y="0"/>
                </a:moveTo>
                <a:arcTo wR="3600" hR="3600" stAng="16200000" swAng="-5400000"/>
                <a:lnTo>
                  <a:pt x="0" y="35352"/>
                </a:lnTo>
                <a:arcTo wR="3600" hR="3600" stAng="10800000" swAng="-5400000"/>
                <a:lnTo>
                  <a:pt x="18000" y="38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Ф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изическое здоровье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это, когда у вашего ребёнка высокая работоспособность, он устойчив к заболеваниям, соответствует в процессах роста и развития биологическим и социальным потребностям, когда у него отсутствуют хронические заболевани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893160"/>
            <a:ext cx="259092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оциальное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здоровье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это умение налаживать отношения с окружающими людьми в разных жизненных ситуациях: с детьми в группе, с родными – т.е., с теми людьми, с которыми нашим детям приходится общатьс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867280" y="1391040"/>
            <a:ext cx="304812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Душевное и духовное</a:t>
            </a:r>
            <a:r>
              <a:rPr b="0" lang="ru-RU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здоровье</a:t>
            </a:r>
            <a:r>
              <a:rPr b="0" lang="ru-RU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то умение управлять своими чувствами и мыслями (проявлять самокритичность, адекватность психических реакций в любых условиях; благорасположенность к людям, животным, природе,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 окружающей среде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362320" y="6195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ДОРОВЬЕ- ЭТО…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71" name="Прямая со стрелкой 16"/>
          <p:cNvCxnSpPr/>
          <p:nvPr/>
        </p:nvCxnSpPr>
        <p:spPr>
          <a:xfrm flipH="1">
            <a:off x="3199680" y="1143000"/>
            <a:ext cx="12200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19"/>
          <p:cNvCxnSpPr/>
          <p:nvPr/>
        </p:nvCxnSpPr>
        <p:spPr>
          <a:xfrm>
            <a:off x="4723920" y="11430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21"/>
          <p:cNvCxnSpPr/>
          <p:nvPr/>
        </p:nvCxnSpPr>
        <p:spPr>
          <a:xfrm>
            <a:off x="5029200" y="1143000"/>
            <a:ext cx="12960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кругленный прямоугольник 1"/>
          <p:cNvSpPr/>
          <p:nvPr/>
        </p:nvSpPr>
        <p:spPr>
          <a:xfrm>
            <a:off x="3809880" y="533520"/>
            <a:ext cx="28195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армоничное развитие детей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33520" y="457200"/>
            <a:ext cx="236196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ировать понятия о пользе занятий физическими упражнениями, здоровом образе жизн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200400" y="1600200"/>
            <a:ext cx="24382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улки  и игры на свежем воздух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6248520" y="1523880"/>
            <a:ext cx="213336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аливающие процедуры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533520" y="2438280"/>
            <a:ext cx="2438280" cy="129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правильного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тания и соблюдение режима дн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3276720" y="2514600"/>
            <a:ext cx="23619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едение подвижных игр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6248520" y="2514600"/>
            <a:ext cx="22860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ригирующая и пальчиковая гимнастик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3352680" y="3581280"/>
            <a:ext cx="228600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местная  трудовая и игровая деятельность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533520" y="3809880"/>
            <a:ext cx="251460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здание  благоприятных условий для развития дет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3" name="Прямоугольник 11"/>
          <p:cNvSpPr/>
          <p:nvPr/>
        </p:nvSpPr>
        <p:spPr>
          <a:xfrm>
            <a:off x="6248520" y="3505320"/>
            <a:ext cx="236196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зкультурный уголок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6248520" y="4572000"/>
            <a:ext cx="243828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стетическое оформление детской комнаты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6248520" y="5486400"/>
            <a:ext cx="236196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бесед, нравоучений, совместные чтения (сказки на ночь)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3352680" y="4572000"/>
            <a:ext cx="236232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местное изготовление подарков и поделок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87" name="Picture 17" descr="колокольчики"/>
          <p:cNvPicPr/>
          <p:nvPr/>
        </p:nvPicPr>
        <p:blipFill>
          <a:blip r:embed="rId1"/>
          <a:stretch/>
        </p:blipFill>
        <p:spPr>
          <a:xfrm>
            <a:off x="8001000" y="4572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276720" y="68580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ая соединительная линия 48"/>
          <p:cNvSpPr/>
          <p:nvPr/>
        </p:nvSpPr>
        <p:spPr>
          <a:xfrm>
            <a:off x="4419720" y="22860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2666880" y="5465160"/>
            <a:ext cx="335304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авильный подход родителей к поощрению и наказанию дет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колокольчики"/>
          <p:cNvPicPr/>
          <p:nvPr/>
        </p:nvPicPr>
        <p:blipFill>
          <a:blip r:embed="rId1"/>
          <a:stretch/>
        </p:blipFill>
        <p:spPr>
          <a:xfrm>
            <a:off x="8001000" y="4572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276720" y="68580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ая соединительная линия 48"/>
          <p:cNvSpPr/>
          <p:nvPr/>
        </p:nvSpPr>
        <p:spPr>
          <a:xfrm>
            <a:off x="4419720" y="22860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94" name="Picture 3" descr="C:\Users\Малахит\Desktop\2012_01_19\IMG_0122.JPG"/>
          <p:cNvPicPr/>
          <p:nvPr/>
        </p:nvPicPr>
        <p:blipFill>
          <a:blip r:embed="rId3"/>
          <a:srcRect l="0" t="29632" r="0" b="0"/>
          <a:stretch/>
        </p:blipFill>
        <p:spPr>
          <a:xfrm>
            <a:off x="533520" y="838080"/>
            <a:ext cx="4572000" cy="264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Малахит\Desktop\2012_01_19\IMG_0123.JPG"/>
          <p:cNvPicPr/>
          <p:nvPr/>
        </p:nvPicPr>
        <p:blipFill>
          <a:blip r:embed="rId4"/>
          <a:srcRect l="0" t="43249" r="0" b="4058"/>
          <a:stretch/>
        </p:blipFill>
        <p:spPr>
          <a:xfrm>
            <a:off x="2529000" y="3352680"/>
            <a:ext cx="631008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43600" y="609120"/>
            <a:ext cx="2743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ереги здоровье смолод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91320" y="837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истота – залог здоровья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3F5E-67F1-464B-8869-2D5AD365912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36D4-2CD0-40DE-AFF6-49158B46315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01" name="Picture 5" descr="C:\Users\Малахит\Desktop\2012_01_19\IMG_0133.JPG"/>
          <p:cNvPicPr/>
          <p:nvPr/>
        </p:nvPicPr>
        <p:blipFill>
          <a:blip r:embed="rId1"/>
          <a:stretch/>
        </p:blipFill>
        <p:spPr>
          <a:xfrm>
            <a:off x="533520" y="380880"/>
            <a:ext cx="4800600" cy="361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:\DCIM\100SSCAM\S630094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191120" y="3581280"/>
            <a:ext cx="472428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7924680" y="609480"/>
            <a:ext cx="5000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8" descr="тюльпаны"/>
          <p:cNvPicPr/>
          <p:nvPr/>
        </p:nvPicPr>
        <p:blipFill>
          <a:blip r:embed="rId1"/>
          <a:stretch/>
        </p:blipFill>
        <p:spPr>
          <a:xfrm>
            <a:off x="2514600" y="487692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Малахит\Desktop\2012_01_19\IMG_0160.JPG"/>
          <p:cNvPicPr/>
          <p:nvPr/>
        </p:nvPicPr>
        <p:blipFill>
          <a:blip r:embed="rId2"/>
          <a:stretch/>
        </p:blipFill>
        <p:spPr>
          <a:xfrm>
            <a:off x="609480" y="457200"/>
            <a:ext cx="4496040" cy="31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Users\Малахит\Desktop\2012_01_19\IMG_0162.JPG"/>
          <p:cNvPicPr/>
          <p:nvPr/>
        </p:nvPicPr>
        <p:blipFill>
          <a:blip r:embed="rId3"/>
          <a:srcRect l="5887" t="20000" r="0" b="0"/>
          <a:stretch/>
        </p:blipFill>
        <p:spPr>
          <a:xfrm>
            <a:off x="3962520" y="3429000"/>
            <a:ext cx="4998960" cy="312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6248520" y="2666880"/>
            <a:ext cx="500040" cy="533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6920" y="274680"/>
            <a:ext cx="29718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то с физкультурой дружит, тот никогд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 тужит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Малахит\Desktop\IMG_0211.JPG"/>
          <p:cNvPicPr/>
          <p:nvPr/>
        </p:nvPicPr>
        <p:blipFill>
          <a:blip r:embed="rId1"/>
          <a:srcRect l="41567" t="11253" r="0" b="-1239"/>
          <a:stretch/>
        </p:blipFill>
        <p:spPr>
          <a:xfrm>
            <a:off x="457200" y="304920"/>
            <a:ext cx="4495680" cy="459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C:\Users\Малахит\Desktop\IMG_0205.JPG"/>
          <p:cNvPicPr/>
          <p:nvPr/>
        </p:nvPicPr>
        <p:blipFill>
          <a:blip r:embed="rId2"/>
          <a:srcRect l="35001" t="25002" r="25625" b="25002"/>
          <a:stretch/>
        </p:blipFill>
        <p:spPr>
          <a:xfrm>
            <a:off x="4925880" y="2743200"/>
            <a:ext cx="376092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0080" y="685440"/>
            <a:ext cx="3276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здоровом теле –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здоровый дух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 advTm="6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7T22:01:25Z</dcterms:modified>
  <cp:revision>1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