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0DC-C9C3-498B-8B89-B1C8E958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7FC-FAA4-4BE6-9452-1985D002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F6B-1704-4CB2-9291-0386157A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1EE-A023-4B51-92F9-E29FDA38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D6B-8952-471A-94B8-0FE8E3EB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612-5226-4F30-9A3D-001E6201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5F2-137F-4E5F-BA10-40D92B8B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B3A-FEFE-4605-A1FE-15CF5E9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252-85EA-40B1-B8CD-56FE2589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E55-6FE6-46AA-AACD-8AA677F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5F8-FFEA-4B51-B47B-3FE71C48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81D-0894-4FA5-8481-5F3C728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3425-AD8F-47C2-BF5C-29C251072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Предметно-развивающая сре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7375e"/>
                </a:solidFill>
                <a:latin typeface="Calibri"/>
              </a:rPr>
              <a:t>как средство построения здоровьесберегающего пространства 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7375e"/>
                </a:solidFill>
                <a:latin typeface="Calibri"/>
              </a:rPr>
              <a:t>Составитель: Нагаева В.И., ст. воспитател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168120" y="4037040"/>
            <a:ext cx="1927440" cy="2673360"/>
          </a:xfrm>
          <a:custGeom>
            <a:avLst/>
            <a:gdLst/>
            <a:ahLst/>
            <a:rect l="l" t="t" r="r" b="b"/>
            <a:pathLst>
              <a:path w="1927274" h="2672861">
                <a:moveTo>
                  <a:pt x="1111348" y="98474"/>
                </a:moveTo>
                <a:lnTo>
                  <a:pt x="1111348" y="98474"/>
                </a:lnTo>
                <a:lnTo>
                  <a:pt x="42203" y="112541"/>
                </a:lnTo>
                <a:cubicBezTo>
                  <a:pt x="27394" y="113310"/>
                  <a:pt x="29192" y="139953"/>
                  <a:pt x="28136" y="154744"/>
                </a:cubicBezTo>
                <a:cubicBezTo>
                  <a:pt x="19777" y="271771"/>
                  <a:pt x="22427" y="389410"/>
                  <a:pt x="14068" y="506437"/>
                </a:cubicBezTo>
                <a:cubicBezTo>
                  <a:pt x="13011" y="521228"/>
                  <a:pt x="4689" y="534572"/>
                  <a:pt x="0" y="548640"/>
                </a:cubicBezTo>
                <a:cubicBezTo>
                  <a:pt x="4689" y="1158240"/>
                  <a:pt x="4970" y="1767890"/>
                  <a:pt x="14068" y="2377440"/>
                </a:cubicBezTo>
                <a:cubicBezTo>
                  <a:pt x="15023" y="2441399"/>
                  <a:pt x="25668" y="2423591"/>
                  <a:pt x="56271" y="2461846"/>
                </a:cubicBezTo>
                <a:cubicBezTo>
                  <a:pt x="66833" y="2475048"/>
                  <a:pt x="73173" y="2491412"/>
                  <a:pt x="84406" y="2504049"/>
                </a:cubicBezTo>
                <a:cubicBezTo>
                  <a:pt x="105197" y="2527439"/>
                  <a:pt x="167817" y="2597390"/>
                  <a:pt x="211016" y="2616590"/>
                </a:cubicBezTo>
                <a:cubicBezTo>
                  <a:pt x="238117" y="2628635"/>
                  <a:pt x="267886" y="2633712"/>
                  <a:pt x="295422" y="2644726"/>
                </a:cubicBezTo>
                <a:lnTo>
                  <a:pt x="365760" y="2672861"/>
                </a:lnTo>
                <a:lnTo>
                  <a:pt x="1871003" y="2658794"/>
                </a:lnTo>
                <a:cubicBezTo>
                  <a:pt x="1884261" y="2658429"/>
                  <a:pt x="1890853" y="2641015"/>
                  <a:pt x="1899139" y="2630658"/>
                </a:cubicBezTo>
                <a:cubicBezTo>
                  <a:pt x="1909701" y="2617456"/>
                  <a:pt x="1917896" y="2602523"/>
                  <a:pt x="1927274" y="2588455"/>
                </a:cubicBezTo>
                <a:cubicBezTo>
                  <a:pt x="1922585" y="1800664"/>
                  <a:pt x="1922419" y="1012834"/>
                  <a:pt x="1913206" y="225083"/>
                </a:cubicBezTo>
                <a:cubicBezTo>
                  <a:pt x="1912893" y="198338"/>
                  <a:pt x="1893570" y="168284"/>
                  <a:pt x="1871003" y="154744"/>
                </a:cubicBezTo>
                <a:cubicBezTo>
                  <a:pt x="1858288" y="147115"/>
                  <a:pt x="1842868" y="145366"/>
                  <a:pt x="1828800" y="140677"/>
                </a:cubicBezTo>
                <a:lnTo>
                  <a:pt x="1758462" y="70338"/>
                </a:lnTo>
                <a:cubicBezTo>
                  <a:pt x="1749083" y="60959"/>
                  <a:pt x="1742909" y="46397"/>
                  <a:pt x="1730326" y="42203"/>
                </a:cubicBezTo>
                <a:cubicBezTo>
                  <a:pt x="1672083" y="22788"/>
                  <a:pt x="1700461" y="36360"/>
                  <a:pt x="1645920" y="0"/>
                </a:cubicBezTo>
                <a:cubicBezTo>
                  <a:pt x="1463040" y="4689"/>
                  <a:pt x="1279732" y="717"/>
                  <a:pt x="1097280" y="14067"/>
                </a:cubicBezTo>
                <a:cubicBezTo>
                  <a:pt x="1084052" y="15035"/>
                  <a:pt x="1079502" y="33917"/>
                  <a:pt x="1069145" y="42203"/>
                </a:cubicBezTo>
                <a:cubicBezTo>
                  <a:pt x="1055943" y="52765"/>
                  <a:pt x="1041010" y="60960"/>
                  <a:pt x="1026942" y="70338"/>
                </a:cubicBezTo>
                <a:cubicBezTo>
                  <a:pt x="1036320" y="98473"/>
                  <a:pt x="1062270" y="125972"/>
                  <a:pt x="1055077" y="154744"/>
                </a:cubicBezTo>
                <a:cubicBezTo>
                  <a:pt x="1050388" y="173501"/>
                  <a:pt x="1051257" y="194620"/>
                  <a:pt x="1041010" y="211015"/>
                </a:cubicBezTo>
                <a:cubicBezTo>
                  <a:pt x="1026951" y="233509"/>
                  <a:pt x="999453" y="245215"/>
                  <a:pt x="984739" y="267286"/>
                </a:cubicBezTo>
                <a:cubicBezTo>
                  <a:pt x="975360" y="281354"/>
                  <a:pt x="968558" y="297534"/>
                  <a:pt x="956603" y="309489"/>
                </a:cubicBezTo>
                <a:cubicBezTo>
                  <a:pt x="929333" y="336759"/>
                  <a:pt x="906521" y="340250"/>
                  <a:pt x="872197" y="351692"/>
                </a:cubicBezTo>
                <a:lnTo>
                  <a:pt x="787791" y="436098"/>
                </a:lnTo>
                <a:lnTo>
                  <a:pt x="759656" y="464234"/>
                </a:lnTo>
                <a:cubicBezTo>
                  <a:pt x="748215" y="498558"/>
                  <a:pt x="744723" y="521370"/>
                  <a:pt x="717453" y="548640"/>
                </a:cubicBezTo>
                <a:cubicBezTo>
                  <a:pt x="705498" y="560595"/>
                  <a:pt x="689318" y="567397"/>
                  <a:pt x="675250" y="576775"/>
                </a:cubicBezTo>
                <a:cubicBezTo>
                  <a:pt x="670561" y="590843"/>
                  <a:pt x="668811" y="606263"/>
                  <a:pt x="661182" y="618978"/>
                </a:cubicBezTo>
                <a:cubicBezTo>
                  <a:pt x="654358" y="630351"/>
                  <a:pt x="641004" y="636503"/>
                  <a:pt x="633046" y="647114"/>
                </a:cubicBezTo>
                <a:cubicBezTo>
                  <a:pt x="575001" y="724508"/>
                  <a:pt x="584641" y="707927"/>
                  <a:pt x="562708" y="773723"/>
                </a:cubicBezTo>
                <a:cubicBezTo>
                  <a:pt x="567397" y="806548"/>
                  <a:pt x="556419" y="846024"/>
                  <a:pt x="576776" y="872197"/>
                </a:cubicBezTo>
                <a:cubicBezTo>
                  <a:pt x="594984" y="895607"/>
                  <a:pt x="636506" y="883881"/>
                  <a:pt x="661182" y="900332"/>
                </a:cubicBezTo>
                <a:lnTo>
                  <a:pt x="703385" y="928467"/>
                </a:lnTo>
                <a:cubicBezTo>
                  <a:pt x="691957" y="1042740"/>
                  <a:pt x="713907" y="1045441"/>
                  <a:pt x="661182" y="1111347"/>
                </a:cubicBezTo>
                <a:cubicBezTo>
                  <a:pt x="652896" y="1121704"/>
                  <a:pt x="642425" y="1130104"/>
                  <a:pt x="633046" y="1139483"/>
                </a:cubicBezTo>
                <a:cubicBezTo>
                  <a:pt x="628357" y="1153551"/>
                  <a:pt x="627598" y="1169619"/>
                  <a:pt x="618979" y="1181686"/>
                </a:cubicBezTo>
                <a:cubicBezTo>
                  <a:pt x="587967" y="1225103"/>
                  <a:pt x="561060" y="1239056"/>
                  <a:pt x="520505" y="1266092"/>
                </a:cubicBezTo>
                <a:cubicBezTo>
                  <a:pt x="511127" y="1280160"/>
                  <a:pt x="504325" y="1296340"/>
                  <a:pt x="492370" y="1308295"/>
                </a:cubicBezTo>
                <a:cubicBezTo>
                  <a:pt x="480415" y="1320250"/>
                  <a:pt x="463369" y="1325868"/>
                  <a:pt x="450166" y="1336430"/>
                </a:cubicBezTo>
                <a:cubicBezTo>
                  <a:pt x="349932" y="1416617"/>
                  <a:pt x="509735" y="1306097"/>
                  <a:pt x="379828" y="1392701"/>
                </a:cubicBezTo>
                <a:cubicBezTo>
                  <a:pt x="370450" y="1406769"/>
                  <a:pt x="362826" y="1422180"/>
                  <a:pt x="351693" y="1434904"/>
                </a:cubicBezTo>
                <a:cubicBezTo>
                  <a:pt x="320592" y="1470448"/>
                  <a:pt x="273643" y="1501492"/>
                  <a:pt x="253219" y="1547446"/>
                </a:cubicBezTo>
                <a:cubicBezTo>
                  <a:pt x="241174" y="1574547"/>
                  <a:pt x="225083" y="1631852"/>
                  <a:pt x="225083" y="1631852"/>
                </a:cubicBezTo>
                <a:cubicBezTo>
                  <a:pt x="225567" y="1638631"/>
                  <a:pt x="231797" y="1842012"/>
                  <a:pt x="253219" y="1899138"/>
                </a:cubicBezTo>
                <a:cubicBezTo>
                  <a:pt x="257807" y="1911372"/>
                  <a:pt x="293643" y="1961553"/>
                  <a:pt x="309490" y="1969477"/>
                </a:cubicBezTo>
                <a:cubicBezTo>
                  <a:pt x="336016" y="1982740"/>
                  <a:pt x="393896" y="1997612"/>
                  <a:pt x="393896" y="1997612"/>
                </a:cubicBezTo>
                <a:cubicBezTo>
                  <a:pt x="473613" y="1992923"/>
                  <a:pt x="553588" y="1991490"/>
                  <a:pt x="633046" y="1983544"/>
                </a:cubicBezTo>
                <a:cubicBezTo>
                  <a:pt x="647801" y="1982068"/>
                  <a:pt x="662534" y="1977106"/>
                  <a:pt x="675250" y="1969477"/>
                </a:cubicBezTo>
                <a:cubicBezTo>
                  <a:pt x="686623" y="1962653"/>
                  <a:pt x="694007" y="1950720"/>
                  <a:pt x="703385" y="1941341"/>
                </a:cubicBezTo>
                <a:cubicBezTo>
                  <a:pt x="712763" y="1950720"/>
                  <a:pt x="724696" y="1958104"/>
                  <a:pt x="731520" y="1969477"/>
                </a:cubicBezTo>
                <a:cubicBezTo>
                  <a:pt x="751651" y="2003029"/>
                  <a:pt x="749251" y="2032488"/>
                  <a:pt x="731520" y="2067950"/>
                </a:cubicBezTo>
                <a:cubicBezTo>
                  <a:pt x="725589" y="2079813"/>
                  <a:pt x="712763" y="2086707"/>
                  <a:pt x="703385" y="2096086"/>
                </a:cubicBezTo>
                <a:cubicBezTo>
                  <a:pt x="665871" y="2208626"/>
                  <a:pt x="694006" y="2086709"/>
                  <a:pt x="731520" y="2124221"/>
                </a:cubicBezTo>
                <a:cubicBezTo>
                  <a:pt x="742006" y="2134706"/>
                  <a:pt x="725082" y="2153709"/>
                  <a:pt x="717453" y="2166424"/>
                </a:cubicBezTo>
                <a:cubicBezTo>
                  <a:pt x="710629" y="2177797"/>
                  <a:pt x="697603" y="2184203"/>
                  <a:pt x="689317" y="2194560"/>
                </a:cubicBezTo>
                <a:cubicBezTo>
                  <a:pt x="678755" y="2207762"/>
                  <a:pt x="670560" y="2222695"/>
                  <a:pt x="661182" y="2236763"/>
                </a:cubicBezTo>
                <a:cubicBezTo>
                  <a:pt x="663121" y="2252271"/>
                  <a:pt x="668774" y="2357269"/>
                  <a:pt x="689317" y="2391507"/>
                </a:cubicBezTo>
                <a:cubicBezTo>
                  <a:pt x="696141" y="2402880"/>
                  <a:pt x="708074" y="2410264"/>
                  <a:pt x="717453" y="2419643"/>
                </a:cubicBezTo>
                <a:cubicBezTo>
                  <a:pt x="937847" y="2414954"/>
                  <a:pt x="1158586" y="2418778"/>
                  <a:pt x="1378634" y="2405575"/>
                </a:cubicBezTo>
                <a:cubicBezTo>
                  <a:pt x="1393995" y="2404653"/>
                  <a:pt x="1438596" y="2362275"/>
                  <a:pt x="1448973" y="2349304"/>
                </a:cubicBezTo>
                <a:cubicBezTo>
                  <a:pt x="1459535" y="2336102"/>
                  <a:pt x="1463906" y="2317663"/>
                  <a:pt x="1477108" y="2307101"/>
                </a:cubicBezTo>
                <a:cubicBezTo>
                  <a:pt x="1488687" y="2297838"/>
                  <a:pt x="1505243" y="2297723"/>
                  <a:pt x="1519311" y="2293034"/>
                </a:cubicBezTo>
                <a:cubicBezTo>
                  <a:pt x="1524000" y="2307102"/>
                  <a:pt x="1529477" y="2320931"/>
                  <a:pt x="1533379" y="2335237"/>
                </a:cubicBezTo>
                <a:cubicBezTo>
                  <a:pt x="1543553" y="2372543"/>
                  <a:pt x="1561514" y="2447778"/>
                  <a:pt x="1561514" y="2447778"/>
                </a:cubicBezTo>
                <a:cubicBezTo>
                  <a:pt x="1575582" y="2438400"/>
                  <a:pt x="1590515" y="2430205"/>
                  <a:pt x="1603717" y="2419643"/>
                </a:cubicBezTo>
                <a:cubicBezTo>
                  <a:pt x="1644645" y="2386900"/>
                  <a:pt x="1623429" y="2393176"/>
                  <a:pt x="1659988" y="2349304"/>
                </a:cubicBezTo>
                <a:cubicBezTo>
                  <a:pt x="1672724" y="2334020"/>
                  <a:pt x="1688123" y="2321169"/>
                  <a:pt x="1702191" y="2307101"/>
                </a:cubicBezTo>
                <a:cubicBezTo>
                  <a:pt x="1706880" y="2241452"/>
                  <a:pt x="1708991" y="2175568"/>
                  <a:pt x="1716259" y="2110154"/>
                </a:cubicBezTo>
                <a:cubicBezTo>
                  <a:pt x="1718394" y="2090938"/>
                  <a:pt x="1729081" y="2073177"/>
                  <a:pt x="1730326" y="2053883"/>
                </a:cubicBezTo>
                <a:cubicBezTo>
                  <a:pt x="1738483" y="1927450"/>
                  <a:pt x="1739705" y="1800664"/>
                  <a:pt x="1744394" y="1674055"/>
                </a:cubicBezTo>
                <a:cubicBezTo>
                  <a:pt x="1735691" y="1395576"/>
                  <a:pt x="1835690" y="1304659"/>
                  <a:pt x="1688123" y="1181686"/>
                </a:cubicBezTo>
                <a:cubicBezTo>
                  <a:pt x="1675134" y="1170862"/>
                  <a:pt x="1661042" y="1161111"/>
                  <a:pt x="1645920" y="1153550"/>
                </a:cubicBezTo>
                <a:cubicBezTo>
                  <a:pt x="1632657" y="1146918"/>
                  <a:pt x="1617785" y="1144172"/>
                  <a:pt x="1603717" y="1139483"/>
                </a:cubicBezTo>
                <a:cubicBezTo>
                  <a:pt x="1528407" y="1089275"/>
                  <a:pt x="1573469" y="1123302"/>
                  <a:pt x="1477108" y="1026941"/>
                </a:cubicBezTo>
                <a:lnTo>
                  <a:pt x="1434905" y="984738"/>
                </a:lnTo>
                <a:lnTo>
                  <a:pt x="1392702" y="942535"/>
                </a:lnTo>
                <a:lnTo>
                  <a:pt x="1477108" y="914400"/>
                </a:lnTo>
                <a:lnTo>
                  <a:pt x="1519311" y="900332"/>
                </a:lnTo>
                <a:cubicBezTo>
                  <a:pt x="1528689" y="886264"/>
                  <a:pt x="1539885" y="873251"/>
                  <a:pt x="1547446" y="858129"/>
                </a:cubicBezTo>
                <a:cubicBezTo>
                  <a:pt x="1597393" y="758235"/>
                  <a:pt x="1549491" y="505149"/>
                  <a:pt x="1547446" y="492369"/>
                </a:cubicBezTo>
                <a:cubicBezTo>
                  <a:pt x="1544775" y="475674"/>
                  <a:pt x="1518445" y="474796"/>
                  <a:pt x="1505243" y="464234"/>
                </a:cubicBezTo>
                <a:cubicBezTo>
                  <a:pt x="1494886" y="455948"/>
                  <a:pt x="1487465" y="444384"/>
                  <a:pt x="1477108" y="436098"/>
                </a:cubicBezTo>
                <a:cubicBezTo>
                  <a:pt x="1463906" y="425536"/>
                  <a:pt x="1447742" y="418966"/>
                  <a:pt x="1434905" y="407963"/>
                </a:cubicBezTo>
                <a:cubicBezTo>
                  <a:pt x="1349942" y="335137"/>
                  <a:pt x="1413977" y="363473"/>
                  <a:pt x="1336431" y="337624"/>
                </a:cubicBezTo>
                <a:cubicBezTo>
                  <a:pt x="1327053" y="323556"/>
                  <a:pt x="1324456" y="300393"/>
                  <a:pt x="1308296" y="295421"/>
                </a:cubicBezTo>
                <a:cubicBezTo>
                  <a:pt x="1258792" y="280189"/>
                  <a:pt x="1204825" y="288679"/>
                  <a:pt x="1153551" y="281354"/>
                </a:cubicBezTo>
                <a:cubicBezTo>
                  <a:pt x="1138871" y="279257"/>
                  <a:pt x="1125416" y="271975"/>
                  <a:pt x="1111348" y="267286"/>
                </a:cubicBezTo>
                <a:cubicBezTo>
                  <a:pt x="1051761" y="207699"/>
                  <a:pt x="1081603" y="211015"/>
                  <a:pt x="1041010" y="211015"/>
                </a:cubicBezTo>
                <a:lnTo>
                  <a:pt x="1055077" y="225083"/>
                </a:lnTo>
                <a:lnTo>
                  <a:pt x="970671" y="140677"/>
                </a:lnTo>
                <a:lnTo>
                  <a:pt x="1055077" y="168812"/>
                </a:lnTo>
                <a:lnTo>
                  <a:pt x="928468" y="29542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илиния 13"/>
          <p:cNvSpPr/>
          <p:nvPr/>
        </p:nvSpPr>
        <p:spPr>
          <a:xfrm>
            <a:off x="225360" y="3976560"/>
            <a:ext cx="2070000" cy="2706840"/>
          </a:xfrm>
          <a:custGeom>
            <a:avLst/>
            <a:gdLst/>
            <a:ahLst/>
            <a:rect l="l" t="t" r="r" b="b"/>
            <a:pathLst>
              <a:path w="2071114" h="2706530">
                <a:moveTo>
                  <a:pt x="942535" y="355632"/>
                </a:moveTo>
                <a:lnTo>
                  <a:pt x="942535" y="355632"/>
                </a:lnTo>
                <a:cubicBezTo>
                  <a:pt x="909711" y="379078"/>
                  <a:pt x="875051" y="400147"/>
                  <a:pt x="844062" y="425971"/>
                </a:cubicBezTo>
                <a:cubicBezTo>
                  <a:pt x="844028" y="426000"/>
                  <a:pt x="765295" y="504738"/>
                  <a:pt x="745588" y="524445"/>
                </a:cubicBezTo>
                <a:cubicBezTo>
                  <a:pt x="736209" y="533824"/>
                  <a:pt x="724809" y="541544"/>
                  <a:pt x="717452" y="552580"/>
                </a:cubicBezTo>
                <a:cubicBezTo>
                  <a:pt x="708074" y="566648"/>
                  <a:pt x="702519" y="584221"/>
                  <a:pt x="689317" y="594783"/>
                </a:cubicBezTo>
                <a:cubicBezTo>
                  <a:pt x="677738" y="604046"/>
                  <a:pt x="660377" y="602219"/>
                  <a:pt x="647114" y="608851"/>
                </a:cubicBezTo>
                <a:cubicBezTo>
                  <a:pt x="631992" y="616412"/>
                  <a:pt x="618979" y="627608"/>
                  <a:pt x="604911" y="636986"/>
                </a:cubicBezTo>
                <a:cubicBezTo>
                  <a:pt x="569551" y="743065"/>
                  <a:pt x="617249" y="612310"/>
                  <a:pt x="562708" y="721392"/>
                </a:cubicBezTo>
                <a:cubicBezTo>
                  <a:pt x="526184" y="794440"/>
                  <a:pt x="575459" y="736775"/>
                  <a:pt x="520505" y="791731"/>
                </a:cubicBezTo>
                <a:cubicBezTo>
                  <a:pt x="515816" y="805799"/>
                  <a:pt x="501748" y="819866"/>
                  <a:pt x="506437" y="833934"/>
                </a:cubicBezTo>
                <a:cubicBezTo>
                  <a:pt x="522437" y="881935"/>
                  <a:pt x="557112" y="873340"/>
                  <a:pt x="590843" y="890205"/>
                </a:cubicBezTo>
                <a:cubicBezTo>
                  <a:pt x="626335" y="907951"/>
                  <a:pt x="635012" y="920306"/>
                  <a:pt x="661182" y="946475"/>
                </a:cubicBezTo>
                <a:cubicBezTo>
                  <a:pt x="684289" y="1015799"/>
                  <a:pt x="689451" y="1011635"/>
                  <a:pt x="661182" y="1115288"/>
                </a:cubicBezTo>
                <a:cubicBezTo>
                  <a:pt x="657692" y="1128084"/>
                  <a:pt x="641332" y="1133066"/>
                  <a:pt x="633046" y="1143423"/>
                </a:cubicBezTo>
                <a:cubicBezTo>
                  <a:pt x="622484" y="1156625"/>
                  <a:pt x="615473" y="1172424"/>
                  <a:pt x="604911" y="1185626"/>
                </a:cubicBezTo>
                <a:cubicBezTo>
                  <a:pt x="582004" y="1214260"/>
                  <a:pt x="565905" y="1221008"/>
                  <a:pt x="534572" y="1241897"/>
                </a:cubicBezTo>
                <a:cubicBezTo>
                  <a:pt x="523130" y="1276223"/>
                  <a:pt x="519641" y="1299031"/>
                  <a:pt x="492369" y="1326303"/>
                </a:cubicBezTo>
                <a:cubicBezTo>
                  <a:pt x="480414" y="1338258"/>
                  <a:pt x="464234" y="1345060"/>
                  <a:pt x="450166" y="1354438"/>
                </a:cubicBezTo>
                <a:cubicBezTo>
                  <a:pt x="410319" y="1473985"/>
                  <a:pt x="465892" y="1328230"/>
                  <a:pt x="407963" y="1424777"/>
                </a:cubicBezTo>
                <a:cubicBezTo>
                  <a:pt x="400334" y="1437492"/>
                  <a:pt x="403158" y="1455401"/>
                  <a:pt x="393895" y="1466980"/>
                </a:cubicBezTo>
                <a:cubicBezTo>
                  <a:pt x="383333" y="1480182"/>
                  <a:pt x="364894" y="1484553"/>
                  <a:pt x="351692" y="1495115"/>
                </a:cubicBezTo>
                <a:cubicBezTo>
                  <a:pt x="341335" y="1503401"/>
                  <a:pt x="332935" y="1513872"/>
                  <a:pt x="323557" y="1523251"/>
                </a:cubicBezTo>
                <a:cubicBezTo>
                  <a:pt x="318198" y="1539328"/>
                  <a:pt x="310159" y="1600958"/>
                  <a:pt x="267286" y="1579521"/>
                </a:cubicBezTo>
                <a:cubicBezTo>
                  <a:pt x="254023" y="1572889"/>
                  <a:pt x="257908" y="1551386"/>
                  <a:pt x="253219" y="1537318"/>
                </a:cubicBezTo>
                <a:cubicBezTo>
                  <a:pt x="248530" y="1570143"/>
                  <a:pt x="253980" y="1606135"/>
                  <a:pt x="239151" y="1635792"/>
                </a:cubicBezTo>
                <a:cubicBezTo>
                  <a:pt x="232519" y="1649055"/>
                  <a:pt x="207433" y="1639375"/>
                  <a:pt x="196948" y="1649860"/>
                </a:cubicBezTo>
                <a:cubicBezTo>
                  <a:pt x="190220" y="1656588"/>
                  <a:pt x="168934" y="1747847"/>
                  <a:pt x="168812" y="1748334"/>
                </a:cubicBezTo>
                <a:cubicBezTo>
                  <a:pt x="176635" y="1904783"/>
                  <a:pt x="94900" y="2022058"/>
                  <a:pt x="225083" y="2043755"/>
                </a:cubicBezTo>
                <a:cubicBezTo>
                  <a:pt x="266968" y="2050736"/>
                  <a:pt x="309489" y="2053134"/>
                  <a:pt x="351692" y="2057823"/>
                </a:cubicBezTo>
                <a:cubicBezTo>
                  <a:pt x="365760" y="2062512"/>
                  <a:pt x="382032" y="2062994"/>
                  <a:pt x="393895" y="2071891"/>
                </a:cubicBezTo>
                <a:cubicBezTo>
                  <a:pt x="420421" y="2091786"/>
                  <a:pt x="432778" y="2131743"/>
                  <a:pt x="464234" y="2142229"/>
                </a:cubicBezTo>
                <a:lnTo>
                  <a:pt x="506437" y="2156297"/>
                </a:lnTo>
                <a:cubicBezTo>
                  <a:pt x="511126" y="2170365"/>
                  <a:pt x="513304" y="2185537"/>
                  <a:pt x="520505" y="2198500"/>
                </a:cubicBezTo>
                <a:cubicBezTo>
                  <a:pt x="536927" y="2228059"/>
                  <a:pt x="566082" y="2250827"/>
                  <a:pt x="576775" y="2282906"/>
                </a:cubicBezTo>
                <a:cubicBezTo>
                  <a:pt x="581464" y="2296974"/>
                  <a:pt x="586769" y="2310851"/>
                  <a:pt x="590843" y="2325109"/>
                </a:cubicBezTo>
                <a:cubicBezTo>
                  <a:pt x="607962" y="2385023"/>
                  <a:pt x="611714" y="2444451"/>
                  <a:pt x="661182" y="2493921"/>
                </a:cubicBezTo>
                <a:cubicBezTo>
                  <a:pt x="670560" y="2503300"/>
                  <a:pt x="681032" y="2511700"/>
                  <a:pt x="689317" y="2522057"/>
                </a:cubicBezTo>
                <a:cubicBezTo>
                  <a:pt x="735593" y="2579904"/>
                  <a:pt x="692716" y="2556014"/>
                  <a:pt x="759655" y="2578328"/>
                </a:cubicBezTo>
                <a:cubicBezTo>
                  <a:pt x="900332" y="2573639"/>
                  <a:pt x="1041509" y="2577003"/>
                  <a:pt x="1181686" y="2564260"/>
                </a:cubicBezTo>
                <a:cubicBezTo>
                  <a:pt x="1214868" y="2561243"/>
                  <a:pt x="1227668" y="2522604"/>
                  <a:pt x="1252025" y="2507989"/>
                </a:cubicBezTo>
                <a:cubicBezTo>
                  <a:pt x="1264740" y="2500360"/>
                  <a:pt x="1280160" y="2498610"/>
                  <a:pt x="1294228" y="2493921"/>
                </a:cubicBezTo>
                <a:cubicBezTo>
                  <a:pt x="1303606" y="2479853"/>
                  <a:pt x="1311230" y="2464442"/>
                  <a:pt x="1322363" y="2451718"/>
                </a:cubicBezTo>
                <a:cubicBezTo>
                  <a:pt x="1379968" y="2385884"/>
                  <a:pt x="1377702" y="2391380"/>
                  <a:pt x="1434905" y="2353245"/>
                </a:cubicBezTo>
                <a:cubicBezTo>
                  <a:pt x="1444283" y="2367313"/>
                  <a:pt x="1457693" y="2379408"/>
                  <a:pt x="1463040" y="2395448"/>
                </a:cubicBezTo>
                <a:cubicBezTo>
                  <a:pt x="1472060" y="2422508"/>
                  <a:pt x="1453897" y="2463275"/>
                  <a:pt x="1477108" y="2479854"/>
                </a:cubicBezTo>
                <a:cubicBezTo>
                  <a:pt x="1500319" y="2496433"/>
                  <a:pt x="1533379" y="2470475"/>
                  <a:pt x="1561514" y="2465786"/>
                </a:cubicBezTo>
                <a:cubicBezTo>
                  <a:pt x="1580685" y="2453006"/>
                  <a:pt x="1618487" y="2431790"/>
                  <a:pt x="1631852" y="2409515"/>
                </a:cubicBezTo>
                <a:cubicBezTo>
                  <a:pt x="1639481" y="2396799"/>
                  <a:pt x="1641231" y="2381380"/>
                  <a:pt x="1645920" y="2367312"/>
                </a:cubicBezTo>
                <a:cubicBezTo>
                  <a:pt x="1662974" y="2213827"/>
                  <a:pt x="1624211" y="2268267"/>
                  <a:pt x="1702191" y="2212568"/>
                </a:cubicBezTo>
                <a:cubicBezTo>
                  <a:pt x="1721270" y="2198940"/>
                  <a:pt x="1739383" y="2183993"/>
                  <a:pt x="1758462" y="2170365"/>
                </a:cubicBezTo>
                <a:cubicBezTo>
                  <a:pt x="1772220" y="2160538"/>
                  <a:pt x="1810044" y="2128161"/>
                  <a:pt x="1800665" y="2142229"/>
                </a:cubicBezTo>
                <a:cubicBezTo>
                  <a:pt x="1782272" y="2169818"/>
                  <a:pt x="1748719" y="2184979"/>
                  <a:pt x="1730326" y="2212568"/>
                </a:cubicBezTo>
                <a:cubicBezTo>
                  <a:pt x="1694834" y="2265807"/>
                  <a:pt x="1714146" y="2242816"/>
                  <a:pt x="1674055" y="2282906"/>
                </a:cubicBezTo>
                <a:cubicBezTo>
                  <a:pt x="1669366" y="1992174"/>
                  <a:pt x="1673603" y="1701160"/>
                  <a:pt x="1659988" y="1410709"/>
                </a:cubicBezTo>
                <a:cubicBezTo>
                  <a:pt x="1659367" y="1397460"/>
                  <a:pt x="1643225" y="1389398"/>
                  <a:pt x="1631852" y="1382574"/>
                </a:cubicBezTo>
                <a:cubicBezTo>
                  <a:pt x="1619136" y="1374945"/>
                  <a:pt x="1603717" y="1373195"/>
                  <a:pt x="1589649" y="1368506"/>
                </a:cubicBezTo>
                <a:cubicBezTo>
                  <a:pt x="1516398" y="1258629"/>
                  <a:pt x="1609909" y="1380183"/>
                  <a:pt x="1519311" y="1312235"/>
                </a:cubicBezTo>
                <a:cubicBezTo>
                  <a:pt x="1492785" y="1292340"/>
                  <a:pt x="1472418" y="1265343"/>
                  <a:pt x="1448972" y="1241897"/>
                </a:cubicBezTo>
                <a:lnTo>
                  <a:pt x="1420837" y="1213761"/>
                </a:lnTo>
                <a:lnTo>
                  <a:pt x="1378634" y="1171558"/>
                </a:lnTo>
                <a:cubicBezTo>
                  <a:pt x="1395977" y="1015476"/>
                  <a:pt x="1379274" y="1085231"/>
                  <a:pt x="1420837" y="960543"/>
                </a:cubicBezTo>
                <a:cubicBezTo>
                  <a:pt x="1425526" y="946475"/>
                  <a:pt x="1424420" y="928825"/>
                  <a:pt x="1434905" y="918340"/>
                </a:cubicBezTo>
                <a:lnTo>
                  <a:pt x="1477108" y="876137"/>
                </a:lnTo>
                <a:cubicBezTo>
                  <a:pt x="1518088" y="753196"/>
                  <a:pt x="1529672" y="753952"/>
                  <a:pt x="1491175" y="580715"/>
                </a:cubicBezTo>
                <a:cubicBezTo>
                  <a:pt x="1486859" y="561294"/>
                  <a:pt x="1464676" y="550726"/>
                  <a:pt x="1448972" y="538512"/>
                </a:cubicBezTo>
                <a:cubicBezTo>
                  <a:pt x="1422280" y="517752"/>
                  <a:pt x="1388476" y="506151"/>
                  <a:pt x="1364566" y="482241"/>
                </a:cubicBezTo>
                <a:cubicBezTo>
                  <a:pt x="1311878" y="429553"/>
                  <a:pt x="1341237" y="446329"/>
                  <a:pt x="1280160" y="425971"/>
                </a:cubicBezTo>
                <a:cubicBezTo>
                  <a:pt x="1261403" y="407214"/>
                  <a:pt x="1249054" y="378088"/>
                  <a:pt x="1223889" y="369700"/>
                </a:cubicBezTo>
                <a:lnTo>
                  <a:pt x="1139483" y="341565"/>
                </a:lnTo>
                <a:cubicBezTo>
                  <a:pt x="1130105" y="332186"/>
                  <a:pt x="1122721" y="320253"/>
                  <a:pt x="1111348" y="313429"/>
                </a:cubicBezTo>
                <a:cubicBezTo>
                  <a:pt x="1098633" y="305800"/>
                  <a:pt x="1082408" y="305993"/>
                  <a:pt x="1069145" y="299361"/>
                </a:cubicBezTo>
                <a:cubicBezTo>
                  <a:pt x="1054023" y="291800"/>
                  <a:pt x="1041010" y="280604"/>
                  <a:pt x="1026942" y="271226"/>
                </a:cubicBezTo>
                <a:cubicBezTo>
                  <a:pt x="956287" y="285357"/>
                  <a:pt x="958367" y="267699"/>
                  <a:pt x="928468" y="327497"/>
                </a:cubicBezTo>
                <a:cubicBezTo>
                  <a:pt x="921836" y="340760"/>
                  <a:pt x="899744" y="367445"/>
                  <a:pt x="914400" y="369700"/>
                </a:cubicBezTo>
                <a:cubicBezTo>
                  <a:pt x="979451" y="379708"/>
                  <a:pt x="1045699" y="360321"/>
                  <a:pt x="1111348" y="355632"/>
                </a:cubicBezTo>
                <a:cubicBezTo>
                  <a:pt x="1208449" y="323266"/>
                  <a:pt x="1317693" y="281139"/>
                  <a:pt x="1420837" y="355632"/>
                </a:cubicBezTo>
                <a:cubicBezTo>
                  <a:pt x="1466613" y="388692"/>
                  <a:pt x="1411458" y="468174"/>
                  <a:pt x="1406769" y="524445"/>
                </a:cubicBezTo>
                <a:cubicBezTo>
                  <a:pt x="1397391" y="515066"/>
                  <a:pt x="1388991" y="504595"/>
                  <a:pt x="1378634" y="496309"/>
                </a:cubicBezTo>
                <a:cubicBezTo>
                  <a:pt x="1338011" y="463810"/>
                  <a:pt x="1338489" y="477781"/>
                  <a:pt x="1308295" y="440038"/>
                </a:cubicBezTo>
                <a:cubicBezTo>
                  <a:pt x="1266517" y="387816"/>
                  <a:pt x="1283999" y="370981"/>
                  <a:pt x="1195754" y="341565"/>
                </a:cubicBezTo>
                <a:lnTo>
                  <a:pt x="1111348" y="313429"/>
                </a:lnTo>
                <a:lnTo>
                  <a:pt x="1069145" y="299361"/>
                </a:lnTo>
                <a:cubicBezTo>
                  <a:pt x="1041600" y="271816"/>
                  <a:pt x="998479" y="219500"/>
                  <a:pt x="956603" y="200888"/>
                </a:cubicBezTo>
                <a:cubicBezTo>
                  <a:pt x="929502" y="188843"/>
                  <a:pt x="872197" y="172752"/>
                  <a:pt x="872197" y="172752"/>
                </a:cubicBezTo>
                <a:cubicBezTo>
                  <a:pt x="609600" y="177441"/>
                  <a:pt x="346706" y="173483"/>
                  <a:pt x="84406" y="186820"/>
                </a:cubicBezTo>
                <a:cubicBezTo>
                  <a:pt x="67521" y="187679"/>
                  <a:pt x="54158" y="203000"/>
                  <a:pt x="42203" y="214955"/>
                </a:cubicBezTo>
                <a:cubicBezTo>
                  <a:pt x="14933" y="242225"/>
                  <a:pt x="11441" y="265037"/>
                  <a:pt x="0" y="299361"/>
                </a:cubicBezTo>
                <a:cubicBezTo>
                  <a:pt x="4689" y="1077773"/>
                  <a:pt x="252" y="1856294"/>
                  <a:pt x="14068" y="2634598"/>
                </a:cubicBezTo>
                <a:cubicBezTo>
                  <a:pt x="14368" y="2651503"/>
                  <a:pt x="25299" y="2676456"/>
                  <a:pt x="42203" y="2676801"/>
                </a:cubicBezTo>
                <a:lnTo>
                  <a:pt x="1392702" y="2662734"/>
                </a:lnTo>
                <a:cubicBezTo>
                  <a:pt x="1516579" y="2650346"/>
                  <a:pt x="1506230" y="2621319"/>
                  <a:pt x="1575582" y="2676801"/>
                </a:cubicBezTo>
                <a:cubicBezTo>
                  <a:pt x="1585939" y="2685087"/>
                  <a:pt x="1594339" y="2695558"/>
                  <a:pt x="1603717" y="2704937"/>
                </a:cubicBezTo>
                <a:cubicBezTo>
                  <a:pt x="1683434" y="2700248"/>
                  <a:pt x="1764564" y="2706530"/>
                  <a:pt x="1842868" y="2690869"/>
                </a:cubicBezTo>
                <a:cubicBezTo>
                  <a:pt x="1862376" y="2686967"/>
                  <a:pt x="1884157" y="2668540"/>
                  <a:pt x="1885071" y="2648666"/>
                </a:cubicBezTo>
                <a:cubicBezTo>
                  <a:pt x="1903163" y="2255158"/>
                  <a:pt x="1894450" y="1860875"/>
                  <a:pt x="1899139" y="1466980"/>
                </a:cubicBezTo>
                <a:cubicBezTo>
                  <a:pt x="1897081" y="1283860"/>
                  <a:pt x="2071114" y="533497"/>
                  <a:pt x="1856935" y="158685"/>
                </a:cubicBezTo>
                <a:cubicBezTo>
                  <a:pt x="1848547" y="144005"/>
                  <a:pt x="1836361" y="131604"/>
                  <a:pt x="1828800" y="116481"/>
                </a:cubicBezTo>
                <a:cubicBezTo>
                  <a:pt x="1770560" y="0"/>
                  <a:pt x="1867225" y="153018"/>
                  <a:pt x="1786597" y="32075"/>
                </a:cubicBezTo>
                <a:lnTo>
                  <a:pt x="1055077" y="46143"/>
                </a:lnTo>
                <a:cubicBezTo>
                  <a:pt x="1004736" y="50203"/>
                  <a:pt x="962313" y="86444"/>
                  <a:pt x="914400" y="102414"/>
                </a:cubicBezTo>
                <a:lnTo>
                  <a:pt x="872197" y="116481"/>
                </a:lnTo>
                <a:cubicBezTo>
                  <a:pt x="858129" y="125860"/>
                  <a:pt x="845444" y="137750"/>
                  <a:pt x="829994" y="144617"/>
                </a:cubicBezTo>
                <a:cubicBezTo>
                  <a:pt x="802893" y="156662"/>
                  <a:pt x="745588" y="172752"/>
                  <a:pt x="745588" y="172752"/>
                </a:cubicBezTo>
                <a:cubicBezTo>
                  <a:pt x="694661" y="206704"/>
                  <a:pt x="718508" y="193327"/>
                  <a:pt x="675249" y="214955"/>
                </a:cubicBezTo>
                <a:lnTo>
                  <a:pt x="675249" y="214955"/>
                </a:lnTo>
                <a:lnTo>
                  <a:pt x="773723" y="257158"/>
                </a:lnTo>
                <a:lnTo>
                  <a:pt x="745588" y="200888"/>
                </a:lnTo>
                <a:lnTo>
                  <a:pt x="815926" y="200888"/>
                </a:lnTo>
                <a:lnTo>
                  <a:pt x="773723" y="144617"/>
                </a:lnTo>
                <a:lnTo>
                  <a:pt x="872197" y="214955"/>
                </a:lnTo>
                <a:lnTo>
                  <a:pt x="745588" y="18682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4"/>
          <p:cNvSpPr/>
          <p:nvPr/>
        </p:nvSpPr>
        <p:spPr>
          <a:xfrm>
            <a:off x="969840" y="4052880"/>
            <a:ext cx="849600" cy="519120"/>
          </a:xfrm>
          <a:custGeom>
            <a:avLst/>
            <a:gdLst/>
            <a:ahLst/>
            <a:rect l="l" t="t" r="r" b="b"/>
            <a:pathLst>
              <a:path w="848036" h="519294">
                <a:moveTo>
                  <a:pt x="28135" y="322346"/>
                </a:moveTo>
                <a:lnTo>
                  <a:pt x="28135" y="322346"/>
                </a:lnTo>
                <a:cubicBezTo>
                  <a:pt x="178190" y="327035"/>
                  <a:pt x="328721" y="323593"/>
                  <a:pt x="478301" y="336414"/>
                </a:cubicBezTo>
                <a:cubicBezTo>
                  <a:pt x="495146" y="337858"/>
                  <a:pt x="505382" y="356988"/>
                  <a:pt x="520504" y="364549"/>
                </a:cubicBezTo>
                <a:cubicBezTo>
                  <a:pt x="533767" y="371181"/>
                  <a:pt x="549444" y="371985"/>
                  <a:pt x="562707" y="378617"/>
                </a:cubicBezTo>
                <a:cubicBezTo>
                  <a:pt x="609240" y="401883"/>
                  <a:pt x="638573" y="440415"/>
                  <a:pt x="675249" y="477091"/>
                </a:cubicBezTo>
                <a:lnTo>
                  <a:pt x="717452" y="519294"/>
                </a:lnTo>
                <a:cubicBezTo>
                  <a:pt x="740898" y="514605"/>
                  <a:pt x="767031" y="517089"/>
                  <a:pt x="787791" y="505226"/>
                </a:cubicBezTo>
                <a:cubicBezTo>
                  <a:pt x="848036" y="470800"/>
                  <a:pt x="807103" y="324015"/>
                  <a:pt x="801858" y="308279"/>
                </a:cubicBezTo>
                <a:cubicBezTo>
                  <a:pt x="793470" y="283114"/>
                  <a:pt x="764344" y="270765"/>
                  <a:pt x="745587" y="252008"/>
                </a:cubicBezTo>
                <a:cubicBezTo>
                  <a:pt x="621969" y="128388"/>
                  <a:pt x="834965" y="337706"/>
                  <a:pt x="675249" y="195737"/>
                </a:cubicBezTo>
                <a:cubicBezTo>
                  <a:pt x="561378" y="94519"/>
                  <a:pt x="635664" y="126272"/>
                  <a:pt x="548640" y="97263"/>
                </a:cubicBezTo>
                <a:cubicBezTo>
                  <a:pt x="451374" y="0"/>
                  <a:pt x="529430" y="64175"/>
                  <a:pt x="225083" y="83196"/>
                </a:cubicBezTo>
                <a:cubicBezTo>
                  <a:pt x="173390" y="86427"/>
                  <a:pt x="121920" y="92574"/>
                  <a:pt x="70338" y="97263"/>
                </a:cubicBezTo>
                <a:cubicBezTo>
                  <a:pt x="44171" y="123431"/>
                  <a:pt x="31812" y="132113"/>
                  <a:pt x="14067" y="167602"/>
                </a:cubicBezTo>
                <a:cubicBezTo>
                  <a:pt x="7435" y="180865"/>
                  <a:pt x="4689" y="195737"/>
                  <a:pt x="0" y="209805"/>
                </a:cubicBezTo>
                <a:cubicBezTo>
                  <a:pt x="6864" y="250994"/>
                  <a:pt x="4162" y="305981"/>
                  <a:pt x="42203" y="336414"/>
                </a:cubicBezTo>
                <a:cubicBezTo>
                  <a:pt x="53782" y="345677"/>
                  <a:pt x="84406" y="350482"/>
                  <a:pt x="84406" y="350482"/>
                </a:cubicBezTo>
                <a:lnTo>
                  <a:pt x="98474" y="350482"/>
                </a:lnTo>
                <a:lnTo>
                  <a:pt x="98474" y="35048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15"/>
          <p:cNvSpPr/>
          <p:nvPr/>
        </p:nvSpPr>
        <p:spPr>
          <a:xfrm>
            <a:off x="1434960" y="4346640"/>
            <a:ext cx="541440" cy="1238040"/>
          </a:xfrm>
          <a:custGeom>
            <a:avLst/>
            <a:gdLst/>
            <a:ahLst/>
            <a:rect l="l" t="t" r="r" b="b"/>
            <a:pathLst>
              <a:path w="542251" h="1237152">
                <a:moveTo>
                  <a:pt x="0" y="0"/>
                </a:moveTo>
                <a:lnTo>
                  <a:pt x="0" y="0"/>
                </a:lnTo>
                <a:cubicBezTo>
                  <a:pt x="68908" y="80393"/>
                  <a:pt x="110062" y="76122"/>
                  <a:pt x="70338" y="168812"/>
                </a:cubicBezTo>
                <a:cubicBezTo>
                  <a:pt x="65113" y="181003"/>
                  <a:pt x="51581" y="187569"/>
                  <a:pt x="42203" y="196948"/>
                </a:cubicBezTo>
                <a:cubicBezTo>
                  <a:pt x="37514" y="211016"/>
                  <a:pt x="14067" y="243840"/>
                  <a:pt x="28135" y="239151"/>
                </a:cubicBezTo>
                <a:cubicBezTo>
                  <a:pt x="53300" y="230762"/>
                  <a:pt x="84406" y="182880"/>
                  <a:pt x="84406" y="182880"/>
                </a:cubicBezTo>
                <a:cubicBezTo>
                  <a:pt x="126692" y="188166"/>
                  <a:pt x="199478" y="173874"/>
                  <a:pt x="225083" y="225083"/>
                </a:cubicBezTo>
                <a:cubicBezTo>
                  <a:pt x="238346" y="251609"/>
                  <a:pt x="253218" y="309489"/>
                  <a:pt x="253218" y="309489"/>
                </a:cubicBezTo>
                <a:cubicBezTo>
                  <a:pt x="242627" y="447165"/>
                  <a:pt x="271744" y="458659"/>
                  <a:pt x="211015" y="534572"/>
                </a:cubicBezTo>
                <a:cubicBezTo>
                  <a:pt x="202730" y="544929"/>
                  <a:pt x="192258" y="553329"/>
                  <a:pt x="182880" y="562708"/>
                </a:cubicBezTo>
                <a:cubicBezTo>
                  <a:pt x="178191" y="576776"/>
                  <a:pt x="178075" y="593332"/>
                  <a:pt x="168812" y="604911"/>
                </a:cubicBezTo>
                <a:cubicBezTo>
                  <a:pt x="158250" y="618113"/>
                  <a:pt x="129388" y="616369"/>
                  <a:pt x="126609" y="633046"/>
                </a:cubicBezTo>
                <a:cubicBezTo>
                  <a:pt x="93909" y="829246"/>
                  <a:pt x="150508" y="718814"/>
                  <a:pt x="196947" y="858129"/>
                </a:cubicBezTo>
                <a:cubicBezTo>
                  <a:pt x="201636" y="872197"/>
                  <a:pt x="201752" y="888753"/>
                  <a:pt x="211015" y="900332"/>
                </a:cubicBezTo>
                <a:cubicBezTo>
                  <a:pt x="221577" y="913534"/>
                  <a:pt x="238096" y="920907"/>
                  <a:pt x="253218" y="928468"/>
                </a:cubicBezTo>
                <a:cubicBezTo>
                  <a:pt x="273395" y="938557"/>
                  <a:pt x="333669" y="952097"/>
                  <a:pt x="351692" y="956603"/>
                </a:cubicBezTo>
                <a:cubicBezTo>
                  <a:pt x="365760" y="965981"/>
                  <a:pt x="381940" y="972783"/>
                  <a:pt x="393895" y="984738"/>
                </a:cubicBezTo>
                <a:cubicBezTo>
                  <a:pt x="434209" y="1025052"/>
                  <a:pt x="413216" y="1023380"/>
                  <a:pt x="436098" y="1069145"/>
                </a:cubicBezTo>
                <a:cubicBezTo>
                  <a:pt x="443659" y="1084267"/>
                  <a:pt x="456672" y="1096226"/>
                  <a:pt x="464233" y="1111348"/>
                </a:cubicBezTo>
                <a:cubicBezTo>
                  <a:pt x="470865" y="1124611"/>
                  <a:pt x="470672" y="1140836"/>
                  <a:pt x="478301" y="1153551"/>
                </a:cubicBezTo>
                <a:cubicBezTo>
                  <a:pt x="484526" y="1163925"/>
                  <a:pt x="542251" y="1208531"/>
                  <a:pt x="534572" y="1223889"/>
                </a:cubicBezTo>
                <a:cubicBezTo>
                  <a:pt x="527940" y="1237152"/>
                  <a:pt x="506437" y="1214510"/>
                  <a:pt x="492369" y="1209821"/>
                </a:cubicBezTo>
                <a:cubicBezTo>
                  <a:pt x="424425" y="1141880"/>
                  <a:pt x="510773" y="1224546"/>
                  <a:pt x="422030" y="1153551"/>
                </a:cubicBezTo>
                <a:cubicBezTo>
                  <a:pt x="411673" y="1145265"/>
                  <a:pt x="404506" y="1133373"/>
                  <a:pt x="393895" y="1125415"/>
                </a:cubicBezTo>
                <a:cubicBezTo>
                  <a:pt x="333532" y="1080142"/>
                  <a:pt x="282769" y="1064236"/>
                  <a:pt x="239150" y="998806"/>
                </a:cubicBezTo>
                <a:cubicBezTo>
                  <a:pt x="220393" y="970671"/>
                  <a:pt x="193573" y="946479"/>
                  <a:pt x="182880" y="914400"/>
                </a:cubicBezTo>
                <a:cubicBezTo>
                  <a:pt x="150550" y="817411"/>
                  <a:pt x="175715" y="850965"/>
                  <a:pt x="126609" y="801858"/>
                </a:cubicBezTo>
                <a:cubicBezTo>
                  <a:pt x="117230" y="773723"/>
                  <a:pt x="93597" y="746706"/>
                  <a:pt x="98473" y="717452"/>
                </a:cubicBezTo>
                <a:cubicBezTo>
                  <a:pt x="100175" y="707237"/>
                  <a:pt x="111217" y="613931"/>
                  <a:pt x="126609" y="590843"/>
                </a:cubicBezTo>
                <a:cubicBezTo>
                  <a:pt x="137645" y="574290"/>
                  <a:pt x="152259" y="559676"/>
                  <a:pt x="168812" y="548640"/>
                </a:cubicBezTo>
                <a:cubicBezTo>
                  <a:pt x="181150" y="540415"/>
                  <a:pt x="197752" y="541204"/>
                  <a:pt x="211015" y="534572"/>
                </a:cubicBezTo>
                <a:cubicBezTo>
                  <a:pt x="226137" y="527011"/>
                  <a:pt x="239150" y="515815"/>
                  <a:pt x="253218" y="506437"/>
                </a:cubicBezTo>
                <a:cubicBezTo>
                  <a:pt x="267442" y="485100"/>
                  <a:pt x="295421" y="451151"/>
                  <a:pt x="295421" y="422031"/>
                </a:cubicBezTo>
                <a:cubicBezTo>
                  <a:pt x="295421" y="356440"/>
                  <a:pt x="291353" y="325845"/>
                  <a:pt x="253218" y="281354"/>
                </a:cubicBezTo>
                <a:cubicBezTo>
                  <a:pt x="235955" y="261214"/>
                  <a:pt x="222112" y="233472"/>
                  <a:pt x="196947" y="225083"/>
                </a:cubicBezTo>
                <a:lnTo>
                  <a:pt x="154744" y="211015"/>
                </a:lnTo>
                <a:cubicBezTo>
                  <a:pt x="140676" y="215704"/>
                  <a:pt x="127370" y="225083"/>
                  <a:pt x="112541" y="225083"/>
                </a:cubicBezTo>
                <a:cubicBezTo>
                  <a:pt x="67241" y="225083"/>
                  <a:pt x="63806" y="201217"/>
                  <a:pt x="42203" y="168812"/>
                </a:cubicBezTo>
                <a:cubicBezTo>
                  <a:pt x="37514" y="135987"/>
                  <a:pt x="34638" y="102852"/>
                  <a:pt x="28135" y="70338"/>
                </a:cubicBezTo>
                <a:cubicBezTo>
                  <a:pt x="22341" y="41368"/>
                  <a:pt x="4689" y="11723"/>
                  <a:pt x="0" y="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лилиния 16"/>
          <p:cNvSpPr/>
          <p:nvPr/>
        </p:nvSpPr>
        <p:spPr>
          <a:xfrm>
            <a:off x="1322280" y="4289400"/>
            <a:ext cx="534960" cy="409680"/>
          </a:xfrm>
          <a:custGeom>
            <a:avLst/>
            <a:gdLst/>
            <a:ahLst/>
            <a:rect l="l" t="t" r="r" b="b"/>
            <a:pathLst>
              <a:path w="534572" h="409667">
                <a:moveTo>
                  <a:pt x="0" y="15772"/>
                </a:moveTo>
                <a:lnTo>
                  <a:pt x="0" y="15772"/>
                </a:lnTo>
                <a:cubicBezTo>
                  <a:pt x="46892" y="62664"/>
                  <a:pt x="103892" y="101271"/>
                  <a:pt x="140677" y="156449"/>
                </a:cubicBezTo>
                <a:cubicBezTo>
                  <a:pt x="183525" y="220722"/>
                  <a:pt x="156858" y="186699"/>
                  <a:pt x="225083" y="254923"/>
                </a:cubicBezTo>
                <a:cubicBezTo>
                  <a:pt x="234462" y="264301"/>
                  <a:pt x="242183" y="275701"/>
                  <a:pt x="253219" y="283058"/>
                </a:cubicBezTo>
                <a:cubicBezTo>
                  <a:pt x="267287" y="292436"/>
                  <a:pt x="282220" y="300631"/>
                  <a:pt x="295422" y="311193"/>
                </a:cubicBezTo>
                <a:cubicBezTo>
                  <a:pt x="305779" y="319479"/>
                  <a:pt x="313200" y="331043"/>
                  <a:pt x="323557" y="339329"/>
                </a:cubicBezTo>
                <a:cubicBezTo>
                  <a:pt x="336759" y="349891"/>
                  <a:pt x="352558" y="356902"/>
                  <a:pt x="365760" y="367464"/>
                </a:cubicBezTo>
                <a:cubicBezTo>
                  <a:pt x="376117" y="375750"/>
                  <a:pt x="382522" y="388776"/>
                  <a:pt x="393895" y="395600"/>
                </a:cubicBezTo>
                <a:cubicBezTo>
                  <a:pt x="406611" y="403229"/>
                  <a:pt x="422031" y="404978"/>
                  <a:pt x="436099" y="409667"/>
                </a:cubicBezTo>
                <a:cubicBezTo>
                  <a:pt x="450167" y="404978"/>
                  <a:pt x="467817" y="406085"/>
                  <a:pt x="478302" y="395600"/>
                </a:cubicBezTo>
                <a:cubicBezTo>
                  <a:pt x="502212" y="371689"/>
                  <a:pt x="534572" y="311193"/>
                  <a:pt x="534572" y="311193"/>
                </a:cubicBezTo>
                <a:cubicBezTo>
                  <a:pt x="529883" y="283058"/>
                  <a:pt x="533261" y="252299"/>
                  <a:pt x="520505" y="226787"/>
                </a:cubicBezTo>
                <a:cubicBezTo>
                  <a:pt x="512944" y="211665"/>
                  <a:pt x="491026" y="209785"/>
                  <a:pt x="478302" y="198652"/>
                </a:cubicBezTo>
                <a:lnTo>
                  <a:pt x="365760" y="86110"/>
                </a:lnTo>
                <a:cubicBezTo>
                  <a:pt x="351692" y="72042"/>
                  <a:pt x="342431" y="50198"/>
                  <a:pt x="323557" y="43907"/>
                </a:cubicBezTo>
                <a:lnTo>
                  <a:pt x="239151" y="15772"/>
                </a:lnTo>
                <a:cubicBezTo>
                  <a:pt x="90068" y="53043"/>
                  <a:pt x="311830" y="0"/>
                  <a:pt x="70339" y="43907"/>
                </a:cubicBezTo>
                <a:cubicBezTo>
                  <a:pt x="55749" y="46560"/>
                  <a:pt x="28135" y="57975"/>
                  <a:pt x="28135" y="57975"/>
                </a:cubicBezTo>
                <a:lnTo>
                  <a:pt x="28135" y="57975"/>
                </a:lnTo>
                <a:lnTo>
                  <a:pt x="42203" y="57975"/>
                </a:lnTo>
                <a:lnTo>
                  <a:pt x="56271" y="86110"/>
                </a:lnTo>
                <a:lnTo>
                  <a:pt x="56271" y="86110"/>
                </a:lnTo>
                <a:lnTo>
                  <a:pt x="0" y="86110"/>
                </a:lnTo>
                <a:lnTo>
                  <a:pt x="42203" y="72043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7"/>
          <p:cNvSpPr/>
          <p:nvPr/>
        </p:nvSpPr>
        <p:spPr>
          <a:xfrm>
            <a:off x="647640" y="6031080"/>
            <a:ext cx="1171800" cy="657000"/>
          </a:xfrm>
          <a:custGeom>
            <a:avLst/>
            <a:gdLst/>
            <a:ahLst/>
            <a:rect l="l" t="t" r="r" b="b"/>
            <a:pathLst>
              <a:path w="1171903" h="657469">
                <a:moveTo>
                  <a:pt x="0" y="117110"/>
                </a:moveTo>
                <a:lnTo>
                  <a:pt x="0" y="117110"/>
                </a:lnTo>
                <a:cubicBezTo>
                  <a:pt x="42203" y="107731"/>
                  <a:pt x="86702" y="105602"/>
                  <a:pt x="126609" y="88974"/>
                </a:cubicBezTo>
                <a:cubicBezTo>
                  <a:pt x="144973" y="81322"/>
                  <a:pt x="152259" y="57807"/>
                  <a:pt x="168812" y="46771"/>
                </a:cubicBezTo>
                <a:cubicBezTo>
                  <a:pt x="181150" y="38546"/>
                  <a:pt x="196947" y="37392"/>
                  <a:pt x="211015" y="32703"/>
                </a:cubicBezTo>
                <a:cubicBezTo>
                  <a:pt x="206326" y="51460"/>
                  <a:pt x="205594" y="71681"/>
                  <a:pt x="196948" y="88974"/>
                </a:cubicBezTo>
                <a:cubicBezTo>
                  <a:pt x="191016" y="100837"/>
                  <a:pt x="177098" y="106753"/>
                  <a:pt x="168812" y="117110"/>
                </a:cubicBezTo>
                <a:cubicBezTo>
                  <a:pt x="158250" y="130312"/>
                  <a:pt x="151239" y="146111"/>
                  <a:pt x="140677" y="159313"/>
                </a:cubicBezTo>
                <a:cubicBezTo>
                  <a:pt x="132391" y="169670"/>
                  <a:pt x="103162" y="178069"/>
                  <a:pt x="112541" y="187448"/>
                </a:cubicBezTo>
                <a:cubicBezTo>
                  <a:pt x="123026" y="197933"/>
                  <a:pt x="140676" y="178069"/>
                  <a:pt x="154744" y="173380"/>
                </a:cubicBezTo>
                <a:cubicBezTo>
                  <a:pt x="164123" y="164002"/>
                  <a:pt x="181415" y="158427"/>
                  <a:pt x="182880" y="145245"/>
                </a:cubicBezTo>
                <a:cubicBezTo>
                  <a:pt x="191501" y="67654"/>
                  <a:pt x="137630" y="0"/>
                  <a:pt x="196948" y="88974"/>
                </a:cubicBezTo>
                <a:cubicBezTo>
                  <a:pt x="198777" y="107269"/>
                  <a:pt x="209189" y="257605"/>
                  <a:pt x="225083" y="299990"/>
                </a:cubicBezTo>
                <a:cubicBezTo>
                  <a:pt x="235731" y="328386"/>
                  <a:pt x="260752" y="349726"/>
                  <a:pt x="281354" y="370328"/>
                </a:cubicBezTo>
                <a:cubicBezTo>
                  <a:pt x="286043" y="384396"/>
                  <a:pt x="283083" y="404306"/>
                  <a:pt x="295421" y="412531"/>
                </a:cubicBezTo>
                <a:cubicBezTo>
                  <a:pt x="315316" y="425794"/>
                  <a:pt x="342419" y="421412"/>
                  <a:pt x="365760" y="426599"/>
                </a:cubicBezTo>
                <a:cubicBezTo>
                  <a:pt x="485258" y="453154"/>
                  <a:pt x="350931" y="431778"/>
                  <a:pt x="534572" y="454734"/>
                </a:cubicBezTo>
                <a:cubicBezTo>
                  <a:pt x="685855" y="505163"/>
                  <a:pt x="589386" y="484843"/>
                  <a:pt x="829994" y="468802"/>
                </a:cubicBezTo>
                <a:cubicBezTo>
                  <a:pt x="839372" y="454734"/>
                  <a:pt x="862230" y="443001"/>
                  <a:pt x="858129" y="426599"/>
                </a:cubicBezTo>
                <a:cubicBezTo>
                  <a:pt x="854532" y="412213"/>
                  <a:pt x="830553" y="410093"/>
                  <a:pt x="815926" y="412531"/>
                </a:cubicBezTo>
                <a:cubicBezTo>
                  <a:pt x="799249" y="415310"/>
                  <a:pt x="789173" y="433799"/>
                  <a:pt x="773723" y="440666"/>
                </a:cubicBezTo>
                <a:cubicBezTo>
                  <a:pt x="746622" y="452711"/>
                  <a:pt x="717452" y="459423"/>
                  <a:pt x="689317" y="468802"/>
                </a:cubicBezTo>
                <a:cubicBezTo>
                  <a:pt x="675249" y="473491"/>
                  <a:pt x="661500" y="479274"/>
                  <a:pt x="647114" y="482870"/>
                </a:cubicBezTo>
                <a:cubicBezTo>
                  <a:pt x="628357" y="487559"/>
                  <a:pt x="609433" y="491626"/>
                  <a:pt x="590843" y="496937"/>
                </a:cubicBezTo>
                <a:cubicBezTo>
                  <a:pt x="576585" y="501011"/>
                  <a:pt x="533811" y="511005"/>
                  <a:pt x="548640" y="511005"/>
                </a:cubicBezTo>
                <a:cubicBezTo>
                  <a:pt x="600434" y="511005"/>
                  <a:pt x="651803" y="501626"/>
                  <a:pt x="703384" y="496937"/>
                </a:cubicBezTo>
                <a:cubicBezTo>
                  <a:pt x="776677" y="472508"/>
                  <a:pt x="718550" y="498873"/>
                  <a:pt x="773723" y="454734"/>
                </a:cubicBezTo>
                <a:cubicBezTo>
                  <a:pt x="786925" y="444172"/>
                  <a:pt x="803089" y="437602"/>
                  <a:pt x="815926" y="426599"/>
                </a:cubicBezTo>
                <a:cubicBezTo>
                  <a:pt x="836066" y="409336"/>
                  <a:pt x="847032" y="378717"/>
                  <a:pt x="872197" y="370328"/>
                </a:cubicBezTo>
                <a:cubicBezTo>
                  <a:pt x="930440" y="350913"/>
                  <a:pt x="902062" y="364485"/>
                  <a:pt x="956603" y="328125"/>
                </a:cubicBezTo>
                <a:cubicBezTo>
                  <a:pt x="965981" y="314057"/>
                  <a:pt x="971536" y="296484"/>
                  <a:pt x="984738" y="285922"/>
                </a:cubicBezTo>
                <a:cubicBezTo>
                  <a:pt x="996317" y="276659"/>
                  <a:pt x="1014225" y="279483"/>
                  <a:pt x="1026941" y="271854"/>
                </a:cubicBezTo>
                <a:cubicBezTo>
                  <a:pt x="1038314" y="265030"/>
                  <a:pt x="1045698" y="253097"/>
                  <a:pt x="1055077" y="243719"/>
                </a:cubicBezTo>
                <a:cubicBezTo>
                  <a:pt x="1059766" y="257787"/>
                  <a:pt x="1066236" y="271381"/>
                  <a:pt x="1069144" y="285922"/>
                </a:cubicBezTo>
                <a:cubicBezTo>
                  <a:pt x="1075647" y="318436"/>
                  <a:pt x="1068383" y="354739"/>
                  <a:pt x="1083212" y="384396"/>
                </a:cubicBezTo>
                <a:cubicBezTo>
                  <a:pt x="1098041" y="414053"/>
                  <a:pt x="1153551" y="454734"/>
                  <a:pt x="1153551" y="454734"/>
                </a:cubicBezTo>
                <a:cubicBezTo>
                  <a:pt x="1085971" y="657469"/>
                  <a:pt x="1171903" y="443724"/>
                  <a:pt x="647114" y="511005"/>
                </a:cubicBezTo>
                <a:cubicBezTo>
                  <a:pt x="620803" y="514378"/>
                  <a:pt x="590843" y="567276"/>
                  <a:pt x="590843" y="567276"/>
                </a:cubicBezTo>
                <a:cubicBezTo>
                  <a:pt x="520505" y="562587"/>
                  <a:pt x="449891" y="560993"/>
                  <a:pt x="379828" y="553208"/>
                </a:cubicBezTo>
                <a:cubicBezTo>
                  <a:pt x="357319" y="550707"/>
                  <a:pt x="294901" y="520036"/>
                  <a:pt x="281354" y="511005"/>
                </a:cubicBezTo>
                <a:cubicBezTo>
                  <a:pt x="270318" y="503648"/>
                  <a:pt x="264591" y="489694"/>
                  <a:pt x="253218" y="482870"/>
                </a:cubicBezTo>
                <a:cubicBezTo>
                  <a:pt x="240502" y="475241"/>
                  <a:pt x="225083" y="473491"/>
                  <a:pt x="211015" y="468802"/>
                </a:cubicBezTo>
                <a:lnTo>
                  <a:pt x="154744" y="412531"/>
                </a:lnTo>
                <a:cubicBezTo>
                  <a:pt x="140676" y="398463"/>
                  <a:pt x="129094" y="381363"/>
                  <a:pt x="112541" y="370328"/>
                </a:cubicBezTo>
                <a:lnTo>
                  <a:pt x="70338" y="342193"/>
                </a:lnTo>
                <a:lnTo>
                  <a:pt x="42203" y="257786"/>
                </a:lnTo>
                <a:lnTo>
                  <a:pt x="28135" y="215583"/>
                </a:lnTo>
                <a:cubicBezTo>
                  <a:pt x="62562" y="112303"/>
                  <a:pt x="35300" y="152148"/>
                  <a:pt x="98474" y="88974"/>
                </a:cubicBezTo>
                <a:cubicBezTo>
                  <a:pt x="83269" y="28154"/>
                  <a:pt x="84406" y="13369"/>
                  <a:pt x="84406" y="46771"/>
                </a:cubicBezTo>
                <a:lnTo>
                  <a:pt x="84406" y="117110"/>
                </a:lnTo>
                <a:lnTo>
                  <a:pt x="84406" y="131177"/>
                </a:lnTo>
                <a:lnTo>
                  <a:pt x="42203" y="74906"/>
                </a:lnTo>
                <a:lnTo>
                  <a:pt x="168812" y="60839"/>
                </a:lnTo>
                <a:lnTo>
                  <a:pt x="126609" y="74906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23"/>
          <p:cNvSpPr/>
          <p:nvPr/>
        </p:nvSpPr>
        <p:spPr>
          <a:xfrm>
            <a:off x="5035680" y="5064120"/>
            <a:ext cx="395280" cy="291960"/>
          </a:xfrm>
          <a:custGeom>
            <a:avLst/>
            <a:gdLst/>
            <a:ahLst/>
            <a:rect l="l" t="t" r="r" b="b"/>
            <a:pathLst>
              <a:path w="393895" h="292047">
                <a:moveTo>
                  <a:pt x="14068" y="98474"/>
                </a:moveTo>
                <a:lnTo>
                  <a:pt x="14068" y="98474"/>
                </a:lnTo>
                <a:cubicBezTo>
                  <a:pt x="18757" y="140677"/>
                  <a:pt x="21678" y="183114"/>
                  <a:pt x="28135" y="225083"/>
                </a:cubicBezTo>
                <a:cubicBezTo>
                  <a:pt x="31075" y="244192"/>
                  <a:pt x="24910" y="272707"/>
                  <a:pt x="42203" y="281354"/>
                </a:cubicBezTo>
                <a:cubicBezTo>
                  <a:pt x="63589" y="292047"/>
                  <a:pt x="89095" y="271975"/>
                  <a:pt x="112541" y="267286"/>
                </a:cubicBezTo>
                <a:cubicBezTo>
                  <a:pt x="121920" y="257908"/>
                  <a:pt x="129304" y="245975"/>
                  <a:pt x="140677" y="239151"/>
                </a:cubicBezTo>
                <a:cubicBezTo>
                  <a:pt x="153393" y="231522"/>
                  <a:pt x="168622" y="229157"/>
                  <a:pt x="182880" y="225083"/>
                </a:cubicBezTo>
                <a:cubicBezTo>
                  <a:pt x="203921" y="219071"/>
                  <a:pt x="258862" y="208194"/>
                  <a:pt x="281354" y="196948"/>
                </a:cubicBezTo>
                <a:cubicBezTo>
                  <a:pt x="296476" y="189387"/>
                  <a:pt x="310720" y="179816"/>
                  <a:pt x="323557" y="168813"/>
                </a:cubicBezTo>
                <a:cubicBezTo>
                  <a:pt x="343697" y="151550"/>
                  <a:pt x="379828" y="112542"/>
                  <a:pt x="379828" y="112542"/>
                </a:cubicBezTo>
                <a:cubicBezTo>
                  <a:pt x="384517" y="98474"/>
                  <a:pt x="393895" y="85168"/>
                  <a:pt x="393895" y="70339"/>
                </a:cubicBezTo>
                <a:cubicBezTo>
                  <a:pt x="393895" y="25038"/>
                  <a:pt x="370031" y="21605"/>
                  <a:pt x="337624" y="0"/>
                </a:cubicBezTo>
                <a:cubicBezTo>
                  <a:pt x="317294" y="1694"/>
                  <a:pt x="166153" y="5159"/>
                  <a:pt x="112541" y="28136"/>
                </a:cubicBezTo>
                <a:cubicBezTo>
                  <a:pt x="97001" y="34796"/>
                  <a:pt x="84406" y="46893"/>
                  <a:pt x="70338" y="56271"/>
                </a:cubicBezTo>
                <a:cubicBezTo>
                  <a:pt x="60960" y="70339"/>
                  <a:pt x="49070" y="83024"/>
                  <a:pt x="42203" y="98474"/>
                </a:cubicBezTo>
                <a:cubicBezTo>
                  <a:pt x="30158" y="125575"/>
                  <a:pt x="27331" y="156354"/>
                  <a:pt x="14068" y="182880"/>
                </a:cubicBezTo>
                <a:lnTo>
                  <a:pt x="0" y="211016"/>
                </a:lnTo>
                <a:lnTo>
                  <a:pt x="126609" y="70339"/>
                </a:lnTo>
                <a:lnTo>
                  <a:pt x="28135" y="154745"/>
                </a:lnTo>
                <a:lnTo>
                  <a:pt x="14068" y="168813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илиния 24"/>
          <p:cNvSpPr/>
          <p:nvPr/>
        </p:nvSpPr>
        <p:spPr>
          <a:xfrm>
            <a:off x="4757760" y="6288120"/>
            <a:ext cx="342720" cy="209520"/>
          </a:xfrm>
          <a:custGeom>
            <a:avLst/>
            <a:gdLst/>
            <a:ahLst/>
            <a:rect l="l" t="t" r="r" b="b"/>
            <a:pathLst>
              <a:path w="342692" h="208824">
                <a:moveTo>
                  <a:pt x="123682" y="41742"/>
                </a:moveTo>
                <a:lnTo>
                  <a:pt x="123682" y="41742"/>
                </a:lnTo>
                <a:cubicBezTo>
                  <a:pt x="104276" y="64383"/>
                  <a:pt x="0" y="129074"/>
                  <a:pt x="53344" y="182418"/>
                </a:cubicBezTo>
                <a:cubicBezTo>
                  <a:pt x="63829" y="192903"/>
                  <a:pt x="81479" y="191797"/>
                  <a:pt x="95547" y="196486"/>
                </a:cubicBezTo>
                <a:cubicBezTo>
                  <a:pt x="201626" y="161126"/>
                  <a:pt x="70871" y="208824"/>
                  <a:pt x="179953" y="154283"/>
                </a:cubicBezTo>
                <a:cubicBezTo>
                  <a:pt x="214587" y="136966"/>
                  <a:pt x="274139" y="131552"/>
                  <a:pt x="306562" y="126148"/>
                </a:cubicBezTo>
                <a:cubicBezTo>
                  <a:pt x="315941" y="116769"/>
                  <a:pt x="332097" y="111018"/>
                  <a:pt x="334698" y="98012"/>
                </a:cubicBezTo>
                <a:cubicBezTo>
                  <a:pt x="342692" y="58042"/>
                  <a:pt x="301718" y="43201"/>
                  <a:pt x="278427" y="27674"/>
                </a:cubicBezTo>
                <a:cubicBezTo>
                  <a:pt x="152468" y="39125"/>
                  <a:pt x="137519" y="0"/>
                  <a:pt x="95547" y="83945"/>
                </a:cubicBezTo>
                <a:cubicBezTo>
                  <a:pt x="93450" y="88139"/>
                  <a:pt x="95547" y="93323"/>
                  <a:pt x="95547" y="98012"/>
                </a:cubicBezTo>
                <a:lnTo>
                  <a:pt x="123682" y="4174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лилиния 26"/>
          <p:cNvSpPr/>
          <p:nvPr/>
        </p:nvSpPr>
        <p:spPr>
          <a:xfrm>
            <a:off x="6710400" y="3772080"/>
            <a:ext cx="2368440" cy="3008160"/>
          </a:xfrm>
          <a:custGeom>
            <a:avLst/>
            <a:gdLst/>
            <a:ahLst/>
            <a:rect l="l" t="t" r="r" b="b"/>
            <a:pathLst>
              <a:path w="2369353" h="3008535">
                <a:moveTo>
                  <a:pt x="1322363" y="2910061"/>
                </a:moveTo>
                <a:lnTo>
                  <a:pt x="1322363" y="2910061"/>
                </a:lnTo>
                <a:lnTo>
                  <a:pt x="1448973" y="2895993"/>
                </a:lnTo>
                <a:cubicBezTo>
                  <a:pt x="1638502" y="2877942"/>
                  <a:pt x="1569644" y="2914018"/>
                  <a:pt x="1659988" y="2853790"/>
                </a:cubicBezTo>
                <a:cubicBezTo>
                  <a:pt x="1664677" y="2839722"/>
                  <a:pt x="1674056" y="2826416"/>
                  <a:pt x="1674056" y="2811587"/>
                </a:cubicBezTo>
                <a:cubicBezTo>
                  <a:pt x="1674056" y="2717801"/>
                  <a:pt x="1636541" y="2708425"/>
                  <a:pt x="1674056" y="2614639"/>
                </a:cubicBezTo>
                <a:cubicBezTo>
                  <a:pt x="1681219" y="2596731"/>
                  <a:pt x="1739643" y="2552665"/>
                  <a:pt x="1758462" y="2544301"/>
                </a:cubicBezTo>
                <a:cubicBezTo>
                  <a:pt x="1785563" y="2532256"/>
                  <a:pt x="1842868" y="2516165"/>
                  <a:pt x="1842868" y="2516165"/>
                </a:cubicBezTo>
                <a:cubicBezTo>
                  <a:pt x="1876195" y="2549493"/>
                  <a:pt x="1911368" y="2580989"/>
                  <a:pt x="1927274" y="2628707"/>
                </a:cubicBezTo>
                <a:cubicBezTo>
                  <a:pt x="1942132" y="2673281"/>
                  <a:pt x="1938311" y="2674156"/>
                  <a:pt x="1969477" y="2713113"/>
                </a:cubicBezTo>
                <a:cubicBezTo>
                  <a:pt x="1992386" y="2741750"/>
                  <a:pt x="2008479" y="2748493"/>
                  <a:pt x="2039816" y="2769384"/>
                </a:cubicBezTo>
                <a:cubicBezTo>
                  <a:pt x="2040300" y="2769263"/>
                  <a:pt x="2131564" y="2747974"/>
                  <a:pt x="2138289" y="2741249"/>
                </a:cubicBezTo>
                <a:cubicBezTo>
                  <a:pt x="2148775" y="2730763"/>
                  <a:pt x="2147668" y="2713113"/>
                  <a:pt x="2152357" y="2699045"/>
                </a:cubicBezTo>
                <a:cubicBezTo>
                  <a:pt x="2149919" y="2681977"/>
                  <a:pt x="2142635" y="2589058"/>
                  <a:pt x="2124222" y="2558369"/>
                </a:cubicBezTo>
                <a:cubicBezTo>
                  <a:pt x="2117398" y="2546996"/>
                  <a:pt x="2104372" y="2540590"/>
                  <a:pt x="2096086" y="2530233"/>
                </a:cubicBezTo>
                <a:cubicBezTo>
                  <a:pt x="2064920" y="2491276"/>
                  <a:pt x="2068741" y="2490401"/>
                  <a:pt x="2053883" y="2445827"/>
                </a:cubicBezTo>
                <a:cubicBezTo>
                  <a:pt x="2091398" y="2333284"/>
                  <a:pt x="2091397" y="2389558"/>
                  <a:pt x="2053883" y="2277015"/>
                </a:cubicBezTo>
                <a:lnTo>
                  <a:pt x="2039816" y="2234812"/>
                </a:lnTo>
                <a:cubicBezTo>
                  <a:pt x="2033549" y="2216010"/>
                  <a:pt x="2025504" y="2170910"/>
                  <a:pt x="1997613" y="2164473"/>
                </a:cubicBezTo>
                <a:cubicBezTo>
                  <a:pt x="1947145" y="2152826"/>
                  <a:pt x="1894450" y="2155094"/>
                  <a:pt x="1842868" y="2150405"/>
                </a:cubicBezTo>
                <a:cubicBezTo>
                  <a:pt x="1847557" y="2131648"/>
                  <a:pt x="1844858" y="2109232"/>
                  <a:pt x="1856936" y="2094135"/>
                </a:cubicBezTo>
                <a:cubicBezTo>
                  <a:pt x="1866199" y="2082556"/>
                  <a:pt x="1884412" y="2081800"/>
                  <a:pt x="1899139" y="2080067"/>
                </a:cubicBezTo>
                <a:cubicBezTo>
                  <a:pt x="1964504" y="2072377"/>
                  <a:pt x="2030437" y="2070688"/>
                  <a:pt x="2096086" y="2065999"/>
                </a:cubicBezTo>
                <a:cubicBezTo>
                  <a:pt x="2113296" y="2014372"/>
                  <a:pt x="2149008" y="1926419"/>
                  <a:pt x="2096086" y="1883119"/>
                </a:cubicBezTo>
                <a:cubicBezTo>
                  <a:pt x="2059612" y="1853277"/>
                  <a:pt x="2002301" y="1892498"/>
                  <a:pt x="1955409" y="1897187"/>
                </a:cubicBezTo>
                <a:cubicBezTo>
                  <a:pt x="1941341" y="1906565"/>
                  <a:pt x="1930113" y="1925322"/>
                  <a:pt x="1913206" y="1925322"/>
                </a:cubicBezTo>
                <a:cubicBezTo>
                  <a:pt x="1875691" y="1925322"/>
                  <a:pt x="1861625" y="1873741"/>
                  <a:pt x="1842868" y="1854984"/>
                </a:cubicBezTo>
                <a:cubicBezTo>
                  <a:pt x="1830913" y="1843029"/>
                  <a:pt x="1813867" y="1837411"/>
                  <a:pt x="1800665" y="1826849"/>
                </a:cubicBezTo>
                <a:cubicBezTo>
                  <a:pt x="1790308" y="1818563"/>
                  <a:pt x="1783902" y="1805537"/>
                  <a:pt x="1772529" y="1798713"/>
                </a:cubicBezTo>
                <a:cubicBezTo>
                  <a:pt x="1759814" y="1791084"/>
                  <a:pt x="1745081" y="1786120"/>
                  <a:pt x="1730326" y="1784645"/>
                </a:cubicBezTo>
                <a:cubicBezTo>
                  <a:pt x="1650868" y="1776699"/>
                  <a:pt x="1570893" y="1775267"/>
                  <a:pt x="1491176" y="1770578"/>
                </a:cubicBezTo>
                <a:cubicBezTo>
                  <a:pt x="1463630" y="1743032"/>
                  <a:pt x="1411314" y="1699913"/>
                  <a:pt x="1392702" y="1658036"/>
                </a:cubicBezTo>
                <a:cubicBezTo>
                  <a:pt x="1380657" y="1630935"/>
                  <a:pt x="1373944" y="1601765"/>
                  <a:pt x="1364566" y="1573630"/>
                </a:cubicBezTo>
                <a:cubicBezTo>
                  <a:pt x="1359877" y="1559562"/>
                  <a:pt x="1352937" y="1546054"/>
                  <a:pt x="1350499" y="1531427"/>
                </a:cubicBezTo>
                <a:cubicBezTo>
                  <a:pt x="1345724" y="1502779"/>
                  <a:pt x="1345097" y="1427819"/>
                  <a:pt x="1308296" y="1404818"/>
                </a:cubicBezTo>
                <a:cubicBezTo>
                  <a:pt x="1247679" y="1366932"/>
                  <a:pt x="1126066" y="1367789"/>
                  <a:pt x="1069145" y="1362615"/>
                </a:cubicBezTo>
                <a:cubicBezTo>
                  <a:pt x="1078523" y="1348547"/>
                  <a:pt x="1094889" y="1337149"/>
                  <a:pt x="1097280" y="1320412"/>
                </a:cubicBezTo>
                <a:cubicBezTo>
                  <a:pt x="1100014" y="1301272"/>
                  <a:pt x="1093938" y="1280228"/>
                  <a:pt x="1083213" y="1264141"/>
                </a:cubicBezTo>
                <a:cubicBezTo>
                  <a:pt x="1064820" y="1236552"/>
                  <a:pt x="1031267" y="1221391"/>
                  <a:pt x="1012874" y="1193802"/>
                </a:cubicBezTo>
                <a:cubicBezTo>
                  <a:pt x="1003496" y="1179734"/>
                  <a:pt x="995301" y="1164801"/>
                  <a:pt x="984739" y="1151599"/>
                </a:cubicBezTo>
                <a:cubicBezTo>
                  <a:pt x="904558" y="1051373"/>
                  <a:pt x="1015064" y="1211157"/>
                  <a:pt x="928468" y="1081261"/>
                </a:cubicBezTo>
                <a:cubicBezTo>
                  <a:pt x="942536" y="1071882"/>
                  <a:pt x="955549" y="1060686"/>
                  <a:pt x="970671" y="1053125"/>
                </a:cubicBezTo>
                <a:cubicBezTo>
                  <a:pt x="983934" y="1046493"/>
                  <a:pt x="1000159" y="1046687"/>
                  <a:pt x="1012874" y="1039058"/>
                </a:cubicBezTo>
                <a:cubicBezTo>
                  <a:pt x="1024247" y="1032234"/>
                  <a:pt x="1029146" y="1016853"/>
                  <a:pt x="1041009" y="1010922"/>
                </a:cubicBezTo>
                <a:cubicBezTo>
                  <a:pt x="1067535" y="997659"/>
                  <a:pt x="1100739" y="999238"/>
                  <a:pt x="1125416" y="982787"/>
                </a:cubicBezTo>
                <a:cubicBezTo>
                  <a:pt x="1139484" y="973409"/>
                  <a:pt x="1152497" y="962213"/>
                  <a:pt x="1167619" y="954652"/>
                </a:cubicBezTo>
                <a:cubicBezTo>
                  <a:pt x="1180882" y="948020"/>
                  <a:pt x="1196859" y="947785"/>
                  <a:pt x="1209822" y="940584"/>
                </a:cubicBezTo>
                <a:cubicBezTo>
                  <a:pt x="1239381" y="924162"/>
                  <a:pt x="1266093" y="903070"/>
                  <a:pt x="1294228" y="884313"/>
                </a:cubicBezTo>
                <a:lnTo>
                  <a:pt x="1336431" y="856178"/>
                </a:lnTo>
                <a:cubicBezTo>
                  <a:pt x="1345809" y="842110"/>
                  <a:pt x="1357005" y="829097"/>
                  <a:pt x="1364566" y="813975"/>
                </a:cubicBezTo>
                <a:cubicBezTo>
                  <a:pt x="1371198" y="800712"/>
                  <a:pt x="1378634" y="786601"/>
                  <a:pt x="1378634" y="771772"/>
                </a:cubicBezTo>
                <a:cubicBezTo>
                  <a:pt x="1378634" y="651783"/>
                  <a:pt x="1397151" y="605485"/>
                  <a:pt x="1336431" y="532621"/>
                </a:cubicBezTo>
                <a:cubicBezTo>
                  <a:pt x="1323695" y="517337"/>
                  <a:pt x="1309511" y="503154"/>
                  <a:pt x="1294228" y="490418"/>
                </a:cubicBezTo>
                <a:cubicBezTo>
                  <a:pt x="1281239" y="479594"/>
                  <a:pt x="1265227" y="472844"/>
                  <a:pt x="1252025" y="462282"/>
                </a:cubicBezTo>
                <a:cubicBezTo>
                  <a:pt x="1241668" y="453997"/>
                  <a:pt x="1234246" y="442432"/>
                  <a:pt x="1223889" y="434147"/>
                </a:cubicBezTo>
                <a:cubicBezTo>
                  <a:pt x="1210687" y="423585"/>
                  <a:pt x="1194888" y="416574"/>
                  <a:pt x="1181686" y="406012"/>
                </a:cubicBezTo>
                <a:cubicBezTo>
                  <a:pt x="1171329" y="397726"/>
                  <a:pt x="1165414" y="383808"/>
                  <a:pt x="1153551" y="377876"/>
                </a:cubicBezTo>
                <a:cubicBezTo>
                  <a:pt x="1127025" y="364613"/>
                  <a:pt x="1097280" y="359119"/>
                  <a:pt x="1069145" y="349741"/>
                </a:cubicBezTo>
                <a:lnTo>
                  <a:pt x="1026942" y="335673"/>
                </a:lnTo>
                <a:lnTo>
                  <a:pt x="829994" y="349741"/>
                </a:lnTo>
                <a:cubicBezTo>
                  <a:pt x="684925" y="361830"/>
                  <a:pt x="730764" y="349994"/>
                  <a:pt x="647114" y="377876"/>
                </a:cubicBezTo>
                <a:cubicBezTo>
                  <a:pt x="609601" y="402885"/>
                  <a:pt x="591870" y="410721"/>
                  <a:pt x="562708" y="448215"/>
                </a:cubicBezTo>
                <a:cubicBezTo>
                  <a:pt x="508994" y="517276"/>
                  <a:pt x="528605" y="528571"/>
                  <a:pt x="464234" y="560756"/>
                </a:cubicBezTo>
                <a:cubicBezTo>
                  <a:pt x="450971" y="567388"/>
                  <a:pt x="436711" y="572727"/>
                  <a:pt x="422031" y="574824"/>
                </a:cubicBezTo>
                <a:cubicBezTo>
                  <a:pt x="370757" y="582149"/>
                  <a:pt x="318868" y="584203"/>
                  <a:pt x="267286" y="588892"/>
                </a:cubicBezTo>
                <a:cubicBezTo>
                  <a:pt x="248529" y="584203"/>
                  <a:pt x="227411" y="585071"/>
                  <a:pt x="211016" y="574824"/>
                </a:cubicBezTo>
                <a:cubicBezTo>
                  <a:pt x="188522" y="560765"/>
                  <a:pt x="154745" y="518553"/>
                  <a:pt x="154745" y="518553"/>
                </a:cubicBezTo>
                <a:cubicBezTo>
                  <a:pt x="145366" y="490418"/>
                  <a:pt x="110158" y="458823"/>
                  <a:pt x="126609" y="434147"/>
                </a:cubicBezTo>
                <a:lnTo>
                  <a:pt x="182880" y="349741"/>
                </a:lnTo>
                <a:cubicBezTo>
                  <a:pt x="165499" y="297597"/>
                  <a:pt x="162017" y="262475"/>
                  <a:pt x="126609" y="223132"/>
                </a:cubicBezTo>
                <a:cubicBezTo>
                  <a:pt x="95555" y="188628"/>
                  <a:pt x="60960" y="157483"/>
                  <a:pt x="28136" y="124658"/>
                </a:cubicBezTo>
                <a:lnTo>
                  <a:pt x="0" y="96522"/>
                </a:lnTo>
                <a:cubicBezTo>
                  <a:pt x="289580" y="0"/>
                  <a:pt x="58995" y="71651"/>
                  <a:pt x="829994" y="96522"/>
                </a:cubicBezTo>
                <a:cubicBezTo>
                  <a:pt x="858503" y="97442"/>
                  <a:pt x="886018" y="107752"/>
                  <a:pt x="914400" y="110590"/>
                </a:cubicBezTo>
                <a:cubicBezTo>
                  <a:pt x="979890" y="117139"/>
                  <a:pt x="1045699" y="119969"/>
                  <a:pt x="1111348" y="124658"/>
                </a:cubicBezTo>
                <a:cubicBezTo>
                  <a:pt x="1364542" y="293452"/>
                  <a:pt x="947249" y="7445"/>
                  <a:pt x="1181686" y="194996"/>
                </a:cubicBezTo>
                <a:cubicBezTo>
                  <a:pt x="1193265" y="204259"/>
                  <a:pt x="1209068" y="208593"/>
                  <a:pt x="1223889" y="209064"/>
                </a:cubicBezTo>
                <a:cubicBezTo>
                  <a:pt x="1505140" y="217993"/>
                  <a:pt x="1786597" y="218443"/>
                  <a:pt x="2067951" y="223132"/>
                </a:cubicBezTo>
                <a:cubicBezTo>
                  <a:pt x="2106526" y="248849"/>
                  <a:pt x="2150752" y="270362"/>
                  <a:pt x="2180493" y="307538"/>
                </a:cubicBezTo>
                <a:cubicBezTo>
                  <a:pt x="2191055" y="320740"/>
                  <a:pt x="2201067" y="334619"/>
                  <a:pt x="2208628" y="349741"/>
                </a:cubicBezTo>
                <a:cubicBezTo>
                  <a:pt x="2215260" y="363004"/>
                  <a:pt x="2218007" y="377876"/>
                  <a:pt x="2222696" y="391944"/>
                </a:cubicBezTo>
                <a:cubicBezTo>
                  <a:pt x="2227385" y="443526"/>
                  <a:pt x="2233318" y="495009"/>
                  <a:pt x="2236763" y="546689"/>
                </a:cubicBezTo>
                <a:cubicBezTo>
                  <a:pt x="2242698" y="635710"/>
                  <a:pt x="2243422" y="725065"/>
                  <a:pt x="2250831" y="813975"/>
                </a:cubicBezTo>
                <a:cubicBezTo>
                  <a:pt x="2252817" y="837803"/>
                  <a:pt x="2258608" y="861245"/>
                  <a:pt x="2264899" y="884313"/>
                </a:cubicBezTo>
                <a:cubicBezTo>
                  <a:pt x="2272702" y="912925"/>
                  <a:pt x="2293034" y="968719"/>
                  <a:pt x="2293034" y="968719"/>
                </a:cubicBezTo>
                <a:cubicBezTo>
                  <a:pt x="2297723" y="1428264"/>
                  <a:pt x="2307102" y="1887784"/>
                  <a:pt x="2307102" y="2347353"/>
                </a:cubicBezTo>
                <a:cubicBezTo>
                  <a:pt x="2307102" y="2546909"/>
                  <a:pt x="2369353" y="2681021"/>
                  <a:pt x="2264899" y="2811587"/>
                </a:cubicBezTo>
                <a:cubicBezTo>
                  <a:pt x="2256613" y="2821944"/>
                  <a:pt x="2246142" y="2830344"/>
                  <a:pt x="2236763" y="2839722"/>
                </a:cubicBezTo>
                <a:cubicBezTo>
                  <a:pt x="2208017" y="2925964"/>
                  <a:pt x="2233181" y="2871440"/>
                  <a:pt x="2124222" y="2980399"/>
                </a:cubicBezTo>
                <a:lnTo>
                  <a:pt x="2096086" y="3008535"/>
                </a:lnTo>
                <a:lnTo>
                  <a:pt x="1392702" y="2994467"/>
                </a:lnTo>
                <a:cubicBezTo>
                  <a:pt x="1366289" y="2992021"/>
                  <a:pt x="1336431" y="2938196"/>
                  <a:pt x="1336431" y="2938196"/>
                </a:cubicBezTo>
                <a:cubicBezTo>
                  <a:pt x="1341120" y="2914750"/>
                  <a:pt x="1333592" y="2884765"/>
                  <a:pt x="1350499" y="2867858"/>
                </a:cubicBezTo>
                <a:cubicBezTo>
                  <a:pt x="1360984" y="2857373"/>
                  <a:pt x="1392702" y="2881925"/>
                  <a:pt x="1392702" y="2881925"/>
                </a:cubicBezTo>
                <a:lnTo>
                  <a:pt x="1491176" y="292412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27"/>
          <p:cNvSpPr/>
          <p:nvPr/>
        </p:nvSpPr>
        <p:spPr>
          <a:xfrm>
            <a:off x="7104240" y="4022640"/>
            <a:ext cx="1196640" cy="782640"/>
          </a:xfrm>
          <a:custGeom>
            <a:avLst/>
            <a:gdLst/>
            <a:ahLst/>
            <a:rect l="l" t="t" r="r" b="b"/>
            <a:pathLst>
              <a:path w="1197346" h="782153">
                <a:moveTo>
                  <a:pt x="0" y="323557"/>
                </a:moveTo>
                <a:lnTo>
                  <a:pt x="0" y="323557"/>
                </a:lnTo>
                <a:cubicBezTo>
                  <a:pt x="14068" y="361071"/>
                  <a:pt x="31880" y="397386"/>
                  <a:pt x="42203" y="436098"/>
                </a:cubicBezTo>
                <a:cubicBezTo>
                  <a:pt x="76988" y="566545"/>
                  <a:pt x="25287" y="503589"/>
                  <a:pt x="84406" y="562708"/>
                </a:cubicBezTo>
                <a:cubicBezTo>
                  <a:pt x="103163" y="558019"/>
                  <a:pt x="123890" y="558233"/>
                  <a:pt x="140677" y="548640"/>
                </a:cubicBezTo>
                <a:cubicBezTo>
                  <a:pt x="169840" y="531976"/>
                  <a:pt x="193087" y="491127"/>
                  <a:pt x="211015" y="464234"/>
                </a:cubicBezTo>
                <a:cubicBezTo>
                  <a:pt x="211826" y="456122"/>
                  <a:pt x="214817" y="321910"/>
                  <a:pt x="239150" y="281354"/>
                </a:cubicBezTo>
                <a:cubicBezTo>
                  <a:pt x="245974" y="269981"/>
                  <a:pt x="256929" y="261504"/>
                  <a:pt x="267286" y="253218"/>
                </a:cubicBezTo>
                <a:cubicBezTo>
                  <a:pt x="280488" y="242656"/>
                  <a:pt x="295421" y="234461"/>
                  <a:pt x="309489" y="225083"/>
                </a:cubicBezTo>
                <a:cubicBezTo>
                  <a:pt x="318867" y="211015"/>
                  <a:pt x="325669" y="194835"/>
                  <a:pt x="337624" y="182880"/>
                </a:cubicBezTo>
                <a:cubicBezTo>
                  <a:pt x="437794" y="82710"/>
                  <a:pt x="718510" y="167288"/>
                  <a:pt x="759655" y="168812"/>
                </a:cubicBezTo>
                <a:cubicBezTo>
                  <a:pt x="773723" y="178191"/>
                  <a:pt x="786736" y="189387"/>
                  <a:pt x="801858" y="196948"/>
                </a:cubicBezTo>
                <a:cubicBezTo>
                  <a:pt x="815121" y="203580"/>
                  <a:pt x="831346" y="203386"/>
                  <a:pt x="844061" y="211015"/>
                </a:cubicBezTo>
                <a:cubicBezTo>
                  <a:pt x="861777" y="221645"/>
                  <a:pt x="893362" y="265670"/>
                  <a:pt x="900332" y="281354"/>
                </a:cubicBezTo>
                <a:cubicBezTo>
                  <a:pt x="912377" y="308455"/>
                  <a:pt x="919089" y="337625"/>
                  <a:pt x="928467" y="365760"/>
                </a:cubicBezTo>
                <a:lnTo>
                  <a:pt x="942535" y="407963"/>
                </a:lnTo>
                <a:lnTo>
                  <a:pt x="956603" y="450166"/>
                </a:lnTo>
                <a:cubicBezTo>
                  <a:pt x="951914" y="506437"/>
                  <a:pt x="954366" y="563766"/>
                  <a:pt x="942535" y="618978"/>
                </a:cubicBezTo>
                <a:cubicBezTo>
                  <a:pt x="939756" y="631947"/>
                  <a:pt x="920331" y="635251"/>
                  <a:pt x="914400" y="647114"/>
                </a:cubicBezTo>
                <a:cubicBezTo>
                  <a:pt x="901137" y="673640"/>
                  <a:pt x="886264" y="731520"/>
                  <a:pt x="886264" y="731520"/>
                </a:cubicBezTo>
                <a:cubicBezTo>
                  <a:pt x="890953" y="745588"/>
                  <a:pt x="885743" y="771070"/>
                  <a:pt x="900332" y="773723"/>
                </a:cubicBezTo>
                <a:cubicBezTo>
                  <a:pt x="946698" y="782153"/>
                  <a:pt x="995696" y="772602"/>
                  <a:pt x="1041009" y="759655"/>
                </a:cubicBezTo>
                <a:cubicBezTo>
                  <a:pt x="1066275" y="752436"/>
                  <a:pt x="1120515" y="694217"/>
                  <a:pt x="1139483" y="675249"/>
                </a:cubicBezTo>
                <a:cubicBezTo>
                  <a:pt x="1144172" y="637735"/>
                  <a:pt x="1146787" y="599904"/>
                  <a:pt x="1153550" y="562708"/>
                </a:cubicBezTo>
                <a:cubicBezTo>
                  <a:pt x="1156203" y="548119"/>
                  <a:pt x="1164021" y="534891"/>
                  <a:pt x="1167618" y="520505"/>
                </a:cubicBezTo>
                <a:cubicBezTo>
                  <a:pt x="1173417" y="497308"/>
                  <a:pt x="1176997" y="473612"/>
                  <a:pt x="1181686" y="450166"/>
                </a:cubicBezTo>
                <a:cubicBezTo>
                  <a:pt x="1176997" y="323557"/>
                  <a:pt x="1197346" y="193497"/>
                  <a:pt x="1167618" y="70338"/>
                </a:cubicBezTo>
                <a:cubicBezTo>
                  <a:pt x="1162702" y="49973"/>
                  <a:pt x="1009989" y="30931"/>
                  <a:pt x="998806" y="28135"/>
                </a:cubicBezTo>
                <a:cubicBezTo>
                  <a:pt x="970034" y="20942"/>
                  <a:pt x="914400" y="0"/>
                  <a:pt x="914400" y="0"/>
                </a:cubicBezTo>
                <a:lnTo>
                  <a:pt x="182880" y="14068"/>
                </a:lnTo>
                <a:cubicBezTo>
                  <a:pt x="149190" y="16972"/>
                  <a:pt x="126609" y="51581"/>
                  <a:pt x="98473" y="70338"/>
                </a:cubicBezTo>
                <a:lnTo>
                  <a:pt x="56270" y="98474"/>
                </a:lnTo>
                <a:cubicBezTo>
                  <a:pt x="51581" y="112542"/>
                  <a:pt x="43678" y="125922"/>
                  <a:pt x="42203" y="140677"/>
                </a:cubicBezTo>
                <a:cubicBezTo>
                  <a:pt x="27584" y="286867"/>
                  <a:pt x="7034" y="293077"/>
                  <a:pt x="0" y="323557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>
            <a:off x="7257960" y="4094280"/>
            <a:ext cx="957240" cy="645840"/>
          </a:xfrm>
          <a:custGeom>
            <a:avLst/>
            <a:gdLst/>
            <a:ahLst/>
            <a:rect l="l" t="t" r="r" b="b"/>
            <a:pathLst>
              <a:path w="957046" h="647114">
                <a:moveTo>
                  <a:pt x="675692" y="590844"/>
                </a:moveTo>
                <a:lnTo>
                  <a:pt x="675692" y="590844"/>
                </a:lnTo>
                <a:cubicBezTo>
                  <a:pt x="703828" y="562708"/>
                  <a:pt x="751646" y="545319"/>
                  <a:pt x="760099" y="506437"/>
                </a:cubicBezTo>
                <a:cubicBezTo>
                  <a:pt x="777063" y="428405"/>
                  <a:pt x="753977" y="346745"/>
                  <a:pt x="746031" y="267287"/>
                </a:cubicBezTo>
                <a:cubicBezTo>
                  <a:pt x="744555" y="252532"/>
                  <a:pt x="740582" y="237151"/>
                  <a:pt x="731963" y="225084"/>
                </a:cubicBezTo>
                <a:cubicBezTo>
                  <a:pt x="712735" y="198166"/>
                  <a:pt x="666532" y="157199"/>
                  <a:pt x="633489" y="140677"/>
                </a:cubicBezTo>
                <a:cubicBezTo>
                  <a:pt x="620226" y="134045"/>
                  <a:pt x="605354" y="131299"/>
                  <a:pt x="591286" y="126610"/>
                </a:cubicBezTo>
                <a:cubicBezTo>
                  <a:pt x="459988" y="131299"/>
                  <a:pt x="328162" y="128022"/>
                  <a:pt x="197391" y="140677"/>
                </a:cubicBezTo>
                <a:cubicBezTo>
                  <a:pt x="180562" y="142306"/>
                  <a:pt x="168025" y="157810"/>
                  <a:pt x="155188" y="168813"/>
                </a:cubicBezTo>
                <a:cubicBezTo>
                  <a:pt x="135048" y="186076"/>
                  <a:pt x="120988" y="210370"/>
                  <a:pt x="98917" y="225084"/>
                </a:cubicBezTo>
                <a:cubicBezTo>
                  <a:pt x="40161" y="264254"/>
                  <a:pt x="68669" y="241264"/>
                  <a:pt x="14511" y="295422"/>
                </a:cubicBezTo>
                <a:cubicBezTo>
                  <a:pt x="9822" y="281354"/>
                  <a:pt x="443" y="268048"/>
                  <a:pt x="443" y="253219"/>
                </a:cubicBezTo>
                <a:cubicBezTo>
                  <a:pt x="443" y="210756"/>
                  <a:pt x="0" y="166516"/>
                  <a:pt x="14511" y="126610"/>
                </a:cubicBezTo>
                <a:cubicBezTo>
                  <a:pt x="20289" y="110721"/>
                  <a:pt x="41264" y="105341"/>
                  <a:pt x="56714" y="98474"/>
                </a:cubicBezTo>
                <a:cubicBezTo>
                  <a:pt x="83815" y="86429"/>
                  <a:pt x="112348" y="77532"/>
                  <a:pt x="141120" y="70339"/>
                </a:cubicBezTo>
                <a:cubicBezTo>
                  <a:pt x="159877" y="65650"/>
                  <a:pt x="178517" y="60465"/>
                  <a:pt x="197391" y="56271"/>
                </a:cubicBezTo>
                <a:cubicBezTo>
                  <a:pt x="226289" y="49849"/>
                  <a:pt x="279764" y="43220"/>
                  <a:pt x="309932" y="28136"/>
                </a:cubicBezTo>
                <a:cubicBezTo>
                  <a:pt x="325055" y="20575"/>
                  <a:pt x="338068" y="9379"/>
                  <a:pt x="352136" y="0"/>
                </a:cubicBezTo>
                <a:cubicBezTo>
                  <a:pt x="483434" y="4689"/>
                  <a:pt x="614922" y="5609"/>
                  <a:pt x="746031" y="14068"/>
                </a:cubicBezTo>
                <a:cubicBezTo>
                  <a:pt x="760829" y="15023"/>
                  <a:pt x="773976" y="24062"/>
                  <a:pt x="788234" y="28136"/>
                </a:cubicBezTo>
                <a:cubicBezTo>
                  <a:pt x="911909" y="63473"/>
                  <a:pt x="785500" y="22537"/>
                  <a:pt x="886708" y="56271"/>
                </a:cubicBezTo>
                <a:cubicBezTo>
                  <a:pt x="931293" y="123149"/>
                  <a:pt x="909498" y="82438"/>
                  <a:pt x="942979" y="182880"/>
                </a:cubicBezTo>
                <a:lnTo>
                  <a:pt x="957046" y="225084"/>
                </a:lnTo>
                <a:cubicBezTo>
                  <a:pt x="952357" y="356382"/>
                  <a:pt x="956052" y="488249"/>
                  <a:pt x="942979" y="618979"/>
                </a:cubicBezTo>
                <a:cubicBezTo>
                  <a:pt x="941659" y="632176"/>
                  <a:pt x="928080" y="646287"/>
                  <a:pt x="914843" y="647114"/>
                </a:cubicBezTo>
                <a:lnTo>
                  <a:pt x="717896" y="633047"/>
                </a:lnTo>
                <a:cubicBezTo>
                  <a:pt x="708517" y="623668"/>
                  <a:pt x="696584" y="616284"/>
                  <a:pt x="689760" y="604911"/>
                </a:cubicBezTo>
                <a:cubicBezTo>
                  <a:pt x="641261" y="524081"/>
                  <a:pt x="678037" y="593188"/>
                  <a:pt x="675692" y="590844"/>
                </a:cubicBez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21"/>
          <p:cNvSpPr/>
          <p:nvPr/>
        </p:nvSpPr>
        <p:spPr>
          <a:xfrm>
            <a:off x="7709040" y="4173480"/>
            <a:ext cx="366480" cy="289080"/>
          </a:xfrm>
          <a:custGeom>
            <a:avLst/>
            <a:gdLst/>
            <a:ahLst/>
            <a:rect l="l" t="t" r="r" b="b"/>
            <a:pathLst>
              <a:path w="365448" h="288555">
                <a:moveTo>
                  <a:pt x="295110" y="271309"/>
                </a:moveTo>
                <a:lnTo>
                  <a:pt x="295110" y="271309"/>
                </a:lnTo>
                <a:cubicBezTo>
                  <a:pt x="285732" y="229106"/>
                  <a:pt x="281749" y="185330"/>
                  <a:pt x="266975" y="144700"/>
                </a:cubicBezTo>
                <a:cubicBezTo>
                  <a:pt x="262442" y="132235"/>
                  <a:pt x="249196" y="124850"/>
                  <a:pt x="238839" y="116564"/>
                </a:cubicBezTo>
                <a:cubicBezTo>
                  <a:pt x="199882" y="85398"/>
                  <a:pt x="199007" y="89219"/>
                  <a:pt x="154433" y="74361"/>
                </a:cubicBezTo>
                <a:cubicBezTo>
                  <a:pt x="140365" y="60293"/>
                  <a:pt x="93356" y="38449"/>
                  <a:pt x="112230" y="32158"/>
                </a:cubicBezTo>
                <a:cubicBezTo>
                  <a:pt x="159343" y="16454"/>
                  <a:pt x="231463" y="43767"/>
                  <a:pt x="281042" y="60293"/>
                </a:cubicBezTo>
                <a:cubicBezTo>
                  <a:pt x="361866" y="141117"/>
                  <a:pt x="340896" y="99175"/>
                  <a:pt x="365448" y="172835"/>
                </a:cubicBezTo>
                <a:cubicBezTo>
                  <a:pt x="364040" y="181285"/>
                  <a:pt x="364650" y="278475"/>
                  <a:pt x="323245" y="285376"/>
                </a:cubicBezTo>
                <a:cubicBezTo>
                  <a:pt x="304174" y="288555"/>
                  <a:pt x="285732" y="275998"/>
                  <a:pt x="266975" y="271309"/>
                </a:cubicBezTo>
                <a:cubicBezTo>
                  <a:pt x="264946" y="261162"/>
                  <a:pt x="251199" y="177307"/>
                  <a:pt x="238839" y="158767"/>
                </a:cubicBezTo>
                <a:cubicBezTo>
                  <a:pt x="227803" y="142214"/>
                  <a:pt x="211920" y="129300"/>
                  <a:pt x="196636" y="116564"/>
                </a:cubicBezTo>
                <a:cubicBezTo>
                  <a:pt x="183648" y="105740"/>
                  <a:pt x="169883" y="95296"/>
                  <a:pt x="154433" y="88429"/>
                </a:cubicBezTo>
                <a:cubicBezTo>
                  <a:pt x="127332" y="76384"/>
                  <a:pt x="70027" y="60293"/>
                  <a:pt x="70027" y="60293"/>
                </a:cubicBezTo>
                <a:cubicBezTo>
                  <a:pt x="65025" y="55291"/>
                  <a:pt x="0" y="9025"/>
                  <a:pt x="70027" y="4023"/>
                </a:cubicBezTo>
                <a:cubicBezTo>
                  <a:pt x="126349" y="0"/>
                  <a:pt x="182568" y="13401"/>
                  <a:pt x="238839" y="18090"/>
                </a:cubicBezTo>
                <a:cubicBezTo>
                  <a:pt x="280238" y="59489"/>
                  <a:pt x="266975" y="32963"/>
                  <a:pt x="266975" y="102496"/>
                </a:cubicBezTo>
                <a:lnTo>
                  <a:pt x="252907" y="116564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22"/>
          <p:cNvSpPr/>
          <p:nvPr/>
        </p:nvSpPr>
        <p:spPr>
          <a:xfrm>
            <a:off x="7286760" y="4135320"/>
            <a:ext cx="942840" cy="703440"/>
          </a:xfrm>
          <a:custGeom>
            <a:avLst/>
            <a:gdLst/>
            <a:ahLst/>
            <a:rect l="l" t="t" r="r" b="b"/>
            <a:pathLst>
              <a:path w="942535" h="703384">
                <a:moveTo>
                  <a:pt x="661181" y="548640"/>
                </a:moveTo>
                <a:lnTo>
                  <a:pt x="661181" y="548640"/>
                </a:lnTo>
                <a:cubicBezTo>
                  <a:pt x="689316" y="515815"/>
                  <a:pt x="733388" y="491642"/>
                  <a:pt x="745587" y="450166"/>
                </a:cubicBezTo>
                <a:cubicBezTo>
                  <a:pt x="767092" y="377050"/>
                  <a:pt x="744296" y="318426"/>
                  <a:pt x="703384" y="267286"/>
                </a:cubicBezTo>
                <a:cubicBezTo>
                  <a:pt x="695099" y="256929"/>
                  <a:pt x="683534" y="249507"/>
                  <a:pt x="675249" y="239150"/>
                </a:cubicBezTo>
                <a:cubicBezTo>
                  <a:pt x="664687" y="225948"/>
                  <a:pt x="657937" y="209936"/>
                  <a:pt x="647113" y="196947"/>
                </a:cubicBezTo>
                <a:cubicBezTo>
                  <a:pt x="627625" y="173561"/>
                  <a:pt x="592000" y="139628"/>
                  <a:pt x="562707" y="126609"/>
                </a:cubicBezTo>
                <a:cubicBezTo>
                  <a:pt x="535606" y="114564"/>
                  <a:pt x="478301" y="98473"/>
                  <a:pt x="478301" y="98473"/>
                </a:cubicBezTo>
                <a:cubicBezTo>
                  <a:pt x="370449" y="103162"/>
                  <a:pt x="262380" y="104261"/>
                  <a:pt x="154744" y="112541"/>
                </a:cubicBezTo>
                <a:cubicBezTo>
                  <a:pt x="112559" y="115786"/>
                  <a:pt x="102459" y="132707"/>
                  <a:pt x="84406" y="168812"/>
                </a:cubicBezTo>
                <a:cubicBezTo>
                  <a:pt x="77774" y="182075"/>
                  <a:pt x="79601" y="199436"/>
                  <a:pt x="70338" y="211015"/>
                </a:cubicBezTo>
                <a:cubicBezTo>
                  <a:pt x="59776" y="224217"/>
                  <a:pt x="41337" y="228588"/>
                  <a:pt x="28135" y="239150"/>
                </a:cubicBezTo>
                <a:cubicBezTo>
                  <a:pt x="17778" y="247436"/>
                  <a:pt x="9378" y="257907"/>
                  <a:pt x="0" y="267286"/>
                </a:cubicBezTo>
                <a:cubicBezTo>
                  <a:pt x="2629" y="256770"/>
                  <a:pt x="19484" y="183231"/>
                  <a:pt x="28135" y="168812"/>
                </a:cubicBezTo>
                <a:cubicBezTo>
                  <a:pt x="45038" y="140639"/>
                  <a:pt x="74791" y="132840"/>
                  <a:pt x="98473" y="112541"/>
                </a:cubicBezTo>
                <a:cubicBezTo>
                  <a:pt x="183436" y="39716"/>
                  <a:pt x="119401" y="68050"/>
                  <a:pt x="196947" y="42203"/>
                </a:cubicBezTo>
                <a:cubicBezTo>
                  <a:pt x="206326" y="32824"/>
                  <a:pt x="213710" y="20891"/>
                  <a:pt x="225083" y="14067"/>
                </a:cubicBezTo>
                <a:cubicBezTo>
                  <a:pt x="237798" y="6438"/>
                  <a:pt x="252457" y="0"/>
                  <a:pt x="267286" y="0"/>
                </a:cubicBezTo>
                <a:cubicBezTo>
                  <a:pt x="431476" y="0"/>
                  <a:pt x="595532" y="9378"/>
                  <a:pt x="759655" y="14067"/>
                </a:cubicBezTo>
                <a:cubicBezTo>
                  <a:pt x="787790" y="32824"/>
                  <a:pt x="828938" y="40093"/>
                  <a:pt x="844061" y="70338"/>
                </a:cubicBezTo>
                <a:cubicBezTo>
                  <a:pt x="853440" y="89095"/>
                  <a:pt x="863936" y="107334"/>
                  <a:pt x="872197" y="126609"/>
                </a:cubicBezTo>
                <a:cubicBezTo>
                  <a:pt x="878038" y="140239"/>
                  <a:pt x="879632" y="155549"/>
                  <a:pt x="886264" y="168812"/>
                </a:cubicBezTo>
                <a:cubicBezTo>
                  <a:pt x="893825" y="183934"/>
                  <a:pt x="905021" y="196947"/>
                  <a:pt x="914400" y="211015"/>
                </a:cubicBezTo>
                <a:cubicBezTo>
                  <a:pt x="919089" y="239150"/>
                  <a:pt x="922873" y="267452"/>
                  <a:pt x="928467" y="295421"/>
                </a:cubicBezTo>
                <a:cubicBezTo>
                  <a:pt x="932259" y="314380"/>
                  <a:pt x="942535" y="332358"/>
                  <a:pt x="942535" y="351692"/>
                </a:cubicBezTo>
                <a:cubicBezTo>
                  <a:pt x="942535" y="450277"/>
                  <a:pt x="941218" y="549356"/>
                  <a:pt x="928467" y="647113"/>
                </a:cubicBezTo>
                <a:cubicBezTo>
                  <a:pt x="926558" y="661751"/>
                  <a:pt x="862697" y="700339"/>
                  <a:pt x="858129" y="703384"/>
                </a:cubicBezTo>
                <a:cubicBezTo>
                  <a:pt x="806547" y="698695"/>
                  <a:pt x="754029" y="700168"/>
                  <a:pt x="703384" y="689316"/>
                </a:cubicBezTo>
                <a:cubicBezTo>
                  <a:pt x="655638" y="679085"/>
                  <a:pt x="662035" y="647967"/>
                  <a:pt x="633046" y="618978"/>
                </a:cubicBezTo>
                <a:cubicBezTo>
                  <a:pt x="621091" y="607023"/>
                  <a:pt x="604911" y="600221"/>
                  <a:pt x="590843" y="590843"/>
                </a:cubicBezTo>
                <a:cubicBezTo>
                  <a:pt x="601908" y="557646"/>
                  <a:pt x="600861" y="539815"/>
                  <a:pt x="633046" y="520504"/>
                </a:cubicBezTo>
                <a:cubicBezTo>
                  <a:pt x="645761" y="512875"/>
                  <a:pt x="675249" y="491607"/>
                  <a:pt x="675249" y="506436"/>
                </a:cubicBezTo>
                <a:cubicBezTo>
                  <a:pt x="675249" y="523343"/>
                  <a:pt x="646248" y="524010"/>
                  <a:pt x="633046" y="534572"/>
                </a:cubicBezTo>
                <a:cubicBezTo>
                  <a:pt x="622689" y="542857"/>
                  <a:pt x="614289" y="553329"/>
                  <a:pt x="604910" y="562707"/>
                </a:cubicBezTo>
                <a:cubicBezTo>
                  <a:pt x="609599" y="595532"/>
                  <a:pt x="589321" y="646352"/>
                  <a:pt x="618978" y="661181"/>
                </a:cubicBezTo>
                <a:cubicBezTo>
                  <a:pt x="665304" y="684344"/>
                  <a:pt x="724587" y="663492"/>
                  <a:pt x="773723" y="647113"/>
                </a:cubicBezTo>
                <a:cubicBezTo>
                  <a:pt x="786306" y="642919"/>
                  <a:pt x="753873" y="629335"/>
                  <a:pt x="745587" y="618978"/>
                </a:cubicBezTo>
                <a:cubicBezTo>
                  <a:pt x="735025" y="605776"/>
                  <a:pt x="726830" y="590843"/>
                  <a:pt x="717452" y="576775"/>
                </a:cubicBezTo>
                <a:lnTo>
                  <a:pt x="703384" y="520504"/>
                </a:lnTo>
                <a:lnTo>
                  <a:pt x="703384" y="520504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25"/>
          <p:cNvSpPr/>
          <p:nvPr/>
        </p:nvSpPr>
        <p:spPr>
          <a:xfrm>
            <a:off x="7234200" y="4192560"/>
            <a:ext cx="376200" cy="168480"/>
          </a:xfrm>
          <a:custGeom>
            <a:avLst/>
            <a:gdLst/>
            <a:ahLst/>
            <a:rect l="l" t="t" r="r" b="b"/>
            <a:pathLst>
              <a:path w="376245" h="168813">
                <a:moveTo>
                  <a:pt x="291838" y="14068"/>
                </a:moveTo>
                <a:lnTo>
                  <a:pt x="291838" y="14068"/>
                </a:lnTo>
                <a:cubicBezTo>
                  <a:pt x="268392" y="51582"/>
                  <a:pt x="254234" y="96852"/>
                  <a:pt x="221500" y="126610"/>
                </a:cubicBezTo>
                <a:cubicBezTo>
                  <a:pt x="199555" y="146560"/>
                  <a:pt x="165229" y="145367"/>
                  <a:pt x="137094" y="154745"/>
                </a:cubicBezTo>
                <a:lnTo>
                  <a:pt x="94891" y="168813"/>
                </a:lnTo>
                <a:lnTo>
                  <a:pt x="10485" y="154745"/>
                </a:lnTo>
                <a:cubicBezTo>
                  <a:pt x="0" y="133774"/>
                  <a:pt x="50176" y="129121"/>
                  <a:pt x="66755" y="112542"/>
                </a:cubicBezTo>
                <a:cubicBezTo>
                  <a:pt x="78710" y="100587"/>
                  <a:pt x="82167" y="81473"/>
                  <a:pt x="94891" y="70339"/>
                </a:cubicBezTo>
                <a:cubicBezTo>
                  <a:pt x="154426" y="18246"/>
                  <a:pt x="163535" y="19322"/>
                  <a:pt x="221500" y="0"/>
                </a:cubicBezTo>
                <a:cubicBezTo>
                  <a:pt x="235568" y="4689"/>
                  <a:pt x="249162" y="11160"/>
                  <a:pt x="263703" y="14068"/>
                </a:cubicBezTo>
                <a:cubicBezTo>
                  <a:pt x="296217" y="20571"/>
                  <a:pt x="332520" y="13307"/>
                  <a:pt x="362177" y="28136"/>
                </a:cubicBezTo>
                <a:cubicBezTo>
                  <a:pt x="375440" y="34768"/>
                  <a:pt x="371556" y="56271"/>
                  <a:pt x="376245" y="70339"/>
                </a:cubicBezTo>
                <a:cubicBezTo>
                  <a:pt x="366866" y="79717"/>
                  <a:pt x="361115" y="95873"/>
                  <a:pt x="348109" y="98474"/>
                </a:cubicBezTo>
                <a:cubicBezTo>
                  <a:pt x="335694" y="100957"/>
                  <a:pt x="291073" y="76990"/>
                  <a:pt x="277771" y="70339"/>
                </a:cubicBezTo>
                <a:lnTo>
                  <a:pt x="291838" y="140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илиния 28"/>
          <p:cNvSpPr/>
          <p:nvPr/>
        </p:nvSpPr>
        <p:spPr>
          <a:xfrm>
            <a:off x="1547640" y="4670280"/>
            <a:ext cx="451080" cy="858960"/>
          </a:xfrm>
          <a:custGeom>
            <a:avLst/>
            <a:gdLst/>
            <a:ahLst/>
            <a:rect l="l" t="t" r="r" b="b"/>
            <a:pathLst>
              <a:path w="452006" h="858602">
                <a:moveTo>
                  <a:pt x="450166" y="858602"/>
                </a:moveTo>
                <a:lnTo>
                  <a:pt x="450166" y="858602"/>
                </a:lnTo>
                <a:cubicBezTo>
                  <a:pt x="412652" y="839845"/>
                  <a:pt x="374445" y="822415"/>
                  <a:pt x="337625" y="802331"/>
                </a:cubicBezTo>
                <a:cubicBezTo>
                  <a:pt x="322782" y="794235"/>
                  <a:pt x="310872" y="781063"/>
                  <a:pt x="295422" y="774196"/>
                </a:cubicBezTo>
                <a:cubicBezTo>
                  <a:pt x="268321" y="762151"/>
                  <a:pt x="211016" y="746061"/>
                  <a:pt x="211016" y="746061"/>
                </a:cubicBezTo>
                <a:lnTo>
                  <a:pt x="140677" y="675722"/>
                </a:lnTo>
                <a:lnTo>
                  <a:pt x="98474" y="633519"/>
                </a:lnTo>
                <a:cubicBezTo>
                  <a:pt x="93785" y="619451"/>
                  <a:pt x="91038" y="604579"/>
                  <a:pt x="84406" y="591316"/>
                </a:cubicBezTo>
                <a:cubicBezTo>
                  <a:pt x="76845" y="576194"/>
                  <a:pt x="61129" y="565307"/>
                  <a:pt x="56271" y="549113"/>
                </a:cubicBezTo>
                <a:cubicBezTo>
                  <a:pt x="48469" y="523107"/>
                  <a:pt x="48948" y="443122"/>
                  <a:pt x="28136" y="408436"/>
                </a:cubicBezTo>
                <a:cubicBezTo>
                  <a:pt x="21312" y="397063"/>
                  <a:pt x="9379" y="389679"/>
                  <a:pt x="0" y="380301"/>
                </a:cubicBezTo>
                <a:cubicBezTo>
                  <a:pt x="5404" y="347880"/>
                  <a:pt x="10820" y="288324"/>
                  <a:pt x="28136" y="253691"/>
                </a:cubicBezTo>
                <a:cubicBezTo>
                  <a:pt x="35697" y="238569"/>
                  <a:pt x="44316" y="223443"/>
                  <a:pt x="56271" y="211488"/>
                </a:cubicBezTo>
                <a:cubicBezTo>
                  <a:pt x="111649" y="156110"/>
                  <a:pt x="84840" y="210909"/>
                  <a:pt x="126609" y="155217"/>
                </a:cubicBezTo>
                <a:cubicBezTo>
                  <a:pt x="160365" y="110209"/>
                  <a:pt x="170686" y="74939"/>
                  <a:pt x="211016" y="42676"/>
                </a:cubicBezTo>
                <a:cubicBezTo>
                  <a:pt x="224218" y="32114"/>
                  <a:pt x="238097" y="22102"/>
                  <a:pt x="253219" y="14541"/>
                </a:cubicBezTo>
                <a:cubicBezTo>
                  <a:pt x="266482" y="7909"/>
                  <a:pt x="281354" y="5162"/>
                  <a:pt x="295422" y="473"/>
                </a:cubicBezTo>
                <a:cubicBezTo>
                  <a:pt x="309490" y="5162"/>
                  <a:pt x="334717" y="0"/>
                  <a:pt x="337625" y="14541"/>
                </a:cubicBezTo>
                <a:cubicBezTo>
                  <a:pt x="342083" y="36830"/>
                  <a:pt x="329944" y="142443"/>
                  <a:pt x="309489" y="183353"/>
                </a:cubicBezTo>
                <a:cubicBezTo>
                  <a:pt x="301928" y="198475"/>
                  <a:pt x="288221" y="210106"/>
                  <a:pt x="281354" y="225556"/>
                </a:cubicBezTo>
                <a:cubicBezTo>
                  <a:pt x="269309" y="252657"/>
                  <a:pt x="262597" y="281827"/>
                  <a:pt x="253219" y="309962"/>
                </a:cubicBezTo>
                <a:lnTo>
                  <a:pt x="239151" y="352165"/>
                </a:lnTo>
                <a:lnTo>
                  <a:pt x="225083" y="394368"/>
                </a:lnTo>
                <a:cubicBezTo>
                  <a:pt x="229772" y="427193"/>
                  <a:pt x="229623" y="461082"/>
                  <a:pt x="239151" y="492842"/>
                </a:cubicBezTo>
                <a:cubicBezTo>
                  <a:pt x="244009" y="509036"/>
                  <a:pt x="259725" y="519923"/>
                  <a:pt x="267286" y="535045"/>
                </a:cubicBezTo>
                <a:cubicBezTo>
                  <a:pt x="273918" y="548308"/>
                  <a:pt x="273725" y="564532"/>
                  <a:pt x="281354" y="577248"/>
                </a:cubicBezTo>
                <a:cubicBezTo>
                  <a:pt x="288178" y="588621"/>
                  <a:pt x="301204" y="595027"/>
                  <a:pt x="309489" y="605384"/>
                </a:cubicBezTo>
                <a:cubicBezTo>
                  <a:pt x="320051" y="618586"/>
                  <a:pt x="327798" y="633829"/>
                  <a:pt x="337625" y="647587"/>
                </a:cubicBezTo>
                <a:cubicBezTo>
                  <a:pt x="351253" y="666666"/>
                  <a:pt x="366823" y="684349"/>
                  <a:pt x="379828" y="703857"/>
                </a:cubicBezTo>
                <a:cubicBezTo>
                  <a:pt x="394995" y="726608"/>
                  <a:pt x="409803" y="749740"/>
                  <a:pt x="422031" y="774196"/>
                </a:cubicBezTo>
                <a:cubicBezTo>
                  <a:pt x="428663" y="787459"/>
                  <a:pt x="429467" y="803136"/>
                  <a:pt x="436099" y="816399"/>
                </a:cubicBezTo>
                <a:cubicBezTo>
                  <a:pt x="452006" y="848214"/>
                  <a:pt x="447822" y="851568"/>
                  <a:pt x="450166" y="858602"/>
                </a:cubicBez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илиния 29"/>
          <p:cNvSpPr/>
          <p:nvPr/>
        </p:nvSpPr>
        <p:spPr>
          <a:xfrm>
            <a:off x="333360" y="5846760"/>
            <a:ext cx="1204920" cy="755640"/>
          </a:xfrm>
          <a:custGeom>
            <a:avLst/>
            <a:gdLst/>
            <a:ahLst/>
            <a:rect l="l" t="t" r="r" b="b"/>
            <a:pathLst>
              <a:path w="1204088" h="755460">
                <a:moveTo>
                  <a:pt x="496181" y="553531"/>
                </a:moveTo>
                <a:lnTo>
                  <a:pt x="496181" y="553531"/>
                </a:lnTo>
                <a:cubicBezTo>
                  <a:pt x="505559" y="511328"/>
                  <a:pt x="517903" y="469676"/>
                  <a:pt x="524316" y="426922"/>
                </a:cubicBezTo>
                <a:cubicBezTo>
                  <a:pt x="557938" y="202777"/>
                  <a:pt x="516791" y="336954"/>
                  <a:pt x="552452" y="229974"/>
                </a:cubicBezTo>
                <a:cubicBezTo>
                  <a:pt x="547763" y="197149"/>
                  <a:pt x="559098" y="157392"/>
                  <a:pt x="538384" y="131500"/>
                </a:cubicBezTo>
                <a:cubicBezTo>
                  <a:pt x="529936" y="120941"/>
                  <a:pt x="473000" y="183807"/>
                  <a:pt x="468045" y="187771"/>
                </a:cubicBezTo>
                <a:cubicBezTo>
                  <a:pt x="419746" y="226409"/>
                  <a:pt x="422906" y="216493"/>
                  <a:pt x="355504" y="229974"/>
                </a:cubicBezTo>
                <a:cubicBezTo>
                  <a:pt x="341436" y="220596"/>
                  <a:pt x="328751" y="208706"/>
                  <a:pt x="313301" y="201839"/>
                </a:cubicBezTo>
                <a:cubicBezTo>
                  <a:pt x="286200" y="189794"/>
                  <a:pt x="228895" y="173703"/>
                  <a:pt x="228895" y="173703"/>
                </a:cubicBezTo>
                <a:lnTo>
                  <a:pt x="158556" y="103365"/>
                </a:lnTo>
                <a:cubicBezTo>
                  <a:pt x="149177" y="93986"/>
                  <a:pt x="137778" y="86265"/>
                  <a:pt x="130421" y="75229"/>
                </a:cubicBezTo>
                <a:cubicBezTo>
                  <a:pt x="92906" y="18958"/>
                  <a:pt x="116353" y="42404"/>
                  <a:pt x="60082" y="4891"/>
                </a:cubicBezTo>
                <a:cubicBezTo>
                  <a:pt x="41325" y="9580"/>
                  <a:pt x="7604" y="0"/>
                  <a:pt x="3812" y="18959"/>
                </a:cubicBezTo>
                <a:cubicBezTo>
                  <a:pt x="0" y="38021"/>
                  <a:pt x="1332" y="196878"/>
                  <a:pt x="31947" y="258109"/>
                </a:cubicBezTo>
                <a:cubicBezTo>
                  <a:pt x="39508" y="273232"/>
                  <a:pt x="46880" y="289751"/>
                  <a:pt x="60082" y="300313"/>
                </a:cubicBezTo>
                <a:cubicBezTo>
                  <a:pt x="71661" y="309576"/>
                  <a:pt x="87658" y="311942"/>
                  <a:pt x="102285" y="314380"/>
                </a:cubicBezTo>
                <a:cubicBezTo>
                  <a:pt x="144170" y="321361"/>
                  <a:pt x="186692" y="323759"/>
                  <a:pt x="228895" y="328448"/>
                </a:cubicBezTo>
                <a:cubicBezTo>
                  <a:pt x="263219" y="339889"/>
                  <a:pt x="286031" y="343381"/>
                  <a:pt x="313301" y="370651"/>
                </a:cubicBezTo>
                <a:cubicBezTo>
                  <a:pt x="376933" y="434283"/>
                  <a:pt x="301478" y="399534"/>
                  <a:pt x="383639" y="426922"/>
                </a:cubicBezTo>
                <a:lnTo>
                  <a:pt x="439910" y="483193"/>
                </a:lnTo>
                <a:cubicBezTo>
                  <a:pt x="505559" y="548842"/>
                  <a:pt x="462418" y="522583"/>
                  <a:pt x="580587" y="539463"/>
                </a:cubicBezTo>
                <a:cubicBezTo>
                  <a:pt x="594655" y="544152"/>
                  <a:pt x="609527" y="546899"/>
                  <a:pt x="622790" y="553531"/>
                </a:cubicBezTo>
                <a:cubicBezTo>
                  <a:pt x="731872" y="608072"/>
                  <a:pt x="601117" y="560374"/>
                  <a:pt x="707196" y="595734"/>
                </a:cubicBezTo>
                <a:cubicBezTo>
                  <a:pt x="716575" y="605112"/>
                  <a:pt x="723469" y="617938"/>
                  <a:pt x="735332" y="623869"/>
                </a:cubicBezTo>
                <a:cubicBezTo>
                  <a:pt x="761858" y="637132"/>
                  <a:pt x="791603" y="642626"/>
                  <a:pt x="819738" y="652005"/>
                </a:cubicBezTo>
                <a:cubicBezTo>
                  <a:pt x="833806" y="656694"/>
                  <a:pt x="849603" y="657848"/>
                  <a:pt x="861941" y="666073"/>
                </a:cubicBezTo>
                <a:cubicBezTo>
                  <a:pt x="890076" y="684830"/>
                  <a:pt x="914268" y="711650"/>
                  <a:pt x="946347" y="722343"/>
                </a:cubicBezTo>
                <a:lnTo>
                  <a:pt x="1030753" y="750479"/>
                </a:lnTo>
                <a:cubicBezTo>
                  <a:pt x="1068267" y="745790"/>
                  <a:pt x="1110639" y="755460"/>
                  <a:pt x="1143295" y="736411"/>
                </a:cubicBezTo>
                <a:cubicBezTo>
                  <a:pt x="1172503" y="719373"/>
                  <a:pt x="1199565" y="652005"/>
                  <a:pt x="1199565" y="652005"/>
                </a:cubicBezTo>
                <a:cubicBezTo>
                  <a:pt x="1194876" y="633248"/>
                  <a:pt x="1204088" y="601046"/>
                  <a:pt x="1185498" y="595734"/>
                </a:cubicBezTo>
                <a:cubicBezTo>
                  <a:pt x="1156982" y="587586"/>
                  <a:pt x="1101092" y="623869"/>
                  <a:pt x="1101092" y="623869"/>
                </a:cubicBezTo>
                <a:cubicBezTo>
                  <a:pt x="1091713" y="633248"/>
                  <a:pt x="1084329" y="645181"/>
                  <a:pt x="1072956" y="652005"/>
                </a:cubicBezTo>
                <a:cubicBezTo>
                  <a:pt x="1025738" y="680336"/>
                  <a:pt x="986308" y="659724"/>
                  <a:pt x="932279" y="652005"/>
                </a:cubicBezTo>
                <a:cubicBezTo>
                  <a:pt x="851456" y="571181"/>
                  <a:pt x="893397" y="592151"/>
                  <a:pt x="819738" y="567599"/>
                </a:cubicBezTo>
                <a:cubicBezTo>
                  <a:pt x="761080" y="587151"/>
                  <a:pt x="742759" y="600001"/>
                  <a:pt x="664993" y="567599"/>
                </a:cubicBezTo>
                <a:cubicBezTo>
                  <a:pt x="640507" y="557397"/>
                  <a:pt x="627479" y="530085"/>
                  <a:pt x="608722" y="511328"/>
                </a:cubicBezTo>
                <a:lnTo>
                  <a:pt x="566519" y="469125"/>
                </a:lnTo>
                <a:cubicBezTo>
                  <a:pt x="557141" y="459746"/>
                  <a:pt x="549420" y="448346"/>
                  <a:pt x="538384" y="440989"/>
                </a:cubicBezTo>
                <a:cubicBezTo>
                  <a:pt x="487457" y="407038"/>
                  <a:pt x="503742" y="427976"/>
                  <a:pt x="482113" y="384719"/>
                </a:cubicBezTo>
                <a:lnTo>
                  <a:pt x="482113" y="384719"/>
                </a:lnTo>
                <a:lnTo>
                  <a:pt x="566519" y="412854"/>
                </a:lnTo>
                <a:lnTo>
                  <a:pt x="510249" y="426922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G:\106CANON\IMG_0655.JPG"/>
          <p:cNvPicPr/>
          <p:nvPr/>
        </p:nvPicPr>
        <p:blipFill>
          <a:blip r:embed="rId1"/>
          <a:stretch/>
        </p:blipFill>
        <p:spPr>
          <a:xfrm>
            <a:off x="5219640" y="620640"/>
            <a:ext cx="197028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100KM032\PICT1541.JPG"/>
          <p:cNvPicPr/>
          <p:nvPr/>
        </p:nvPicPr>
        <p:blipFill>
          <a:blip r:embed="rId2"/>
          <a:stretch/>
        </p:blipFill>
        <p:spPr>
          <a:xfrm>
            <a:off x="6249960" y="3316320"/>
            <a:ext cx="1879560" cy="1441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83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971640" y="2276640"/>
            <a:ext cx="2736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1322280" y="1376280"/>
            <a:ext cx="1897200" cy="145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1322280" y="4037040"/>
            <a:ext cx="1546200" cy="11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3995640" y="4710240"/>
            <a:ext cx="1656000" cy="1244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403200" y="3141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3564000" y="25876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ы приходим в детский сад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м игрушки стоя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гантели, и мяч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жидаются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Уголки уеди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G:\пред1\100SSCAM\уголок уединения\SDC10033.JPG"/>
          <p:cNvPicPr/>
          <p:nvPr/>
        </p:nvPicPr>
        <p:blipFill>
          <a:blip r:embed="rId1"/>
          <a:stretch/>
        </p:blipFill>
        <p:spPr>
          <a:xfrm>
            <a:off x="3564000" y="2565360"/>
            <a:ext cx="1627200" cy="212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:\пред1\100SSCAM\уголок уединения\SDC10030.JPG"/>
          <p:cNvPicPr/>
          <p:nvPr/>
        </p:nvPicPr>
        <p:blipFill>
          <a:blip r:embed="rId2"/>
          <a:stretch/>
        </p:blipFill>
        <p:spPr>
          <a:xfrm>
            <a:off x="5508720" y="4422600"/>
            <a:ext cx="205884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:\пред1\100SSCAM\уголок уединения\SDC10035.JPG"/>
          <p:cNvPicPr/>
          <p:nvPr/>
        </p:nvPicPr>
        <p:blipFill>
          <a:blip r:embed="rId3"/>
          <a:stretch/>
        </p:blipFill>
        <p:spPr>
          <a:xfrm>
            <a:off x="1187280" y="1243080"/>
            <a:ext cx="18813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36720" y="642960"/>
            <a:ext cx="2309760" cy="159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258920" y="4186080"/>
            <a:ext cx="2212920" cy="159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292720" y="4205160"/>
            <a:ext cx="2152800" cy="1652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5729400" y="836640"/>
            <a:ext cx="2103480" cy="1652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268800" y="2489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й сад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тёплый дом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играем мы, растё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доровье бережё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28960" y="274680"/>
            <a:ext cx="575784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здоровительная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мини-ср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G:\пред1\100SSCAM\физк уголок\SDC10031.JPG"/>
          <p:cNvPicPr/>
          <p:nvPr/>
        </p:nvPicPr>
        <p:blipFill>
          <a:blip r:embed="rId1"/>
          <a:stretch/>
        </p:blipFill>
        <p:spPr>
          <a:xfrm>
            <a:off x="936720" y="939960"/>
            <a:ext cx="1407960" cy="1815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:\пред1\100SSCAM\физк уголок\SDC10037.JPG"/>
          <p:cNvPicPr/>
          <p:nvPr/>
        </p:nvPicPr>
        <p:blipFill>
          <a:blip r:embed="rId2"/>
          <a:stretch/>
        </p:blipFill>
        <p:spPr>
          <a:xfrm>
            <a:off x="3543480" y="2021040"/>
            <a:ext cx="1726920" cy="133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:\пред1\100SSCAM\физк уголок\SDC10019.JPG"/>
          <p:cNvPicPr/>
          <p:nvPr/>
        </p:nvPicPr>
        <p:blipFill>
          <a:blip r:embed="rId3"/>
          <a:stretch/>
        </p:blipFill>
        <p:spPr>
          <a:xfrm>
            <a:off x="6948360" y="2103480"/>
            <a:ext cx="1582920" cy="161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1028880" y="3468600"/>
            <a:ext cx="1223640" cy="16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6451560" y="4981680"/>
            <a:ext cx="1536840" cy="140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6"/>
          <a:stretch/>
        </p:blipFill>
        <p:spPr>
          <a:xfrm>
            <a:off x="3510000" y="4303800"/>
            <a:ext cx="17287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Нетрадиционное       физкультурное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       обору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G:\пред1\100SSCAM\физк уголок\SDC10042.JPG"/>
          <p:cNvPicPr/>
          <p:nvPr/>
        </p:nvPicPr>
        <p:blipFill>
          <a:blip r:embed="rId1"/>
          <a:stretch/>
        </p:blipFill>
        <p:spPr>
          <a:xfrm>
            <a:off x="1547640" y="1908000"/>
            <a:ext cx="2138400" cy="1452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G:\пред1\100SSCAM\физк уголок\SDC10044.JPG"/>
          <p:cNvPicPr/>
          <p:nvPr/>
        </p:nvPicPr>
        <p:blipFill>
          <a:blip r:embed="rId2"/>
          <a:stretch/>
        </p:blipFill>
        <p:spPr>
          <a:xfrm>
            <a:off x="5519880" y="4273560"/>
            <a:ext cx="2119320" cy="135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G:\пред1\100SSCAM\физк уголок\SDC10046.JPG"/>
          <p:cNvPicPr/>
          <p:nvPr/>
        </p:nvPicPr>
        <p:blipFill>
          <a:blip r:embed="rId3"/>
          <a:stretch/>
        </p:blipFill>
        <p:spPr>
          <a:xfrm>
            <a:off x="5519880" y="2062080"/>
            <a:ext cx="2462040" cy="115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Admin\Рабочий стол\100KM032\PICT1551.JPG"/>
          <p:cNvPicPr/>
          <p:nvPr/>
        </p:nvPicPr>
        <p:blipFill>
          <a:blip r:embed="rId4"/>
          <a:stretch/>
        </p:blipFill>
        <p:spPr>
          <a:xfrm>
            <a:off x="1460520" y="4038480"/>
            <a:ext cx="2225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\Рабочий стол\фото\IMGP3614.JPG1.jpg"/>
          <p:cNvPicPr/>
          <p:nvPr/>
        </p:nvPicPr>
        <p:blipFill>
          <a:blip r:embed="rId1"/>
          <a:stretch/>
        </p:blipFill>
        <p:spPr>
          <a:xfrm>
            <a:off x="1332000" y="1268280"/>
            <a:ext cx="2081160" cy="1411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:\PIC-0003.jpg"/>
          <p:cNvPicPr/>
          <p:nvPr/>
        </p:nvPicPr>
        <p:blipFill>
          <a:blip r:embed="rId2"/>
          <a:stretch/>
        </p:blipFill>
        <p:spPr>
          <a:xfrm>
            <a:off x="4862520" y="1328760"/>
            <a:ext cx="1725480" cy="135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611280" y="3859200"/>
            <a:ext cx="2127240" cy="136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6875640" y="299736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3995640" y="4856040"/>
            <a:ext cx="2212920" cy="1700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9320" y="3038400"/>
            <a:ext cx="8507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ем здоров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G:\театр\IMG_2344.jpg"/>
          <p:cNvPicPr/>
          <p:nvPr/>
        </p:nvPicPr>
        <p:blipFill>
          <a:blip r:embed="rId1"/>
          <a:stretch/>
        </p:blipFill>
        <p:spPr>
          <a:xfrm>
            <a:off x="5796000" y="1066680"/>
            <a:ext cx="231624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:\театр\PICT0232.jpg"/>
          <p:cNvPicPr/>
          <p:nvPr/>
        </p:nvPicPr>
        <p:blipFill>
          <a:blip r:embed="rId2"/>
          <a:stretch/>
        </p:blipFill>
        <p:spPr>
          <a:xfrm>
            <a:off x="324000" y="932040"/>
            <a:ext cx="1734840" cy="205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G:\театр\PICT0242.JPG"/>
          <p:cNvPicPr/>
          <p:nvPr/>
        </p:nvPicPr>
        <p:blipFill>
          <a:blip r:embed="rId3"/>
          <a:stretch/>
        </p:blipFill>
        <p:spPr>
          <a:xfrm>
            <a:off x="2952720" y="1052640"/>
            <a:ext cx="2190960" cy="1809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162080" y="4505400"/>
            <a:ext cx="1982880" cy="1369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3532320" y="4543560"/>
            <a:ext cx="1707840" cy="125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6"/>
          <a:stretch/>
        </p:blipFill>
        <p:spPr>
          <a:xfrm>
            <a:off x="5651640" y="4464000"/>
            <a:ext cx="18954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900000" y="260280"/>
            <a:ext cx="770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атрализова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1476360" y="342900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рекцион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17375e"/>
                </a:solidFill>
                <a:latin typeface="Calibri"/>
              </a:rPr>
              <a:t>Приглашаем </a:t>
            </a:r>
            <a:br>
              <a:rPr sz="6600"/>
            </a:br>
            <a:r>
              <a:rPr b="1" i="1" lang="ru-RU" sz="6600" spc="-1" strike="noStrike">
                <a:solidFill>
                  <a:srgbClr val="17375e"/>
                </a:solidFill>
                <a:latin typeface="Calibri"/>
              </a:rPr>
              <a:t>к сотрудничеству</a:t>
            </a:r>
            <a:br>
              <a:rPr sz="66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МДОУ «Детский сад «Колосок»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.Вятское Советский район РМЭ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Сайт: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detsadv-kolosok.ucoz.ru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Почта:&lt;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sovetskiy-v.kolosok@yandex.ru&g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4:08Z</dcterms:created>
  <dc:creator>Admin</dc:creator>
  <dc:description/>
  <dc:language>en-US</dc:language>
  <cp:lastModifiedBy>User</cp:lastModifiedBy>
  <dcterms:modified xsi:type="dcterms:W3CDTF">2013-01-10T08:39:21Z</dcterms:modified>
  <cp:revision>106</cp:revision>
  <dc:subject/>
  <dc:title>Слайд 1</dc:title>
</cp:coreProperties>
</file>