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1.gif" ContentType="image/gif"/>
  <Override PartName="/ppt/media/image1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9.jpeg" ContentType="image/jpeg"/>
  <Override PartName="/ppt/media/image12.gif" ContentType="image/gif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7F126-4FCD-4B31-AE59-07761E2FA3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3B46D-474B-4FCC-A9F4-4CF324AB3F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69AF-2990-4331-92EC-B2508AAA0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2831-38A3-4CB1-B915-728901379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8E0C-F06E-4E18-A236-3A86F63EC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3757-239E-4A3D-9958-E7623CADF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5933-ED11-4348-A238-E57379798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6F22-0865-4BD2-9AC7-1625ED27A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798A-A203-4843-9B1F-6A14F8205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1AA7-6E67-4DA0-8220-E01EDF802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AE9D-EF63-45F3-8C3D-F0E98A677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AB5A-1DD0-48C3-9F1A-BB885B1B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C625-4515-456E-BAA7-7098CED1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8E9A-7279-4B4B-A6B0-5F690E08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79F8C-A1D9-48B7-8E97-2148332DC7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C:\Users\Павлозавр\Desktop\Юля фото\день рож дарьи\день рожденьяв группе\DSC09513.JPG"/>
          <p:cNvPicPr/>
          <p:nvPr/>
        </p:nvPicPr>
        <p:blipFill>
          <a:blip r:embed="rId1"/>
          <a:stretch/>
        </p:blipFill>
        <p:spPr>
          <a:xfrm>
            <a:off x="324000" y="3716280"/>
            <a:ext cx="2663640" cy="2665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" descr="C:\Users\Павлозавр\Desktop\Новая папка\фото группы\2010-08-16\1.JPG"/>
          <p:cNvPicPr/>
          <p:nvPr/>
        </p:nvPicPr>
        <p:blipFill>
          <a:blip r:embed="rId2"/>
          <a:stretch/>
        </p:blipFill>
        <p:spPr>
          <a:xfrm>
            <a:off x="3348000" y="3716280"/>
            <a:ext cx="2664000" cy="2592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:\Users\Павлозавр\Desktop\портфолио юля\2010-08-16\13.JPG"/>
          <p:cNvPicPr/>
          <p:nvPr/>
        </p:nvPicPr>
        <p:blipFill>
          <a:blip r:embed="rId3"/>
          <a:stretch/>
        </p:blipFill>
        <p:spPr>
          <a:xfrm>
            <a:off x="6227640" y="3716280"/>
            <a:ext cx="2665440" cy="2592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Павлозавр\Desktop\Юля фото\2 мл  новый год\IMG_9716.jpg"/>
          <p:cNvPicPr/>
          <p:nvPr/>
        </p:nvPicPr>
        <p:blipFill>
          <a:blip r:embed="rId4"/>
          <a:stretch/>
        </p:blipFill>
        <p:spPr>
          <a:xfrm>
            <a:off x="250920" y="765000"/>
            <a:ext cx="3168720" cy="244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C:\Users\Павлозавр\Desktop\пред развив среда\DSC09723.JPG"/>
          <p:cNvPicPr/>
          <p:nvPr/>
        </p:nvPicPr>
        <p:blipFill>
          <a:blip r:embed="rId5"/>
          <a:stretch/>
        </p:blipFill>
        <p:spPr>
          <a:xfrm>
            <a:off x="3780000" y="765000"/>
            <a:ext cx="1871640" cy="244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C:\Users\Павлозавр\Desktop\пред развив среда\IMG_9707.jpg"/>
          <p:cNvPicPr/>
          <p:nvPr/>
        </p:nvPicPr>
        <p:blipFill>
          <a:blip r:embed="rId6"/>
          <a:stretch/>
        </p:blipFill>
        <p:spPr>
          <a:xfrm>
            <a:off x="5940360" y="765000"/>
            <a:ext cx="2952720" cy="244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2"/>
          <p:cNvSpPr/>
          <p:nvPr/>
        </p:nvSpPr>
        <p:spPr>
          <a:xfrm>
            <a:off x="2639880" y="1440"/>
            <a:ext cx="334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ши празд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Рисунок 30" descr="C:\Users\Павлозавр\Desktop\с интернета\Разделители\Разделители с цветами и листьями\8.gif"/>
          <p:cNvPicPr/>
          <p:nvPr/>
        </p:nvPicPr>
        <p:blipFill>
          <a:blip r:embed="rId1"/>
          <a:stretch/>
        </p:blipFill>
        <p:spPr>
          <a:xfrm>
            <a:off x="2627280" y="3933720"/>
            <a:ext cx="4680000" cy="2232000"/>
          </a:xfrm>
          <a:prstGeom prst="rect">
            <a:avLst/>
          </a:prstGeom>
          <a:ln w="0">
            <a:noFill/>
          </a:ln>
        </p:spPr>
      </p:pic>
      <p:pic>
        <p:nvPicPr>
          <p:cNvPr id="213" name="Прямоугольник 7" descr=""/>
          <p:cNvPicPr/>
          <p:nvPr/>
        </p:nvPicPr>
        <p:blipFill>
          <a:blip r:embed="rId2"/>
          <a:stretch/>
        </p:blipFill>
        <p:spPr>
          <a:xfrm>
            <a:off x="463680" y="225360"/>
            <a:ext cx="843588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Рисунок 30" descr="C:\Users\Павлозавр\Desktop\с интернета\Разделители\Разделители с цветами и листьями\8.gif"/>
          <p:cNvPicPr/>
          <p:nvPr/>
        </p:nvPicPr>
        <p:blipFill>
          <a:blip r:embed="rId1"/>
          <a:stretch/>
        </p:blipFill>
        <p:spPr>
          <a:xfrm>
            <a:off x="1258920" y="2781360"/>
            <a:ext cx="7200720" cy="2881080"/>
          </a:xfrm>
          <a:prstGeom prst="rect">
            <a:avLst/>
          </a:prstGeom>
          <a:ln w="0">
            <a:noFill/>
          </a:ln>
        </p:spPr>
      </p:pic>
      <p:pic>
        <p:nvPicPr>
          <p:cNvPr id="215" name="Прямоугольник 7" descr=""/>
          <p:cNvPicPr/>
          <p:nvPr/>
        </p:nvPicPr>
        <p:blipFill>
          <a:blip r:embed="rId2"/>
          <a:stretch/>
        </p:blipFill>
        <p:spPr>
          <a:xfrm>
            <a:off x="390600" y="628560"/>
            <a:ext cx="8435880" cy="19684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1"/>
          <p:cNvSpPr/>
          <p:nvPr/>
        </p:nvSpPr>
        <p:spPr>
          <a:xfrm>
            <a:off x="539640" y="6275520"/>
            <a:ext cx="820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 надеемся на то, что вам понравится наша группа и у нас в гостях!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55" descr="http://www.coollady.ru/puc/4/otkr/08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41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76"/>
          <p:cNvSpPr/>
          <p:nvPr/>
        </p:nvSpPr>
        <p:spPr>
          <a:xfrm>
            <a:off x="2268360" y="0"/>
            <a:ext cx="4751640" cy="54936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Ы РАБОТЫ С РОДИТЕЛ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7"/>
          <p:cNvSpPr/>
          <p:nvPr/>
        </p:nvSpPr>
        <p:spPr>
          <a:xfrm>
            <a:off x="3564000" y="6021360"/>
            <a:ext cx="2592360" cy="692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ое создание предметно-развивающей среды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Group 1" descr=""/>
          <p:cNvPicPr/>
          <p:nvPr/>
        </p:nvPicPr>
        <p:blipFill>
          <a:blip r:embed="rId4"/>
          <a:stretch/>
        </p:blipFill>
        <p:spPr>
          <a:xfrm>
            <a:off x="384120" y="609480"/>
            <a:ext cx="8766360" cy="59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AutoShape 26"/>
          <p:cNvSpPr/>
          <p:nvPr/>
        </p:nvSpPr>
        <p:spPr>
          <a:xfrm>
            <a:off x="1835280" y="333360"/>
            <a:ext cx="496872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Calibri"/>
              </a:rPr>
              <a:t>Основные  направления  взаимодействия с семьё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25"/>
          <p:cNvSpPr/>
          <p:nvPr/>
        </p:nvSpPr>
        <p:spPr>
          <a:xfrm>
            <a:off x="4716360" y="3141720"/>
            <a:ext cx="360072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буждение  к развитию творческого потенциала взрослого чело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8"/>
          <p:cNvSpPr/>
          <p:nvPr/>
        </p:nvSpPr>
        <p:spPr>
          <a:xfrm>
            <a:off x="826920" y="765000"/>
            <a:ext cx="3600720" cy="50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нципы   равенства позиций в образовательном процес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7"/>
          <p:cNvSpPr/>
          <p:nvPr/>
        </p:nvSpPr>
        <p:spPr>
          <a:xfrm>
            <a:off x="826920" y="2637000"/>
            <a:ext cx="3600720" cy="71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учение  условия жизни, индивидуальные особенности семьи и ребен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24"/>
          <p:cNvSpPr/>
          <p:nvPr/>
        </p:nvSpPr>
        <p:spPr>
          <a:xfrm>
            <a:off x="4643280" y="2421000"/>
            <a:ext cx="367200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здание  опору на личный опыт и индивидуальные потреб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6"/>
          <p:cNvSpPr/>
          <p:nvPr/>
        </p:nvSpPr>
        <p:spPr>
          <a:xfrm>
            <a:off x="826920" y="1341360"/>
            <a:ext cx="360072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ступление  посредником между семьей и дошкольной организацией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3"/>
          <p:cNvSpPr/>
          <p:nvPr/>
        </p:nvSpPr>
        <p:spPr>
          <a:xfrm>
            <a:off x="4716360" y="3789360"/>
            <a:ext cx="3600720" cy="50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ботать таким образом, чтобы родитель смог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9"/>
          <p:cNvSpPr/>
          <p:nvPr/>
        </p:nvSpPr>
        <p:spPr>
          <a:xfrm>
            <a:off x="6588000" y="4941720"/>
            <a:ext cx="1887840" cy="107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стичь понимания того, что нельзя ребёнка сравнивать с другими деть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AutoShape 13"/>
          <p:cNvCxnSpPr/>
          <p:nvPr/>
        </p:nvCxnSpPr>
        <p:spPr>
          <a:xfrm>
            <a:off x="1558440" y="246528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9" name="AutoShape 12"/>
          <p:cNvCxnSpPr/>
          <p:nvPr/>
        </p:nvCxnSpPr>
        <p:spPr>
          <a:xfrm flipV="1">
            <a:off x="1491840" y="3390120"/>
            <a:ext cx="1080" cy="96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0" name="AutoShape 8"/>
          <p:cNvCxnSpPr/>
          <p:nvPr/>
        </p:nvCxnSpPr>
        <p:spPr>
          <a:xfrm>
            <a:off x="1253880" y="8125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1" name="AutoShape 11"/>
          <p:cNvSpPr/>
          <p:nvPr/>
        </p:nvSpPr>
        <p:spPr>
          <a:xfrm>
            <a:off x="826920" y="1989000"/>
            <a:ext cx="3600720" cy="57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учение потребности родителей в образовательных услуг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0"/>
          <p:cNvSpPr/>
          <p:nvPr/>
        </p:nvSpPr>
        <p:spPr>
          <a:xfrm>
            <a:off x="4572000" y="765000"/>
            <a:ext cx="3745080" cy="50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свещение родителей с целью повышения их правовой и педагогической куль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29"/>
          <p:cNvSpPr/>
          <p:nvPr/>
        </p:nvSpPr>
        <p:spPr>
          <a:xfrm>
            <a:off x="4643280" y="1341360"/>
            <a:ext cx="3673800" cy="935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нание нормативных документов,  с которыми  необходимо знакомить родителей, чтобы повысить их правовую культу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7"/>
          <p:cNvSpPr/>
          <p:nvPr/>
        </p:nvSpPr>
        <p:spPr>
          <a:xfrm>
            <a:off x="826920" y="4941720"/>
            <a:ext cx="1533600" cy="100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Быть эмоциональной поддержкой ребёнк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6"/>
          <p:cNvSpPr/>
          <p:nvPr/>
        </p:nvSpPr>
        <p:spPr>
          <a:xfrm>
            <a:off x="2484360" y="4941720"/>
            <a:ext cx="1871640" cy="100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Узнать сильные и слабые стороны развития ребен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5"/>
          <p:cNvSpPr/>
          <p:nvPr/>
        </p:nvSpPr>
        <p:spPr>
          <a:xfrm>
            <a:off x="4500720" y="4941720"/>
            <a:ext cx="1944360" cy="107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Уметь преодолевать авторитаризм и  видеть мир с позиции ребён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AutoShape 4"/>
          <p:cNvCxnSpPr/>
          <p:nvPr/>
        </p:nvCxnSpPr>
        <p:spPr>
          <a:xfrm flipH="1">
            <a:off x="2339640" y="4292280"/>
            <a:ext cx="324072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" name="AutoShape 10"/>
          <p:cNvSpPr/>
          <p:nvPr/>
        </p:nvSpPr>
        <p:spPr>
          <a:xfrm>
            <a:off x="826920" y="3429000"/>
            <a:ext cx="3600720" cy="50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ремление к использованию диалоговых фор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AutoShape 3"/>
          <p:cNvCxnSpPr/>
          <p:nvPr/>
        </p:nvCxnSpPr>
        <p:spPr>
          <a:xfrm flipH="1">
            <a:off x="4284000" y="4292280"/>
            <a:ext cx="129780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AutoShape 2"/>
          <p:cNvCxnSpPr/>
          <p:nvPr/>
        </p:nvCxnSpPr>
        <p:spPr>
          <a:xfrm>
            <a:off x="5508360" y="4365720"/>
            <a:ext cx="1080" cy="57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AutoShape 1"/>
          <p:cNvCxnSpPr/>
          <p:nvPr/>
        </p:nvCxnSpPr>
        <p:spPr>
          <a:xfrm>
            <a:off x="5508360" y="4292280"/>
            <a:ext cx="1872360" cy="649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Rectangle 35"/>
          <p:cNvSpPr/>
          <p:nvPr/>
        </p:nvSpPr>
        <p:spPr>
          <a:xfrm>
            <a:off x="5040" y="90360"/>
            <a:ext cx="534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9"/>
          <p:cNvSpPr/>
          <p:nvPr/>
        </p:nvSpPr>
        <p:spPr>
          <a:xfrm>
            <a:off x="2520" y="-137880"/>
            <a:ext cx="2692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"/>
          <p:cNvSpPr/>
          <p:nvPr/>
        </p:nvSpPr>
        <p:spPr>
          <a:xfrm>
            <a:off x="1362960" y="720"/>
            <a:ext cx="65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бота с семьями воспитанников (лицами их заменяющим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8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Organization Chart 111"/>
          <p:cNvGrpSpPr/>
          <p:nvPr/>
        </p:nvGrpSpPr>
        <p:grpSpPr>
          <a:xfrm>
            <a:off x="179280" y="549360"/>
            <a:ext cx="8785080" cy="6119640"/>
            <a:chOff x="179280" y="549360"/>
            <a:chExt cx="8785080" cy="6119640"/>
          </a:xfrm>
        </p:grpSpPr>
        <p:cxnSp>
          <p:nvCxnSpPr>
            <p:cNvPr id="88" name="_s1028"/>
            <p:cNvCxnSpPr>
              <a:stCxn id="89" idx="1"/>
              <a:endCxn id="90" idx="2"/>
            </p:cNvCxnSpPr>
            <p:nvPr/>
          </p:nvCxnSpPr>
          <p:spPr>
            <a:xfrm rot="10800000">
              <a:off x="806040" y="1878840"/>
              <a:ext cx="209880" cy="452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1" name="_s1029"/>
            <p:cNvCxnSpPr>
              <a:stCxn id="92" idx="1"/>
              <a:endCxn id="90" idx="2"/>
            </p:cNvCxnSpPr>
            <p:nvPr/>
          </p:nvCxnSpPr>
          <p:spPr>
            <a:xfrm rot="10800000">
              <a:off x="806040" y="1878840"/>
              <a:ext cx="209880" cy="3725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3" name="_s1030"/>
            <p:cNvCxnSpPr>
              <a:stCxn id="94" idx="1"/>
              <a:endCxn id="90" idx="2"/>
            </p:cNvCxnSpPr>
            <p:nvPr/>
          </p:nvCxnSpPr>
          <p:spPr>
            <a:xfrm rot="10800000">
              <a:off x="806040" y="1878840"/>
              <a:ext cx="209880" cy="2927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5" name="_s1031"/>
            <p:cNvCxnSpPr>
              <a:stCxn id="96" idx="1"/>
              <a:endCxn id="90" idx="2"/>
            </p:cNvCxnSpPr>
            <p:nvPr/>
          </p:nvCxnSpPr>
          <p:spPr>
            <a:xfrm rot="10800000">
              <a:off x="806040" y="1878840"/>
              <a:ext cx="209880" cy="532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1032"/>
            <p:cNvCxnSpPr>
              <a:stCxn id="98" idx="1"/>
              <a:endCxn id="90" idx="2"/>
            </p:cNvCxnSpPr>
            <p:nvPr/>
          </p:nvCxnSpPr>
          <p:spPr>
            <a:xfrm rot="10800000">
              <a:off x="806040" y="1878840"/>
              <a:ext cx="209880" cy="1330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9" name="_s1033"/>
            <p:cNvCxnSpPr>
              <a:stCxn id="100" idx="1"/>
              <a:endCxn id="90" idx="2"/>
            </p:cNvCxnSpPr>
            <p:nvPr/>
          </p:nvCxnSpPr>
          <p:spPr>
            <a:xfrm rot="10800000">
              <a:off x="806040" y="1878840"/>
              <a:ext cx="209880" cy="2129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1" name="_s1034"/>
            <p:cNvCxnSpPr>
              <a:stCxn id="102" idx="1"/>
              <a:endCxn id="103" idx="2"/>
            </p:cNvCxnSpPr>
            <p:nvPr/>
          </p:nvCxnSpPr>
          <p:spPr>
            <a:xfrm rot="10800000">
              <a:off x="2480760" y="1879560"/>
              <a:ext cx="208440" cy="4523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4" name="_s1035"/>
            <p:cNvCxnSpPr>
              <a:stCxn id="105" idx="1"/>
              <a:endCxn id="103" idx="2"/>
            </p:cNvCxnSpPr>
            <p:nvPr/>
          </p:nvCxnSpPr>
          <p:spPr>
            <a:xfrm rot="10800000">
              <a:off x="2480760" y="1879560"/>
              <a:ext cx="208440" cy="3724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1036"/>
            <p:cNvCxnSpPr>
              <a:stCxn id="107" idx="1"/>
              <a:endCxn id="103" idx="2"/>
            </p:cNvCxnSpPr>
            <p:nvPr/>
          </p:nvCxnSpPr>
          <p:spPr>
            <a:xfrm rot="10800000">
              <a:off x="2480760" y="1879560"/>
              <a:ext cx="208440" cy="2927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1037"/>
            <p:cNvCxnSpPr>
              <a:stCxn id="109" idx="1"/>
              <a:endCxn id="103" idx="2"/>
            </p:cNvCxnSpPr>
            <p:nvPr/>
          </p:nvCxnSpPr>
          <p:spPr>
            <a:xfrm rot="10800000">
              <a:off x="2480760" y="1879560"/>
              <a:ext cx="208440" cy="2128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0" name="_s1038"/>
            <p:cNvCxnSpPr>
              <a:stCxn id="111" idx="1"/>
              <a:endCxn id="103" idx="2"/>
            </p:cNvCxnSpPr>
            <p:nvPr/>
          </p:nvCxnSpPr>
          <p:spPr>
            <a:xfrm rot="10800000">
              <a:off x="2480760" y="1879560"/>
              <a:ext cx="208440" cy="1330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2" name="_s1039"/>
            <p:cNvCxnSpPr>
              <a:stCxn id="113" idx="1"/>
              <a:endCxn id="103" idx="2"/>
            </p:cNvCxnSpPr>
            <p:nvPr/>
          </p:nvCxnSpPr>
          <p:spPr>
            <a:xfrm rot="10800000">
              <a:off x="2480760" y="1879560"/>
              <a:ext cx="208440" cy="531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4" name="_s1040"/>
            <p:cNvCxnSpPr>
              <a:stCxn id="115" idx="1"/>
              <a:endCxn id="116" idx="2"/>
            </p:cNvCxnSpPr>
            <p:nvPr/>
          </p:nvCxnSpPr>
          <p:spPr>
            <a:xfrm rot="10800000">
              <a:off x="4152600" y="1878840"/>
              <a:ext cx="209520" cy="452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7" name="_s1041"/>
            <p:cNvCxnSpPr>
              <a:stCxn id="118" idx="1"/>
              <a:endCxn id="116" idx="2"/>
            </p:cNvCxnSpPr>
            <p:nvPr/>
          </p:nvCxnSpPr>
          <p:spPr>
            <a:xfrm rot="10800000">
              <a:off x="4152600" y="1878840"/>
              <a:ext cx="209520" cy="3725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9" name="_s1042"/>
            <p:cNvCxnSpPr>
              <a:stCxn id="120" idx="1"/>
              <a:endCxn id="116" idx="2"/>
            </p:cNvCxnSpPr>
            <p:nvPr/>
          </p:nvCxnSpPr>
          <p:spPr>
            <a:xfrm rot="10800000">
              <a:off x="4152600" y="1878840"/>
              <a:ext cx="209520" cy="2927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1" name="_s1043"/>
            <p:cNvCxnSpPr>
              <a:stCxn id="122" idx="1"/>
              <a:endCxn id="116" idx="2"/>
            </p:cNvCxnSpPr>
            <p:nvPr/>
          </p:nvCxnSpPr>
          <p:spPr>
            <a:xfrm rot="10800000">
              <a:off x="4152600" y="1878840"/>
              <a:ext cx="209520" cy="2129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3" name="_s1044"/>
            <p:cNvCxnSpPr>
              <a:stCxn id="124" idx="1"/>
              <a:endCxn id="116" idx="2"/>
            </p:cNvCxnSpPr>
            <p:nvPr/>
          </p:nvCxnSpPr>
          <p:spPr>
            <a:xfrm rot="10800000">
              <a:off x="4152600" y="1878840"/>
              <a:ext cx="209520" cy="1330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5" name="_s1045"/>
            <p:cNvCxnSpPr>
              <a:stCxn id="126" idx="1"/>
              <a:endCxn id="116" idx="2"/>
            </p:cNvCxnSpPr>
            <p:nvPr/>
          </p:nvCxnSpPr>
          <p:spPr>
            <a:xfrm rot="10800000">
              <a:off x="4152600" y="1878840"/>
              <a:ext cx="209520" cy="532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7" name="_s1046"/>
            <p:cNvCxnSpPr>
              <a:stCxn id="128" idx="1"/>
              <a:endCxn id="129" idx="2"/>
            </p:cNvCxnSpPr>
            <p:nvPr/>
          </p:nvCxnSpPr>
          <p:spPr>
            <a:xfrm rot="10800000">
              <a:off x="5827320" y="1879560"/>
              <a:ext cx="208080" cy="4523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0" name="_s1047"/>
            <p:cNvCxnSpPr>
              <a:stCxn id="131" idx="1"/>
              <a:endCxn id="129" idx="2"/>
            </p:cNvCxnSpPr>
            <p:nvPr/>
          </p:nvCxnSpPr>
          <p:spPr>
            <a:xfrm rot="10800000">
              <a:off x="5827320" y="1879560"/>
              <a:ext cx="208080" cy="3724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2" name="_s1048"/>
            <p:cNvCxnSpPr>
              <a:stCxn id="133" idx="1"/>
              <a:endCxn id="129" idx="2"/>
            </p:cNvCxnSpPr>
            <p:nvPr/>
          </p:nvCxnSpPr>
          <p:spPr>
            <a:xfrm rot="10800000">
              <a:off x="5827320" y="1879560"/>
              <a:ext cx="208080" cy="2927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4" name="_s1049"/>
            <p:cNvCxnSpPr>
              <a:stCxn id="135" idx="1"/>
              <a:endCxn id="129" idx="2"/>
            </p:cNvCxnSpPr>
            <p:nvPr/>
          </p:nvCxnSpPr>
          <p:spPr>
            <a:xfrm rot="10800000">
              <a:off x="5827320" y="1879560"/>
              <a:ext cx="208080" cy="2128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6" name="_s1050"/>
            <p:cNvCxnSpPr>
              <a:stCxn id="137" idx="1"/>
              <a:endCxn id="129" idx="2"/>
            </p:cNvCxnSpPr>
            <p:nvPr/>
          </p:nvCxnSpPr>
          <p:spPr>
            <a:xfrm rot="10800000">
              <a:off x="5827320" y="1879560"/>
              <a:ext cx="208080" cy="1330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8" name="_s1051"/>
            <p:cNvCxnSpPr>
              <a:stCxn id="139" idx="1"/>
              <a:endCxn id="129" idx="2"/>
            </p:cNvCxnSpPr>
            <p:nvPr/>
          </p:nvCxnSpPr>
          <p:spPr>
            <a:xfrm rot="10800000">
              <a:off x="5827320" y="1879560"/>
              <a:ext cx="208080" cy="531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1052"/>
            <p:cNvCxnSpPr>
              <a:stCxn id="141" idx="1"/>
              <a:endCxn id="142" idx="2"/>
            </p:cNvCxnSpPr>
            <p:nvPr/>
          </p:nvCxnSpPr>
          <p:spPr>
            <a:xfrm rot="10800000">
              <a:off x="7500960" y="1879560"/>
              <a:ext cx="208440" cy="4523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3" name="_s1053"/>
            <p:cNvCxnSpPr>
              <a:stCxn id="144" idx="1"/>
              <a:endCxn id="142" idx="2"/>
            </p:cNvCxnSpPr>
            <p:nvPr/>
          </p:nvCxnSpPr>
          <p:spPr>
            <a:xfrm rot="10800000">
              <a:off x="7500960" y="1879560"/>
              <a:ext cx="208440" cy="3724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5" name="_s1054"/>
            <p:cNvCxnSpPr>
              <a:stCxn id="146" idx="1"/>
              <a:endCxn id="142" idx="2"/>
            </p:cNvCxnSpPr>
            <p:nvPr/>
          </p:nvCxnSpPr>
          <p:spPr>
            <a:xfrm rot="10800000">
              <a:off x="7500960" y="1879560"/>
              <a:ext cx="208440" cy="2927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7" name="_s1055"/>
            <p:cNvCxnSpPr>
              <a:stCxn id="148" idx="1"/>
              <a:endCxn id="142" idx="2"/>
            </p:cNvCxnSpPr>
            <p:nvPr/>
          </p:nvCxnSpPr>
          <p:spPr>
            <a:xfrm rot="10800000">
              <a:off x="7500960" y="1879560"/>
              <a:ext cx="208440" cy="2128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9" name="_s1056"/>
            <p:cNvCxnSpPr>
              <a:stCxn id="150" idx="1"/>
              <a:endCxn id="142" idx="2"/>
            </p:cNvCxnSpPr>
            <p:nvPr/>
          </p:nvCxnSpPr>
          <p:spPr>
            <a:xfrm rot="10800000">
              <a:off x="7500960" y="1879560"/>
              <a:ext cx="208440" cy="1330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1" name="_s1057"/>
            <p:cNvCxnSpPr>
              <a:stCxn id="152" idx="1"/>
              <a:endCxn id="142" idx="2"/>
            </p:cNvCxnSpPr>
            <p:nvPr/>
          </p:nvCxnSpPr>
          <p:spPr>
            <a:xfrm rot="10800000">
              <a:off x="7500960" y="1879560"/>
              <a:ext cx="208440" cy="531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3" name="_s1058"/>
            <p:cNvCxnSpPr>
              <a:stCxn id="129" idx="0"/>
              <a:endCxn id="154" idx="2"/>
            </p:cNvCxnSpPr>
            <p:nvPr/>
          </p:nvCxnSpPr>
          <p:spPr>
            <a:xfrm flipV="1" rot="16200000">
              <a:off x="4857120" y="376920"/>
              <a:ext cx="267120" cy="1674720"/>
            </a:xfrm>
            <a:prstGeom prst="bentConnector3">
              <a:avLst>
                <a:gd name="adj1" fmla="val 433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5" name="_s1059"/>
            <p:cNvCxnSpPr>
              <a:stCxn id="142" idx="0"/>
              <a:endCxn id="154" idx="2"/>
            </p:cNvCxnSpPr>
            <p:nvPr/>
          </p:nvCxnSpPr>
          <p:spPr>
            <a:xfrm flipV="1" rot="16200000">
              <a:off x="5693760" y="-459720"/>
              <a:ext cx="267120" cy="3348360"/>
            </a:xfrm>
            <a:prstGeom prst="bentConnector3">
              <a:avLst>
                <a:gd name="adj1" fmla="val 433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6" name="_s1060"/>
            <p:cNvCxnSpPr>
              <a:stCxn id="116" idx="0"/>
              <a:endCxn id="154" idx="2"/>
            </p:cNvCxnSpPr>
            <p:nvPr/>
          </p:nvCxnSpPr>
          <p:spPr>
            <a:xfrm flipV="1">
              <a:off x="4152960" y="1080720"/>
              <a:ext cx="1080" cy="266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7" name="_s1061"/>
            <p:cNvCxnSpPr>
              <a:stCxn id="103" idx="0"/>
              <a:endCxn id="154" idx="2"/>
            </p:cNvCxnSpPr>
            <p:nvPr/>
          </p:nvCxnSpPr>
          <p:spPr>
            <a:xfrm flipH="1" flipV="1" rot="5400000">
              <a:off x="3183840" y="378000"/>
              <a:ext cx="267120" cy="1672920"/>
            </a:xfrm>
            <a:prstGeom prst="bentConnector3">
              <a:avLst>
                <a:gd name="adj1" fmla="val 433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8" name="_s1062"/>
            <p:cNvCxnSpPr>
              <a:stCxn id="90" idx="0"/>
              <a:endCxn id="154" idx="2"/>
            </p:cNvCxnSpPr>
            <p:nvPr/>
          </p:nvCxnSpPr>
          <p:spPr>
            <a:xfrm flipH="1" flipV="1" rot="5400000">
              <a:off x="2346840" y="-459360"/>
              <a:ext cx="266760" cy="3347280"/>
            </a:xfrm>
            <a:prstGeom prst="bentConnector3">
              <a:avLst>
                <a:gd name="adj1" fmla="val 4324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4" name="_s1063"/>
            <p:cNvSpPr/>
            <p:nvPr/>
          </p:nvSpPr>
          <p:spPr>
            <a:xfrm>
              <a:off x="3525480" y="549360"/>
              <a:ext cx="125496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истема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работы с детьми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1064"/>
            <p:cNvSpPr/>
            <p:nvPr/>
          </p:nvSpPr>
          <p:spPr>
            <a:xfrm>
              <a:off x="179280" y="1347480"/>
              <a:ext cx="125496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Формирование основ двигательной культур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1065"/>
            <p:cNvSpPr/>
            <p:nvPr/>
          </p:nvSpPr>
          <p:spPr>
            <a:xfrm>
              <a:off x="1852560" y="1347480"/>
              <a:ext cx="125496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рофилактика нарушений осанк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066"/>
            <p:cNvSpPr/>
            <p:nvPr/>
          </p:nvSpPr>
          <p:spPr>
            <a:xfrm>
              <a:off x="3525480" y="1347480"/>
              <a:ext cx="125496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беспечение двигательной активност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1067"/>
            <p:cNvSpPr/>
            <p:nvPr/>
          </p:nvSpPr>
          <p:spPr>
            <a:xfrm>
              <a:off x="6873480" y="1347480"/>
              <a:ext cx="125424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беспечение дыхательной активност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1068"/>
            <p:cNvSpPr/>
            <p:nvPr/>
          </p:nvSpPr>
          <p:spPr>
            <a:xfrm>
              <a:off x="5199120" y="1347480"/>
              <a:ext cx="125496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Укрепление здоровья с помощью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закаливания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069"/>
            <p:cNvSpPr/>
            <p:nvPr/>
          </p:nvSpPr>
          <p:spPr>
            <a:xfrm>
              <a:off x="2689560" y="2145600"/>
              <a:ext cx="125424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Упражнения для укрепления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мышечного корсет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1070"/>
            <p:cNvSpPr/>
            <p:nvPr/>
          </p:nvSpPr>
          <p:spPr>
            <a:xfrm>
              <a:off x="4362480" y="2145600"/>
              <a:ext cx="125496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Утренняя гимнасти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1071"/>
            <p:cNvSpPr/>
            <p:nvPr/>
          </p:nvSpPr>
          <p:spPr>
            <a:xfrm>
              <a:off x="6036120" y="2145600"/>
              <a:ext cx="125460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Воздушно – контрастны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ванн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1072"/>
            <p:cNvSpPr/>
            <p:nvPr/>
          </p:nvSpPr>
          <p:spPr>
            <a:xfrm>
              <a:off x="7709400" y="2145600"/>
              <a:ext cx="125496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здоровительны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бе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073"/>
            <p:cNvSpPr/>
            <p:nvPr/>
          </p:nvSpPr>
          <p:spPr>
            <a:xfrm>
              <a:off x="1015920" y="2145600"/>
              <a:ext cx="125496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портивные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раздник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074"/>
            <p:cNvSpPr/>
            <p:nvPr/>
          </p:nvSpPr>
          <p:spPr>
            <a:xfrm>
              <a:off x="1015920" y="2944080"/>
              <a:ext cx="125496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Физкультурные досуг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075"/>
            <p:cNvSpPr/>
            <p:nvPr/>
          </p:nvSpPr>
          <p:spPr>
            <a:xfrm>
              <a:off x="1015920" y="3742200"/>
              <a:ext cx="125496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еделя здоровь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076"/>
            <p:cNvSpPr/>
            <p:nvPr/>
          </p:nvSpPr>
          <p:spPr>
            <a:xfrm>
              <a:off x="1015920" y="4540320"/>
              <a:ext cx="125496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рогулки - поход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077"/>
            <p:cNvSpPr/>
            <p:nvPr/>
          </p:nvSpPr>
          <p:spPr>
            <a:xfrm>
              <a:off x="1015920" y="5338440"/>
              <a:ext cx="1254960" cy="531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Физкультурные развлечения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1078"/>
            <p:cNvSpPr/>
            <p:nvPr/>
          </p:nvSpPr>
          <p:spPr>
            <a:xfrm>
              <a:off x="1015920" y="6136920"/>
              <a:ext cx="125496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Музыкально –ритмическая деятельность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1079"/>
            <p:cNvSpPr/>
            <p:nvPr/>
          </p:nvSpPr>
          <p:spPr>
            <a:xfrm>
              <a:off x="2689560" y="2944080"/>
              <a:ext cx="125424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Упражнения на тренажерах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80"/>
            <p:cNvSpPr/>
            <p:nvPr/>
          </p:nvSpPr>
          <p:spPr>
            <a:xfrm>
              <a:off x="2689560" y="3742200"/>
              <a:ext cx="125424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Упражнения на снятие мышечного напряжения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081"/>
            <p:cNvSpPr/>
            <p:nvPr/>
          </p:nvSpPr>
          <p:spPr>
            <a:xfrm>
              <a:off x="2689560" y="4540320"/>
              <a:ext cx="125424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Упражнения для стоп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1082"/>
            <p:cNvSpPr/>
            <p:nvPr/>
          </p:nvSpPr>
          <p:spPr>
            <a:xfrm>
              <a:off x="2689560" y="5338440"/>
              <a:ext cx="125424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Ходьба по массажным дорожкам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1083"/>
            <p:cNvSpPr/>
            <p:nvPr/>
          </p:nvSpPr>
          <p:spPr>
            <a:xfrm>
              <a:off x="2689560" y="6136920"/>
              <a:ext cx="125424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однимание мелких предметов пальцами но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1084"/>
            <p:cNvSpPr/>
            <p:nvPr/>
          </p:nvSpPr>
          <p:spPr>
            <a:xfrm>
              <a:off x="4362480" y="2944080"/>
              <a:ext cx="125496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Игровые упражнени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1085"/>
            <p:cNvSpPr/>
            <p:nvPr/>
          </p:nvSpPr>
          <p:spPr>
            <a:xfrm>
              <a:off x="4362480" y="3742200"/>
              <a:ext cx="125460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портивные и подвижные игр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086"/>
            <p:cNvSpPr/>
            <p:nvPr/>
          </p:nvSpPr>
          <p:spPr>
            <a:xfrm>
              <a:off x="4362480" y="4540320"/>
              <a:ext cx="125460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Физминутки и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вигательные разминки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087"/>
            <p:cNvSpPr/>
            <p:nvPr/>
          </p:nvSpPr>
          <p:spPr>
            <a:xfrm>
              <a:off x="4362480" y="5338440"/>
              <a:ext cx="125460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Гимнастика дл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гла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1088"/>
            <p:cNvSpPr/>
            <p:nvPr/>
          </p:nvSpPr>
          <p:spPr>
            <a:xfrm>
              <a:off x="4362480" y="6136920"/>
              <a:ext cx="125460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альчиковая гимнасти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1089"/>
            <p:cNvSpPr/>
            <p:nvPr/>
          </p:nvSpPr>
          <p:spPr>
            <a:xfrm>
              <a:off x="6036120" y="2944080"/>
              <a:ext cx="125496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бливание ног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1090"/>
            <p:cNvSpPr/>
            <p:nvPr/>
          </p:nvSpPr>
          <p:spPr>
            <a:xfrm>
              <a:off x="6036120" y="3742200"/>
              <a:ext cx="125496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бтирание мокрой варежко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1091"/>
            <p:cNvSpPr/>
            <p:nvPr/>
          </p:nvSpPr>
          <p:spPr>
            <a:xfrm>
              <a:off x="6036120" y="4540320"/>
              <a:ext cx="125496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Ходьба  по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олевым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орожкам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1092"/>
            <p:cNvSpPr/>
            <p:nvPr/>
          </p:nvSpPr>
          <p:spPr>
            <a:xfrm>
              <a:off x="6036120" y="5338440"/>
              <a:ext cx="125460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Разминка в постели после дневного сн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1093"/>
            <p:cNvSpPr/>
            <p:nvPr/>
          </p:nvSpPr>
          <p:spPr>
            <a:xfrm>
              <a:off x="6036120" y="6136920"/>
              <a:ext cx="125460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амомассаж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1094"/>
            <p:cNvSpPr/>
            <p:nvPr/>
          </p:nvSpPr>
          <p:spPr>
            <a:xfrm>
              <a:off x="7709400" y="2944080"/>
              <a:ext cx="125460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ыхательная гимнасти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1095"/>
            <p:cNvSpPr/>
            <p:nvPr/>
          </p:nvSpPr>
          <p:spPr>
            <a:xfrm>
              <a:off x="7709400" y="3742200"/>
              <a:ext cx="125460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Логоритмика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1096"/>
            <p:cNvSpPr/>
            <p:nvPr/>
          </p:nvSpPr>
          <p:spPr>
            <a:xfrm>
              <a:off x="7709400" y="4540320"/>
              <a:ext cx="125496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сихогимнастика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1097"/>
            <p:cNvSpPr/>
            <p:nvPr/>
          </p:nvSpPr>
          <p:spPr>
            <a:xfrm>
              <a:off x="7709400" y="5338440"/>
              <a:ext cx="125496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Релаксация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1098"/>
            <p:cNvSpPr/>
            <p:nvPr/>
          </p:nvSpPr>
          <p:spPr>
            <a:xfrm>
              <a:off x="7709400" y="6136920"/>
              <a:ext cx="1254960" cy="5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Музыкально-речевой тренин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Rectangle 221"/>
          <p:cNvSpPr/>
          <p:nvPr/>
        </p:nvSpPr>
        <p:spPr>
          <a:xfrm>
            <a:off x="348120" y="720"/>
            <a:ext cx="86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хема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«Работа педагогогов по охране жизни и здоровья воспитанник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9"/>
          <p:cNvSpPr/>
          <p:nvPr/>
        </p:nvSpPr>
        <p:spPr>
          <a:xfrm>
            <a:off x="179280" y="549360"/>
            <a:ext cx="280836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ыполнение инструкции по охране жизни и здоровья воспитан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"/>
          <p:cNvSpPr/>
          <p:nvPr/>
        </p:nvSpPr>
        <p:spPr>
          <a:xfrm>
            <a:off x="5796000" y="549360"/>
            <a:ext cx="3240000" cy="457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сихофизическое развитие воспитан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8"/>
          <p:cNvSpPr/>
          <p:nvPr/>
        </p:nvSpPr>
        <p:spPr>
          <a:xfrm>
            <a:off x="5796000" y="1052640"/>
            <a:ext cx="324000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оздание у детей чувства эмоционального комфорта и психологической защищ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3203640" y="1197000"/>
            <a:ext cx="24480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облюдение всех гигиенических нор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7"/>
          <p:cNvSpPr/>
          <p:nvPr/>
        </p:nvSpPr>
        <p:spPr>
          <a:xfrm>
            <a:off x="179280" y="1197000"/>
            <a:ext cx="2808360" cy="647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упреждение неблагоприятных и опасных ситу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3132000" y="549360"/>
            <a:ext cx="24480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облюдение Сан Пин 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6"/>
          <p:cNvSpPr/>
          <p:nvPr/>
        </p:nvSpPr>
        <p:spPr>
          <a:xfrm>
            <a:off x="250920" y="3645000"/>
            <a:ext cx="2736720" cy="72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Учить детей беречь свое здоровье, следить за своим самочувств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250920" y="3068640"/>
            <a:ext cx="273672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бучение    основам безопас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5"/>
          <p:cNvSpPr/>
          <p:nvPr/>
        </p:nvSpPr>
        <p:spPr>
          <a:xfrm>
            <a:off x="250920" y="1989000"/>
            <a:ext cx="2736720" cy="854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Формирование  чувства осторожности при встрече с незнакомыми людьми, животными, растениями,   веществами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5796000" y="5589720"/>
            <a:ext cx="3200400" cy="7761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влечение детей к коллективным формам организации двигательной акти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4"/>
          <p:cNvSpPr/>
          <p:nvPr/>
        </p:nvSpPr>
        <p:spPr>
          <a:xfrm>
            <a:off x="5796000" y="4365720"/>
            <a:ext cx="3200400" cy="1079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богащение  двигательного опыта разнообразными видами физических упражнений и подвижных игр, содействие правильному выполнению движений в соответствии с образцом взросл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5796000" y="3789360"/>
            <a:ext cx="320040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своение дошкольниками основ культуры гигиены и двигательн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3"/>
          <p:cNvSpPr/>
          <p:nvPr/>
        </p:nvSpPr>
        <p:spPr>
          <a:xfrm>
            <a:off x="5796000" y="3213000"/>
            <a:ext cx="320040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общение детей к здоровому образу жи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5796000" y="2349360"/>
            <a:ext cx="3200400" cy="792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сключение воздействия неблагоприятных факторов на физическое и психическое состояние реб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5796000" y="1773360"/>
            <a:ext cx="3168720" cy="457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оздание  благоприятных условий для полноценного физического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3203640" y="3645000"/>
            <a:ext cx="2448000" cy="86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упреждение детского утомления  чередованием разнообразной активной деятельности и отдых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3203640" y="2997360"/>
            <a:ext cx="2448000" cy="571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Рациональный двигательный реж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3203640" y="2349360"/>
            <a:ext cx="2448000" cy="503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Закаливание и оздоровление дошколь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0"/>
          <p:cNvSpPr/>
          <p:nvPr/>
        </p:nvSpPr>
        <p:spPr>
          <a:xfrm>
            <a:off x="3203640" y="1773360"/>
            <a:ext cx="24480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Рациональная организации режима д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0"/>
          <p:cNvSpPr/>
          <p:nvPr/>
        </p:nvSpPr>
        <p:spPr>
          <a:xfrm>
            <a:off x="606240" y="17640"/>
            <a:ext cx="763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 «Работа педагогов  по охране жизни и здоровья детей младшего возраст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1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Рисунок 38" descr="C:\Users\Павлозавр\Desktop\с интернета\Разделители\Разделители с цветами и листьями\18.gif"/>
          <p:cNvPicPr/>
          <p:nvPr/>
        </p:nvPicPr>
        <p:blipFill>
          <a:blip r:embed="rId1"/>
          <a:stretch/>
        </p:blipFill>
        <p:spPr>
          <a:xfrm>
            <a:off x="324000" y="5157720"/>
            <a:ext cx="525600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4"/>
          <p:cNvSpPr/>
          <p:nvPr/>
        </p:nvSpPr>
        <p:spPr>
          <a:xfrm>
            <a:off x="7164360" y="836640"/>
            <a:ext cx="1871640" cy="1871640"/>
          </a:xfrm>
          <a:prstGeom prst="rect">
            <a:avLst/>
          </a:prstGeom>
          <a:gradFill rotWithShape="0">
            <a:gsLst>
              <a:gs pos="0">
                <a:srgbClr val="c2d69b"/>
              </a:gs>
              <a:gs pos="50000">
                <a:srgbClr val="eaf1dd"/>
              </a:gs>
              <a:gs pos="100000">
                <a:srgbClr val="c2d69b"/>
              </a:gs>
            </a:gsLst>
            <a:lin ang="18900000"/>
          </a:gradFill>
          <a:ln w="12600">
            <a:solidFill>
              <a:srgbClr val="c2d69b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 первой выводит подгруппу детей, которые оделись быстрее, т.о. предупреждаем перегревание детского организма. Другую подгруппу на прогулку сопровождает помощник воспита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2411280" y="765000"/>
            <a:ext cx="2305080" cy="1224000"/>
          </a:xfrm>
          <a:prstGeom prst="rect">
            <a:avLst/>
          </a:prstGeom>
          <a:gradFill rotWithShape="0">
            <a:gsLst>
              <a:gs pos="0">
                <a:srgbClr val="92cddc"/>
              </a:gs>
              <a:gs pos="50000">
                <a:srgbClr val="daeef3"/>
              </a:gs>
              <a:gs pos="100000">
                <a:srgbClr val="92cddc"/>
              </a:gs>
            </a:gsLst>
            <a:lin ang="18900000"/>
          </a:gradFill>
          <a:ln w="12600">
            <a:solidFill>
              <a:srgbClr val="92cddc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ходьбы босиком по мокрой солевой дорожке, ребристой доске, специальному резиновому коврику с шипами после дневного с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3"/>
          <p:cNvSpPr/>
          <p:nvPr/>
        </p:nvSpPr>
        <p:spPr>
          <a:xfrm>
            <a:off x="250920" y="836640"/>
            <a:ext cx="2087640" cy="1150920"/>
          </a:xfrm>
          <a:prstGeom prst="rect">
            <a:avLst/>
          </a:prstGeom>
          <a:gradFill rotWithShape="0">
            <a:gsLst>
              <a:gs pos="0">
                <a:srgbClr val="fabf8f"/>
              </a:gs>
              <a:gs pos="50000">
                <a:srgbClr val="fde9d9"/>
              </a:gs>
              <a:gs pos="100000">
                <a:srgbClr val="fabf8f"/>
              </a:gs>
            </a:gsLst>
            <a:lin ang="18900000"/>
          </a:gradFill>
          <a:ln w="12600">
            <a:solidFill>
              <a:srgbClr val="fabf8f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сутствие детей организация сквозного проветривания групповой комнаты и спальни в соответствии с установленным график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9"/>
          <p:cNvSpPr/>
          <p:nvPr/>
        </p:nvSpPr>
        <p:spPr>
          <a:xfrm>
            <a:off x="108000" y="3645000"/>
            <a:ext cx="2016000" cy="1312920"/>
          </a:xfrm>
          <a:prstGeom prst="rect">
            <a:avLst/>
          </a:prstGeom>
          <a:gradFill rotWithShape="0">
            <a:gsLst>
              <a:gs pos="0">
                <a:srgbClr val="fabf8f"/>
              </a:gs>
              <a:gs pos="50000">
                <a:srgbClr val="fde9d9"/>
              </a:gs>
              <a:gs pos="100000">
                <a:srgbClr val="fabf8f"/>
              </a:gs>
            </a:gsLst>
            <a:lin ang="18900000"/>
          </a:gradFill>
          <a:ln w="12600">
            <a:solidFill>
              <a:srgbClr val="fabf8f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щательно следить чтобы дети на протяжении всего дня находились в облегченной одежде (при  температуре воздуха не ниже 18-20 град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2"/>
          <p:cNvSpPr/>
          <p:nvPr/>
        </p:nvSpPr>
        <p:spPr>
          <a:xfrm>
            <a:off x="108000" y="2060640"/>
            <a:ext cx="2016000" cy="1512720"/>
          </a:xfrm>
          <a:prstGeom prst="rect">
            <a:avLst/>
          </a:prstGeom>
          <a:gradFill rotWithShape="0">
            <a:gsLst>
              <a:gs pos="0">
                <a:srgbClr val="fabf8f"/>
              </a:gs>
              <a:gs pos="50000">
                <a:srgbClr val="fde9d9"/>
              </a:gs>
              <a:gs pos="100000">
                <a:srgbClr val="fabf8f"/>
              </a:gs>
            </a:gsLst>
            <a:lin ang="18900000"/>
          </a:gradFill>
          <a:ln w="12600">
            <a:solidFill>
              <a:srgbClr val="fabf8f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исутствии детей организация углового проветривания групповой комнаты и спальни, при этом следить за тем, чтобы дети не находились в непосредственной близости к открытому окн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0"/>
          <p:cNvSpPr/>
          <p:nvPr/>
        </p:nvSpPr>
        <p:spPr>
          <a:xfrm>
            <a:off x="7164360" y="4149720"/>
            <a:ext cx="1863720" cy="1150920"/>
          </a:xfrm>
          <a:prstGeom prst="rect">
            <a:avLst/>
          </a:prstGeom>
          <a:gradFill rotWithShape="0">
            <a:gsLst>
              <a:gs pos="0">
                <a:srgbClr val="c2d69b"/>
              </a:gs>
              <a:gs pos="50000">
                <a:srgbClr val="eaf1dd"/>
              </a:gs>
              <a:gs pos="100000">
                <a:srgbClr val="c2d69b"/>
              </a:gs>
            </a:gsLst>
            <a:lin ang="18900000"/>
          </a:gradFill>
          <a:ln w="12600">
            <a:solidFill>
              <a:srgbClr val="c2d69b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ить за тем , чтобы дети были одеты по погоде, в случае потепления убедить детей одеть менее одежды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1"/>
          <p:cNvSpPr/>
          <p:nvPr/>
        </p:nvSpPr>
        <p:spPr>
          <a:xfrm>
            <a:off x="7164360" y="2852640"/>
            <a:ext cx="1979640" cy="1152720"/>
          </a:xfrm>
          <a:prstGeom prst="rect">
            <a:avLst/>
          </a:prstGeom>
          <a:gradFill rotWithShape="0">
            <a:gsLst>
              <a:gs pos="0">
                <a:srgbClr val="c2d69b"/>
              </a:gs>
              <a:gs pos="50000">
                <a:srgbClr val="eaf1dd"/>
              </a:gs>
              <a:gs pos="100000">
                <a:srgbClr val="c2d69b"/>
              </a:gs>
            </a:gsLst>
            <a:lin ang="18900000"/>
          </a:gradFill>
          <a:ln w="12600">
            <a:solidFill>
              <a:srgbClr val="c2d69b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ывать прогулки при температуре не ниже 20 град в безветренную и сухую погоду, регулируя время пребывания детей на воздух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5796000" y="5445000"/>
            <a:ext cx="3168720" cy="1152720"/>
          </a:xfrm>
          <a:prstGeom prst="rect">
            <a:avLst/>
          </a:prstGeom>
          <a:gradFill rotWithShape="0">
            <a:gsLst>
              <a:gs pos="0">
                <a:srgbClr val="c2d69b"/>
              </a:gs>
              <a:gs pos="50000">
                <a:srgbClr val="eaf1dd"/>
              </a:gs>
              <a:gs pos="100000">
                <a:srgbClr val="c2d69b"/>
              </a:gs>
            </a:gsLst>
            <a:lin ang="18900000"/>
          </a:gradFill>
          <a:ln w="12600">
            <a:solidFill>
              <a:srgbClr val="c2d69b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избежании переохлаждения обязательно организовать двигательную деятельность: подвижные игры, спортивные, народные, , общеразвивающие упражнения, а также два раза в неделю проводим занятия по физкультуре на воздух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5003640" y="1557360"/>
            <a:ext cx="2089440" cy="863640"/>
          </a:xfrm>
          <a:prstGeom prst="rect">
            <a:avLst/>
          </a:prstGeom>
          <a:gradFill rotWithShape="0">
            <a:gsLst>
              <a:gs pos="0">
                <a:srgbClr val="b2a1c7"/>
              </a:gs>
              <a:gs pos="50000">
                <a:srgbClr val="e5dfec"/>
              </a:gs>
              <a:gs pos="100000">
                <a:srgbClr val="b2a1c7"/>
              </a:gs>
            </a:gsLst>
            <a:lin ang="189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одевания и раздевания детей только в групповой комнате (помним про контрастную ванну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0"/>
          <p:cNvSpPr/>
          <p:nvPr/>
        </p:nvSpPr>
        <p:spPr>
          <a:xfrm>
            <a:off x="5003640" y="836640"/>
            <a:ext cx="2078280" cy="647640"/>
          </a:xfrm>
          <a:prstGeom prst="rect">
            <a:avLst/>
          </a:prstGeom>
          <a:gradFill rotWithShape="0">
            <a:gsLst>
              <a:gs pos="0">
                <a:srgbClr val="b2a1c7"/>
              </a:gs>
              <a:gs pos="50000">
                <a:srgbClr val="e5dfec"/>
              </a:gs>
              <a:gs pos="100000">
                <a:srgbClr val="b2a1c7"/>
              </a:gs>
            </a:gsLst>
            <a:lin ang="189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тривание спальни перед сном детей не менее получаса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2"/>
          <p:cNvSpPr/>
          <p:nvPr/>
        </p:nvSpPr>
        <p:spPr>
          <a:xfrm>
            <a:off x="2411280" y="3933720"/>
            <a:ext cx="2305080" cy="1008000"/>
          </a:xfrm>
          <a:prstGeom prst="rect">
            <a:avLst/>
          </a:prstGeom>
          <a:gradFill rotWithShape="0">
            <a:gsLst>
              <a:gs pos="0">
                <a:srgbClr val="92cddc"/>
              </a:gs>
              <a:gs pos="50000">
                <a:srgbClr val="daeef3"/>
              </a:gs>
              <a:gs pos="100000">
                <a:srgbClr val="92cddc"/>
              </a:gs>
            </a:gsLst>
            <a:lin ang="18900000"/>
          </a:gradFill>
          <a:ln w="12600">
            <a:solidFill>
              <a:srgbClr val="92cddc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полоскания рта и горла водой после каждого приема пищи, постепенно снижая температуру воды на 1 град, доведя ее до 18 гра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9"/>
          <p:cNvSpPr/>
          <p:nvPr/>
        </p:nvSpPr>
        <p:spPr>
          <a:xfrm>
            <a:off x="2411280" y="2133720"/>
            <a:ext cx="2305080" cy="1726920"/>
          </a:xfrm>
          <a:prstGeom prst="rect">
            <a:avLst/>
          </a:prstGeom>
          <a:gradFill rotWithShape="0">
            <a:gsLst>
              <a:gs pos="0">
                <a:srgbClr val="92cddc"/>
              </a:gs>
              <a:gs pos="50000">
                <a:srgbClr val="daeef3"/>
              </a:gs>
              <a:gs pos="100000">
                <a:srgbClr val="92cddc"/>
              </a:gs>
            </a:gsLst>
            <a:lin ang="18900000"/>
          </a:gradFill>
          <a:ln w="12600">
            <a:solidFill>
              <a:srgbClr val="92cddc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детей обширному умыванию прохладной водой: мытье рук до локтей, растирание мокрой ладошкой груди и шеи. По окончании процедуры каждый ребенок самостоятельно вытирается махровой салфеткой или полотенце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"/>
          <p:cNvSpPr/>
          <p:nvPr/>
        </p:nvSpPr>
        <p:spPr>
          <a:xfrm flipV="1" rot="10800000">
            <a:off x="108000" y="5083560"/>
            <a:ext cx="2016000" cy="1513080"/>
          </a:xfrm>
          <a:prstGeom prst="rect">
            <a:avLst/>
          </a:prstGeom>
          <a:gradFill rotWithShape="0">
            <a:gsLst>
              <a:gs pos="0">
                <a:srgbClr val="fabf8f"/>
              </a:gs>
              <a:gs pos="50000">
                <a:srgbClr val="fde9d9"/>
              </a:gs>
              <a:gs pos="100000">
                <a:srgbClr val="fabf8f"/>
              </a:gs>
            </a:gsLst>
            <a:lin ang="18900000"/>
          </a:gradFill>
          <a:ln w="12600">
            <a:solidFill>
              <a:srgbClr val="fabf8f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дневного сна без маек, если температура воздуха в спальне 18 град. Температура под одеялом – 38-39 град, т.о. проснувшись, ребенок получает контрастную ванну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3"/>
          <p:cNvSpPr/>
          <p:nvPr/>
        </p:nvSpPr>
        <p:spPr>
          <a:xfrm>
            <a:off x="108000" y="260280"/>
            <a:ext cx="2087640" cy="432000"/>
          </a:xfrm>
          <a:prstGeom prst="rect">
            <a:avLst/>
          </a:prstGeom>
          <a:gradFill rotWithShape="0">
            <a:gsLst>
              <a:gs pos="0">
                <a:srgbClr val="fabf8f"/>
              </a:gs>
              <a:gs pos="50000">
                <a:srgbClr val="fde9d9"/>
              </a:gs>
              <a:gs pos="100000">
                <a:srgbClr val="fabf8f"/>
              </a:gs>
            </a:gsLst>
            <a:lin ang="18900000"/>
          </a:gradFill>
          <a:ln w="12600">
            <a:solidFill>
              <a:srgbClr val="fabf8f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душные ванны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8"/>
          <p:cNvSpPr/>
          <p:nvPr/>
        </p:nvSpPr>
        <p:spPr>
          <a:xfrm>
            <a:off x="7093080" y="260280"/>
            <a:ext cx="1871640" cy="432000"/>
          </a:xfrm>
          <a:prstGeom prst="rect">
            <a:avLst/>
          </a:prstGeom>
          <a:gradFill rotWithShape="0">
            <a:gsLst>
              <a:gs pos="0">
                <a:srgbClr val="c2d69b"/>
              </a:gs>
              <a:gs pos="50000">
                <a:srgbClr val="eaf1dd"/>
              </a:gs>
              <a:gs pos="100000">
                <a:srgbClr val="c2d69b"/>
              </a:gs>
            </a:gsLst>
            <a:lin ang="18900000"/>
          </a:gradFill>
          <a:ln w="12600">
            <a:solidFill>
              <a:srgbClr val="c2d69b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детей на прогул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4"/>
          <p:cNvSpPr/>
          <p:nvPr/>
        </p:nvSpPr>
        <p:spPr>
          <a:xfrm>
            <a:off x="2411280" y="260280"/>
            <a:ext cx="2305080" cy="432000"/>
          </a:xfrm>
          <a:prstGeom prst="rect">
            <a:avLst/>
          </a:prstGeom>
          <a:gradFill rotWithShape="0">
            <a:gsLst>
              <a:gs pos="0">
                <a:srgbClr val="92cddc"/>
              </a:gs>
              <a:gs pos="50000">
                <a:srgbClr val="daeef3"/>
              </a:gs>
              <a:gs pos="100000">
                <a:srgbClr val="92cddc"/>
              </a:gs>
            </a:gsLst>
            <a:lin ang="18900000"/>
          </a:gradFill>
          <a:ln w="12600">
            <a:solidFill>
              <a:srgbClr val="92cddc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ные процедур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7"/>
          <p:cNvSpPr/>
          <p:nvPr/>
        </p:nvSpPr>
        <p:spPr>
          <a:xfrm>
            <a:off x="5003640" y="260280"/>
            <a:ext cx="2016360" cy="432000"/>
          </a:xfrm>
          <a:prstGeom prst="rect">
            <a:avLst/>
          </a:prstGeom>
          <a:gradFill rotWithShape="0">
            <a:gsLst>
              <a:gs pos="0">
                <a:srgbClr val="b2a1c7"/>
              </a:gs>
              <a:gs pos="50000">
                <a:srgbClr val="e5dfec"/>
              </a:gs>
              <a:gs pos="100000">
                <a:srgbClr val="b2a1c7"/>
              </a:gs>
            </a:gsLst>
            <a:lin ang="189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сна дет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2268360" y="5084640"/>
            <a:ext cx="2071800" cy="792360"/>
          </a:xfrm>
          <a:prstGeom prst="rect">
            <a:avLst/>
          </a:prstGeom>
          <a:gradFill rotWithShape="0">
            <a:gsLst>
              <a:gs pos="0">
                <a:srgbClr val="fabf8f"/>
              </a:gs>
              <a:gs pos="50000">
                <a:srgbClr val="fde9d9"/>
              </a:gs>
              <a:gs pos="100000">
                <a:srgbClr val="fabf8f"/>
              </a:gs>
            </a:gsLst>
            <a:lin ang="18900000"/>
          </a:gradFill>
          <a:ln w="12600">
            <a:solidFill>
              <a:srgbClr val="fabf8f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чение дня неоднократно предлагать детям походить босиком по покрытому и не покрытому пол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5"/>
          <p:cNvSpPr/>
          <p:nvPr/>
        </p:nvSpPr>
        <p:spPr>
          <a:xfrm>
            <a:off x="5003640" y="2492280"/>
            <a:ext cx="2089440" cy="1008000"/>
          </a:xfrm>
          <a:prstGeom prst="rect">
            <a:avLst/>
          </a:prstGeom>
          <a:gradFill rotWithShape="0">
            <a:gsLst>
              <a:gs pos="0">
                <a:srgbClr val="b2a1c7"/>
              </a:gs>
              <a:gs pos="50000">
                <a:srgbClr val="e5dfec"/>
              </a:gs>
              <a:gs pos="100000">
                <a:srgbClr val="b2a1c7"/>
              </a:gs>
            </a:gsLst>
            <a:lin ang="189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15 мину после того, как заснет последний ребенок открывать форточку. За 30 мин до пробуждения закрываем 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6"/>
          <p:cNvSpPr/>
          <p:nvPr/>
        </p:nvSpPr>
        <p:spPr>
          <a:xfrm flipV="1" rot="10800000">
            <a:off x="5003640" y="3643920"/>
            <a:ext cx="2089440" cy="863640"/>
          </a:xfrm>
          <a:prstGeom prst="rect">
            <a:avLst/>
          </a:prstGeom>
          <a:gradFill rotWithShape="0">
            <a:gsLst>
              <a:gs pos="0">
                <a:srgbClr val="b2a1c7"/>
              </a:gs>
              <a:gs pos="50000">
                <a:srgbClr val="e5dfec"/>
              </a:gs>
              <a:gs pos="100000">
                <a:srgbClr val="b2a1c7"/>
              </a:gs>
            </a:gsLst>
            <a:lin ang="189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им за соблюдением тишины со стороны персонала во время сна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2195640" y="5950080"/>
            <a:ext cx="2160360" cy="718920"/>
          </a:xfrm>
          <a:prstGeom prst="rect">
            <a:avLst/>
          </a:prstGeom>
          <a:gradFill rotWithShape="0">
            <a:gsLst>
              <a:gs pos="0">
                <a:srgbClr val="fabf8f"/>
              </a:gs>
              <a:gs pos="50000">
                <a:srgbClr val="fde9d9"/>
              </a:gs>
              <a:gs pos="100000">
                <a:srgbClr val="fabf8f"/>
              </a:gs>
            </a:gsLst>
            <a:lin ang="18900000"/>
          </a:gradFill>
          <a:ln w="12600">
            <a:solidFill>
              <a:srgbClr val="fabf8f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м утреннюю гимнастику в хорошо проветренной группе и соответствующей одежде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 flipV="1" rot="10800000">
            <a:off x="5003640" y="4653000"/>
            <a:ext cx="2089440" cy="504720"/>
          </a:xfrm>
          <a:prstGeom prst="rect">
            <a:avLst/>
          </a:prstGeom>
          <a:gradFill rotWithShape="0">
            <a:gsLst>
              <a:gs pos="0">
                <a:srgbClr val="b2a1c7"/>
              </a:gs>
              <a:gs pos="50000">
                <a:srgbClr val="e5dfec"/>
              </a:gs>
              <a:gs pos="100000">
                <a:srgbClr val="b2a1c7"/>
              </a:gs>
            </a:gsLst>
            <a:lin ang="189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ъем организуем по мере пробуждения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5"/>
          <p:cNvSpPr/>
          <p:nvPr/>
        </p:nvSpPr>
        <p:spPr>
          <a:xfrm>
            <a:off x="1437480" y="-31320"/>
            <a:ext cx="626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хема работы по организации закаливания и оздоровления детей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"/>
          <p:cNvSpPr/>
          <p:nvPr/>
        </p:nvSpPr>
        <p:spPr>
          <a:xfrm>
            <a:off x="2863800" y="29160"/>
            <a:ext cx="341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но-правовая ба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468360" y="504360"/>
            <a:ext cx="752328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закон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основных гарантиях прав ребенка в РФ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24.07.1998№124-Ф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РФ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образовани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 !0.07.1992 №3266-1(в редакции ФЗ от 18 .07.2011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ларация прав ребенк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нята резолюцией 1386т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V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Генеральной Ассамблеей ООН от 20.10.1959(извлечения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итуция РФ(извлечения), с изменениями на 01 .06.2007г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овой кодекс РФ от 12.09.2008 №197-ФЗ (ред.от 22.11.2011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обрнауки РФ от24.03.2010 №209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порядке аттестации педагог. работников государственных и муниципальных образовательных учреждени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Зарегистрировано в Минюсте РФ 26.04.2010 №16999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Правительства РФ от 12.09.2008 №666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утверждении Типового положения о ДОУ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йный кодекс РФ (СК РФ) от 29.12.1995 №223-РФ (принят ГД ФС 08.12.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. Письмо. Образования РФ от 14.03.200 №65/23-16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гигиенических требованиях к максимальной нагрузке на детей дошкольного возраста в организованных формах обучения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венция о правах ребенк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добрена Ген.Ассамблеей ООН 20.11.1989, вступила в силу для СССР 15.09.199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 Постановление Главного гос. саитарного врача РФ от22.07.2010 №91 (ред.от 20ю12ю2010)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 2.4.1.2660-10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о-эпидемиологические требования к устройству, содержанию, организации режима работы в ДО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 Продолжительность рабочего временипедаг.работник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Комментарии к ст.Трудового Кодек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Письмо Мин образования РФ и Пролфсоюза работников народного образования и науки РФ от 16.01.2001 №20-58-196/20-6/7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порядке исчисления зар.платы работников образовательных учреждени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Педагогическая аттестация в Самарской обл. Р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Рисунок 38" descr="C:\Users\Павлозавр\Desktop\с интернета\Разделители\Разделители с цветами и листьями\18.gif"/>
          <p:cNvPicPr/>
          <p:nvPr/>
        </p:nvPicPr>
        <p:blipFill>
          <a:blip r:embed="rId1"/>
          <a:stretch/>
        </p:blipFill>
        <p:spPr>
          <a:xfrm>
            <a:off x="1908000" y="5950080"/>
            <a:ext cx="633600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"/>
          <p:cNvSpPr/>
          <p:nvPr/>
        </p:nvSpPr>
        <p:spPr>
          <a:xfrm>
            <a:off x="1909440" y="360"/>
            <a:ext cx="328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ая литера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71280" y="432720"/>
            <a:ext cx="90727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ы занятий по программе «Развитие» Л.А Венгера  для 2 мл групп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 диагностика по по программе «Развитие» Л.А Венгера  для 2 мл групп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культурные занятие в ДОУ для для 2 мл группы, Л.И Пензулае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естоматия для детей 3-5 лет   «День за днем» к программе «Развитие» Л.А Венгера  для 2 мл группы, И.А. Астаськ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рганизация деятельности детей на прогулке  младший возраст- в помощь педагогу Примерная основная общеобразовательная программа дошкольного образования «От рождения до школы»  Н. Е. Веракса, Т. С. Комарова, М. А. Василье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сновы безопасности детей дошкольного возраста», Н.Н.Авдеева, О.Л.Князева, Р.Б.Стеркина М.: Просвещение, 2007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.С. Голицына «ОБЖ для младших дошкольников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Н.Н.Авдеева, Л.О. Князева, Р.Б.Стеркина  «Безопасность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В.Кравченко, Т.Л.Долгова   «Прогулки в детском саду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К. Бондаренко «Дидактические игры в детском саду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.П. Пименова «Пальчиковые игры» Из-во «Феникс» 2007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А.Помораева «Занятия по формированию элементарных математических представлений» Из-во: Мозаика – Синтез 2007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.В. Лиштван «Конструирование» Москва. Просвещение1984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Н. Волчкова «Конспекты занятий во второй младшей группе». Из-во Воронеж 2008г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В. Гербова «Занятия по развитию речи во второй младшей  группе детского сад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-во «Просвещение» 2008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В.Чиркова «Родительские собрания в детском саду» средняя групп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.Ф.Островская «Педагогические ситуации в семейном воспитании дошкольников»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зобразительная деятельность в детском саду», Т.С.Комарова, М.: Мозаика- Синтез, 2006; А.Н.Малышев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Рисунок 38" descr="C:\Users\Павлозавр\Desktop\с интернета\Разделители\Разделители с цветами и листьями\18.gif"/>
          <p:cNvPicPr/>
          <p:nvPr/>
        </p:nvPicPr>
        <p:blipFill>
          <a:blip r:embed="rId1"/>
          <a:stretch/>
        </p:blipFill>
        <p:spPr>
          <a:xfrm>
            <a:off x="900000" y="5805360"/>
            <a:ext cx="7344000" cy="9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1"/>
          <p:cNvSpPr/>
          <p:nvPr/>
        </p:nvSpPr>
        <p:spPr>
          <a:xfrm>
            <a:off x="250920" y="210240"/>
            <a:ext cx="8353440" cy="59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кументы, регламентирующие выбор оборудования, учебно-методических и игровых материалов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Ананьев Б.Г, Рыбалко Е.Ф. Особенности восприятия пространства у детей. – М., 200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Артамонова О. Предметно-пространственная среда: ее роль в развитии личности // Дошкольное воспитание. - 2005. - №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3. Гринявичене Н.Т. Игра и новый подход к организации предметно-игровой среды. / Творчество и педагогика (материалы Всесоюзной научно-практической конференции). – М., 2006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4. Доронова. Т.Н.,Короткова Н.А. "Материалы и оборудование для детского сада".М.,200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5. Железнова С.В., “К вопросу о развивающей среде ДОУ”, Ульяновск 2001 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6. Концепция содержания непрерывного образования (дошкольное и начальное звено), утв. Федеральным координационным советом по общему образованию Министерства образования РФ от 17.06.2003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7. Концепция построения развивающей среды в дошкольном учреждении (авторы В.А. Петровский, Л.М. Кларина, Л.А. Смывина, Л.П. Стрелкова, 1993 г.); Ананьев Б.Г, Рыбалко Е.Ф. Особенности восприятия пространства у детей. – М., 200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8. Концепция дошкольного воспитания (авторы В.В. Давыдов, В.А. Петровский, 1989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9. Нишеева Н. В. Предметно - пространственная развивающая среда в детском саду. Принципы построения, советы, рекомендации. - СПб, Детство-Пресс, 20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10. Новоселова С.Л.,  “Развивающая предметная среда”. М., 2001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11. Новоселова С. Л. Развивающая предметно-игровая среда. // Дошкольное воспитание. - 2005. - №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12. Петровский В.А. и др. Построение развивающей среды в дошкольном учреждении//Дошкольное образование в России. М., 19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13.  Петровский В.А., Кларина Л.М., Смывина Л.А., Стрелкова Л.П. Построение развивающей среды в дошкольном учреждении. – М., 200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14. письмо Минобразования России от 15.03.2004 № 03-51-46ин/14-03 "О направлении Примерных требований к содержанию развивающей среды детей дошкольного возраста, воспитывающихся в семье"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15. письмо Минобразования России от 17.05.1995 № 61/19-12 "О психолого-педагогических требованиях к играм и игрушкам в современных условиях" (вместе с Порядком проведения психолого-педагогической экспертизы детских игр и игрушек, Методическими указаниями к психолого-педагогической экспертизе игр и игрушек, Методическими указаниями для работников дошкольных образовательных учреждений "О психолого-педагогической ценности игр и игрушек"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16. Санитарно-эпидемиологические правила и нормативы "Санитарно-эпидемиологические требования к устройству, содержанию и организации режима работы в дошкольных организациях. СанПиН 2.4.1.2660-10", утв. постановлением Главного государственного санитарного врача России от 22.07.2010 № 91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17. Требования ФГТ к среде ДОУ (проект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05:48:04Z</dcterms:created>
  <dc:creator>DESIGN</dc:creator>
  <dc:description/>
  <dc:language>en-US</dc:language>
  <cp:lastModifiedBy>Павлозавр</cp:lastModifiedBy>
  <dcterms:modified xsi:type="dcterms:W3CDTF">2013-05-31T09:12:24Z</dcterms:modified>
  <cp:revision>208</cp:revision>
  <dc:subject/>
  <dc:title>Слайд 1</dc:title>
</cp:coreProperties>
</file>