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F644-2473-4144-86FF-CBB44861D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A0F6-6096-40D0-B39C-064183C0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B437-66FF-40D9-88EC-934ABA23B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EEF7-C745-4DB3-BFFF-1D1A871C6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F513-379E-407A-AE7B-6C6EF27B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3358-FA1D-4B56-887F-DBA07309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036C-390C-4F14-92C8-6CFE072A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4806-3C33-4437-9ADA-F9DED73A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EB0C-E051-46E9-AECF-26314A1F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0C0B-A948-4B04-B9BD-478E907F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A50F-C0ED-419C-84F3-7FFAA069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F6C2-366E-4FB7-A193-896CB481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89C0-66BE-4F23-8FD5-FDB30E801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По ГРИБ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: Вспомнить и закрепить с детьми знакомые названия грибов, где растут грибы, как их нужно собирать, обратить внимание детей на строение и окраску грибов, что можно делать из грибов. Развивать и обогащать словарный запас детей. Учить правильно, согласовывать существительные и прилагатель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320" y="0"/>
            <a:ext cx="3280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. Новикова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т красавицы лисички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чень дружные сестрички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 укрыться не легко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идно очень далек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54880" y="6156360"/>
            <a:ext cx="280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ЛИСИЧ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3068280"/>
            <a:ext cx="91440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доль лесных дорожек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ного белых ножек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шляпках разноцветных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дали приметных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бирай, не мешкай!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7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0"/>
            <a:ext cx="3203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. Чефанов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полянке, вдоль дорожк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юду встретится он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ыроежка-гриб хороши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Шляпка издали видна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ёлтая и красн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ыроежка разна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1240" y="6156360"/>
            <a:ext cx="324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ЫРОЕЖ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3716280"/>
            <a:ext cx="91440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ст лесной подняли блюдца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 травой они не бьются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тал грибник на блюдце – хрусть!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 хрупкий чё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0"/>
            <a:ext cx="343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. Ерошин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печален очень груздь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 груздя напала грусть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чему он грустный?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тому, что вкусный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65800" y="6156360"/>
            <a:ext cx="216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ГРУЗД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-360" y="3644640"/>
            <a:ext cx="968364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 пеньке сидят братишки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е в веснушках, шалунишки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и дружные ребята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зывают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800" y="0"/>
            <a:ext cx="437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Ерошин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ять у опят на пеньке дискотека –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ну, потанцуйте в такой тесноте-ка!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лпятся на сцене пять сотен опят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пятах пенёк от макушки до пят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67240" y="6156360"/>
            <a:ext cx="212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ПЯТ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79280" y="3644640"/>
            <a:ext cx="91440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шляпе розовой, мохнатой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Но не выглядит растяпой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Будто плюшевое ушко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Для соления …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960" y="0"/>
            <a:ext cx="341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Гавриков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 листвою три волнушк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и подружки-хохотушки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гибай пониже спину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гласи в свою корзин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48000" y="5877000"/>
            <a:ext cx="456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ЛНУ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3715920"/>
            <a:ext cx="9144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Шоколадно-бурый гриб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 скользкой шляпке лист прилип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ротник ажурный тонок -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риб такой зовут 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414036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 берёзки да дубы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том выросли  грибы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ут -  волнушки и опята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м -  лисички и маслят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 сосной -  боровики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 им рады грибн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. Абин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80000" y="2205000"/>
            <a:ext cx="5074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росил у гриба под осиною еж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ажи, почему ты на зонтик похож?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гриб засмеялся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т странный вопрос!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дь я же в погоду дождливую рос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. Пляцковски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724280"/>
            <a:ext cx="63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Какие съедобные грибы вы зна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Попробуйте отгадать загад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880" y="0"/>
            <a:ext cx="4460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. Ерошин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шёл маслят.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ра за ножик браться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– А ну, в лукошко полезайте, братцы!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ни смеются: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– Мало нас найти!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перь ещё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пробуй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хвати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20320" y="6156360"/>
            <a:ext cx="324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МАСЛЕНОК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 земле лежит лепёш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 дождя она раст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ишь дотронешься немнож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ё сразу разор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ых! И вырвался костё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ымным облаком из спо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9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207240" y="6156360"/>
            <a:ext cx="31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ДОЖДЕВ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547640" y="2636640"/>
            <a:ext cx="54007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Этот пальчик в лес пош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Этот пальчик гриб наш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Этот пальчик чистить ст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Этот пальчик жарить ст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Этот пальчик сел и съ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ттого и потолст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Гимнастика Гриб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4247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2204640"/>
            <a:ext cx="91440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сле тёплого дождя —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шесть лисичек, три груздя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ве волнушки, восемь белых!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елке что с грибами делать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 — сушить, вот эти — в бочку!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удут славными грибочки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. Сашина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Что можно делать с грибам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7640" cy="3321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045800" y="2565360"/>
            <a:ext cx="238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ЖАР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3390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799240" y="2565360"/>
            <a:ext cx="228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АР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3321000"/>
            <a:ext cx="4716360" cy="3537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5546880"/>
            <a:ext cx="518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ОЛИТЬ И МАРИНО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500720" y="3375000"/>
            <a:ext cx="4643280" cy="3483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870880" y="6156360"/>
            <a:ext cx="241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УШ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984680" y="6156360"/>
            <a:ext cx="670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 ДАЖЕ  ИСПЕЧЬ ПИРОГ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3573360"/>
            <a:ext cx="9144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т гриб живет под елью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 ее огромной тенью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удрый бородач-старик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итель бора - ..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160" y="0"/>
            <a:ext cx="3215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. Ерошин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 бродил в бору не зря –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тыскал богатыря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– Белый!- крикнул я.– Ура!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сё! Теперь Домой пор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32000" y="6156360"/>
            <a:ext cx="38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БОРОВИ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3644640"/>
            <a:ext cx="91440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 в красной шапочке расту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реди корней осиновых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ня узнаешь за версту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овусь 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6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80" y="0"/>
            <a:ext cx="279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. Грудан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 осинкой у воро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осиновик растёт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горит, горит огнё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Шапка красная на нём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7400" y="6156360"/>
            <a:ext cx="422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ОДОСИНОВ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3789000"/>
            <a:ext cx="91440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роще у березки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встречались тезки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8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12000" y="0"/>
            <a:ext cx="313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. Лукашкина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 берёзой впереди –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берёзовик, гляди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 высокой стройной ножке…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ожка в крапинках немножко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6156360"/>
            <a:ext cx="47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ОДБЕРЕЗОВ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3427920"/>
            <a:ext cx="892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 листами на поляне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прятки девочки играли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таились три сестрички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ветло-желтые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13:03:42Z</dcterms:created>
  <dc:creator>www.PHILka.RU</dc:creator>
  <dc:description/>
  <dc:language>en-US</dc:language>
  <cp:lastModifiedBy>www.PHILka.RU</cp:lastModifiedBy>
  <dcterms:modified xsi:type="dcterms:W3CDTF">2012-10-07T17:53:26Z</dcterms:modified>
  <cp:revision>22</cp:revision>
  <dc:subject/>
  <dc:title>«По ГРИБЫ»</dc:title>
</cp:coreProperties>
</file>