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E01-0919-4B15-AEFE-43B2FB5A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123-5FC0-4163-B197-B562BDF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92B-ED4E-4862-862D-DC2D9191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EFD-8D29-4A3C-A05C-EE8BE6AA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295-48B1-4EA5-A767-1E9BD2D0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B17-F9B2-4489-911A-A18695D4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9D0-455C-45BE-BA31-1460A17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D03-09E2-409E-8CED-A284ED4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A97-E52D-40B9-8C43-2316016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E0D-9FE0-45FD-AFD9-2177198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6B1-CFF4-45F1-9D80-89E12CD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F01-5E2F-447C-82E5-5B59AC7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B57-0694-46F8-9D3B-FDCA7049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 ГРИБ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Вспомнить и закрепить с детьми знакомые названия грибов, где растут грибы, как их нужно собирать, обратить внимание детей на строение и окраску грибов, что можно делать из грибов. Развивать и обогащать словарный запас детей. Учить правильно, согласовывать существительные и прила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20" y="0"/>
            <a:ext cx="328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. Новиков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т красавицы лис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чень дружные сестр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 укрыться не легко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идно очень далек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880" y="615636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СИЧ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068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оль лесных дор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белых н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ках разноцветн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и приметных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ирай, не мешкай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7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Чефа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лянке, вдоль дорож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юду встретится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-гриб хорош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ляпка издали вид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ёлтая и крас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 разна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1240" y="6156360"/>
            <a:ext cx="32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 лесной подняли блюдц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травой они не бьютс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л грибник на блюдце – хруст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хрупкий ч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ечален очень грузд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груздя напала груст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 он грустный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ому, что вкусны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5800" y="6156360"/>
            <a:ext cx="21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УЗ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96836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еньке сидят братиш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в веснушках, шалунишк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 дружные ребят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ываю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00" y="0"/>
            <a:ext cx="43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ять у опят на пеньке дискотека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у, потанцуйте в такой тесноте-к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пятся на сцене пять сотен опят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ятах пенёк от макушки до пя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615636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ПЯ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е розовой, мохнатой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Но не выглядит растяп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Будто плюшевое ушк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Для соления 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0" y="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аврик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листвою три волнуш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дружки-хохотушк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ибай пониже спин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гласи в свою корзин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5877000"/>
            <a:ext cx="45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околадно-бурый гриб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кользкой шляпке лист прилип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ротник ажурный тонок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иб такой зовут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403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берёзки да дуб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выросли  гриб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-  волнушки и опя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-  лисички и масля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й -  борови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им рады гриб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Аб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205000"/>
            <a:ext cx="50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ил у гриба под осиною еж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почему ты на зонтик похож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риб засмеялс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странный вопро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я же в погоду дождливую 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Пляцков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724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ие съедобные гриб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пробуйте отгадать зага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0" y="0"/>
            <a:ext cx="446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шёл маслят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а за ножик братьс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А ну, в лукошко полезайте, братцы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ни смеются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Мало нас найти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ерь ещё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робуй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хва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0320" y="6156360"/>
            <a:ext cx="32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СЛЕНО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емле лежит леп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дождя она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шь дотронешься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ё сразу разор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ых! И вырвался к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ным облаком из сп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07240" y="6156360"/>
            <a:ext cx="31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640" y="263664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в лес п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гриб на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чист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жар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сел и съ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того и потолс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мнастика 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 тёплого дождя 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сть лисичек, три грузд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волнушки, восемь белых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е что с грибами делат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 — сушить, вот эти — в бочку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дут славными грибочк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. Сашин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Что можно делать с гри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5800" y="25653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90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9240" y="2565360"/>
            <a:ext cx="22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4688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ЛИТЬ И МАРИН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70880" y="615636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4680" y="6156360"/>
            <a:ext cx="670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 ДАЖЕ  ИСПЕЧЬ ПИРО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т гриб живет под ель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ее огромной тенью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ый бородач-стар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ель бора - ..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" y="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бродил в бору не зря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ыскал богатыр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Белый!- крикнул я.– Ура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ё! Теперь Домой п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6156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ОРОВИ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 красной шапочке расту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корней осинов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узнаешь за версту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вусь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" y="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 Груда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осинкой у вор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синовик растё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орит, горит огн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пка красная на нё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400" y="615636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78900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още у берез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стречались тезк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0"/>
            <a:ext cx="31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 Лукашкин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берёзой впереди –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берёзовик, гляд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ысокой стройной ножке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жка в крапинках немнож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156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БЕРЕЗОВ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42792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листами на полян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ятки девочки играл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аились три сестрич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ло-желты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03:42Z</dcterms:created>
  <dc:creator>www.PHILka.RU</dc:creator>
  <dc:description/>
  <dc:language>en-US</dc:language>
  <cp:lastModifiedBy>www.PHILka.RU</cp:lastModifiedBy>
  <dcterms:modified xsi:type="dcterms:W3CDTF">2012-10-07T17:53:26Z</dcterms:modified>
  <cp:revision>22</cp:revision>
  <dc:subject/>
  <dc:title>«По ГРИБЫ»</dc:title>
</cp:coreProperties>
</file>