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EC82-EB06-4810-A1EE-39F0E516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3EA-E00A-4408-A8B2-AF4C81ED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878-8876-4A41-8444-006C7011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5B2-C3CC-4636-B7F7-C50BD539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DFF8-872B-47C0-A8A3-87A4DDAE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538-995E-41AC-B2E2-6D7A29EF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C78-009A-43E3-8460-402A952C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0D6E-B358-4320-9F86-726F0CFA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596B-2AD4-4FFC-9AD8-F4223391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FF32-C28A-401C-9FF2-D13BE407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945F-23C7-4651-A129-C82F45FB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27F-95EA-41E8-B46A-E90EDBAB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7CF8-F627-4DAF-B00A-87E7D63DA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По ГРИБ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 Вспомнить и закрепить с детьми знакомые названия грибов, где растут грибы, как их нужно собирать, обратить внимание детей на строение и окраску грибов, что можно делать из грибов. Развивать и обогащать словарный запас детей. Учить правильно, согласовывать существительные и прилагатель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20" y="0"/>
            <a:ext cx="328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. Новиков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т красавицы лисички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чень дружные сестрички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 укрыться не легко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идно очень далек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4880" y="6156360"/>
            <a:ext cx="280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ЛИСИЧ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3068280"/>
            <a:ext cx="91440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доль лесных дорожек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ного белых ножек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шляпках разноцветных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дали приметных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бирай, не мешкай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7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320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 Чефано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олянке, вдоль дорож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юду встретится о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ыроежка-гриб хорош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ляпка издали видн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ёлтая и красн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ыроежка разна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1240" y="6156360"/>
            <a:ext cx="324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ЫРОЕЖ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3716280"/>
            <a:ext cx="91440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ст лесной подняли блюдца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 травой они не бьются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тал грибник на блюдце – хрусть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хрупкий чё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343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. Ерошин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ечален очень груздь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груздя напала грусть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чему он грустный?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тому, что вкусный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5800" y="6156360"/>
            <a:ext cx="216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РУЗ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360" y="3644640"/>
            <a:ext cx="968364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пеньке сидят братишки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 в веснушках, шалунишки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и дружные ребята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ываю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00" y="0"/>
            <a:ext cx="437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Ероши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ять у опят на пеньке дискотека –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ну, потанцуйте в такой тесноте-ка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пятся на сцене пять сотен опят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пятах пенёк от макушки до пят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7240" y="6156360"/>
            <a:ext cx="21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ПЯТ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9280" y="3644640"/>
            <a:ext cx="91440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шляпе розовой, мохнатой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Но не выглядит растяпой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Будто плюшевое ушко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Для соления 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60" y="0"/>
            <a:ext cx="341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Гаврико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 листвою три волнушк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подружки-хохотушки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гибай пониже спину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гласи в свою корзин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8000" y="5877000"/>
            <a:ext cx="456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ЛН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3715920"/>
            <a:ext cx="9144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околадно-бурый гриб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скользкой шляпке лист прилип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ротник ажурный тонок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иб такой зовут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14036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берёзки да дуб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м выросли  грибы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ут -  волнушки и опят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 -  лисички и маслят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сосной -  боровик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 им рады гриб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Абин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0" y="2205000"/>
            <a:ext cx="507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росил у гриба под осиною еж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ажи, почему ты на зонтик похож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гриб засмеялся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т странный вопрос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ь я же в погоду дождливую рос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Пляцковски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724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акие съедобные грибы вы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опробуйте отгадать загад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80" y="0"/>
            <a:ext cx="4460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. Ерошин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шёл маслят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ра за ножик браться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А ну, в лукошко полезайте, братцы!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ни смеются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Мало нас найти!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перь ещё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пробуй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хват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20320" y="6156360"/>
            <a:ext cx="32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АСЛЕНО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земле лежит лепёш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 дождя она рас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шь дотронешься немнож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ё сразу разор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ых! И вырвался кост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ымным облаком из спо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9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07240" y="6156360"/>
            <a:ext cx="31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ДОЖДЕВ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47640" y="2636640"/>
            <a:ext cx="5400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в лес пош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гриб наш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чистить с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жарить с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сел и съ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того и потолст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имнастика Гри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4247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2204640"/>
            <a:ext cx="91440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ле тёплого дождя —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есть лисичек, три груздя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е волнушки, восемь белых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лке что с грибами делать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 — сушить, вот эти — в бочку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удут славными грибочк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. Сашин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Что можно делать с грибам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45800" y="2565360"/>
            <a:ext cx="238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ЖАР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390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99240" y="2565360"/>
            <a:ext cx="22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АР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33210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5546880"/>
            <a:ext cx="518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ОЛИТЬ И МАРИНО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870880" y="6156360"/>
            <a:ext cx="24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УШ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84680" y="6156360"/>
            <a:ext cx="670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 ДАЖЕ  ИСПЕЧЬ ПИРОГ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357336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т гриб живет под елью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 ее огромной тенью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удрый бородач-старик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итель бора - ..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60" y="0"/>
            <a:ext cx="321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. Ерошин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 бродил в бору не зря –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ыскал богатыря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Белый!- крикнул я.– Ура!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сё! Теперь Домой пор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615636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БОРОВИ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364464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 в красной шапочке расту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еди корней осиновых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ня узнаешь за версту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овусь 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80" y="0"/>
            <a:ext cx="279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. Грудан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 осинкой у вор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осиновик растё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горит, горит огнё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апка красная на нём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7400" y="6156360"/>
            <a:ext cx="42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ДОСИНОВ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3789000"/>
            <a:ext cx="91440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роще у березк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встречались тезки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8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12000" y="0"/>
            <a:ext cx="313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. Лукашкина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 берёзой впереди –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берёзовик, гляди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высокой стройной ножке…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жка в крапинках немножко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6156360"/>
            <a:ext cx="47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ДБЕРЕЗОВ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427920"/>
            <a:ext cx="892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 листами на поляне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прятки девочки играли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таились три сестрички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етло-желтые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3:03:42Z</dcterms:created>
  <dc:creator>www.PHILka.RU</dc:creator>
  <dc:description/>
  <dc:language>en-US</dc:language>
  <cp:lastModifiedBy>www.PHILka.RU</cp:lastModifiedBy>
  <dcterms:modified xsi:type="dcterms:W3CDTF">2012-10-07T17:53:26Z</dcterms:modified>
  <cp:revision>22</cp:revision>
  <dc:subject/>
  <dc:title>«По ГРИБЫ»</dc:title>
</cp:coreProperties>
</file>