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651-FC46-4D85-8801-13695BF6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443-8F12-4CB4-9A84-0318D831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FE65-5C84-40E9-8321-D4B1A533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D9D-3B5F-463B-A8CC-C976BBDE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41DE-0301-47FD-B910-E4465ECB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6DF8-A360-4A15-BCA8-8DEB9DD0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3E62-360E-463C-881B-170F60F2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B693-A03C-4610-AFDD-7E94F131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2AEB-95BC-4BCD-9BAD-B7D6CB7F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9EB8-9605-4052-938A-D4FCB6C5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19FD-7A6A-497F-A26B-F319322A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FF7-0332-4A39-99EB-A5F0B51D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9571-008A-4C06-84A2-8979EF88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8BCF-33F8-4E24-9257-EE6EAB80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A056-C883-4EF7-9B1B-1D5F1DC8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F3AF-2148-4F21-924E-5BEEC10B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C4C8-59DB-4922-B264-01BB4359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082-DE9D-4BE1-82E5-BE9898D3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1AEF-C620-447F-8C41-898D1198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EE7-C9F6-4BA8-9532-84FDB7CD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CC04-8FA2-41AA-937D-69D91AFE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25B3-4333-4139-8A78-996F0B5E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3F98-FE9A-4674-B22E-578E8195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F29-8C52-4C9B-B10B-B0EFB579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96AF-8864-4E30-AF6E-F7CCA16500F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Прямая соединительная линия 7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" name="Прямая соединительная линия 7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ая соединительная линия 8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8" name="Прямая соединительная линия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5521-A7C8-44EE-94CD-1B4E74B8826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9"/>
          <p:cNvSpPr/>
          <p:nvPr/>
        </p:nvSpPr>
        <p:spPr>
          <a:xfrm>
            <a:off x="3733920" y="632448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осква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C:\Documents and Settings\Семья\Рабочий стол\ПРО ПТИЦ\i.jpeg"/>
          <p:cNvPicPr/>
          <p:nvPr/>
        </p:nvPicPr>
        <p:blipFill>
          <a:blip r:embed="rId1"/>
          <a:stretch/>
        </p:blipFill>
        <p:spPr>
          <a:xfrm>
            <a:off x="152280" y="3352680"/>
            <a:ext cx="4572000" cy="278604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7" descr=""/>
          <p:cNvPicPr/>
          <p:nvPr/>
        </p:nvPicPr>
        <p:blipFill>
          <a:blip r:embed="rId2"/>
          <a:stretch/>
        </p:blipFill>
        <p:spPr>
          <a:xfrm>
            <a:off x="-268200" y="2133720"/>
            <a:ext cx="10418760" cy="184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82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предполагает знакомство детей с птицами  средней полосы.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. </a:t>
            </a:r>
            <a:r>
              <a:rPr b="0" lang="ru-RU" sz="2100" spc="-1" strike="noStrike">
                <a:solidFill>
                  <a:srgbClr val="4e3b30"/>
                </a:solidFill>
                <a:latin typeface="Arial"/>
              </a:rPr>
              <a:t>Познакомить детей с обитателями средней полосы. Дать представление о разнообразии видов птиц. Показать участие человека в жизни птиц. Научить детей взаимодействовать с природой. </a:t>
            </a: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4e3b30"/>
                </a:solidFill>
                <a:latin typeface="Arial"/>
              </a:rPr>
              <a:t>Активизировать исследовательскую деятельность детей путем наблюдения за птицами и непосредственного взаимодействия сними- кормлением птиц.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редставление о среде обитания, </a:t>
            </a: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мения работы с различными источниками информации.</a:t>
            </a: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- исследовательский;</a:t>
            </a: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демонстративный; </a:t>
            </a: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иллюстративный;</a:t>
            </a: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вербальный (объяснение)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82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ca1"/>
                </a:solidFill>
                <a:latin typeface="Times New Roman"/>
                <a:ea typeface="Arial"/>
              </a:rPr>
              <a:t>Основной вопрос</a:t>
            </a:r>
            <a:r>
              <a:rPr b="1" lang="ru-RU" sz="2800" spc="-1" strike="noStrike">
                <a:solidFill>
                  <a:srgbClr val="1f4ca1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«какие птицы коренные жители средней полосы?»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ca1"/>
                </a:solidFill>
                <a:latin typeface="Times New Roman"/>
              </a:rPr>
              <a:t>Вопросы темы учебной программы: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е птицы обитают в средней полосе?»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«какие птицы остаются зимовать в средней полосе?»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«какие птицы улетают зимовать в теплые страны?»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82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Материал  рекомендуется изучать на уроках экологического воспитания.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</a:rPr>
              <a:t>Урок «пернатые путешественники и оседлые пернатые».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ся проведение 4 - 5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адемических час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амках данной темы.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е занятие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нести ученикам основной матери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лекция) + дидактический матери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ледующие занятия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абота учащихся с компьютер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езентации, сайта \ публикац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леднее занятие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общение пройденного материала + анализ и оценка выполненных работ, такж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с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проверки уровня усвоения основных биологических понятий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4:21:11Z</dcterms:created>
  <dc:creator>Семья</dc:creator>
  <dc:description/>
  <dc:language>en-US</dc:language>
  <cp:lastModifiedBy>Оксаночка</cp:lastModifiedBy>
  <dcterms:modified xsi:type="dcterms:W3CDTF">2013-01-20T18:24:34Z</dcterms:modified>
  <cp:revision>32</cp:revision>
  <dc:subject/>
  <dc:title>Наши птицы – москвичи . </dc:title>
</cp:coreProperties>
</file>