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CE60-BD93-49AC-AB27-D8B3ECD5D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7304-5A74-47D1-ACEE-C95B5234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A707-A2EC-44A4-BEE1-F31FD52FD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F055-67BF-4C65-859D-0895D717F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0E24-6EFE-4CEE-B02B-E1EB150B2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F493-B14D-4771-9ABE-CE864F57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4E1B-82D7-4DCA-B14B-AD18D45A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4860-31D6-487A-9927-513E0E66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D536-5090-4291-9E40-F3AB4776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59BB-34DF-41A1-B0DF-9FC704FF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F44D-23F5-47C3-B865-377E300F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6BB7-80FF-40DA-BFE9-8C772071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4210-E02E-4E7F-BB68-7BA32EB8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9C12-B8CA-4770-A199-84290200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D56B-31AA-4E32-901B-90FFE16E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8DBA-D83F-45D4-800D-B416BD3F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E8DB-4358-48DB-9C56-F6186FCE3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5CC5-F962-43DF-8231-509209AF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847C-4B7F-4073-9CA3-06E8C0AB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E491-2651-4210-BABE-5A061F5D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FABB-52BD-4825-82CF-F046F5C0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DDEF-F10C-4872-82FE-D1206739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2E77-3B60-4744-9CF0-97B391BE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6B9C-20D0-493C-ADC6-83DC731F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23F0-2A43-4FF4-8DCC-B3B712B9643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Прямая соединительная линия 7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" name="Прямая соединительная линия 7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Прямая соединительная линия 8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8" name="Прямая соединительная линия 8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7EAD-1D57-4F39-BBC2-516D8C5D78E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9"/>
          <p:cNvSpPr/>
          <p:nvPr/>
        </p:nvSpPr>
        <p:spPr>
          <a:xfrm>
            <a:off x="3733920" y="632448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Москва 200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C:\Documents and Settings\Семья\Рабочий стол\ПРО ПТИЦ\i.jpeg"/>
          <p:cNvPicPr/>
          <p:nvPr/>
        </p:nvPicPr>
        <p:blipFill>
          <a:blip r:embed="rId1"/>
          <a:stretch/>
        </p:blipFill>
        <p:spPr>
          <a:xfrm>
            <a:off x="152280" y="3352680"/>
            <a:ext cx="4572000" cy="278604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7" descr=""/>
          <p:cNvPicPr/>
          <p:nvPr/>
        </p:nvPicPr>
        <p:blipFill>
          <a:blip r:embed="rId2"/>
          <a:stretch/>
        </p:blipFill>
        <p:spPr>
          <a:xfrm>
            <a:off x="-268200" y="2133720"/>
            <a:ext cx="10418760" cy="184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82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304920" y="1553760"/>
            <a:ext cx="868680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предполагает знакомство детей с птицами  средней полосы.</a:t>
            </a:r>
            <a:endParaRPr b="0" lang="en-US" sz="1800" spc="-1" strike="noStrike">
              <a:solidFill>
                <a:srgbClr val="4e3b3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. </a:t>
            </a:r>
            <a:r>
              <a:rPr b="0" lang="ru-RU" sz="2100" spc="-1" strike="noStrike">
                <a:solidFill>
                  <a:srgbClr val="4e3b30"/>
                </a:solidFill>
                <a:latin typeface="Arial"/>
              </a:rPr>
              <a:t>Познакомить детей с обитателями средней полосы. Дать представление о разнообразии видов птиц. Показать участие человека в жизни птиц. Научить детей взаимодействовать с природой. </a:t>
            </a:r>
            <a:endParaRPr b="0" lang="en-US" sz="2100" spc="-1" strike="noStrike">
              <a:solidFill>
                <a:srgbClr val="4e3b3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4e3b30"/>
                </a:solidFill>
                <a:latin typeface="Arial"/>
              </a:rPr>
              <a:t>Активизировать исследовательскую деятельность детей путем наблюдения за птицами и непосредственного взаимодействия сними- кормлением птиц.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представление о среде обитания, </a:t>
            </a:r>
            <a:endParaRPr b="0" lang="en-US" sz="2100" spc="-1" strike="noStrike">
              <a:solidFill>
                <a:srgbClr val="4e3b3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24"/>
              </a:spcBef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мения работы с различными источниками информации.</a:t>
            </a:r>
            <a:endParaRPr b="0" lang="en-US" sz="2100" spc="-1" strike="noStrike">
              <a:solidFill>
                <a:srgbClr val="4e3b3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тоды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- исследовательский;</a:t>
            </a:r>
            <a:endParaRPr b="0" lang="en-US" sz="2100" spc="-1" strike="noStrike">
              <a:solidFill>
                <a:srgbClr val="4e3b3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- демонстративный; </a:t>
            </a:r>
            <a:endParaRPr b="0" lang="en-US" sz="2100" spc="-1" strike="noStrike">
              <a:solidFill>
                <a:srgbClr val="4e3b3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- иллюстративный;</a:t>
            </a:r>
            <a:endParaRPr b="0" lang="en-US" sz="2100" spc="-1" strike="noStrike">
              <a:solidFill>
                <a:srgbClr val="4e3b3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- вербальный (объяснение).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100" spc="-1" strike="noStrike">
              <a:solidFill>
                <a:srgbClr val="4e3b3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82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ca1"/>
                </a:solidFill>
                <a:latin typeface="Times New Roman"/>
                <a:ea typeface="Arial"/>
              </a:rPr>
              <a:t>Основной вопрос</a:t>
            </a:r>
            <a:r>
              <a:rPr b="1" lang="ru-RU" sz="2800" spc="-1" strike="noStrike">
                <a:solidFill>
                  <a:srgbClr val="1f4ca1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</a:rPr>
              <a:t>«какие птицы коренные жители средней полосы?»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ca1"/>
                </a:solidFill>
                <a:latin typeface="Times New Roman"/>
              </a:rPr>
              <a:t>Вопросы темы учебной программы: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ие птицы обитают в средней полосе?»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«какие птицы остаются зимовать в средней полосе?»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«какие птицы улетают зимовать в теплые страны?»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82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Arial"/>
              </a:rPr>
              <a:t>Материал  рекомендуется изучать на уроках экологического воспитания. 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</a:rPr>
              <a:t>Урок «пернатые путешественники и оседлые пернатые».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тся проведение 4 - 5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кадемических час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рамках данной темы. 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е занятие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нести ученикам основной материа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лекция) + дидактический материа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ледующие занятия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работа учащихся с компьютеро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презентации, сайта \ публикаци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леднее занятие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общение пройденного материала + анализ и оценка выполненных работ, такж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с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проверки уровня усвоения основных биологических понятий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14:21:11Z</dcterms:created>
  <dc:creator>Семья</dc:creator>
  <dc:description/>
  <dc:language>en-US</dc:language>
  <cp:lastModifiedBy>Оксаночка</cp:lastModifiedBy>
  <dcterms:modified xsi:type="dcterms:W3CDTF">2013-01-20T18:24:34Z</dcterms:modified>
  <cp:revision>32</cp:revision>
  <dc:subject/>
  <dc:title>Наши птицы – москвичи . </dc:title>
</cp:coreProperties>
</file>