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B43-75E9-405E-80AC-DFA79A97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BF5-2115-48B9-94AB-A029CF78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BF2-4D82-44D0-9586-1BDB6984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C5C-E102-45B9-A0F9-6595E3FB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E545-CEDA-4C92-95D1-F5D39A93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D1C2-1A05-4030-B5FC-CBE52D47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23FC-8B86-45B9-BB52-0AD97B53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1386-9A7A-44BC-9B7D-FC677532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4C1B-EE3B-45BE-9433-EEE71C8F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4C4C-AAEC-4D87-87A7-549F966B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EC41-EC78-4B8C-903A-39ECABE2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A4C-B31A-4A7E-A601-F7050746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6319-37D8-4127-A42E-820DD8F2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F387-CE17-4EC7-8B1D-0D5F0B7C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2349-618F-4FCD-90D2-25A6BBB3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6063-3F6E-4D72-BCA4-245959A1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1A30-1EA7-4BD1-9272-7CF06563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907-8427-4181-BDDE-99546422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3E2-1E9E-4D8F-B68F-7AB53001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3D8-E310-41C3-821C-53159359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3E6-FBA8-4324-B697-3B0E0AE9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8EF-E7A0-4625-9894-3DDC8354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D71-B048-48B3-B7A7-FF8B958C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4A1-FCD5-42FB-9625-E2675352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4528-A888-4D3A-9121-358F2AF8AC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Прямая соединительная линия 7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" name="Прямая соединительная линия 7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ая соединительная линия 8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8" name="Прямая соединительная линия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C34A-83DF-4945-975B-7C6BC4335E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9"/>
          <p:cNvSpPr/>
          <p:nvPr/>
        </p:nvSpPr>
        <p:spPr>
          <a:xfrm>
            <a:off x="3733920" y="63244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осква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C:\Documents and Settings\Семья\Рабочий стол\ПРО ПТИЦ\i.jpeg"/>
          <p:cNvPicPr/>
          <p:nvPr/>
        </p:nvPicPr>
        <p:blipFill>
          <a:blip r:embed="rId1"/>
          <a:stretch/>
        </p:blipFill>
        <p:spPr>
          <a:xfrm>
            <a:off x="152280" y="3352680"/>
            <a:ext cx="4572000" cy="278604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7" descr=""/>
          <p:cNvPicPr/>
          <p:nvPr/>
        </p:nvPicPr>
        <p:blipFill>
          <a:blip r:embed="rId2"/>
          <a:stretch/>
        </p:blipFill>
        <p:spPr>
          <a:xfrm>
            <a:off x="-268200" y="2133720"/>
            <a:ext cx="10418760" cy="184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82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предполагает знакомство детей с птицами  средней полосы.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. </a:t>
            </a:r>
            <a:r>
              <a:rPr b="0" lang="ru-RU" sz="2100" spc="-1" strike="noStrike">
                <a:solidFill>
                  <a:srgbClr val="4e3b30"/>
                </a:solidFill>
                <a:latin typeface="Arial"/>
              </a:rPr>
              <a:t>Познакомить детей с обитателями средней полосы. Дать представление о разнообразии видов птиц. Показать участие человека в жизни птиц. Научить детей взаимодействовать с природой. 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4e3b30"/>
                </a:solidFill>
                <a:latin typeface="Arial"/>
              </a:rPr>
              <a:t>Активизировать исследовательскую деятельность детей путем наблюдения за птицами и непосредственного взаимодействия сними- кормлением птиц.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е о среде обитания, 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мения работы с различными источниками информации.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- исследовательский;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демонстративный; 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иллюстративный;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вербальный (объяснение)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82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ca1"/>
                </a:solidFill>
                <a:latin typeface="Times New Roman"/>
                <a:ea typeface="Arial"/>
              </a:rPr>
              <a:t>Основной вопрос</a:t>
            </a:r>
            <a:r>
              <a:rPr b="1" lang="ru-RU" sz="2800" spc="-1" strike="noStrike">
                <a:solidFill>
                  <a:srgbClr val="1f4ca1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«какие птицы коренные жители средней полосы?»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ca1"/>
                </a:solidFill>
                <a:latin typeface="Times New Roman"/>
              </a:rPr>
              <a:t>Вопросы темы учебной программы: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е птицы обитают в средней полосе?»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«какие птицы остаются зимовать в средней полосе?»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«какие птицы улетают зимовать в теплые страны?»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82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Материал  рекомендуется изучать на уроках экологического воспитания.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</a:rPr>
              <a:t>Урок «пернатые путешественники и оседлые пернатые».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ся проведение 4 - 5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адемических час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амках данной темы.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е занятие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нести ученикам основной матери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лекция) + дидактический матери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ледующие занятия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абота учащихся с компьютер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зентации, сайта \ публикац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леднее занятие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бщение пройденного материала + анализ и оценка выполненных работ, такж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с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роверки уровня усвоения основных биологических понятий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4:21:11Z</dcterms:created>
  <dc:creator>Семья</dc:creator>
  <dc:description/>
  <dc:language>en-US</dc:language>
  <cp:lastModifiedBy>Оксаночка</cp:lastModifiedBy>
  <dcterms:modified xsi:type="dcterms:W3CDTF">2013-01-20T18:24:34Z</dcterms:modified>
  <cp:revision>32</cp:revision>
  <dc:subject/>
  <dc:title>Наши птицы – москвичи . </dc:title>
</cp:coreProperties>
</file>