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gif" ContentType="image/gif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F72E-BF14-4AFA-8363-50A63A93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D898-40ED-4251-AA7E-7F50CBD9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D93F-894A-4DF3-94A3-896D7AE3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7619-8068-4EEF-905F-BDB72279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5849-3326-44D3-ACA8-E50D8510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B3E5-BB22-4765-BF7C-34AC421C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5067-6ED6-4D77-BA1A-9A3DCC76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ABE7-6B5C-4311-9BB4-46BEA86F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499E-6E5D-4A3E-94D4-26EDB42B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6038-2049-4368-B3DD-33148181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A8D0-8B5F-4DB0-9788-E91BA8F4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7FED-4AE8-4066-B42F-0A8AD3BA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C1A2-4736-4528-BFB3-C7A5C357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0F28-7627-4D51-AC38-4D748AB7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B402-7F2C-4961-BFD7-D4FA599B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B7FE-DF1A-4050-9254-60F6D5A96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94EE-EAD6-404A-8DEE-9895E316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2CDE2-B908-4BEC-81D0-04DF4769E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51BF4-79C9-4E45-AB79-8BC07116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E8B1B-61FD-40E7-A1F2-EA8AFEC6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BB16A-4672-4270-8ED7-EADDB54D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182A1-91B8-4047-B3E8-FAAFFAAF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04C4-6558-48F2-BDA0-A0E838F1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98ADD-3DB4-40AD-AAC5-C698CEC6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86246-0564-45CB-B14B-D5865589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16936-6398-498A-9D49-8C06A684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EF4FA-D7D3-43E3-A29E-090E8C44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28D1F-E9E6-48A6-8668-025B39EF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CB284-9CF7-4D61-8AED-8D2F0F133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4359D-17D2-453E-8EE4-FE327B2E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F846F-E0FD-48ED-AE93-0956BCAC8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143EB-B1D0-4EA4-AC9A-67ED9191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D7421-67D9-45C6-A4F6-BF7CE9B2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9193-9983-4853-8AC4-6BFA080A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B2DE2-6576-42A3-881F-23B7F5CF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A5EC5-8ABA-46CE-B4DD-E6A2918D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9FF7A-AC32-47E3-963F-217B489B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F0EDF-66E6-4A0E-BC86-B35F0318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10BDD-B7BB-46C8-BC8B-70E3D0EB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A8281-34D6-418A-A54B-43BC1A2C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82854-B866-4530-8828-CBF6CFE0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306BA-2527-4F52-AE74-0D16F8A9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D05D4-29E4-4CDE-A045-6A5F3B373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9F71F-9D6B-410A-81FD-5DA0FFBD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D551-0FD4-4115-9A95-2B7A8471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A84C2-BEF7-4DE0-9B8F-A2804D2D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E1608-1353-481B-AE31-C015E633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7BC48-8EA3-45F4-B2A4-ADF2AAB6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EE520-D43B-4982-8B03-FE4FF3F7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10C9A-662B-4C29-9618-111CBA6B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8E784-9994-4DD0-8E3D-1FC7EE39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BE0DE-18F7-4684-96B9-45E69AA8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E1F0B-E082-4A7E-848D-2B5FCD56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5C3F1-3EEB-4418-9EBE-B87B1365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2F61A-4E86-4967-94CE-ABC89CC9C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F08A-B357-4216-8443-8070AF4F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89F26-5E2D-4CEA-926A-1000ACF8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A07AD-4539-4477-AE78-38E8D8D7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BBF4C-C61A-4992-A34F-25A86E75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9020B-DFB1-4AC2-8FCC-C98AA12D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CD498-52B3-4A28-9C8F-FD006079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791E4-7644-4115-8668-3EAD6ABA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2561B-711F-49B6-A6CC-C023696D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8E3F4-13E3-41C3-A41A-47F27B7A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34768-214D-46D3-8754-E96BC31F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E5D80-79E5-411A-9E72-B28C7959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4484-4041-4759-AFAF-72153C15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0872F-32F1-439F-AB40-91B7DFD9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D3E42-00C1-4AC5-89F0-ACE75826C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0851C-6341-4443-B82C-C3E1B42AA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6333D-5907-497B-A377-C7C87D788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A1F7F-4155-4782-9414-6C27996D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4F933-4D30-4CA7-8205-EC335DA0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E988A-50D7-490C-99F9-0E9935A4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ED331-DEC4-42D5-90F3-FF1550AC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66224-60AA-4E67-90C6-D9CA11D2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9D325-18E1-40EB-8550-12CDB29B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885F-D99B-4099-8DDD-8FA77E2E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0F651-E128-43CD-A821-144E9CDF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49719-D4E9-4D3E-A649-CF5239DE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4AA8E-BFAF-4E3D-B99C-D84C2076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D6A1B-8E69-4586-A2DF-D7B970C57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6EE41-D4B9-4C76-A729-2F09E07A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E972-068A-4D57-87E1-A5E85FFD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1A80-9838-4888-BD33-E456CE53DB2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D0D7-75CB-4A75-B92F-43F85C253A0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FD6F-19EB-4908-B164-9C470E3FCEB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4BB9-EBE3-4171-9A81-1F9D89BEA19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C492-8EF5-4EBE-AC56-711A08247DB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F735-4EBB-4219-BED5-7F680B12BE6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9B03-0CE6-43F5-8E0C-092EB0C5A3D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8960" y="198108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Тема: Метод подстановки</a:t>
            </a:r>
            <a:br>
              <a:rPr sz="4300"/>
            </a:br>
            <a:r>
              <a:rPr b="1" i="1" lang="ru-RU" sz="20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7 класс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47560" y="426672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Подготовила учитель математик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МОУ «Первитинская ООШ» Забелина Л.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ассмотрим систему уравнений и количество её решений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1" name="Содержимое 5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2819520" cy="121896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8" descr=""/>
          <p:cNvPicPr/>
          <p:nvPr/>
        </p:nvPicPr>
        <p:blipFill>
          <a:blip r:embed="rId2"/>
          <a:stretch/>
        </p:blipFill>
        <p:spPr>
          <a:xfrm>
            <a:off x="1066680" y="2819520"/>
            <a:ext cx="5867640" cy="35049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"/>
          <p:cNvPicPr/>
          <p:nvPr/>
        </p:nvPicPr>
        <p:blipFill>
          <a:blip r:embed="rId3"/>
          <a:stretch/>
        </p:blipFill>
        <p:spPr>
          <a:xfrm>
            <a:off x="6946920" y="1905120"/>
            <a:ext cx="2197080" cy="1801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"/>
          <p:cNvPicPr/>
          <p:nvPr/>
        </p:nvPicPr>
        <p:blipFill>
          <a:blip r:embed="rId4"/>
          <a:stretch/>
        </p:blipFill>
        <p:spPr>
          <a:xfrm>
            <a:off x="7010280" y="4038480"/>
            <a:ext cx="182592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360" y="4114440"/>
            <a:ext cx="7407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шим второе уравнение и найдем значение переменной </a:t>
            </a:r>
            <a:r>
              <a:rPr b="1" i="1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х:</a:t>
            </a:r>
            <a:br>
              <a:rPr sz="2200"/>
            </a:br>
            <a:r>
              <a:rPr b="1" i="1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                   х=</a:t>
            </a:r>
            <a:r>
              <a:rPr b="1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3886200" y="5866920"/>
            <a:ext cx="4664160" cy="381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решение системы уравнений (1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7" name="Содержимое 3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4267080" cy="1371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"/>
          <p:cNvPicPr/>
          <p:nvPr/>
        </p:nvPicPr>
        <p:blipFill>
          <a:blip r:embed="rId2"/>
          <a:stretch/>
        </p:blipFill>
        <p:spPr>
          <a:xfrm>
            <a:off x="944640" y="1676520"/>
            <a:ext cx="8199360" cy="4572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1523880" y="2133720"/>
            <a:ext cx="1998720" cy="5331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"/>
          <p:cNvPicPr/>
          <p:nvPr/>
        </p:nvPicPr>
        <p:blipFill>
          <a:blip r:embed="rId4"/>
          <a:stretch/>
        </p:blipFill>
        <p:spPr>
          <a:xfrm>
            <a:off x="762120" y="2666880"/>
            <a:ext cx="8381880" cy="4194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"/>
          <p:cNvPicPr/>
          <p:nvPr/>
        </p:nvPicPr>
        <p:blipFill>
          <a:blip r:embed="rId5"/>
          <a:stretch/>
        </p:blipFill>
        <p:spPr>
          <a:xfrm>
            <a:off x="1219320" y="3200400"/>
            <a:ext cx="3695760" cy="9144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"/>
          <p:cNvPicPr/>
          <p:nvPr/>
        </p:nvPicPr>
        <p:blipFill>
          <a:blip r:embed="rId6"/>
          <a:srcRect l="0" t="0" r="0" b="37666"/>
          <a:stretch/>
        </p:blipFill>
        <p:spPr>
          <a:xfrm>
            <a:off x="1295280" y="4952880"/>
            <a:ext cx="6500880" cy="381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"/>
          <p:cNvPicPr/>
          <p:nvPr/>
        </p:nvPicPr>
        <p:blipFill>
          <a:blip r:embed="rId7"/>
          <a:stretch/>
        </p:blipFill>
        <p:spPr>
          <a:xfrm>
            <a:off x="1295280" y="5410080"/>
            <a:ext cx="4741920" cy="3049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8" descr=""/>
          <p:cNvPicPr/>
          <p:nvPr/>
        </p:nvPicPr>
        <p:blipFill>
          <a:blip r:embed="rId8"/>
          <a:stretch/>
        </p:blipFill>
        <p:spPr>
          <a:xfrm>
            <a:off x="1295280" y="5943600"/>
            <a:ext cx="2438640" cy="3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6" name="Рисунок 3" descr=""/>
          <p:cNvPicPr/>
          <p:nvPr/>
        </p:nvPicPr>
        <p:blipFill>
          <a:blip r:embed="rId1"/>
          <a:stretch/>
        </p:blipFill>
        <p:spPr>
          <a:xfrm>
            <a:off x="1752480" y="380880"/>
            <a:ext cx="6934320" cy="1371600"/>
          </a:xfrm>
          <a:prstGeom prst="rect">
            <a:avLst/>
          </a:prstGeom>
          <a:ln w="0">
            <a:noFill/>
          </a:ln>
        </p:spPr>
      </p:pic>
      <p:pic>
        <p:nvPicPr>
          <p:cNvPr id="337" name="Содержимое 4" descr=""/>
          <p:cNvPicPr/>
          <p:nvPr/>
        </p:nvPicPr>
        <p:blipFill>
          <a:blip r:embed="rId2"/>
          <a:srcRect l="0" t="15507" r="0" b="0"/>
          <a:stretch/>
        </p:blipFill>
        <p:spPr>
          <a:xfrm>
            <a:off x="1066680" y="1905120"/>
            <a:ext cx="7467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лгоритм решения системы уравнений: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9" name="Содержимое 3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6553440" cy="281952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4" descr=""/>
          <p:cNvPicPr/>
          <p:nvPr/>
        </p:nvPicPr>
        <p:blipFill>
          <a:blip r:embed="rId2"/>
          <a:stretch/>
        </p:blipFill>
        <p:spPr>
          <a:xfrm>
            <a:off x="1371600" y="4800600"/>
            <a:ext cx="6400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7"/>
          <p:cNvSpPr/>
          <p:nvPr/>
        </p:nvSpPr>
        <p:spPr>
          <a:xfrm>
            <a:off x="1600200" y="3962520"/>
            <a:ext cx="2305080" cy="2232000"/>
          </a:xfrm>
          <a:prstGeom prst="smileyFace">
            <a:avLst>
              <a:gd name="adj" fmla="val 750"/>
            </a:avLst>
          </a:prstGeom>
          <a:solidFill>
            <a:srgbClr val="ffcc66"/>
          </a:solidFill>
          <a:ln w="38160">
            <a:solidFill>
              <a:srgbClr val="2713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8"/>
          <p:cNvSpPr/>
          <p:nvPr/>
        </p:nvSpPr>
        <p:spPr>
          <a:xfrm>
            <a:off x="4114800" y="2057400"/>
            <a:ext cx="2295360" cy="2214720"/>
          </a:xfrm>
          <a:prstGeom prst="smileyFace">
            <a:avLst>
              <a:gd name="adj" fmla="val 9282"/>
            </a:avLst>
          </a:prstGeom>
          <a:solidFill>
            <a:srgbClr val="ff99ff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9"/>
          <p:cNvSpPr/>
          <p:nvPr/>
        </p:nvSpPr>
        <p:spPr>
          <a:xfrm>
            <a:off x="6324480" y="3962520"/>
            <a:ext cx="2394000" cy="2374920"/>
          </a:xfrm>
          <a:prstGeom prst="smileyFace">
            <a:avLst>
              <a:gd name="adj" fmla="val -4652"/>
            </a:avLst>
          </a:prstGeom>
          <a:solidFill>
            <a:srgbClr val="e0c1ff"/>
          </a:solidFill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цените свою уверенность при решении задач. 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5" name="Picture 19" descr="priroda067"/>
          <p:cNvPicPr/>
          <p:nvPr/>
        </p:nvPicPr>
        <p:blipFill>
          <a:blip r:embed="rId1"/>
          <a:stretch/>
        </p:blipFill>
        <p:spPr>
          <a:xfrm>
            <a:off x="571680" y="2000160"/>
            <a:ext cx="20602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87283E-006 L 0.35452 -0.34612 E">
                                      <p:cBhvr>
                                        <p:cTn id="43" dur="3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79769E-006 L 0.09375 0.34081 E">
                                      <p:cBhvr>
                                        <p:cTn id="45" dur="3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79769E-006 L -0.5467 -0.0155 E">
                                      <p:cBhvr>
                                        <p:cTn id="47" dur="3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7" name="Содержимое 3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715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7T11:05:45Z</dcterms:created>
  <dc:creator>Админ</dc:creator>
  <dc:description/>
  <dc:language>en-US</dc:language>
  <cp:lastModifiedBy>Админ</cp:lastModifiedBy>
  <dcterms:modified xsi:type="dcterms:W3CDTF">2015-03-31T20:09:33Z</dcterms:modified>
  <cp:revision>5</cp:revision>
  <dc:subject/>
  <dc:title>Метод подстановки</dc:title>
</cp:coreProperties>
</file>