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597-E4C9-4D1D-A627-F3456E2A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C6C-DC1E-48FA-97DC-A67F7B69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606-DF62-44DA-AB11-31C46847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2C6-5508-4E41-9D73-6CEF89CD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0B1B-955B-44FA-8D1D-457EB6B7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21FD-A787-4E49-BF7C-A0A705BE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3B1-6F20-46F6-A954-DE1AD64C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5CD6-7841-4CD7-B99E-D9E53617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6544-2AC3-468D-B5FA-A32B3F65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9DC-8FE6-47DF-890A-77A00B34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DFF7-A676-4176-BA47-963CF64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CF0-8352-490F-8DA1-4DB7ED74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AE6-906D-4F04-B737-A4991C9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4BE-5A3B-4845-A495-3A0E66C3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D4C-4219-4383-8881-07AC5FC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DE6-F826-400A-A80C-009FE438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AD22-6451-4202-B6EF-948A443B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5E80-4AC3-417A-9110-64357A57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7338-5E2E-4E8B-988A-3CCB875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0167-1163-4FAF-9A49-42FA11B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7C98-AC3C-4DC4-A853-F225FEBC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03A0-AB5C-40F4-A0E0-39C36031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77A-D9F6-43D7-9A0E-5282140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6761-3FB5-4E80-BB9F-704D2929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F334-2A08-487C-97CA-14B0F4C6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E44C-B0AC-446E-A7E5-46EC387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68F2-F9C2-4A37-9439-01E8152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6936-CE3C-4A8C-B0AC-B3B5E202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28ED-FCC3-4E01-BDEA-0C3159BD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A44A-39D4-48C7-8913-6F8A23B3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E090-61C0-4E8F-B6BF-AACEED99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E0FF-3539-4822-A7E2-DEAF363B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2667-E79F-45B6-AC47-D6F67A1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340-6CB5-4C85-9F1A-479562B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89D9-14A9-496E-BC01-3F4C86C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5C38-9018-45BB-BAF9-32C8EB29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B6EF-1D03-42C6-B021-467389D9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BD65-405F-482C-8102-8CB6E48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7E81-4E1A-41B8-A777-CA28396F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8396-786E-43B3-981A-0E925702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82A2-4366-4145-9D02-48BCE0B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7997-CFDC-47F3-B07B-2ED5682C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F7AA-C816-44CF-984E-9188EBC9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5008-6FF5-47DB-9FDF-EC21AC3C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E48-93F3-4070-8364-5FD7556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6B2D-5C5F-4416-84AF-D77448C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DB1D-7C3F-43D9-A9F7-EBD0209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33DF-B89A-4E72-8503-0B6DC70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FCC2-03A0-4963-931B-650C0BF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AC78-C592-4B58-8D83-6EA8208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1C4B-ED0E-4DF8-91EA-7AD84CC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277C-7FFF-4BA7-B2BB-D99CC65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5844-61B6-4F1E-9AE5-802CC3F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A2F3-0021-4326-A443-109D8AFE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0A7F-9940-49E0-B15E-824DAA2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28B-FDBF-49C1-8A13-12DBB696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975B-2F49-45CA-9F56-AE0CE867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D987-AA7F-4524-B5ED-AEA292EF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75AD-8542-4619-8049-A1A54F97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AFD0-CDD3-49F4-ABD5-6F6D085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EE2B-DFE5-486C-B790-6EAC7B8B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E15EE-AA6D-4C46-AD47-3F8A6B2D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14F5-17C8-4B92-B5C4-0E01B5D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816A4-4562-4DC4-940F-FDAA6E6C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497F-B41A-4E5A-AB47-6BD8B71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AD2A1-3E22-4633-92EC-44AAB27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9AA-1B09-40B2-BE2A-DB5CF85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2B92-6403-4AAA-ABDE-12FCC54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B3DC-0C54-4EA0-BE46-2C10F782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521A-BD7F-46DF-9264-A8D340D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6EBAE-8D01-4885-B9EC-F674DBCF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D3F3-20C4-4EBB-8680-FDC762F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2DC43-0BE6-46DA-BD79-E965F9F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D5507-2238-48B4-A4DD-36B5E67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9A473-F498-4836-901E-0A4288D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2C57-17B9-4E21-B7EA-D31ACE95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791C-8462-457A-B0B8-672C393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1A3-EABD-4C16-97B6-A53811B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FE53-5D82-4738-AB66-000EFB6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F355F-D823-4397-8DB5-103D0F2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8EE7-F980-474F-BD4E-6BFF68E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8D39-11A2-42A9-B7CD-1FE727A5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7CEC-ED28-45EE-9BA7-A9F50A88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182-CFD5-45AE-A3A8-5C56005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0F17-9709-4917-BEE2-E1A9C6C047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51F-02BA-4D8F-B99F-298A602521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BAE2-233F-4D45-9A0E-8533A551F4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79D-A538-4DC3-A317-A1CCFDFBAB1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C4E-8DD1-43BB-AD03-30D5B2F81FB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3CC-93BE-4193-B405-5D92486AAE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2844-BE17-4A6E-A4A3-803429558C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9810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ема: Метод подстановки</a:t>
            </a:r>
            <a:br>
              <a:rPr sz="4300"/>
            </a:br>
            <a:r>
              <a:rPr b="1" i="1" lang="ru-RU" sz="2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7 класс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Первитинская ООШ» Забелина Л.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смотрим систему уравнений и количество её решений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Содержимое 5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19520" cy="12189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8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867640" cy="3504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3"/>
          <a:stretch/>
        </p:blipFill>
        <p:spPr>
          <a:xfrm>
            <a:off x="6946920" y="1905120"/>
            <a:ext cx="2197080" cy="180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59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4114440"/>
            <a:ext cx="7407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шим второе уравнение и найдем значение переменной </a:t>
            </a: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: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х=</a:t>
            </a: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886200" y="5866920"/>
            <a:ext cx="4664160" cy="381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ешение системы уравнений (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8199360" cy="457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1523880" y="2133720"/>
            <a:ext cx="1998720" cy="533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762120" y="2666880"/>
            <a:ext cx="8381880" cy="41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69576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6"/>
          <a:srcRect l="0" t="0" r="0" b="37666"/>
          <a:stretch/>
        </p:blipFill>
        <p:spPr>
          <a:xfrm>
            <a:off x="1295280" y="4952880"/>
            <a:ext cx="6500880" cy="381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7"/>
          <a:stretch/>
        </p:blipFill>
        <p:spPr>
          <a:xfrm>
            <a:off x="1295280" y="5410080"/>
            <a:ext cx="4741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243864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Рисунок 3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4" descr=""/>
          <p:cNvPicPr/>
          <p:nvPr/>
        </p:nvPicPr>
        <p:blipFill>
          <a:blip r:embed="rId2"/>
          <a:srcRect l="0" t="15507" r="0" b="0"/>
          <a:stretch/>
        </p:blipFill>
        <p:spPr>
          <a:xfrm>
            <a:off x="1066680" y="190512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горитм решения системы уравнений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553440" cy="28195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6400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1600200" y="3962520"/>
            <a:ext cx="2305080" cy="2232000"/>
          </a:xfrm>
          <a:prstGeom prst="smileyFace">
            <a:avLst>
              <a:gd name="adj" fmla="val 750"/>
            </a:avLst>
          </a:prstGeom>
          <a:solidFill>
            <a:srgbClr val="ffcc66"/>
          </a:solidFill>
          <a:ln w="3816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4114800" y="2057400"/>
            <a:ext cx="2295360" cy="221472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6324480" y="3962520"/>
            <a:ext cx="2394000" cy="2374920"/>
          </a:xfrm>
          <a:prstGeom prst="smileyFace">
            <a:avLst>
              <a:gd name="adj" fmla="val -4652"/>
            </a:avLst>
          </a:prstGeom>
          <a:solidFill>
            <a:srgbClr val="e0c1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те свою уверенность при решении задач.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19" descr="priroda067"/>
          <p:cNvPicPr/>
          <p:nvPr/>
        </p:nvPicPr>
        <p:blipFill>
          <a:blip r:embed="rId1"/>
          <a:stretch/>
        </p:blipFill>
        <p:spPr>
          <a:xfrm>
            <a:off x="571680" y="2000160"/>
            <a:ext cx="2060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87283E-006 L 0.35452 -0.34612 E">
                                      <p:cBhvr>
                                        <p:cTn id="43" dur="3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9769E-006 L 0.09375 0.34081 E">
                                      <p:cBhvr>
                                        <p:cTn id="45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769E-006 L -0.5467 -0.0155 E">
                                      <p:cBhvr>
                                        <p:cTn id="47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15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1:05:45Z</dcterms:created>
  <dc:creator>Админ</dc:creator>
  <dc:description/>
  <dc:language>en-US</dc:language>
  <cp:lastModifiedBy>Админ</cp:lastModifiedBy>
  <dcterms:modified xsi:type="dcterms:W3CDTF">2015-03-31T20:09:33Z</dcterms:modified>
  <cp:revision>5</cp:revision>
  <dc:subject/>
  <dc:title>Метод подстановки</dc:title>
</cp:coreProperties>
</file>