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gif" ContentType="image/gif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6762-0C44-455E-A19E-C0CF840D7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6F17-1CB9-461C-97E7-C93CAE87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B932-8BE9-41E8-8F58-1EABCD0A3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3DE2-CC88-41F8-A785-A64C019B3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9CFB-E88D-4469-BD28-9B2199898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1231-E53F-41B7-A432-1A2A836F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A4E1-2784-4CFA-8811-7F62071D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8579-B034-4088-BC97-48038422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2F61-D4D8-4FD4-A657-4F80978B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EFE9E-5F96-45EE-9693-4AC25EC0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C432-15AF-422A-A2D4-F548FF0B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2092-4067-462B-B1CB-D554179A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96F9-DF6B-4799-88E0-B6C7A317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1F53E-73D4-4EB6-ABAB-9C11B897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EBE47-2370-4058-B561-07421DE8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CD7E-8475-455E-A150-3EB5E59BE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942C-4928-42F5-9589-CB2969E87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80886-D44D-4BA6-94C0-AF90CE12F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97F92-63EC-4E6A-BD9B-35FB23DA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BD441-41D5-4FE6-A489-A8301328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AC440-877A-4EE1-8BA0-01C3DD44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86E3F-0862-4BC5-9705-7AC6ADBA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CF86-8B59-4835-9B42-BFFC5EFA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AD436-46B9-432B-89B0-C444AD8D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40388-7E52-49AB-99A5-16519CAD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E667B-9C21-4EF1-A469-4C16AD7C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A76BC-B86B-4268-AC2B-7F70AF34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7F1DD-6BE3-4E56-8AA5-268FFD06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7C193-F3A2-4CE2-8FD6-FDE5C40E9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EB1ED-41BB-434D-AF52-4E5CE3999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7E40C-BB5D-472F-8082-641B42205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B6E8A-E8E0-4647-8331-009CEDED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50C16-4A88-4E2B-B8EA-3CB93B8E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0FEE-A49F-4505-91E0-1D55DBCA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3047E-EDF8-44F6-AE60-83D3486E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8C6B7-B59F-4D73-ACEF-F3E1FE64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BA828-A3A7-46A1-BE19-4C36F5A6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E2080-3BEA-4BAA-849C-1BF403AF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22603-56D5-489D-9F95-501E4CEF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F48B6-3270-441A-BE1A-D9187B2B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38760-1AF3-4341-ADCE-C57B212C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8EEAB-2ECC-4C07-B280-06738B299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DA197-E9F7-4B79-B312-AB2F07686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0C5C3-D2D2-4053-9199-EC88BC319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C47F-9EDE-4B24-A0B1-CB6E45AA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9CDD4-7089-4B08-863D-96F59E4E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5F71B-A1A5-41A8-99E2-4898972B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1CFB8-56BB-4583-978B-AB6D9A9F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1A7C9-9D4F-4997-9CB3-52E272CE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C02D5-2A0C-4194-B5EF-FA8CC0CF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275CE-D51C-4760-A1A8-669E7D43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419FF-8FFE-4E3F-9652-114B8B7C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C374F-DFB0-4A4F-BCD9-CE3A8D60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CB0D5-A461-4F34-B6DA-B2E21AEE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F2163-27BE-4D9D-B810-438E1D2AC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B1AB-F555-45FD-AEDC-D5313D90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68A71-906C-4101-B81D-E67614BE2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110BD-285B-4F7E-91CE-F7234EF0C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3DE17-0078-4B15-BF1E-1317D9D1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9CC1F-8452-4583-A244-F1032877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B4830-5027-4C19-BE2F-99F8378F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197F4-04C1-4A7D-B1C4-5A9F2AA8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4A384-4D7F-4D62-8D7E-996F63DA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5892C-9C69-4587-AB06-79FB2200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F4E48-DF3A-4571-9B13-74DC37C5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3B3EB-AD9B-4726-8FDE-F1535938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4AE6-8698-42B6-A428-8081A391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486E9-8986-40DE-AF40-D815553B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B8365-3B20-4B5C-A427-110E56BA3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5F39D-CA25-4DC3-BE92-E6EECF802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64A78-68DA-4AF9-8A1F-F0CA4ABE5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60447-1BBB-4705-8C8D-2F90CF8C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DDA32-9360-44C0-BF2B-6C498454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E560A-2FF2-427B-AE8F-0A6D32B6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75332-7527-4129-A45E-6B2F5388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8BEC9-4DBC-4B48-8A31-6B612507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720EE-CA71-41AB-9887-1277B085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8FEE-4204-43B4-875C-12EDCAE1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D2A4B-99F0-46A8-9B84-9596AE7E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A3924-0452-47C5-9F17-819BAD3A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1C299-C851-48AA-8267-7FD9B2FD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75F4A-45DD-4FCB-958B-9FC85E6FC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084C9-7CFB-4D64-BDCB-EDEBD3045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F4E3-2763-4C42-B573-CF45B8CA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9B23-80EC-4017-9631-9B8C30A0FBB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1EBC-E93E-4295-891E-73A2790BA4F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0827-0C4D-4DDB-8728-C7ED9831FF8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DA7D-40AC-4687-B669-CB1AF982550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220F-B5E0-4226-A3B3-D39131769C1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7843-C106-4012-A598-801106CF90B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392B-58BC-43C1-823B-B890C93F0B5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18960" y="198108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Тема: Метод подстановки</a:t>
            </a:r>
            <a:br>
              <a:rPr sz="4300"/>
            </a:br>
            <a:r>
              <a:rPr b="1" i="1" lang="ru-RU" sz="20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7 класс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47560" y="426672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Подготовила учитель математик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 </a:t>
            </a: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МОУ «Первитинская ООШ» Забелина Л.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ассмотрим систему уравнений и количество её решений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1" name="Содержимое 5" descr=""/>
          <p:cNvPicPr/>
          <p:nvPr/>
        </p:nvPicPr>
        <p:blipFill>
          <a:blip r:embed="rId1"/>
          <a:stretch/>
        </p:blipFill>
        <p:spPr>
          <a:xfrm>
            <a:off x="2971800" y="1447920"/>
            <a:ext cx="2819520" cy="1218960"/>
          </a:xfrm>
          <a:prstGeom prst="rect">
            <a:avLst/>
          </a:prstGeom>
          <a:ln w="0">
            <a:noFill/>
          </a:ln>
        </p:spPr>
      </p:pic>
      <p:pic>
        <p:nvPicPr>
          <p:cNvPr id="322" name="Рисунок 8" descr=""/>
          <p:cNvPicPr/>
          <p:nvPr/>
        </p:nvPicPr>
        <p:blipFill>
          <a:blip r:embed="rId2"/>
          <a:stretch/>
        </p:blipFill>
        <p:spPr>
          <a:xfrm>
            <a:off x="1066680" y="2819520"/>
            <a:ext cx="5867640" cy="35049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"/>
          <p:cNvPicPr/>
          <p:nvPr/>
        </p:nvPicPr>
        <p:blipFill>
          <a:blip r:embed="rId3"/>
          <a:stretch/>
        </p:blipFill>
        <p:spPr>
          <a:xfrm>
            <a:off x="6946920" y="1905120"/>
            <a:ext cx="2197080" cy="18018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" descr=""/>
          <p:cNvPicPr/>
          <p:nvPr/>
        </p:nvPicPr>
        <p:blipFill>
          <a:blip r:embed="rId4"/>
          <a:stretch/>
        </p:blipFill>
        <p:spPr>
          <a:xfrm>
            <a:off x="7010280" y="4038480"/>
            <a:ext cx="182592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360" y="4114440"/>
            <a:ext cx="7407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шим второе уравнение и найдем значение переменной </a:t>
            </a:r>
            <a:r>
              <a:rPr b="1" i="1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х:</a:t>
            </a:r>
            <a:br>
              <a:rPr sz="2200"/>
            </a:br>
            <a:r>
              <a:rPr b="1" i="1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                     х=</a:t>
            </a:r>
            <a:r>
              <a:rPr b="1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3886200" y="5866920"/>
            <a:ext cx="4664160" cy="3812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решение системы уравнений (1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7" name="Содержимое 3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4267080" cy="1371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"/>
          <p:cNvPicPr/>
          <p:nvPr/>
        </p:nvPicPr>
        <p:blipFill>
          <a:blip r:embed="rId2"/>
          <a:stretch/>
        </p:blipFill>
        <p:spPr>
          <a:xfrm>
            <a:off x="944640" y="1676520"/>
            <a:ext cx="8199360" cy="4572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3"/>
          <a:stretch/>
        </p:blipFill>
        <p:spPr>
          <a:xfrm>
            <a:off x="1523880" y="2133720"/>
            <a:ext cx="1998720" cy="5331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"/>
          <p:cNvPicPr/>
          <p:nvPr/>
        </p:nvPicPr>
        <p:blipFill>
          <a:blip r:embed="rId4"/>
          <a:stretch/>
        </p:blipFill>
        <p:spPr>
          <a:xfrm>
            <a:off x="762120" y="2666880"/>
            <a:ext cx="8381880" cy="4194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"/>
          <p:cNvPicPr/>
          <p:nvPr/>
        </p:nvPicPr>
        <p:blipFill>
          <a:blip r:embed="rId5"/>
          <a:stretch/>
        </p:blipFill>
        <p:spPr>
          <a:xfrm>
            <a:off x="1219320" y="3200400"/>
            <a:ext cx="3695760" cy="9144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"/>
          <p:cNvPicPr/>
          <p:nvPr/>
        </p:nvPicPr>
        <p:blipFill>
          <a:blip r:embed="rId6"/>
          <a:srcRect l="0" t="0" r="0" b="37666"/>
          <a:stretch/>
        </p:blipFill>
        <p:spPr>
          <a:xfrm>
            <a:off x="1295280" y="4952880"/>
            <a:ext cx="6500880" cy="3812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"/>
          <p:cNvPicPr/>
          <p:nvPr/>
        </p:nvPicPr>
        <p:blipFill>
          <a:blip r:embed="rId7"/>
          <a:stretch/>
        </p:blipFill>
        <p:spPr>
          <a:xfrm>
            <a:off x="1295280" y="5410080"/>
            <a:ext cx="4741920" cy="3049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8" descr=""/>
          <p:cNvPicPr/>
          <p:nvPr/>
        </p:nvPicPr>
        <p:blipFill>
          <a:blip r:embed="rId8"/>
          <a:stretch/>
        </p:blipFill>
        <p:spPr>
          <a:xfrm>
            <a:off x="1295280" y="5943600"/>
            <a:ext cx="2438640" cy="3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6" name="Рисунок 3" descr=""/>
          <p:cNvPicPr/>
          <p:nvPr/>
        </p:nvPicPr>
        <p:blipFill>
          <a:blip r:embed="rId1"/>
          <a:stretch/>
        </p:blipFill>
        <p:spPr>
          <a:xfrm>
            <a:off x="1752480" y="380880"/>
            <a:ext cx="6934320" cy="1371600"/>
          </a:xfrm>
          <a:prstGeom prst="rect">
            <a:avLst/>
          </a:prstGeom>
          <a:ln w="0">
            <a:noFill/>
          </a:ln>
        </p:spPr>
      </p:pic>
      <p:pic>
        <p:nvPicPr>
          <p:cNvPr id="337" name="Содержимое 4" descr=""/>
          <p:cNvPicPr/>
          <p:nvPr/>
        </p:nvPicPr>
        <p:blipFill>
          <a:blip r:embed="rId2"/>
          <a:srcRect l="0" t="15507" r="0" b="0"/>
          <a:stretch/>
        </p:blipFill>
        <p:spPr>
          <a:xfrm>
            <a:off x="1066680" y="1905120"/>
            <a:ext cx="74678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Алгоритм решения системы уравнений: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9" name="Содержимое 3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6553440" cy="281952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4" descr=""/>
          <p:cNvPicPr/>
          <p:nvPr/>
        </p:nvPicPr>
        <p:blipFill>
          <a:blip r:embed="rId2"/>
          <a:stretch/>
        </p:blipFill>
        <p:spPr>
          <a:xfrm>
            <a:off x="1371600" y="4800600"/>
            <a:ext cx="64008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AutoShape 7"/>
          <p:cNvSpPr/>
          <p:nvPr/>
        </p:nvSpPr>
        <p:spPr>
          <a:xfrm>
            <a:off x="1600200" y="3962520"/>
            <a:ext cx="2305080" cy="2232000"/>
          </a:xfrm>
          <a:prstGeom prst="smileyFace">
            <a:avLst>
              <a:gd name="adj" fmla="val 750"/>
            </a:avLst>
          </a:prstGeom>
          <a:solidFill>
            <a:srgbClr val="ffcc66"/>
          </a:solidFill>
          <a:ln w="38160">
            <a:solidFill>
              <a:srgbClr val="2713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8"/>
          <p:cNvSpPr/>
          <p:nvPr/>
        </p:nvSpPr>
        <p:spPr>
          <a:xfrm>
            <a:off x="4114800" y="2057400"/>
            <a:ext cx="2295360" cy="2214720"/>
          </a:xfrm>
          <a:prstGeom prst="smileyFace">
            <a:avLst>
              <a:gd name="adj" fmla="val 9282"/>
            </a:avLst>
          </a:prstGeom>
          <a:solidFill>
            <a:srgbClr val="ff99ff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9"/>
          <p:cNvSpPr/>
          <p:nvPr/>
        </p:nvSpPr>
        <p:spPr>
          <a:xfrm>
            <a:off x="6324480" y="3962520"/>
            <a:ext cx="2394000" cy="2374920"/>
          </a:xfrm>
          <a:prstGeom prst="smileyFace">
            <a:avLst>
              <a:gd name="adj" fmla="val -4652"/>
            </a:avLst>
          </a:prstGeom>
          <a:solidFill>
            <a:srgbClr val="e0c1ff"/>
          </a:solidFill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цените свою уверенность при решении задач. 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5" name="Picture 19" descr="priroda067"/>
          <p:cNvPicPr/>
          <p:nvPr/>
        </p:nvPicPr>
        <p:blipFill>
          <a:blip r:embed="rId1"/>
          <a:stretch/>
        </p:blipFill>
        <p:spPr>
          <a:xfrm>
            <a:off x="571680" y="2000160"/>
            <a:ext cx="20602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87283E-006 L 0.35452 -0.34612 E">
                                      <p:cBhvr>
                                        <p:cTn id="43" dur="3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79769E-006 L 0.09375 0.34081 E">
                                      <p:cBhvr>
                                        <p:cTn id="45" dur="3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79769E-006 L -0.5467 -0.0155 E">
                                      <p:cBhvr>
                                        <p:cTn id="47" dur="3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7" name="Содержимое 3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5715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7T11:05:45Z</dcterms:created>
  <dc:creator>Админ</dc:creator>
  <dc:description/>
  <dc:language>en-US</dc:language>
  <cp:lastModifiedBy>Админ</cp:lastModifiedBy>
  <dcterms:modified xsi:type="dcterms:W3CDTF">2015-03-31T20:09:33Z</dcterms:modified>
  <cp:revision>5</cp:revision>
  <dc:subject/>
  <dc:title>Метод подстановки</dc:title>
</cp:coreProperties>
</file>