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3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5EF-EC80-4FF5-A789-FB006B61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46A-026D-4067-A54E-3306D002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15B-CE82-4769-AEA6-D11A6123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B0E-C490-40B2-B4C1-3A84647E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BBB-5294-4D0F-BAE4-CD3F87F2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124-4631-4C0C-B807-4B950959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AE24-6F50-4020-A0D0-2BB06C01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56B3-F10C-49AD-91EC-E16DAAB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0C11-A7AC-48B1-89C1-62587AC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25E-8980-45DB-A938-DAD78C77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3C1F-F458-4F0F-BD76-EDDCB13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2EF-146E-4996-A601-58F1D6A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B6C-FA69-4858-9D94-11EBA23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2FE-4C9B-48F4-9F72-3A7DFDCC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5955-12F0-4270-828F-9CCDB23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5F2-E842-4213-9F5B-7F1A9A9A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783A-1753-4466-8A6B-7E49F743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45D-C91C-4E75-9DF9-47AB00E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AF6-3334-4CFD-92F0-D82E28D8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441-7309-4917-8313-F2C58A58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66F-5B99-4F11-966D-0293C3E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A90-1233-4521-84A1-46C8BE1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DC1-9707-449B-B633-0633F02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5B8-EB40-43BD-84C1-F107A4B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8EA-6FBF-4C80-9890-F738F6EBD8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A426-ABF4-4563-8C11-DF5A6217A5E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стория числа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1 занятие кружк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5 класс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RUS"/>
          <p:cNvPicPr/>
          <p:nvPr/>
        </p:nvPicPr>
        <p:blipFill>
          <a:blip r:embed="rId1"/>
          <a:stretch/>
        </p:blipFill>
        <p:spPr>
          <a:xfrm>
            <a:off x="4724280" y="380880"/>
            <a:ext cx="4187880" cy="571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28600" y="476280"/>
            <a:ext cx="441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Руси долгое время считали по косточкам, раскладываемым в кучки. Примерно с XV века получил распространение "дощаный счет".  "Дощаный счет" почти не отличался от обычных счетов и представлял собой рамку с укрепленными горизонтальными веревочками, на которые были нанизаны просверленные сливовые или вишневые косточ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62720" y="54864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«Русский щот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особы счё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28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пособов счета было придумано немало: делались зарубки на палке по числу предметов, завязывались узлы на веревке, складывались в кучу камешки. Но палку с зарубками с собой не возьмёшь, да и камни таскать не очень приятно, а пастуху нужно знать – не отбилась ли какая коза от стад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7" descr="3-2"/>
          <p:cNvPicPr/>
          <p:nvPr/>
        </p:nvPicPr>
        <p:blipFill>
          <a:blip r:embed="rId1"/>
          <a:stretch/>
        </p:blipFill>
        <p:spPr>
          <a:xfrm>
            <a:off x="1042920" y="3013200"/>
            <a:ext cx="64087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748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ут на помощь приходят пальцы рук – отличный счетный материал, им до сих пор пользуются не только первоклассники. А если предметов больше десяти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рисунок рук"/>
          <p:cNvPicPr/>
          <p:nvPr/>
        </p:nvPicPr>
        <p:blipFill>
          <a:blip r:embed="rId1"/>
          <a:stretch/>
        </p:blipFill>
        <p:spPr>
          <a:xfrm>
            <a:off x="1835280" y="3500280"/>
            <a:ext cx="53640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ак, для выражения числа «двадцать» индейцы из Южной Америки противопоставляют пальцы на руках пальцам на нога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пальцы ног"/>
          <p:cNvPicPr/>
          <p:nvPr/>
        </p:nvPicPr>
        <p:blipFill>
          <a:blip r:embed="rId1"/>
          <a:stretch/>
        </p:blipFill>
        <p:spPr>
          <a:xfrm>
            <a:off x="684360" y="2492280"/>
            <a:ext cx="763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716000" y="907920"/>
            <a:ext cx="4038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нечно, можно использовать и пальцы на ногах, а дальше? Тут уже ничего не оставалось делать, как придумать десятичную систему, которой мы пользуемся сейчас: считаем десятки; когда наберется десять десятков, называем их сотней; потом десять сотен – тысяче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10" descr="1180429242_41886"/>
          <p:cNvPicPr/>
          <p:nvPr/>
        </p:nvPicPr>
        <p:blipFill>
          <a:blip r:embed="rId1"/>
          <a:stretch/>
        </p:blipFill>
        <p:spPr>
          <a:xfrm>
            <a:off x="755640" y="1125360"/>
            <a:ext cx="3362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Пальцевое» происхождение десятичной системы подтверждается формой латинских цифр: римская цифра пять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– ладонь с оттопыренным большим пальцем, а римская цифра десять 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– две скрещенные рук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28" descr="image015"/>
          <p:cNvPicPr/>
          <p:nvPr/>
        </p:nvPicPr>
        <p:blipFill>
          <a:blip r:embed="rId1"/>
          <a:stretch/>
        </p:blipFill>
        <p:spPr>
          <a:xfrm>
            <a:off x="4067280" y="1628640"/>
            <a:ext cx="453708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льцевой счет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2920" y="764640"/>
            <a:ext cx="40388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ндейцы племени майя в Америке считали пятёрками: одна пятерка – единица следующего разряда, пять пятерок – новый разряд и т.д. Ясно, что они пользовались пальцами только одной ру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32" descr="4-1"/>
          <p:cNvPicPr/>
          <p:nvPr/>
        </p:nvPicPr>
        <p:blipFill>
          <a:blip r:embed="rId1"/>
          <a:stretch/>
        </p:blipFill>
        <p:spPr>
          <a:xfrm>
            <a:off x="0" y="1486080"/>
            <a:ext cx="44290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которые племена использовали только четыре пальца одной руки, однако при этом учитывали, что каждый палец состоит из трех фаланг, т.е имели в распоряжении двенадцать объектов счет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7" descr="image003"/>
          <p:cNvPicPr/>
          <p:nvPr/>
        </p:nvPicPr>
        <p:blipFill>
          <a:blip r:embed="rId1"/>
          <a:stretch/>
        </p:blipFill>
        <p:spPr>
          <a:xfrm>
            <a:off x="4429080" y="1052640"/>
            <a:ext cx="4417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 возникла дюжина, которая сто лет назад была широко распространена и в Европе, и в России, но постепенно уступила свое место десятке. До сих пор в Европе дюжинами считают пуговицы, носовые платки, куриные яйца, и многое другое, что продается поштучно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7"/>
          <p:cNvPicPr/>
          <p:nvPr/>
        </p:nvPicPr>
        <p:blipFill>
          <a:blip r:embed="rId1"/>
          <a:stretch/>
        </p:blipFill>
        <p:spPr>
          <a:xfrm>
            <a:off x="395280" y="1125360"/>
            <a:ext cx="4172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066920" y="476280"/>
            <a:ext cx="4614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се знают, что тысяча тысяч – это миллион. Тысяча миллионов называется биллионом или миллиардом («би» - по-латыни – два). Тысяча миллиардов, т.е. 1 000 000 000 000 – триллион («три» - по-латыни – три), дальше 1 000 000 000 000 000 – квадриллион (квадра – четыре), дальше квинтиллион, секстиллион, октиллион, нониллион дециллион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5" descr="4a363cf1585dc"/>
          <p:cNvPicPr/>
          <p:nvPr/>
        </p:nvPicPr>
        <p:blipFill>
          <a:blip r:embed="rId1"/>
          <a:stretch/>
        </p:blipFill>
        <p:spPr>
          <a:xfrm>
            <a:off x="130320" y="404640"/>
            <a:ext cx="402264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держани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мы счит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четы в разных стран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особы счё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льцевой сч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озникновение чисе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ольшие числа возникают в астрономии, часто говорят об «астрономических числах», поскольку массы звезд и расстояния между ними выражаются действительно большими числами, однако физики подсчитали, что количество атомов – мельчайших частиц вещества – во всей Вселенной не превосходит числа, выражаемого единицей со ста нулями. Это число получило специальное название – гуго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0" descr="3085491003_8cb96593f9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зникновения чисе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ы привыкли пользоваться благами цивилизации – автомобилем, телефоном, телевизором и прочей техникой, делающей нашу жизнь легче и интереснее. Тысячи изобретений потребовалось для этого, но самым важным из них были первые – колесо и число. Без них не было бы всего нашего технического великолепия. Казалось бы, что понятие числа должно возникнуть одновременно с умением считать, но это далеко не так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амечено, что считать до пяти умеют и кошки и свиньи, но чтобы перейти от пяти предметов к числу «пять», требовалось великое открытие, и вот почему. Пять собак или пять свиней – это совсем не то, что пять орех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CATS00~2"/>
          <p:cNvPicPr/>
          <p:nvPr/>
        </p:nvPicPr>
        <p:blipFill>
          <a:blip r:embed="rId1"/>
          <a:stretch/>
        </p:blipFill>
        <p:spPr>
          <a:xfrm>
            <a:off x="0" y="1052640"/>
            <a:ext cx="4495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40388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ять собак или пять свиней – это совсем не то, что пять орехов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дь пять орехов – очень мало, съел – и не заметил, а пять свиней – очень много, их хватит, чтобы долго кормиться большой семье. Пять собак – это стая, которая может хорошо защитить от диких зверей, а пять блох на собаке и разглядеть-то трудно. Разве можно их сравнивать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7" descr="415019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427280" y="836640"/>
            <a:ext cx="425916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наменитый русский путешественник Н.Н.Миклухо-Маклай, проведший много лет среди туземцев на островах Тихого океана, обнаружил, что у некоторых племен имеется три способа счета: для людей, для животных и для утвари, оружия и прочих неодушевленных предметов. То есть там в то время еще не появилось понятие числа, не было осознано, что три ореха, три козы и три ребенка обладают общим свойством – их количество равно тр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7" descr="lg67_21_01_02"/>
          <p:cNvPicPr/>
          <p:nvPr/>
        </p:nvPicPr>
        <p:blipFill>
          <a:blip r:embed="rId1"/>
          <a:stretch/>
        </p:blipFill>
        <p:spPr>
          <a:xfrm>
            <a:off x="611280" y="549360"/>
            <a:ext cx="3384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так, появились числа 1,2,3,…, которыми можно выразить  количество коров в стаде, деревьев в саду, волос на голове. Эти числа впоследствии получили название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атуральных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Гораздо позднее появился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ол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оторым обозначали отсутствие рассматриваемых предме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9" descr="nomer"/>
          <p:cNvPicPr/>
          <p:nvPr/>
        </p:nvPicPr>
        <p:blipFill>
          <a:blip r:embed="rId1"/>
          <a:stretch/>
        </p:blipFill>
        <p:spPr>
          <a:xfrm>
            <a:off x="4716360" y="549360"/>
            <a:ext cx="410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атематика Допетровской Рус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ревнейшая русская математическая рукопись, сохранившаяся до наших дней, датируется 1136 годом – временем, когда единая Киевская Русь стала неудержимо разваливаться на мелкие, враждующие княжества. Автором этой рукописи был новгородский дьякон и «числолюбец» по имени Кирик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6" descr="проэкт"/>
          <p:cNvPicPr/>
          <p:nvPr/>
        </p:nvPicPr>
        <p:blipFill>
          <a:blip r:embed="rId1"/>
          <a:stretch/>
        </p:blipFill>
        <p:spPr>
          <a:xfrm>
            <a:off x="4938840" y="1268280"/>
            <a:ext cx="3809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лагодаря запискам Кирика, мы можем судить, что уровень математических знаний в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веке был на Руси не ниже, чем в Западной Европе. Записки содержат значки на суммирование прогрессий, связанные с приплодом коров и овец, исчисление количества месяцев, недель и дней, прошедших со дня сотворения мир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15"/>
          <p:cNvGraphicFramePr/>
          <p:nvPr/>
        </p:nvGraphicFramePr>
        <p:xfrm>
          <a:off x="-958680" y="1631880"/>
          <a:ext cx="401472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8680" y="1631880"/>
                    <a:ext cx="401472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2723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ревней Руси десять тысяч называли «тьма». Отсюда выражение «тьма народу». 100 000 - легион, или неведий, 1 000 000 – леод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18" descr="image062"/>
          <p:cNvPicPr/>
          <p:nvPr/>
        </p:nvPicPr>
        <p:blipFill>
          <a:blip r:embed="rId3"/>
          <a:stretch/>
        </p:blipFill>
        <p:spPr>
          <a:xfrm>
            <a:off x="971640" y="2349360"/>
            <a:ext cx="2952720" cy="2768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image063"/>
          <p:cNvPicPr/>
          <p:nvPr/>
        </p:nvPicPr>
        <p:blipFill>
          <a:blip r:embed="rId4"/>
          <a:stretch/>
        </p:blipFill>
        <p:spPr>
          <a:xfrm>
            <a:off x="4932360" y="2349360"/>
            <a:ext cx="2244600" cy="2276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0"/>
          <p:cNvSpPr/>
          <p:nvPr/>
        </p:nvSpPr>
        <p:spPr>
          <a:xfrm>
            <a:off x="5364000" y="5300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Миллио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2589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Сто тыся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к мы счита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103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усство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чета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лось с развитием человечества. В те времена, когда человек лишь собирал в лесу плоды и охотился, ему для счета хватало четырех слов: один, два, три и много. Именно так считают и сейчас некоторые племена, живущие в джунглях Южной Амер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11" descr="2-2"/>
          <p:cNvPicPr/>
          <p:nvPr/>
        </p:nvPicPr>
        <p:blipFill>
          <a:blip r:embed="rId1"/>
          <a:stretch/>
        </p:blipFill>
        <p:spPr>
          <a:xfrm>
            <a:off x="4788000" y="1773360"/>
            <a:ext cx="435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643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днако, когда люди начали заниматься животноводством и земледелием, то им уже стало необходимо пересчитывать коз в стаде или количество корзин с выращенными плодами (которых было больше трех), заготовленными на зим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7" descr="1-1"/>
          <p:cNvPicPr/>
          <p:nvPr/>
        </p:nvPicPr>
        <p:blipFill>
          <a:blip r:embed="rId1"/>
          <a:stretch/>
        </p:blipFill>
        <p:spPr>
          <a:xfrm>
            <a:off x="1763640" y="3476520"/>
            <a:ext cx="5435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74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ли в какой-то бороздке при счете набиралось более 10 камешков, их снимали и добавляли один камешек в следующем разряде.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имляне усовершенствовали абак, перейдя от деревянных досок, песка и камешков к мраморным доскам с выточенными желобками и мраморными шарик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Приборы для счета"/>
          <p:cNvPicPr/>
          <p:nvPr/>
        </p:nvPicPr>
        <p:blipFill>
          <a:blip r:embed="rId1"/>
          <a:stretch/>
        </p:blipFill>
        <p:spPr>
          <a:xfrm>
            <a:off x="762120" y="2316240"/>
            <a:ext cx="8153280" cy="4441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80880" y="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наружена в раскопках так называемая "вестоницкая кость" с зарубками. Это позволяет историкам предположить, что уже 30тыс.лет.до н.э. наши предки были знакомы с зачатками счета</a:t>
            </a: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Саламинская доска"/>
          <p:cNvPicPr/>
          <p:nvPr/>
        </p:nvPicPr>
        <p:blipFill>
          <a:blip r:embed="rId1"/>
          <a:stretch/>
        </p:blipFill>
        <p:spPr>
          <a:xfrm>
            <a:off x="4643280" y="907920"/>
            <a:ext cx="392616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04920" y="434340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95280" y="981000"/>
            <a:ext cx="419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евнегреческий абак (доска или "саламинская доска" по имени острова Саламин в Эгейском море) представлял собой посыпанную морским песком дощечку. На песке проходились бороздки, на которых камешками обозначались числа. Одна бороздка соответствовала единицам, другая - десяткам и т.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четы в разных страна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тайские счеты суан-пан состояли из деревянной рамки, разделенной на верхние и нижние секции. Палочки соотносятся с колонками, а бусинки с числами. У китайцев в основе счета лежала не десятка, а пятер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4643280" y="1341360"/>
            <a:ext cx="4157640" cy="5091840"/>
            <a:chOff x="4643280" y="1341360"/>
            <a:chExt cx="4157640" cy="5091840"/>
          </a:xfrm>
        </p:grpSpPr>
        <p:pic>
          <p:nvPicPr>
            <p:cNvPr id="133" name="Picture 6" descr="Суан-пан"/>
            <p:cNvPicPr/>
            <p:nvPr/>
          </p:nvPicPr>
          <p:blipFill>
            <a:blip r:embed="rId1"/>
            <a:stretch/>
          </p:blipFill>
          <p:spPr>
            <a:xfrm>
              <a:off x="4643280" y="1341360"/>
              <a:ext cx="4157640" cy="48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5751720" y="6095880"/>
              <a:ext cx="21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3300"/>
                  </a:solidFill>
                  <a:latin typeface="Comic Sans MS"/>
                </a:rPr>
                <a:t>Суан-пан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86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на разделена на две части: в нижней части на каждом ряду располагаются по 5 косточек, в верхней части - по две. Таким образом, для того чтобы выставить на этих счетах число 6, ставили сначала  косточку, соответствующую пятерке, и затем прибавляли одну в разряд единиц</a:t>
            </a: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468360" y="3068640"/>
            <a:ext cx="7924320" cy="2482200"/>
            <a:chOff x="468360" y="3068640"/>
            <a:chExt cx="7924320" cy="2482200"/>
          </a:xfrm>
        </p:grpSpPr>
        <p:pic>
          <p:nvPicPr>
            <p:cNvPr id="137" name="Picture 5" descr="JAP"/>
            <p:cNvPicPr/>
            <p:nvPr/>
          </p:nvPicPr>
          <p:blipFill>
            <a:blip r:embed="rId1"/>
            <a:stretch/>
          </p:blipFill>
          <p:spPr>
            <a:xfrm>
              <a:off x="468360" y="3068640"/>
              <a:ext cx="7924320" cy="226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2787480" y="5243760"/>
              <a:ext cx="373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3300"/>
                  </a:solidFill>
                  <a:latin typeface="Comic Sans MS"/>
                </a:rPr>
                <a:t>японское </a:t>
              </a:r>
              <a:r>
                <a:rPr b="1" i="1" lang="ru-RU" sz="1400" spc="-1" strike="noStrike">
                  <a:solidFill>
                    <a:srgbClr val="663300"/>
                  </a:solidFill>
                  <a:latin typeface="Comic Sans MS"/>
                </a:rPr>
                <a:t>серобян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0:25:51Z</dcterms:created>
  <dc:creator>Учитель</dc:creator>
  <dc:description/>
  <dc:language>en-US</dc:language>
  <cp:lastModifiedBy>5</cp:lastModifiedBy>
  <dcterms:modified xsi:type="dcterms:W3CDTF">2015-01-31T18:47:21Z</dcterms:modified>
  <cp:revision>16</cp:revision>
  <dc:subject/>
  <dc:title>История числа</dc:title>
</cp:coreProperties>
</file>