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8.png" ContentType="image/png"/>
  <Override PartName="/ppt/media/image7.png" ContentType="image/png"/>
  <Override PartName="/ppt/media/image11.png" ContentType="image/png"/>
  <Override PartName="/ppt/media/image19.jpeg" ContentType="image/jpeg"/>
  <Override PartName="/ppt/media/image6.png" ContentType="image/png"/>
  <Override PartName="/ppt/media/image10.jpeg" ContentType="image/jpeg"/>
  <Override PartName="/ppt/media/image5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4.jpeg" ContentType="image/jpeg"/>
  <Override PartName="/ppt/media/image22.png" ContentType="image/png"/>
  <Override PartName="/ppt/media/image21.png" ContentType="image/png"/>
  <Override PartName="/ppt/media/image20.jpeg" ContentType="image/jpeg"/>
  <Override PartName="/ppt/media/image15.jpeg" ContentType="image/jpeg"/>
  <Override PartName="/ppt/media/image18.jpeg" ContentType="image/jpeg"/>
  <Override PartName="/ppt/media/image16.jpeg" ContentType="image/jpeg"/>
  <Override PartName="/ppt/media/image14.png" ContentType="image/png"/>
  <Override PartName="/ppt/media/image1.png" ContentType="image/png"/>
  <Override PartName="/ppt/media/image25.jpeg" ContentType="image/jpeg"/>
  <Override PartName="/ppt/media/image2.png" ContentType="image/png"/>
  <Override PartName="/ppt/media/image23.wmf" ContentType="image/x-wmf"/>
  <Override PartName="/ppt/media/image9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0BE53-12D2-4EB5-BAD3-293EACF3E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3F6ED-741F-4F54-950D-497345D54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AABC1-EC67-49EC-9F10-440D172D0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86A60-5577-40FD-8BBD-A09858561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55F81-EDF4-43DF-8C6C-DCFB691CF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1117C-E240-4BB6-B553-9276FE1A0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E8A7C-DADC-4E5C-92B0-2499B7731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FA957-D19A-4177-8DFB-79CA1CBF6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8F865-BE0B-4F02-A187-B26C3774E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58024-E448-4F97-B7BA-8B24DE972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71F8D-7431-4057-BC4E-D11E26956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BB6B8-C501-49D5-9321-002DD3797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8D0FD-048C-4F21-B861-41A85002C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58189-E0AC-4312-A1A4-90C3648A4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B4A32-114D-4883-BFE1-8FEC35B4C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6C036-9DA5-4D87-84EB-9A44CC544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ED367-9F91-4B33-966D-888D243C9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8952D-A044-4B9E-AF5C-B8EC07CD6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821F9-190A-4BDD-B676-30853F4A4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F5EC2-9E88-412E-A29D-0880F1304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FF737-2FF4-420D-AB51-31FC4F476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696E9-76C3-4AC7-B22B-FF62DD172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09363-5823-4400-8116-AEBEC1F7B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0EB5E-12FE-4552-A3E5-CBC077441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>
                <a:gd name="textAreaLeft" fmla="*/ 0 w 4427640"/>
                <a:gd name="textAreaRight" fmla="*/ 4428000 w 442764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>
                <a:gd name="textAreaLeft" fmla="*/ 0 w 482760"/>
                <a:gd name="textAreaRight" fmla="*/ 483120 w 482760"/>
                <a:gd name="textAreaTop" fmla="*/ 0 h 1176120"/>
                <a:gd name="textAreaBottom" fmla="*/ 1176480 h 1176120"/>
              </a:gdLst>
              <a:ahLst/>
              <a:rect l="textAreaLeft" t="textAreaTop" r="textAreaRight" b="textAreaBottom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>
                <a:gd name="textAreaLeft" fmla="*/ 0 w 498600"/>
                <a:gd name="textAreaRight" fmla="*/ 498960 w 498600"/>
                <a:gd name="textAreaTop" fmla="*/ 0 h 1217520"/>
                <a:gd name="textAreaBottom" fmla="*/ 1217880 h 1217520"/>
              </a:gdLst>
              <a:ahLst/>
              <a:rect l="textAreaLeft" t="textAreaTop" r="textAreaRight" b="textAreaBottom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>
                <a:gd name="textAreaLeft" fmla="*/ 0 w 436320"/>
                <a:gd name="textAreaRight" fmla="*/ 436680 w 436320"/>
                <a:gd name="textAreaTop" fmla="*/ 0 h 988920"/>
                <a:gd name="textAreaBottom" fmla="*/ 988920 h 988920"/>
              </a:gdLst>
              <a:ahLst/>
              <a:rect l="textAreaLeft" t="textAreaTop" r="textAreaRight" b="textAreaBottom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0 h 969840"/>
                <a:gd name="textAreaBottom" fmla="*/ 970200 h 969840"/>
              </a:gdLst>
              <a:ahLst/>
              <a:rect l="textAreaLeft" t="textAreaTop" r="textAreaRight" b="textAreaBottom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476280"/>
                <a:gd name="textAreaBottom" fmla="*/ 476640 h 476280"/>
              </a:gdLst>
              <a:ahLst/>
              <a:rect l="textAreaLeft" t="textAreaTop" r="textAreaRight" b="textAreaBottom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447840"/>
                <a:gd name="textAreaBottom" fmla="*/ 448200 h 447840"/>
              </a:gdLst>
              <a:ahLst/>
              <a:rect l="textAreaLeft" t="textAreaTop" r="textAreaRight" b="textAreaBottom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>
                <a:gd name="textAreaLeft" fmla="*/ 0 w 365040"/>
                <a:gd name="textAreaRight" fmla="*/ 365040 w 3650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84C8F-65D5-4566-810F-048BA4DD10F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>
                <a:gd name="textAreaLeft" fmla="*/ 0 w 4427640"/>
                <a:gd name="textAreaRight" fmla="*/ 4428000 w 442764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>
                <a:gd name="textAreaLeft" fmla="*/ 0 w 482760"/>
                <a:gd name="textAreaRight" fmla="*/ 483120 w 482760"/>
                <a:gd name="textAreaTop" fmla="*/ 0 h 1176120"/>
                <a:gd name="textAreaBottom" fmla="*/ 1176480 h 1176120"/>
              </a:gdLst>
              <a:ahLst/>
              <a:rect l="textAreaLeft" t="textAreaTop" r="textAreaRight" b="textAreaBottom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>
                <a:gd name="textAreaLeft" fmla="*/ 0 w 498600"/>
                <a:gd name="textAreaRight" fmla="*/ 498960 w 498600"/>
                <a:gd name="textAreaTop" fmla="*/ 0 h 1217520"/>
                <a:gd name="textAreaBottom" fmla="*/ 1217880 h 1217520"/>
              </a:gdLst>
              <a:ahLst/>
              <a:rect l="textAreaLeft" t="textAreaTop" r="textAreaRight" b="textAreaBottom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>
                <a:gd name="textAreaLeft" fmla="*/ 0 w 436320"/>
                <a:gd name="textAreaRight" fmla="*/ 436680 w 436320"/>
                <a:gd name="textAreaTop" fmla="*/ 0 h 988920"/>
                <a:gd name="textAreaBottom" fmla="*/ 988920 h 988920"/>
              </a:gdLst>
              <a:ahLst/>
              <a:rect l="textAreaLeft" t="textAreaTop" r="textAreaRight" b="textAreaBottom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0 h 969840"/>
                <a:gd name="textAreaBottom" fmla="*/ 970200 h 969840"/>
              </a:gdLst>
              <a:ahLst/>
              <a:rect l="textAreaLeft" t="textAreaTop" r="textAreaRight" b="textAreaBottom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476280"/>
                <a:gd name="textAreaBottom" fmla="*/ 476640 h 476280"/>
              </a:gdLst>
              <a:ahLst/>
              <a:rect l="textAreaLeft" t="textAreaTop" r="textAreaRight" b="textAreaBottom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447840"/>
                <a:gd name="textAreaBottom" fmla="*/ 448200 h 447840"/>
              </a:gdLst>
              <a:ahLst/>
              <a:rect l="textAreaLeft" t="textAreaTop" r="textAreaRight" b="textAreaBottom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>
                <a:gd name="textAreaLeft" fmla="*/ 0 w 365040"/>
                <a:gd name="textAreaRight" fmla="*/ 365040 w 3650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063B2-656D-40D3-9377-473E2558756E}" type="slidenum">
              <a:rPr b="0" lang="ru-RU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700" spc="-1" strike="noStrike">
                <a:solidFill>
                  <a:srgbClr val="ffffcc"/>
                </a:solidFill>
                <a:latin typeface="Arial"/>
              </a:rPr>
              <a:t>История числа</a:t>
            </a:r>
            <a:br>
              <a:rPr sz="5700"/>
            </a:b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Verdana"/>
              </a:rPr>
              <a:t>1 занятие кружка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Verdana"/>
              </a:rPr>
              <a:t>5 класс.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RUS"/>
          <p:cNvPicPr/>
          <p:nvPr/>
        </p:nvPicPr>
        <p:blipFill>
          <a:blip r:embed="rId1"/>
          <a:stretch/>
        </p:blipFill>
        <p:spPr>
          <a:xfrm>
            <a:off x="4724280" y="380880"/>
            <a:ext cx="4187880" cy="571212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3"/>
          <p:cNvSpPr/>
          <p:nvPr/>
        </p:nvSpPr>
        <p:spPr>
          <a:xfrm>
            <a:off x="228600" y="476280"/>
            <a:ext cx="44146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На Руси долгое время считали по косточкам, раскладываемым в кучки. Примерно с XV века получил распространение "дощаный счет".  "Дощаный счет" почти не отличался от обычных счетов и представлял собой рамку с укрепленными горизонтальными веревочками, на которые были нанизаны просверленные сливовые или вишневые косточки.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5562720" y="5486400"/>
            <a:ext cx="236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3300"/>
                </a:solidFill>
                <a:latin typeface="Times New Roman"/>
              </a:rPr>
              <a:t>«Русский щот»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Способы счёта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39640" y="907560"/>
            <a:ext cx="7283520" cy="23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Способов счета было придумано немало: делались зарубки на палке по числу предметов, завязывались узлы на веревке, складывались в кучу камешки. Но палку с зарубками с собой не возьмёшь, да и камни таскать не очень приятно, а пастуху нужно знать – не отбилась ли какая коза от стада.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4" name="Picture 7" descr="3-2"/>
          <p:cNvPicPr/>
          <p:nvPr/>
        </p:nvPicPr>
        <p:blipFill>
          <a:blip r:embed="rId1"/>
          <a:stretch/>
        </p:blipFill>
        <p:spPr>
          <a:xfrm>
            <a:off x="1042920" y="3013200"/>
            <a:ext cx="6408720" cy="35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395280" y="1196640"/>
            <a:ext cx="8748720" cy="26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И тут на помощь приходят пальцы рук – отличный счетный материал, им до сих пор пользуются не только первоклассники. А если предметов больше десяти?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6" name="Picture 4" descr="рисунок рук"/>
          <p:cNvPicPr/>
          <p:nvPr/>
        </p:nvPicPr>
        <p:blipFill>
          <a:blip r:embed="rId1"/>
          <a:stretch/>
        </p:blipFill>
        <p:spPr>
          <a:xfrm>
            <a:off x="1835280" y="3500280"/>
            <a:ext cx="5364000" cy="304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324000" y="260280"/>
            <a:ext cx="8229600" cy="256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Так, для выражения числа «двадцать» индейцы из Южной Америки противопоставляют пальцы на руках пальцам на ногах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8" name="Picture 5" descr="пальцы ног"/>
          <p:cNvPicPr/>
          <p:nvPr/>
        </p:nvPicPr>
        <p:blipFill>
          <a:blip r:embed="rId1"/>
          <a:stretch/>
        </p:blipFill>
        <p:spPr>
          <a:xfrm>
            <a:off x="684360" y="2492280"/>
            <a:ext cx="7632720" cy="40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4716000" y="907920"/>
            <a:ext cx="403884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Конечно, можно использовать и пальцы на ногах, а дальше? Тут уже ничего не оставалось делать, как придумать десятичную систему, которой мы пользуемся сейчас: считаем десятки; когда наберется десять десятков, называем их сотней; потом десять сотен – тысячей.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50" name="Picture 10" descr="1180429242_41886"/>
          <p:cNvPicPr/>
          <p:nvPr/>
        </p:nvPicPr>
        <p:blipFill>
          <a:blip r:embed="rId1"/>
          <a:stretch/>
        </p:blipFill>
        <p:spPr>
          <a:xfrm>
            <a:off x="755640" y="1125360"/>
            <a:ext cx="3362400" cy="450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0" y="1341000"/>
            <a:ext cx="403848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«Пальцевое» происхождение десятичной системы подтверждается формой латинских цифр: римская цифра пять(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V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) – ладонь с оттопыренным большим пальцем, а римская цифра десять (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X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) – две скрещенные руки.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52" name="Picture 28" descr="image015"/>
          <p:cNvPicPr/>
          <p:nvPr/>
        </p:nvPicPr>
        <p:blipFill>
          <a:blip r:embed="rId1"/>
          <a:stretch/>
        </p:blipFill>
        <p:spPr>
          <a:xfrm>
            <a:off x="4067280" y="1628640"/>
            <a:ext cx="4537080" cy="424836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Пальцевой счет.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642920" y="764640"/>
            <a:ext cx="4038840" cy="531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Индейцы племени майя в Америке считали пятёрками: одна пятерка – единица следующего разряда, пять пятерок – новый разряд и т.д. Ясно, что они пользовались пальцами только одной руки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55" name="Picture 32" descr="4-1"/>
          <p:cNvPicPr/>
          <p:nvPr/>
        </p:nvPicPr>
        <p:blipFill>
          <a:blip r:embed="rId1"/>
          <a:stretch/>
        </p:blipFill>
        <p:spPr>
          <a:xfrm>
            <a:off x="0" y="1486080"/>
            <a:ext cx="4429080" cy="40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403848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Некоторые племена использовали только четыре пальца одной руки, однако при этом учитывали, что каждый палец состоит из трех фаланг, т.е имели в распоряжении двенадцать объектов счета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57" name="Picture 7" descr="image003"/>
          <p:cNvPicPr/>
          <p:nvPr/>
        </p:nvPicPr>
        <p:blipFill>
          <a:blip r:embed="rId1"/>
          <a:stretch/>
        </p:blipFill>
        <p:spPr>
          <a:xfrm>
            <a:off x="4429080" y="1052640"/>
            <a:ext cx="441792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648320" y="476280"/>
            <a:ext cx="403848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Так возникла дюжина, которая сто лет назад была широко распространена и в Европе, и в России, но постепенно уступила свое место десятке. До сих пор в Европе дюжинами считают пуговицы, носовые платки, куриные яйца, и многое другое, что продается поштучно.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59" name="Picture 7" descr="7"/>
          <p:cNvPicPr/>
          <p:nvPr/>
        </p:nvPicPr>
        <p:blipFill>
          <a:blip r:embed="rId1"/>
          <a:stretch/>
        </p:blipFill>
        <p:spPr>
          <a:xfrm>
            <a:off x="395280" y="1125360"/>
            <a:ext cx="4172040" cy="476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066920" y="476280"/>
            <a:ext cx="461484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Все знают, что тысяча тысяч – это миллион. Тысяча миллионов называется биллионом или миллиардом («би» - по-латыни – два). Тысяча миллиардов, т.е. 1 000 000 000 000 – триллион («три» - по-латыни – три), дальше 1 000 000 000 000 000 – квадриллион (квадра – четыре), дальше квинтиллион, секстиллион, октиллион, нониллион дециллион.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61" name="Picture 15" descr="4a363cf1585dc"/>
          <p:cNvPicPr/>
          <p:nvPr/>
        </p:nvPicPr>
        <p:blipFill>
          <a:blip r:embed="rId1"/>
          <a:stretch/>
        </p:blipFill>
        <p:spPr>
          <a:xfrm>
            <a:off x="130320" y="404640"/>
            <a:ext cx="4022640" cy="566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Содержание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Как мы считаем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Счеты в разных странах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Способы счёта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Пальцевой счет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Verdana"/>
              </a:rPr>
              <a:t>Возникновение чисел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0" y="907920"/>
            <a:ext cx="464328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Большие числа возникают в астрономии, часто говорят об «астрономических числах», поскольку массы звезд и расстояния между ними выражаются действительно большими числами, однако физики подсчитали, что количество атомов – мельчайших частиц вещества – во всей Вселенной не превосходит числа, выражаемого единицей со ста нулями. Это число получило специальное название – гугол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63" name="Picture 10" descr="3085491003_8cb96593f9"/>
          <p:cNvPicPr/>
          <p:nvPr/>
        </p:nvPicPr>
        <p:blipFill>
          <a:blip r:embed="rId1"/>
          <a:stretch/>
        </p:blipFill>
        <p:spPr>
          <a:xfrm>
            <a:off x="4572000" y="1341360"/>
            <a:ext cx="4572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Возникновения чисел.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Мы привыкли пользоваться благами цивилизации – автомобилем, телефоном, телевизором и прочей техникой, делающей нашу жизнь легче и интереснее. Тысячи изобретений потребовалось для этого, но самым важным из них были первые – колесо и число. Без них не было бы всего нашего технического великолепия. Казалось бы, что понятие числа должно возникнуть одновременно с умением считать, но это далеко не так.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788000" y="1413000"/>
            <a:ext cx="403848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Замечено, что считать до пяти умеют и кошки и свиньи, но чтобы перейти от пяти предметов к числу «пять», требовалось великое открытие, и вот почему. Пять собак или пять свиней – это совсем не то, что пять орехов.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67" name="Picture 7" descr="CATS00~2"/>
          <p:cNvPicPr/>
          <p:nvPr/>
        </p:nvPicPr>
        <p:blipFill>
          <a:blip r:embed="rId1"/>
          <a:stretch/>
        </p:blipFill>
        <p:spPr>
          <a:xfrm>
            <a:off x="0" y="1052640"/>
            <a:ext cx="449568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178920" y="549000"/>
            <a:ext cx="403884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Пять собак или пять свиней – это совсем не то, что пять орехов.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Ведь пять орехов – очень мало, съел – и не заметил, а пять свиней – очень много, их хватит, чтобы долго кормиться большой семье. Пять собак – это стая, которая может хорошо защитить от диких зверей, а пять блох на собаке и разглядеть-то трудно. Разве можно их сравнивать?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69" name="Picture 7" descr="415019"/>
          <p:cNvPicPr/>
          <p:nvPr/>
        </p:nvPicPr>
        <p:blipFill>
          <a:blip r:embed="rId1"/>
          <a:stretch/>
        </p:blipFill>
        <p:spPr>
          <a:xfrm>
            <a:off x="4648320" y="1413000"/>
            <a:ext cx="403848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4427280" y="836640"/>
            <a:ext cx="4259160" cy="529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Знаменитый русский путешественник Н.Н.Миклухо-Маклай, проведший много лет среди туземцев на островах Тихого океана, обнаружил, что у некоторых племен имеется три способа счета: для людей, для животных и для утвари, оружия и прочих неодушевленных предметов. То есть там в то время еще не появилось понятие числа, не было осознано, что три ореха, три козы и три ребенка обладают общим свойством – их количество равно трем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71" name="Picture 7" descr="lg67_21_01_02"/>
          <p:cNvPicPr/>
          <p:nvPr/>
        </p:nvPicPr>
        <p:blipFill>
          <a:blip r:embed="rId1"/>
          <a:stretch/>
        </p:blipFill>
        <p:spPr>
          <a:xfrm>
            <a:off x="611280" y="549360"/>
            <a:ext cx="338436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Итак, появились числа 1,2,3,…, которыми можно выразить  количество коров в стаде, деревьев в саду, волос на голове. Эти числа впоследствии получили название </a:t>
            </a:r>
            <a:r>
              <a:rPr b="1" lang="ru-RU" sz="2000" spc="-1" strike="noStrike">
                <a:solidFill>
                  <a:srgbClr val="eaeaea"/>
                </a:solidFill>
                <a:latin typeface="Verdana"/>
              </a:rPr>
              <a:t>натуральных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. Гораздо позднее появился </a:t>
            </a:r>
            <a:r>
              <a:rPr b="1" lang="ru-RU" sz="2000" spc="-1" strike="noStrike">
                <a:solidFill>
                  <a:srgbClr val="eaeaea"/>
                </a:solidFill>
                <a:latin typeface="Verdana"/>
              </a:rPr>
              <a:t>ноль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, которым обозначали отсутствие рассматриваемых предметов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73" name="Picture 9" descr="nomer"/>
          <p:cNvPicPr/>
          <p:nvPr/>
        </p:nvPicPr>
        <p:blipFill>
          <a:blip r:embed="rId1"/>
          <a:stretch/>
        </p:blipFill>
        <p:spPr>
          <a:xfrm>
            <a:off x="4716360" y="549360"/>
            <a:ext cx="4103640" cy="61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Математика Допетровской Руси.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Древнейшая русская математическая рукопись, сохранившаяся до наших дней, датируется 1136 годом – временем, когда единая Киевская Русь стала неудержимо разваливаться на мелкие, враждующие княжества. Автором этой рукописи был новгородский дьякон и «числолюбец» по имени Кирик.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76" name="Picture 6" descr="проэкт"/>
          <p:cNvPicPr/>
          <p:nvPr/>
        </p:nvPicPr>
        <p:blipFill>
          <a:blip r:embed="rId1"/>
          <a:stretch/>
        </p:blipFill>
        <p:spPr>
          <a:xfrm>
            <a:off x="4938840" y="1268280"/>
            <a:ext cx="3809880" cy="482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Благодаря запискам Кирика, мы можем судить, что уровень математических знаний в 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XII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  веке был на Руси не ниже, чем в Западной Европе. Записки содержат значки на суммирование прогрессий, связанные с приплодом коров и овец, исчисление количества месяцев, недель и дней, прошедших со дня сотворения мира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8" name="Object 15"/>
          <p:cNvGraphicFramePr/>
          <p:nvPr/>
        </p:nvGraphicFramePr>
        <p:xfrm>
          <a:off x="-958680" y="1631880"/>
          <a:ext cx="4014720" cy="2168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9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958680" y="1631880"/>
                    <a:ext cx="4014720" cy="216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539280" y="476280"/>
            <a:ext cx="7272360" cy="184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В 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Древней Руси десять тысяч называли «тьма». Отсюда выражение «тьма народу». 100 000 - легион, или неведий, 1 000 000 – леодр.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81" name="Picture 18" descr="image062"/>
          <p:cNvPicPr/>
          <p:nvPr/>
        </p:nvPicPr>
        <p:blipFill>
          <a:blip r:embed="rId3"/>
          <a:stretch/>
        </p:blipFill>
        <p:spPr>
          <a:xfrm>
            <a:off x="971640" y="2349360"/>
            <a:ext cx="2952720" cy="276876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9" descr="image063"/>
          <p:cNvPicPr/>
          <p:nvPr/>
        </p:nvPicPr>
        <p:blipFill>
          <a:blip r:embed="rId4"/>
          <a:stretch/>
        </p:blipFill>
        <p:spPr>
          <a:xfrm>
            <a:off x="4932360" y="2349360"/>
            <a:ext cx="2244600" cy="2276640"/>
          </a:xfrm>
          <a:prstGeom prst="rect">
            <a:avLst/>
          </a:prstGeom>
          <a:ln w="0">
            <a:noFill/>
          </a:ln>
        </p:spPr>
      </p:pic>
      <p:sp>
        <p:nvSpPr>
          <p:cNvPr id="183" name="Text Box 20"/>
          <p:cNvSpPr/>
          <p:nvPr/>
        </p:nvSpPr>
        <p:spPr>
          <a:xfrm>
            <a:off x="5364000" y="5300640"/>
            <a:ext cx="27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eaeaea"/>
                </a:solidFill>
                <a:latin typeface="Arial"/>
              </a:rPr>
              <a:t>Миллион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4" name="Text Box 21"/>
          <p:cNvSpPr/>
          <p:nvPr/>
        </p:nvSpPr>
        <p:spPr>
          <a:xfrm>
            <a:off x="1258920" y="5300640"/>
            <a:ext cx="30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eaeaea"/>
                </a:solidFill>
                <a:latin typeface="Arial"/>
              </a:rPr>
              <a:t>Сто тысяч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Как мы считаем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68000" y="1773000"/>
            <a:ext cx="410364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60360" algn="just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Искусство </a:t>
            </a:r>
            <a:r>
              <a:rPr b="1" lang="ru-RU" sz="2400" spc="-1" strike="noStrike">
                <a:solidFill>
                  <a:srgbClr val="eaeaea"/>
                </a:solidFill>
                <a:latin typeface="Verdana"/>
              </a:rPr>
              <a:t>счета 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развивалось с развитием человечества. В те времена, когда человек лишь собирал в лесу плоды и охотился, ему для счета хватало четырех слов: один, два, три и много. Именно так считают и сейчас некоторые племена, живущие в джунглях Южной Америки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0" name="Picture 11" descr="2-2"/>
          <p:cNvPicPr/>
          <p:nvPr/>
        </p:nvPicPr>
        <p:blipFill>
          <a:blip r:embed="rId1"/>
          <a:stretch/>
        </p:blipFill>
        <p:spPr>
          <a:xfrm>
            <a:off x="4788000" y="1773360"/>
            <a:ext cx="4356000" cy="40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899640" y="549360"/>
            <a:ext cx="7643880" cy="25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449280" algn="just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Однако, когда люди начали заниматься животноводством и земледелием, то им уже стало необходимо пересчитывать коз в стаде или количество корзин с выращенными плодами (которых было больше трех), заготовленными на зиму.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2" name="Picture 7" descr="1-1"/>
          <p:cNvPicPr/>
          <p:nvPr/>
        </p:nvPicPr>
        <p:blipFill>
          <a:blip r:embed="rId1"/>
          <a:stretch/>
        </p:blipFill>
        <p:spPr>
          <a:xfrm>
            <a:off x="1763640" y="3476520"/>
            <a:ext cx="5435640" cy="33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740268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Если в какой-то бороздке при счете набиралось более 10 камешков, их снимали и добавляли один камешек в следующем разряде.</a:t>
            </a:r>
            <a:br>
              <a:rPr sz="2800"/>
            </a:b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Римляне усовершенствовали абак, перейдя от деревянных досок, песка и камешков к мраморным доскам с выточенными желобками и мраморными шариками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Приборы для счета"/>
          <p:cNvPicPr/>
          <p:nvPr/>
        </p:nvPicPr>
        <p:blipFill>
          <a:blip r:embed="rId1"/>
          <a:stretch/>
        </p:blipFill>
        <p:spPr>
          <a:xfrm>
            <a:off x="762120" y="2316240"/>
            <a:ext cx="8153280" cy="444168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3"/>
          <p:cNvSpPr/>
          <p:nvPr/>
        </p:nvSpPr>
        <p:spPr>
          <a:xfrm>
            <a:off x="380880" y="0"/>
            <a:ext cx="853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Обнаружена в раскопках так называемая "вестоницкая кость" с зарубками. Это позволяет историкам предположить, что уже 30тыс.лет.до н.э. наши предки были знакомы с зачатками счета</a:t>
            </a:r>
            <a:r>
              <a:rPr b="0" lang="ru-RU" sz="2400" spc="-1" strike="noStrike">
                <a:solidFill>
                  <a:srgbClr val="6633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Саламинская доска"/>
          <p:cNvPicPr/>
          <p:nvPr/>
        </p:nvPicPr>
        <p:blipFill>
          <a:blip r:embed="rId1"/>
          <a:stretch/>
        </p:blipFill>
        <p:spPr>
          <a:xfrm>
            <a:off x="4643280" y="907920"/>
            <a:ext cx="3926160" cy="514368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3"/>
          <p:cNvSpPr/>
          <p:nvPr/>
        </p:nvSpPr>
        <p:spPr>
          <a:xfrm>
            <a:off x="304920" y="4343400"/>
            <a:ext cx="82296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395280" y="981000"/>
            <a:ext cx="41911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Древнегреческий абак (доска или "саламинская доска" по имени острова Саламин в Эгейском море) представлял собой посыпанную морским песком дощечку. На песке проходились бороздки, на которых камешками обозначались числа. Одна бороздка соответствовала единицам, другая - десяткам и т.д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Счеты в разных странах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Китайские счеты суан-пан состояли из деревянной рамки, разделенной на верхние и нижние секции. Палочки соотносятся с колонками, а бусинки с числами. У китайцев в основе счета лежала не десятка, а пятерка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grpSp>
        <p:nvGrpSpPr>
          <p:cNvPr id="132" name="Group 5"/>
          <p:cNvGrpSpPr/>
          <p:nvPr/>
        </p:nvGrpSpPr>
        <p:grpSpPr>
          <a:xfrm>
            <a:off x="4643280" y="1341360"/>
            <a:ext cx="4157640" cy="5091840"/>
            <a:chOff x="4643280" y="1341360"/>
            <a:chExt cx="4157640" cy="5091840"/>
          </a:xfrm>
        </p:grpSpPr>
        <p:pic>
          <p:nvPicPr>
            <p:cNvPr id="133" name="Picture 6" descr="Суан-пан"/>
            <p:cNvPicPr/>
            <p:nvPr/>
          </p:nvPicPr>
          <p:blipFill>
            <a:blip r:embed="rId1"/>
            <a:stretch/>
          </p:blipFill>
          <p:spPr>
            <a:xfrm>
              <a:off x="4643280" y="1341360"/>
              <a:ext cx="4157640" cy="484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Text Box 7"/>
            <p:cNvSpPr/>
            <p:nvPr/>
          </p:nvSpPr>
          <p:spPr>
            <a:xfrm>
              <a:off x="5751720" y="6095880"/>
              <a:ext cx="210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663300"/>
                  </a:solidFill>
                  <a:latin typeface="Comic Sans MS"/>
                </a:rPr>
                <a:t>Суан-пан </a:t>
              </a:r>
              <a:endParaRPr b="0" lang="en-US" sz="16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68360" y="333000"/>
            <a:ext cx="7786800" cy="24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Она разделена на две части: в нижней части на каждом ряду располагаются по 5 косточек, в верхней части - по две. Таким образом, для того чтобы выставить на этих счетах число 6, ставили сначала  косточку, соответствующую пятерке, и затем прибавляли одну в разряд единиц</a:t>
            </a:r>
            <a:r>
              <a:rPr b="0" lang="ru-RU" sz="2400" spc="-1" strike="noStrike">
                <a:solidFill>
                  <a:srgbClr val="6633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grpSp>
        <p:nvGrpSpPr>
          <p:cNvPr id="136" name="Group 4"/>
          <p:cNvGrpSpPr/>
          <p:nvPr/>
        </p:nvGrpSpPr>
        <p:grpSpPr>
          <a:xfrm>
            <a:off x="468360" y="3068640"/>
            <a:ext cx="7924320" cy="2482200"/>
            <a:chOff x="468360" y="3068640"/>
            <a:chExt cx="7924320" cy="2482200"/>
          </a:xfrm>
        </p:grpSpPr>
        <p:pic>
          <p:nvPicPr>
            <p:cNvPr id="137" name="Picture 5" descr="JAP"/>
            <p:cNvPicPr/>
            <p:nvPr/>
          </p:nvPicPr>
          <p:blipFill>
            <a:blip r:embed="rId1"/>
            <a:stretch/>
          </p:blipFill>
          <p:spPr>
            <a:xfrm>
              <a:off x="468360" y="3068640"/>
              <a:ext cx="7924320" cy="226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Text Box 6"/>
            <p:cNvSpPr/>
            <p:nvPr/>
          </p:nvSpPr>
          <p:spPr>
            <a:xfrm>
              <a:off x="2787480" y="5243760"/>
              <a:ext cx="3736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663300"/>
                  </a:solidFill>
                  <a:latin typeface="Comic Sans MS"/>
                </a:rPr>
                <a:t>японское </a:t>
              </a:r>
              <a:r>
                <a:rPr b="1" i="1" lang="ru-RU" sz="1400" spc="-1" strike="noStrike">
                  <a:solidFill>
                    <a:srgbClr val="663300"/>
                  </a:solidFill>
                  <a:latin typeface="Comic Sans MS"/>
                </a:rPr>
                <a:t>серобян</a:t>
              </a:r>
              <a:endParaRPr b="0" lang="en-US" sz="14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1T10:25:51Z</dcterms:created>
  <dc:creator>Учитель</dc:creator>
  <dc:description/>
  <dc:language>en-US</dc:language>
  <cp:lastModifiedBy>5</cp:lastModifiedBy>
  <dcterms:modified xsi:type="dcterms:W3CDTF">2015-01-31T18:47:21Z</dcterms:modified>
  <cp:revision>16</cp:revision>
  <dc:subject/>
  <dc:title>История числа</dc:title>
</cp:coreProperties>
</file>