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9F8-FF64-4513-B796-4AC555DA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5E3-F9E5-4A19-909D-D36E2F0E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47A-8926-44C0-9629-130DA882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F59-ECA8-4875-B696-F3933D4A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33EB-0C46-47A8-A465-8B142AD7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6210-D306-44AD-B933-56A3E7AA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001D-0C83-4E88-917F-7508602D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7903-C110-4608-923F-DE624CF3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E240-1553-461A-B9EB-E33B40B3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3C68-617B-4CF7-A07E-E03A135A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08E7-A76A-47ED-8D85-1D02752F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0D5-A2C3-4CBF-9885-A39F6C78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94C2-CC75-4456-9934-9FE6DD4B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A43D-4E9A-45FF-B9FB-3C05CE81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B6AD-6DA9-433E-BF24-D3C27B70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84F7-41C6-4D45-9D80-21FF3574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76AF-1B96-4CF1-A539-3E335DD7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B67-A6A6-4685-857D-F54B3A37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1EC-9839-4E56-8D51-5059327E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C2C-5EA8-4BD6-9099-BA779812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5F0-AFDB-49EA-A478-C5D0C033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3B0-2CBE-4C74-A672-BF6D1179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9CA-7B55-496E-BA21-5D25B264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BAB-0C94-4656-BAB2-83FFEB7D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D074-BFD8-4D6E-A15C-9C36DEA315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B513-EAB9-4509-A542-DE4CBD0CDB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0033"/>
                </a:solidFill>
                <a:uFillTx/>
                <a:latin typeface="Times New Roman"/>
              </a:rPr>
              <a:t>Тема: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ормирование команды. Роли в коман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руктуры внутригрупповых  каналов коммуникации</a:t>
            </a:r>
            <a:br>
              <a:rPr sz="21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9951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Централизованные (вертикаль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ронта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диа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ерархическ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Децентрализова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(горизонталь, «коммуникативное равенство»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Цеп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Кругов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6. Полная или неограниченная структура коммуникации (нет препятствий для свободного общен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2349360"/>
            <a:ext cx="792000" cy="2808360"/>
          </a:xfrm>
          <a:custGeom>
            <a:avLst/>
            <a:gdLst>
              <a:gd name="textAreaLeft" fmla="*/ 0 w 792000"/>
              <a:gd name="textAreaRight" fmla="*/ 285840 w 792000"/>
              <a:gd name="textAreaTop" fmla="*/ 68400 h 2808360"/>
              <a:gd name="textAreaBottom" fmla="*/ 273996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45"/>
                  <a:pt x="10800" y="1689"/>
                </a:cubicBezTo>
                <a:lnTo>
                  <a:pt x="10800" y="8935"/>
                </a:lnTo>
                <a:cubicBezTo>
                  <a:pt x="10800" y="9780"/>
                  <a:pt x="16200" y="10624"/>
                  <a:pt x="21600" y="10624"/>
                </a:cubicBezTo>
                <a:cubicBezTo>
                  <a:pt x="16200" y="10624"/>
                  <a:pt x="10800" y="11469"/>
                  <a:pt x="10800" y="12313"/>
                </a:cubicBezTo>
                <a:lnTo>
                  <a:pt x="10800" y="19911"/>
                </a:lnTo>
                <a:cubicBezTo>
                  <a:pt x="10800" y="2075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2708280"/>
            <a:ext cx="20509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граниченная 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ной ме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рук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Фронтальная структур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стники непосредственно находятся рядом и, вступая в прямые контакты, могут видеть друг друга, что позволяет им в какой-то степени учитывать поведение и реакции друг друга в совмест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348000" y="4005360"/>
            <a:ext cx="2449080" cy="2015640"/>
            <a:chOff x="3348000" y="4005360"/>
            <a:chExt cx="2449080" cy="2015640"/>
          </a:xfrm>
        </p:grpSpPr>
        <p:sp>
          <p:nvSpPr>
            <p:cNvPr id="120" name=""/>
            <p:cNvSpPr/>
            <p:nvPr/>
          </p:nvSpPr>
          <p:spPr>
            <a:xfrm>
              <a:off x="4284360" y="4005360"/>
              <a:ext cx="50436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4720" y="5589360"/>
              <a:ext cx="50436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95640" y="5589360"/>
              <a:ext cx="50436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48000" y="5589360"/>
              <a:ext cx="50472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92360" y="5589360"/>
              <a:ext cx="50472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636720" y="4437000"/>
              <a:ext cx="79164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284360" y="4437000"/>
              <a:ext cx="21564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571640" y="4437000"/>
              <a:ext cx="360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571280" y="4437000"/>
              <a:ext cx="86508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700360" y="4724280"/>
            <a:ext cx="158436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56000" y="4723920"/>
            <a:ext cx="1728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адиальная струк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3640" y="5157720"/>
            <a:ext cx="504720" cy="43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57200" algn="just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частники деятельности не могут непосредственно воспринимать, видеть или слышать друг друга и обмениваться информацией только через «центральное лицо». Это затрудняет возможность учитывать поведение и реакции остальных, зато позволяет работать самостоятельно независимо, до конца выявляя собственную, индивидуальную позиц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4292640"/>
            <a:ext cx="504720" cy="431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505080" cy="431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6021360"/>
            <a:ext cx="504720" cy="43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5950080"/>
            <a:ext cx="505080" cy="431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708360" y="4365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ерархическая струк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еется несколько (не менее 2) уровней соподчинения, причем часть из них может непосредственно видеть друг друга в процессе совместной деятельности, а часть нет. Межличностное общение ограниченно, коммуникации могут осуществляться в основном между двумя располагающимися рядом уровнями соподчин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6021360"/>
            <a:ext cx="504720" cy="43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6021360"/>
            <a:ext cx="505080" cy="43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00360" y="6021360"/>
            <a:ext cx="504720" cy="432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4005360"/>
            <a:ext cx="57600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576000" cy="5032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87640" y="5444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708000" y="544464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19280" y="5734080"/>
            <a:ext cx="47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пной вариант структу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личностное взаимодействие осуществляется как бы по цепочке, где каждый из участников за исключением двух крайних взаимодействуют с двумя соседними. Крайние позиции взаимодействуют только с одним членом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5445000"/>
            <a:ext cx="574560" cy="50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5445000"/>
            <a:ext cx="574560" cy="50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5445000"/>
            <a:ext cx="574920" cy="50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5445000"/>
            <a:ext cx="574920" cy="50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5445000"/>
            <a:ext cx="574560" cy="50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руговая струк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инаковыми возможностями располагают все члены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щаяся информация может циркулировать между членами группы, дополняться и уточн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ники коммуникации могут непосредственно наблюдать за реакциями друг друга, учитывать их в свое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987640" y="3789360"/>
            <a:ext cx="3600360" cy="2808360"/>
            <a:chOff x="2987640" y="3789360"/>
            <a:chExt cx="3600360" cy="2808360"/>
          </a:xfrm>
        </p:grpSpPr>
        <p:sp>
          <p:nvSpPr>
            <p:cNvPr id="159" name=""/>
            <p:cNvSpPr/>
            <p:nvPr/>
          </p:nvSpPr>
          <p:spPr>
            <a:xfrm>
              <a:off x="3348000" y="4221000"/>
              <a:ext cx="2808360" cy="216072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35280" y="6165720"/>
              <a:ext cx="57636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87640" y="4797360"/>
              <a:ext cx="57636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0720" y="3789360"/>
              <a:ext cx="576000" cy="431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12000" y="4797360"/>
              <a:ext cx="57600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64000" y="6165720"/>
              <a:ext cx="57636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олная или неограниченная структур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ей нет никаких препятствий для свободного межличностного общения. Каждый из членов группы может совершено свободно взаимодействовать с друг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87640" y="3213000"/>
            <a:ext cx="3600360" cy="2808360"/>
            <a:chOff x="2987640" y="3213000"/>
            <a:chExt cx="3600360" cy="2808360"/>
          </a:xfrm>
        </p:grpSpPr>
        <p:grpSp>
          <p:nvGrpSpPr>
            <p:cNvPr id="168" name=""/>
            <p:cNvGrpSpPr/>
            <p:nvPr/>
          </p:nvGrpSpPr>
          <p:grpSpPr>
            <a:xfrm>
              <a:off x="2987640" y="3213000"/>
              <a:ext cx="3600360" cy="2808360"/>
              <a:chOff x="2987640" y="3213000"/>
              <a:chExt cx="3600360" cy="2808360"/>
            </a:xfrm>
          </p:grpSpPr>
          <p:sp>
            <p:nvSpPr>
              <p:cNvPr id="169" name=""/>
              <p:cNvSpPr/>
              <p:nvPr/>
            </p:nvSpPr>
            <p:spPr>
              <a:xfrm>
                <a:off x="3348000" y="3644640"/>
                <a:ext cx="2808360" cy="2160720"/>
              </a:xfrm>
              <a:prstGeom prst="pentag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635280" y="5589360"/>
                <a:ext cx="576360" cy="432000"/>
              </a:xfrm>
              <a:prstGeom prst="ellipse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87640" y="4221000"/>
                <a:ext cx="576360" cy="432000"/>
              </a:xfrm>
              <a:prstGeom prst="ellipse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500720" y="3213000"/>
                <a:ext cx="576000" cy="431640"/>
              </a:xfrm>
              <a:prstGeom prst="ellipse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12000" y="4221000"/>
                <a:ext cx="576000" cy="432000"/>
              </a:xfrm>
              <a:prstGeom prst="ellipse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364000" y="5589360"/>
                <a:ext cx="576360" cy="432000"/>
              </a:xfrm>
              <a:prstGeom prst="ellipse">
                <a:avLst/>
              </a:prstGeom>
              <a:solidFill>
                <a:srgbClr val="cc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564000" y="3716280"/>
              <a:ext cx="2448000" cy="1873080"/>
            </a:xfrm>
            <a:prstGeom prst="star5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4284720" y="4868280"/>
              <a:ext cx="50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00720" y="4437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859280" y="4868280"/>
              <a:ext cx="4334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284720" y="4437000"/>
              <a:ext cx="216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76720" y="4437000"/>
              <a:ext cx="216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оны коммуникации предполагают последовательное прохождение следующих пози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Авт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онимающ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Крит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Организатор коммуник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Арбит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Позиционные роли в коммуника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371628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80000" y="2781360"/>
            <a:ext cx="1223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2781360"/>
            <a:ext cx="1368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55640" y="5805360"/>
            <a:ext cx="433440" cy="720360"/>
            <a:chOff x="755640" y="5805360"/>
            <a:chExt cx="433440" cy="720360"/>
          </a:xfrm>
        </p:grpSpPr>
        <p:sp>
          <p:nvSpPr>
            <p:cNvPr id="187" name=""/>
            <p:cNvSpPr/>
            <p:nvPr/>
          </p:nvSpPr>
          <p:spPr>
            <a:xfrm rot="10800000">
              <a:off x="755640" y="6113880"/>
              <a:ext cx="432000" cy="411840"/>
            </a:xfrm>
            <a:prstGeom prst="triangle">
              <a:avLst>
                <a:gd name="adj" fmla="val 500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5640" y="5805360"/>
              <a:ext cx="433440" cy="2574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419280" y="5877000"/>
            <a:ext cx="433440" cy="720360"/>
            <a:chOff x="3419280" y="5877000"/>
            <a:chExt cx="433440" cy="720360"/>
          </a:xfrm>
        </p:grpSpPr>
        <p:sp>
          <p:nvSpPr>
            <p:cNvPr id="190" name=""/>
            <p:cNvSpPr/>
            <p:nvPr/>
          </p:nvSpPr>
          <p:spPr>
            <a:xfrm rot="10800000">
              <a:off x="3419280" y="6185520"/>
              <a:ext cx="431640" cy="411840"/>
            </a:xfrm>
            <a:prstGeom prst="triangle">
              <a:avLst>
                <a:gd name="adj" fmla="val 500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19640" y="5877000"/>
              <a:ext cx="433080" cy="2574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788000" y="5157720"/>
            <a:ext cx="433440" cy="720360"/>
            <a:chOff x="4788000" y="5157720"/>
            <a:chExt cx="433440" cy="720360"/>
          </a:xfrm>
        </p:grpSpPr>
        <p:sp>
          <p:nvSpPr>
            <p:cNvPr id="193" name=""/>
            <p:cNvSpPr/>
            <p:nvPr/>
          </p:nvSpPr>
          <p:spPr>
            <a:xfrm rot="10800000">
              <a:off x="4788000" y="5466240"/>
              <a:ext cx="432000" cy="411840"/>
            </a:xfrm>
            <a:prstGeom prst="triangle">
              <a:avLst>
                <a:gd name="adj" fmla="val 500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000" y="5157720"/>
              <a:ext cx="433440" cy="2574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124000" y="5229360"/>
            <a:ext cx="433440" cy="720360"/>
            <a:chOff x="2124000" y="5229360"/>
            <a:chExt cx="433440" cy="720360"/>
          </a:xfrm>
        </p:grpSpPr>
        <p:sp>
          <p:nvSpPr>
            <p:cNvPr id="196" name=""/>
            <p:cNvSpPr/>
            <p:nvPr/>
          </p:nvSpPr>
          <p:spPr>
            <a:xfrm rot="10800000">
              <a:off x="2124000" y="5537880"/>
              <a:ext cx="432000" cy="411840"/>
            </a:xfrm>
            <a:prstGeom prst="triangle">
              <a:avLst>
                <a:gd name="adj" fmla="val 500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24000" y="5229360"/>
              <a:ext cx="433440" cy="2574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948360" y="5516640"/>
            <a:ext cx="433440" cy="720360"/>
            <a:chOff x="6948360" y="5516640"/>
            <a:chExt cx="433440" cy="720360"/>
          </a:xfrm>
        </p:grpSpPr>
        <p:sp>
          <p:nvSpPr>
            <p:cNvPr id="199" name=""/>
            <p:cNvSpPr/>
            <p:nvPr/>
          </p:nvSpPr>
          <p:spPr>
            <a:xfrm rot="10800000">
              <a:off x="6948360" y="5825160"/>
              <a:ext cx="432000" cy="411840"/>
            </a:xfrm>
            <a:prstGeom prst="triangle">
              <a:avLst>
                <a:gd name="adj" fmla="val 500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48360" y="5516640"/>
              <a:ext cx="433440" cy="2574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771640" y="5589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484000" y="602100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924360" y="602136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651640" y="5589720"/>
            <a:ext cx="100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724360" y="5950080"/>
            <a:ext cx="935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5516640"/>
            <a:ext cx="1224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36000" y="587700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5280" y="551664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558972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2360" y="6353280"/>
            <a:ext cx="5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635328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2637000"/>
            <a:ext cx="1081080" cy="863280"/>
          </a:xfrm>
          <a:custGeom>
            <a:avLst/>
            <a:gdLst>
              <a:gd name="textAreaLeft" fmla="*/ 0 w 1081080"/>
              <a:gd name="textAreaRight" fmla="*/ 390240 w 108108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2421000"/>
            <a:ext cx="1368720" cy="1152360"/>
          </a:xfrm>
          <a:custGeom>
            <a:avLst/>
            <a:gdLst>
              <a:gd name="textAreaLeft" fmla="*/ 0 w 1368720"/>
              <a:gd name="textAreaRight" fmla="*/ 494280 w 13687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5640" y="4869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оли в команд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вариант. Классификация Белби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едседатель» – спокойный, уверенный в себе, контролирующий себ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оставщик» - активный, динамичный, напрягшийся, возбужден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Человек команды» - социально-ориентированный, ласковый, чутк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Уточняющий» - экстраверт, любопытный, общительный, энтузиас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Оценивающий» - серьезный, осторож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Исполнитель» - предсказуемый, управляем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Растущий» - творчески-настроенный индивидуалист, не всем приемлем. Потенциальный «председатель» новой коман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оли в команд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ариант. Классификация Крейган, Рай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Лидер выполнения задания» – несущий ответственность за выполнение рабо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Социально-эмоциональный лидер» - создает благоприятную атмосферу и поощряет анализ в групп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Нейтрализатор» - поддерживает хорошее настроение коман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Доставляющий» - общается с нужными источник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Главный отрицающий» - оценивает идеи, составляет порядок работ, приветствует конфлик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35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Активный слушатель» - спрашивающий, ищущий идеи, не выражающий поддержки какой-либо определенной пози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00000" y="1483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Согласование и уточнение представлений о закономерностях формирование команды на основе полученных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Отработка умений применения полученных знаний в условиях тренин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Развитие коммуникативных способностей для работы в коман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Проектирование заказа на совместную деятельность командн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а обучения:  Деловая 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дель обуч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ценка - Обучение - Анализ - Упражнение - Приме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оли в команд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риант. Классификация по Вудк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идер команды» - ставит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ипломат» - участник переговоров, влиятелен, ориентируется на всю кома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сол» - развивает внешние связи, заводит новые знакомства, полезные для кома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нтролер» - заботится о качестве продукта, «голос совести» кома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удья» - стимулирует справедливость в группе, избегает сп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испособленец» - наблюдает, не допускает конфли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ипы коман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сформировавшаяся коман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чаще всего характеризуется как «король и придворные», где «король» делает то, что хочет, а придворные должны ему подчиняться. Иногда «король» тяжело и много работает, но это не помогает формироваться команде, потому что все предложения, дискуссии и решения предлагаются и принимаются им сам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кспериментирующая коман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ытается избежать притворной вежливости. «Нам не нужна наша дурацкая вежливость», - говорят они; а это означает большую открытость команды и готовность столкнуться с труд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диняющаяся коман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 общей работы получает больше пользы. На этом этапе выявляются больше усилий для создания структуры работы команды: объясняются цели команды; определяются задания, которые нужно выполнить; более точно и аккуратно проводится планирование и анализ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релом коман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войственна методологическая работа очень высокого уровня и развивающаяся деятельность (в широком смысле). Лояльность команды является естественной и само собой разумеющейся и не подлежит дискуссиям. Развитие команды становится образом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лые групп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это небольшие объединения людей (от 2-3 до 30 чел.), занятых общим делом и находящихся в непосредственных контактах между соб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арактеристика малой груп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логическая и поведенческая общность ее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чность развития и жизнедеятельность группы (от фазы становления до фазы распа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ально-нравственные нормы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средственный контакт между членам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зиция группы (индивидуальный сост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ально-нравстственный 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ность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лассификация малых груп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ферентные    –     нереферен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ественные    –     усл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оразвитие  –     высоко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это такая малая группа, в которой сложилась дифференцированная система различных деловых и личных взаимоотношений, строящихся на высокой нравственной основе. Такие отношения принято называть коллективистскими (коллектив единомышленников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Требования к команд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пешно справляться с возложенными на нее задач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ть высокую мораль, хорошие человеческие 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вать для каждого своего члена возможность развития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ть способной к творчеству., т.е. как группа давать людям больше, чем может дать сума того же количества индивидов, работающих в отд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знаки коман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я и ли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ной системы отношений в групп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орм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вственные ценности и н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лы коммуник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я и ста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е у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евые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зи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Этапы формирования команды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en-US" sz="1900" spc="-1" strike="noStrike">
                <a:solidFill>
                  <a:srgbClr val="330033"/>
                </a:solidFill>
                <a:latin typeface="Times New Roman"/>
              </a:rPr>
              <a:t>(А.Г. Кирпичник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866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ная ориентация. Это этап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высо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ботоспособности группы (самопрезентация, наблюдение других членов группы,  понимание и отбор важных для себя свойств партн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оциональный подъем. Определяется преимуществом контактов, оживленны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визн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ад психологического контакта. Возникает в следствии начала совместной деятельности, в которой обнаруживаются не только достоинства, но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бле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тсюда ситуация взаимной неудовлетвор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ъем психологического контакта. Связан с получением результатов совместной деятельности, согласовании в ролевых функциях, выявляющих сильные стороны каждого члена коман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8:07:58Z</dcterms:created>
  <dc:creator>_</dc:creator>
  <dc:description/>
  <dc:language>en-US</dc:language>
  <cp:lastModifiedBy>Nabster</cp:lastModifiedBy>
  <dcterms:modified xsi:type="dcterms:W3CDTF">2012-02-17T07:01:50Z</dcterms:modified>
  <cp:revision>15</cp:revision>
  <dc:subject/>
  <dc:title>Тема: Формирование команды. Роли в команде</dc:title>
</cp:coreProperties>
</file>