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05B-2313-4E8E-AE07-4F04EB62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586-521A-4CE8-9C31-DE856F4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E3F-E635-4116-942E-C2B89D55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6C4-A300-4C66-9EBD-3624C75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634-88D0-45CD-9645-4260826B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BB67-9861-42D9-8C84-DFB483C5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057-7B45-4A91-A074-BB8D81A2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18AB-AD54-4017-A23F-009628C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2E3-66FD-4508-ADE5-5D127457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ED65-9DA5-4CC5-8E20-367E370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BA5-4376-466A-837E-FDC263B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793-D48A-4456-8962-2ECA9E0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289-1932-4299-8C15-4B56FC9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8674-CD50-4AB9-9A40-23EDB20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73A2-55E7-4CD1-95F0-ABD739F0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49B-68F9-45F8-A216-8A358FE9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BAF0-6CAE-421E-B3EF-79048056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A8F-DCF7-446A-81B4-EB7BAAAF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035-3C3E-43A3-9EAF-E17BD695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8D6-9969-4A55-A8E4-D499D5FC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5F4-5C44-4E4B-9802-0B0B2C54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1D0-29D9-4884-BCF4-77FCB7D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9FC-3D7D-49F6-AD56-F1DD943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670-DAA1-4686-8EAE-9E55454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3FA2-1AF6-46D5-99C0-BFC761F355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A019-770B-48D1-AEDC-1B615C2814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0033"/>
                </a:solidFill>
                <a:uFillTx/>
                <a:latin typeface="Times New Roman"/>
              </a:rPr>
              <a:t>Тема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ирование команды. Роли в коман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уктуры внутригрупповых  каналов коммуникации</a:t>
            </a:r>
            <a:br>
              <a:rPr sz="21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951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Централизованные (вертикаль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ерархиче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Децентрализова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горизонталь, «коммуникативное равенство»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Цеп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Кругов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6. Полная или неограниченная структура коммуникации (нет препятствий для свободного общ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349360"/>
            <a:ext cx="792000" cy="2808360"/>
          </a:xfrm>
          <a:custGeom>
            <a:avLst/>
            <a:gdLst>
              <a:gd name="textAreaLeft" fmla="*/ 0 w 792000"/>
              <a:gd name="textAreaRight" fmla="*/ 285840 w 792000"/>
              <a:gd name="textAreaTop" fmla="*/ 68400 h 2808360"/>
              <a:gd name="textAreaBottom" fmla="*/ 27399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5"/>
                  <a:pt x="10800" y="1689"/>
                </a:cubicBezTo>
                <a:lnTo>
                  <a:pt x="10800" y="8935"/>
                </a:lnTo>
                <a:cubicBezTo>
                  <a:pt x="10800" y="9780"/>
                  <a:pt x="16200" y="10624"/>
                  <a:pt x="21600" y="10624"/>
                </a:cubicBezTo>
                <a:cubicBezTo>
                  <a:pt x="16200" y="10624"/>
                  <a:pt x="10800" y="11469"/>
                  <a:pt x="10800" y="12313"/>
                </a:cubicBezTo>
                <a:lnTo>
                  <a:pt x="10800" y="19911"/>
                </a:lnTo>
                <a:cubicBezTo>
                  <a:pt x="10800" y="207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2708280"/>
            <a:ext cx="2050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граниченная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ной м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онтальная структур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ники непосредственно находятся рядом и, вступая в прямые контакты, могут видеть друг друга, что позволяет им в какой-то степени учитывать поведение и реакции друг друга в совмес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48000" y="4005360"/>
            <a:ext cx="2449080" cy="2015640"/>
            <a:chOff x="3348000" y="4005360"/>
            <a:chExt cx="2449080" cy="2015640"/>
          </a:xfrm>
        </p:grpSpPr>
        <p:sp>
          <p:nvSpPr>
            <p:cNvPr id="120" name=""/>
            <p:cNvSpPr/>
            <p:nvPr/>
          </p:nvSpPr>
          <p:spPr>
            <a:xfrm>
              <a:off x="4284360" y="4005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4720" y="5589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95640" y="5589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8000" y="5589360"/>
              <a:ext cx="50472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2360" y="5589360"/>
              <a:ext cx="50472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636720" y="4437000"/>
              <a:ext cx="79164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284360" y="4437000"/>
              <a:ext cx="21564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571640" y="4437000"/>
              <a:ext cx="360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71280" y="4437000"/>
              <a:ext cx="86508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00360" y="4724280"/>
            <a:ext cx="158436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723920"/>
            <a:ext cx="1728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диальн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515772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7200" algn="just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астники деятельности не могут непосредственно воспринимать, видеть или слышать друг друга и обмениваться информацией только через «центральное лицо». Это затрудняет возможность учитывать поведение и реакции остальных, зато позволяет работать самостоятельно независимо, до конца выявляя собственную, индивидуальную пози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292640"/>
            <a:ext cx="50472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50508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950080"/>
            <a:ext cx="50508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708360" y="4365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ерархическ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еется несколько (не менее 2) уровней соподчинения, причем часть из них может непосредственно видеть друг друга в процессе совместной деятельности, а часть нет. Межличностное общение ограниченно, коммуникации могут осуществляться в основном между двумя располагающимися рядом уровнями соподчин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6021360"/>
            <a:ext cx="50508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05360"/>
            <a:ext cx="57600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57600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87640" y="5444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708000" y="544464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19280" y="5734080"/>
            <a:ext cx="47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пной вариант струк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личностное взаимодействие осуществляется как бы по цепочке, где каждый из участников за исключением двух крайних взаимодействуют с двумя соседними. Крайние позиции взаимодействуют только с одним членом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5445000"/>
            <a:ext cx="57492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445000"/>
            <a:ext cx="57492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ругов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аковыми возможностями располагают все члены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щаяся информация может циркулировать между членами группы, дополняться и уточ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и коммуникации могут непосредственно наблюдать за реакциями друг друга, учитывать их в свое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87640" y="3789360"/>
            <a:ext cx="3600360" cy="2808360"/>
            <a:chOff x="2987640" y="3789360"/>
            <a:chExt cx="3600360" cy="2808360"/>
          </a:xfrm>
        </p:grpSpPr>
        <p:sp>
          <p:nvSpPr>
            <p:cNvPr id="159" name=""/>
            <p:cNvSpPr/>
            <p:nvPr/>
          </p:nvSpPr>
          <p:spPr>
            <a:xfrm>
              <a:off x="3348000" y="4221000"/>
              <a:ext cx="2808360" cy="216072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35280" y="616572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87640" y="479736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720" y="3789360"/>
              <a:ext cx="57600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2000" y="4797360"/>
              <a:ext cx="57600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4000" y="616572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лная или неограниченная структу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й нет никаких препятствий для свободного межличностного общения. Каждый из членов группы может совершено свободно взаимодействовать с друг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7640" y="3213000"/>
            <a:ext cx="3600360" cy="2808360"/>
            <a:chOff x="2987640" y="3213000"/>
            <a:chExt cx="3600360" cy="2808360"/>
          </a:xfrm>
        </p:grpSpPr>
        <p:grpSp>
          <p:nvGrpSpPr>
            <p:cNvPr id="168" name=""/>
            <p:cNvGrpSpPr/>
            <p:nvPr/>
          </p:nvGrpSpPr>
          <p:grpSpPr>
            <a:xfrm>
              <a:off x="2987640" y="3213000"/>
              <a:ext cx="3600360" cy="2808360"/>
              <a:chOff x="2987640" y="3213000"/>
              <a:chExt cx="3600360" cy="2808360"/>
            </a:xfrm>
          </p:grpSpPr>
          <p:sp>
            <p:nvSpPr>
              <p:cNvPr id="169" name=""/>
              <p:cNvSpPr/>
              <p:nvPr/>
            </p:nvSpPr>
            <p:spPr>
              <a:xfrm>
                <a:off x="3348000" y="3644640"/>
                <a:ext cx="2808360" cy="2160720"/>
              </a:xfrm>
              <a:prstGeom prst="pentag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35280" y="558936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87640" y="422100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00720" y="3213000"/>
                <a:ext cx="576000" cy="43164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2000" y="4221000"/>
                <a:ext cx="57600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64000" y="558936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564000" y="3716280"/>
              <a:ext cx="2448000" cy="187308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284720" y="4868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0720" y="443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859280" y="4868280"/>
              <a:ext cx="4334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84720" y="4437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76720" y="4437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оны коммуникации предполагают последовательное прохождение следующих пози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вт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нимающ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Кри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рганизатор коммуник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рби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Позиционные роли в коммуника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37162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2781360"/>
            <a:ext cx="122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2781360"/>
            <a:ext cx="136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805360"/>
            <a:ext cx="433440" cy="720360"/>
            <a:chOff x="755640" y="5805360"/>
            <a:chExt cx="433440" cy="720360"/>
          </a:xfrm>
        </p:grpSpPr>
        <p:sp>
          <p:nvSpPr>
            <p:cNvPr id="187" name=""/>
            <p:cNvSpPr/>
            <p:nvPr/>
          </p:nvSpPr>
          <p:spPr>
            <a:xfrm rot="10800000">
              <a:off x="755640" y="611388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640" y="580536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419280" y="5877000"/>
            <a:ext cx="433440" cy="720360"/>
            <a:chOff x="3419280" y="5877000"/>
            <a:chExt cx="433440" cy="720360"/>
          </a:xfrm>
        </p:grpSpPr>
        <p:sp>
          <p:nvSpPr>
            <p:cNvPr id="190" name=""/>
            <p:cNvSpPr/>
            <p:nvPr/>
          </p:nvSpPr>
          <p:spPr>
            <a:xfrm rot="10800000">
              <a:off x="3419280" y="6185520"/>
              <a:ext cx="43164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19640" y="5877000"/>
              <a:ext cx="43308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788000" y="5157720"/>
            <a:ext cx="433440" cy="720360"/>
            <a:chOff x="4788000" y="5157720"/>
            <a:chExt cx="433440" cy="720360"/>
          </a:xfrm>
        </p:grpSpPr>
        <p:sp>
          <p:nvSpPr>
            <p:cNvPr id="193" name=""/>
            <p:cNvSpPr/>
            <p:nvPr/>
          </p:nvSpPr>
          <p:spPr>
            <a:xfrm rot="10800000">
              <a:off x="4788000" y="546624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515772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124000" y="5229360"/>
            <a:ext cx="433440" cy="720360"/>
            <a:chOff x="2124000" y="5229360"/>
            <a:chExt cx="433440" cy="720360"/>
          </a:xfrm>
        </p:grpSpPr>
        <p:sp>
          <p:nvSpPr>
            <p:cNvPr id="196" name=""/>
            <p:cNvSpPr/>
            <p:nvPr/>
          </p:nvSpPr>
          <p:spPr>
            <a:xfrm rot="10800000">
              <a:off x="2124000" y="553788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522936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948360" y="5516640"/>
            <a:ext cx="433440" cy="720360"/>
            <a:chOff x="6948360" y="5516640"/>
            <a:chExt cx="433440" cy="720360"/>
          </a:xfrm>
        </p:grpSpPr>
        <p:sp>
          <p:nvSpPr>
            <p:cNvPr id="199" name=""/>
            <p:cNvSpPr/>
            <p:nvPr/>
          </p:nvSpPr>
          <p:spPr>
            <a:xfrm rot="10800000">
              <a:off x="6948360" y="582516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8360" y="551664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771640" y="5589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484000" y="602100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24360" y="6021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651640" y="5589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24360" y="595008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516640"/>
            <a:ext cx="1224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6000" y="587700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5516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558972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635328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635328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637000"/>
            <a:ext cx="1081080" cy="863280"/>
          </a:xfrm>
          <a:custGeom>
            <a:avLst/>
            <a:gdLst>
              <a:gd name="textAreaLeft" fmla="*/ 0 w 1081080"/>
              <a:gd name="textAreaRight" fmla="*/ 390240 w 10810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421000"/>
            <a:ext cx="1368720" cy="1152360"/>
          </a:xfrm>
          <a:custGeom>
            <a:avLst/>
            <a:gdLst>
              <a:gd name="textAreaLeft" fmla="*/ 0 w 1368720"/>
              <a:gd name="textAreaRight" fmla="*/ 494280 w 13687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486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вариант. Классификация Белб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едседатель» – спокойный, уверенный в себе, контролирующий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оставщик» - активный, динамичный, напрягшийся, возбужден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еловек команды» - социально-ориентированный, ласковый, чут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Уточняющий» - экстраверт, любопытный, общительный, энтузиа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Оценивающий» - серьезный, остор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Исполнитель» - предсказуемый, управляем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стущий» - творчески-настроенный индивидуалист, не всем приемлем. Потенциальный «председатель» новой коман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ариант. Классификация Крейган, Рай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Лидер выполнения задания» – несущий ответственность за выполнение раб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Социально-эмоциональный лидер» - создает благоприятную атмосферу и поощряет анализ в груп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Нейтрализатор» - поддерживает хорошее настроение коман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Доставляющий» - общается с нужными источни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Главный отрицающий» - оценивает идеи, составляет порядок работ, приветствует конфли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Активный слушатель» - спрашивающий, ищущий идеи, не выражающий поддержки какой-либо определенной 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0000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огласование и уточнение представлений о закономерностях формирование команды на основе полученн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тработка умений применения полученных знаний в условиях тренин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Развитие коммуникативных способностей для работы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роектирование заказа на совместную деятельность команд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обучения:  Делов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 обуч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- Обучение - Анализ - Упражнение - Прим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. Классификация по Вудк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идер команды» - ставит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ипломат» - участник переговоров, влиятелен, ориентируется на всю кома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сол» - развивает внешние связи, заводит новые знакомства, полезные для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нтролер» - заботится о качестве продукта, «голос совести»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удья» - стимулирует справедливость в группе, избегает сп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способленец» - наблюдает, не допускает конфл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ипы коман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формировавшаяс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ще всего характеризуется как «король и придворные», где «король» делает то, что хочет, а придворные должны ему подчиняться. Иногда «король» тяжело и много работает, но это не помогает формироваться команде, потому что все предложения, дискуссии и решения предлагаются и принимаются им сам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спериментирующа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ытается избежать притворной вежливости. «Нам не нужна наша дурацкая вежливость», - говорят они; а это означает большую открытость команды и готовность столкнуться с труд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яющаяс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общей работы получает больше пользы. На этом этапе выявляются больше усилий для создания структуры работы команды: объясняются цели команды; определяются задания, которые нужно выполнить; более точно и аккуратно проводится планирование и анализ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лом коман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ойственна методологическая работа очень высокого уровня и развивающаяся деятельность (в широком смысле). Лояльность команды является естественной и само собой разумеющейся и не подлежит дискуссиям. Развитие команды становится образо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лые групп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это небольшие объединения людей (от 2-3 до 30 чел.), занятых общим делом и находящихся в непосредственных контактах между соб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а малой груп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ая и поведенческая общность ее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ность развития и жизнедеятельность группы (от фазы становления до фазы расп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ально-нравственные нормы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средственный контакт между членам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группы (индивидуальный сост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ально-нравстственный 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ность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ассификация малых груп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ерентные    –     нереферен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ые    –     усл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развитие  –     высоко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такая малая группа, в которой сложилась дифференцированная система различных деловых и личных взаимоотношений, строящихся на высокой нравственной основе. Такие отношения принято называть коллективистскими (коллектив единомышленник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ребования к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шно справляться с возложенными на нее зад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ть высокую мораль, хорошие человечески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вать для каждого своего члена возможность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ть способной к творчеству., т.е. как группа давать людям больше, чем может дать сума того же количества индивидов, работающих в отд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знаки коман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я и ли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й системы отношений в груп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ор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ые ценности и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лы коммун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 и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ые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тапы формирования команды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330033"/>
                </a:solidFill>
                <a:latin typeface="Times New Roman"/>
              </a:rPr>
              <a:t>(А.Г. Кирпичник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86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ая ориентация. Это этап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высо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ботоспособности группы (самопрезентация, наблюдение других членов группы,  понимание и отбор важных для себя свойств партн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ый подъем. Определяется преимуществом контактов, оживле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виз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д психологического контакта. Возникает в следствии начала совместной деятельности, в которой обнаруживаются не только достоинства, но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б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сюда ситуация взаимной неудовлетвор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психологического контакта. Связан с получением результатов совместной деятельности, согласовании в ролевых функциях, выявляющих сильные стороны каждого члена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8:07:58Z</dcterms:created>
  <dc:creator>_</dc:creator>
  <dc:description/>
  <dc:language>en-US</dc:language>
  <cp:lastModifiedBy>Nabster</cp:lastModifiedBy>
  <dcterms:modified xsi:type="dcterms:W3CDTF">2012-02-17T07:01:50Z</dcterms:modified>
  <cp:revision>15</cp:revision>
  <dc:subject/>
  <dc:title>Тема: Формирование команды. Роли в команде</dc:title>
</cp:coreProperties>
</file>