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D82B-C3D0-458B-920D-2DC3DC1CF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AE3-3D14-4461-BFF2-94D122D3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ACF-066D-49AE-8521-B590FB2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66B-A34B-4092-957C-1896A91A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AD5-AFE2-448F-8EAA-AD6BB17B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C96E-CCF4-4006-A8B7-04CE73EB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F6A6-CD1E-4E52-8738-4911E16A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02F7-30E7-455D-BE3B-5F9082D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CE75-0F9E-4A2C-AB31-C41BC13A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FA3B-F3C8-489B-A7B1-6BA2A22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0B9-FEFD-448E-BF15-6656ECD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554A-AEA1-42AF-8389-68984E1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1E4-0B23-4CE7-A627-792F8B5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1623-6E80-493D-BE6E-10972FC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88A1-42F9-4687-8E1A-FFCD8EA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F697-58F3-4DF2-9624-C2DD02E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2394-6833-4949-9715-6D3A1042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F274-897C-4C1C-81B1-AD28488A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D58-7338-416F-9EA6-D09CB60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A98-3118-4E52-9C17-99C0CAFB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244-8656-4889-B1A9-7CAA716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E18-3083-4CD8-814E-F84DB540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316-C6D7-4287-886F-A9F4E52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C49-5064-4281-A62B-01BA27C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EAB-D2DD-4503-A4AF-A4684BD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296-9974-46AC-B400-962BC63347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D8B7-16C3-4BC4-BD8D-A2BE449FE6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(Если произведение разделить на один множитель, то получим другой множитель). 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 ·в=с ↔ с :в=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При делении любого числа </a:t>
            </a:r>
            <a:r>
              <a:rPr b="0" lang="en-US" sz="5400" spc="-1" strike="noStrike">
                <a:solidFill>
                  <a:srgbClr val="666699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на единицу получаем это же число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: 1 = а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 · 1= а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Garamond"/>
              </a:rPr>
              <a:t>!</a:t>
            </a:r>
            <a:endParaRPr b="0" lang="en-US" sz="6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а нуль делить           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ельзя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При делении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нуля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 на любое число, не равное нулю, получим нуль.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: а=0, при 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а ·0=0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При делении любого числа </a:t>
            </a:r>
            <a:r>
              <a:rPr b="0" lang="en-US" sz="5400" spc="-1" strike="noStrike">
                <a:solidFill>
                  <a:srgbClr val="666699"/>
                </a:solidFill>
                <a:latin typeface="Times New Roman"/>
              </a:rPr>
              <a:t>а</a:t>
            </a: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, не равного нулю, на само себя получаем единицу.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а: а=1, при а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так как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а ·1=а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57360" y="1266120"/>
            <a:ext cx="6156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:25=                   52: 5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7: 1=                     73: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47=                   0: 74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0=                      5: 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=                       1: 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выражени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1936440"/>
            <a:ext cx="820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:25= 1                  52: 52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7: 1=  37                   73:1=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47= 0                  0: 741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0=                      5: 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:1=  0                     1: 1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роверь себ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12996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 грядки собрали 72 морковки, , часть морковок израсходова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 другую часть связали в 5 пучков по 9 морковок в каждом. Сколько морковок израсходовал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задач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240912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 ·1 = 45;               у: у = 1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 · 5 = 50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Решите уравнения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49:23Z</dcterms:created>
  <dc:creator>DIXON</dc:creator>
  <dc:description/>
  <dc:language>en-US</dc:language>
  <cp:lastModifiedBy>DIXON</cp:lastModifiedBy>
  <dcterms:modified xsi:type="dcterms:W3CDTF">2009-12-13T09:47:37Z</dcterms:modified>
  <cp:revision>3</cp:revision>
  <dc:subject/>
  <dc:title>   (Если произведение разделить на один множитель, то получим другой множитель).  </dc:title>
</cp:coreProperties>
</file>