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2DFE-C020-4ADA-8651-11F93DF40D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3534-9935-4062-BEC6-6CC9ADF8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F66-980D-45F8-8D30-CD9C69F0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E42-BC79-4399-A8DA-8F9DF2C9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A6C-F9AE-444F-BFAC-1895137B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56C5-9E5A-42C2-B4A3-8500020F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5395-2112-47FD-A1EB-A02F3FC2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804A-E39B-4455-8DAF-A36D328D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36F2-3AF6-46DA-985A-B49E16E1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13BB-3FC1-42EA-93B1-423A9860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0B07-1E10-4EF5-9738-49873899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02C2-A975-4801-AC66-1A74CCFE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4B9-91A1-45EC-9E42-4804CE15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2A2A-D041-4169-AC69-CC81545F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FABC-C8D3-4CE6-8A85-86008912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18ED-2A53-4E98-82D6-E979DEE9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F11F-715F-46B9-BD9D-BC934B18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D1AA-023D-41C8-875B-F4B7DC21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34D-375E-4ECB-A1B1-362D27C5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88C-6704-4CB9-B9EE-635A0C63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D807-E9DB-4EEB-AE88-9049C3C3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348-020D-4A89-850E-93BD50D0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692-1E78-452F-A4EE-053FF04C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CBF-E5AB-4B7E-A49B-840FAE8D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966-97C3-434D-A2F0-6D538221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4311-7978-4302-BCF1-01426E6E46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C89D-1856-40DF-9FBE-B97B22CBD10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(Если произведение разделить на один множитель, то получим другой множитель). 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а ·в=с ↔ с :в=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При делении любого числа </a:t>
            </a:r>
            <a:r>
              <a:rPr b="0" lang="en-US" sz="5400" spc="-1" strike="noStrike">
                <a:solidFill>
                  <a:srgbClr val="666699"/>
                </a:solidFill>
                <a:latin typeface="Times New Roman"/>
              </a:rPr>
              <a:t>а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на единицу получаем это же число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а: 1 = а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так как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а · 1= а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99"/>
                </a:solidFill>
                <a:latin typeface="Garamond"/>
              </a:rPr>
              <a:t>!</a:t>
            </a:r>
            <a:endParaRPr b="0" lang="en-US" sz="6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На нуль делить            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нельзя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При делении </a:t>
            </a:r>
            <a:r>
              <a:rPr b="0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нуля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 на любое число, не равное нулю, получим нуль.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0: а=0, при 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≠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так как,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а ·0=0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При делении любого числа </a:t>
            </a:r>
            <a:r>
              <a:rPr b="0" lang="en-US" sz="5400" spc="-1" strike="noStrike">
                <a:solidFill>
                  <a:srgbClr val="666699"/>
                </a:solidFill>
                <a:latin typeface="Times New Roman"/>
              </a:rPr>
              <a:t>а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, не равного нулю, на само себя получаем единицу.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а: а=1, при а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≠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так как,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а ·1=а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57360" y="1266120"/>
            <a:ext cx="6156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5:25=                   52: 5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7: 1=                     73: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:147=                   0: 74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: 0=                      5: 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:1=                       1: 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Решите выражения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1936440"/>
            <a:ext cx="8207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5:25= 1                  52: 52=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7: 1=  37                   73:1=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:147= 0                  0: 741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: 0=                      5: 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:1=  0                     1: 1=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роверь себя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129960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 грядки собрали 72 морковки, , часть морковок израсходовал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 другую часть связали в 5 пучков по 9 морковок в каждом. Сколько морковок израсходовал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Решите задач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5640" y="240912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х ·1 = 45;               у: у = 1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х · 5 = 50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Решите уравнения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08:49:23Z</dcterms:created>
  <dc:creator>DIXON</dc:creator>
  <dc:description/>
  <dc:language>en-US</dc:language>
  <cp:lastModifiedBy>DIXON</cp:lastModifiedBy>
  <dcterms:modified xsi:type="dcterms:W3CDTF">2009-12-13T09:47:37Z</dcterms:modified>
  <cp:revision>3</cp:revision>
  <dc:subject/>
  <dc:title>   (Если произведение разделить на один множитель, то получим другой множитель).  </dc:title>
</cp:coreProperties>
</file>