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F65C-1183-427B-A3A7-3620C935BC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AE88-E97F-4210-9CC2-F44740D1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CEE9-9150-4C5A-BD62-B5BE8A9B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73E6-BDF5-4416-8E17-D457A9F9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CFB6-1F8E-48D1-B8C4-50E14AC5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0F2B-310E-4A9F-88A3-29EBE682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7FEF-3FA5-4796-8E08-28D36801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FFF3-8D5F-430D-A2B4-AC465839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D70A-17B4-43FF-A142-C93DE722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7D64-7193-4D7C-B668-76E931E2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FC5C-312B-4BB1-BF4A-59960E9A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5817-174A-44E4-B477-B6B19865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643D-FFDA-4999-8485-732769DB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0F2F-5196-4DAD-9053-D7FEABAD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2C69-35EF-4BBE-85A4-22C311C6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E747-A6FA-477E-9AD9-0FEFD0C7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AF69-FC6B-49A7-A410-410FEF0A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5CC3-08E8-42DD-8A11-B6923E72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7AA7-9F66-4D42-ADB2-07D7400B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3FE-82DB-4DC1-87E1-681D4F25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7FF1-29BE-4449-B993-DCD59C91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F349-C7B7-4BE6-8A57-4A40383C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F2FC-DE34-4ADB-B00B-BDCF4203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C7F-181B-4D70-9803-8BE37911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8D9A-FBE4-423B-97D7-2CBF1402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067D-364D-4EDB-81BE-28F632F0D86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F611-4DED-45DB-9384-32CAFDD6A0B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(Если произведение разделить на один множитель, то получим другой множитель). 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а ·в=с ↔ с :в=а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При делении любого числа </a:t>
            </a:r>
            <a:r>
              <a:rPr b="0" lang="en-US" sz="5400" spc="-1" strike="noStrike">
                <a:solidFill>
                  <a:srgbClr val="666699"/>
                </a:solidFill>
                <a:latin typeface="Times New Roman"/>
              </a:rPr>
              <a:t>а</a:t>
            </a: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 на единицу получаем это же число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а: 1 = а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так как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а · 1= а.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99"/>
                </a:solidFill>
                <a:latin typeface="Garamond"/>
              </a:rPr>
              <a:t>!</a:t>
            </a:r>
            <a:endParaRPr b="0" lang="en-US" sz="6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На нуль делить             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нельзя.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При делении </a:t>
            </a:r>
            <a:r>
              <a:rPr b="0" lang="en-US" sz="4000" spc="-1" strike="noStrike" u="sng">
                <a:solidFill>
                  <a:srgbClr val="666699"/>
                </a:solidFill>
                <a:uFillTx/>
                <a:latin typeface="Times New Roman"/>
              </a:rPr>
              <a:t>нуля</a:t>
            </a: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 на любое число, не равное нулю, получим нуль.</a:t>
            </a: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0: а=0, при 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≠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так как,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а ·0=0.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При делении любого числа </a:t>
            </a:r>
            <a:r>
              <a:rPr b="0" lang="en-US" sz="5400" spc="-1" strike="noStrike">
                <a:solidFill>
                  <a:srgbClr val="666699"/>
                </a:solidFill>
                <a:latin typeface="Times New Roman"/>
              </a:rPr>
              <a:t>а</a:t>
            </a: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, не равного нулю, на само себя получаем единицу.</a:t>
            </a: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а: а=1, при а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≠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так как,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а ·1=а.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57360" y="1266120"/>
            <a:ext cx="6156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5:25=                   52: 52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7: 1=                     73: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0:147=                   0: 74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: 0=                      5: 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0:1=                       1: 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Решите выражения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1936440"/>
            <a:ext cx="8207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5:25= 1                  52: 52=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7: 1=  37                   73:1=7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0:147= 0                  0: 741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: 0=                      5: 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0:1=  0                     1: 1=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роверь себя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55640" y="1299600"/>
            <a:ext cx="76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 грядки собрали 72 морковки, , часть морковок израсходовал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 другую часть связали в 5 пучков по 9 морковок в каждом. Сколько морковок израсходовали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Решите задачу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55640" y="2409120"/>
            <a:ext cx="67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х ·1 = 45;               у: у = 1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х · 5 = 50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Решите уравнения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08:49:23Z</dcterms:created>
  <dc:creator>DIXON</dc:creator>
  <dc:description/>
  <dc:language>en-US</dc:language>
  <cp:lastModifiedBy>DIXON</cp:lastModifiedBy>
  <dcterms:modified xsi:type="dcterms:W3CDTF">2009-12-13T09:47:37Z</dcterms:modified>
  <cp:revision>3</cp:revision>
  <dc:subject/>
  <dc:title>   (Если произведение разделить на один множитель, то получим другой множитель).  </dc:title>
</cp:coreProperties>
</file>