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467-1AA8-4A62-90D2-495480DA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8E0-53CC-4BD6-88F3-FA762AF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822-74CC-43FE-AF90-4443938E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F2C-3DDA-4DF0-9919-82CA1EAC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07C-E098-4571-825E-547FC3C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DE9-FD09-42E8-A9F6-E9E7D903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554-E8FC-4E36-9C04-17456926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809-E85F-44F0-ABDA-6491526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E76-FDAC-4651-ACFC-78414FC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60F-DB80-40EC-B218-B540184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097-4AD9-4536-B6F7-7207AB9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9E1-F058-4137-94C1-8B7C4722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5D02-1251-493A-B8B6-8C8B8916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be.sci-lib.com/picture/b70/b70_653-0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666880"/>
            <a:ext cx="456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и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оторые мы зна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 ученик 6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ин Се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2040" y="1219320"/>
            <a:ext cx="72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РКУТСКАЯ ОБЛАСТЬ НИЖНЕИЛИМСКИЙ Р-Н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. Игирма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МОУ «Игирмен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7520" y="76212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Состав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Числа, имеющие больше двух дел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называются  составным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12- состав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делится на 1; 2; 3;4;6;1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040" y="838080"/>
            <a:ext cx="7281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     </a:t>
            </a:r>
            <a:r>
              <a:rPr b="1" i="1" lang="en-US" sz="4000" spc="-1" strike="noStrike">
                <a:solidFill>
                  <a:srgbClr val="ff3300"/>
                </a:solidFill>
                <a:latin typeface="Arial Black"/>
              </a:rPr>
              <a:t>ЧИСЛА, НЕ ИМЕЮЩИЕ ОБЩИХ ДЕЛИТЕЛЕЙ (КРОМЕ 1), НАЗЫВАЮТСЯ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ВЗАИМНО ПРОСТЫЕ</a:t>
            </a: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19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ПРИМЕР, 6 (ДЕЛИТЕЛИ 1;2;3;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25 (ДЕЛИТЕЛИ 1;5;25)        НОД (6;25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26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2040" y="838080"/>
            <a:ext cx="66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об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447920"/>
            <a:ext cx="723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Термин </a:t>
            </a:r>
            <a:r>
              <a:rPr b="1" lang="en-US" sz="2000" spc="-1" strike="noStrike">
                <a:solidFill>
                  <a:srgbClr val="009999"/>
                </a:solidFill>
                <a:latin typeface="Arial Black"/>
              </a:rPr>
              <a:t>дробное число (дробь)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 иногда используется как синоним к термину </a:t>
            </a:r>
            <a:r>
              <a:rPr b="0" i="1" lang="en-US" sz="2000" spc="-1" strike="noStrike">
                <a:solidFill>
                  <a:srgbClr val="009999"/>
                </a:solidFill>
                <a:latin typeface="Arial Black"/>
              </a:rPr>
              <a:t>рациональное число</a:t>
            </a:r>
            <a:r>
              <a:rPr b="0" lang="en-US" sz="2000" spc="-1" strike="noStrike">
                <a:solidFill>
                  <a:srgbClr val="009999"/>
                </a:solidFill>
                <a:latin typeface="Arial Black"/>
              </a:rPr>
              <a:t>, а иногда синоним любого нецелого числа. В последнем случае, дробные и рациональные числа являются разными вещами, так как тогда нецелые рациональные числа — всего лишь частный слу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6576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ро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18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быкно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43000" y="4724280"/>
                <a:ext cx="380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3" name="" descr="Как из долей получаются дроби. ЗАДАЧА. Волк пригласил на свой День рождения своих друзей: Чижа, Ежа, Утёнка, Котёнка и Бобра. Как им поделить два одинаковых кекса поровну на шестерых? Сколько кекса получит каждый? Как решить эту задачу? Можно поступить так: Разрезать каждый кекс на 6 равных частей и раздать Волку каждому гостю по две такие части. Тогда каждый получит две шестых кекса. У нас вознико число “две шестых“."/>
          <p:cNvPicPr/>
          <p:nvPr/>
        </p:nvPicPr>
        <p:blipFill>
          <a:blip r:embed="rId3"/>
          <a:stretch/>
        </p:blipFill>
        <p:spPr>
          <a:xfrm>
            <a:off x="1828800" y="457200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38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6080" y="419112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сят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7242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7; 0, 28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0666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Ы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ЭТО НОЛЬ, ВСЕ НАТУРАЛЬНЫЕ ЧИСЛА И ИМ ПРОТИВОПО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9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и  -1;  2 и  -2...  и  т.д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05740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Я. ВИЛЕНКИН,В.И. ЖОХОВ, А.С. ЧЕСНОКОВ, С.И. ШВАРЦБУРД. МАТЕМАТИКА  Учебник для 6 класса общеобразовательных учреждений.  9 издание, стереотипное мнемозина М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.Б. Истомина Математика  6 класс учебник для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моленск «Ассоциация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»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тернет ресурсы: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915840"/>
            <a:ext cx="49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Натура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281240" indent="0">
              <a:spcBef>
                <a:spcPts val="901"/>
              </a:spcBef>
              <a:buNone/>
              <a:tabLst>
                <a:tab algn="l" pos="0"/>
                <a:tab algn="l" pos="17460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 Это те числа, которыми мы счит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27432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33720" y="3581280"/>
            <a:ext cx="2361960" cy="199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167652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Это числа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делятся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048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четны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1430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тны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числа, которые не делятся на 2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ревнегреческие и древнеиндийские математики называли фигурными числа, которые соответствуют количеству точек, расположенных в виде некоторой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1447920" cy="11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37160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42670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219320"/>
            <a:ext cx="728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315.jpg"/>
          <p:cNvPicPr/>
          <p:nvPr/>
        </p:nvPicPr>
        <p:blipFill>
          <a:blip r:embed="rId3"/>
          <a:stretch/>
        </p:blipFill>
        <p:spPr>
          <a:xfrm>
            <a:off x="297180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9810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 древности вычислители часто считали с помощью камешков и, естественно, отмечали случаи, когда камешки можно было сложить в виде правиль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9520" y="7621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Фигу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57200"/>
            <a:ext cx="35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 Black"/>
              </a:rPr>
              <a:t>Простые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3680" y="1530360"/>
            <a:ext cx="260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Число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2096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у которого есть только два делителя – 1 и само число </a:t>
            </a:r>
            <a:r>
              <a:rPr b="0" i="1" lang="el-GR" sz="4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800" spc="-1" strike="noStrike">
                <a:solidFill>
                  <a:srgbClr val="ff3300"/>
                </a:solidFill>
                <a:latin typeface="Arial"/>
              </a:rPr>
              <a:t>называется простым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9720" y="5257800"/>
            <a:ext cx="624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пример, 7 простое – делится на 1 и 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2040" y="838080"/>
            <a:ext cx="72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Близне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828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простых числа, которые отличаются на 2, как 5 и 7, 11 и 13, 17 и 19, получили образное название «близнецы». Любопытно, что в натуральном ряду имеется даже «тройня» - это числа 3, 5, 7. Ну а сколько всего существует близнецов - современной науке неизв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32040" y="1219320"/>
            <a:ext cx="72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28880" y="914400"/>
            <a:ext cx="484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Соверш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848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Arial"/>
              </a:rPr>
              <a:t>Совершенными называются числами, равные сумме своих делителей (т. е. всех делителей, включая единицу и исключая само число). Таковы, например, числа 6 и 28, поскольку 6=1+2+3, 28=1+2+4+7+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86320" y="3183120"/>
            <a:ext cx="31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2040" y="1676520"/>
            <a:ext cx="72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Два числа, каждое из которых равно сумме делителей другого числа (не считая самого числа)- называются дружеств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41600" y="838080"/>
            <a:ext cx="54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Дружестве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7696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Их открыли ученики Пифаг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Georgia"/>
              </a:rPr>
              <a:t>Пифагорейцы знали только одну пару дружественных чис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2880" y="50817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 и 2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6T08:57:2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