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4E5-B6AF-4169-AB89-4D22ADE8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878-35D4-4CF4-8750-D7600C22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D61-EE3C-4BC6-8946-2F650B4E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74A-27B1-4AD4-9405-BEA3C4A0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28C-CCCF-49DD-890D-81F05E7F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A66-E639-41EF-A26F-1F36E425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E88-A4F6-4B50-81AD-5336B13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E0B-016D-4A83-8A08-1283A91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99F-F51C-4E26-B4CE-313FD285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2BF-430F-42D6-8EFF-F860743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35D-D018-4F83-8DB4-3A97873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754-3853-4E99-85A3-1B412A8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BF0B-5E07-43B6-91F3-ECBD19AC5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be.sci-lib.com/picture/b70/b70_653-0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666880"/>
            <a:ext cx="456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Чис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которые мы зна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 ученик 6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ин Се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32040" y="1219320"/>
            <a:ext cx="72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РКУТСКАЯ ОБЛАСТЬ НИЖНЕИЛИМСКИЙ Р-Н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. Игирма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МОУ «Игирменская О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7520" y="762120"/>
            <a:ext cx="38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Состав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7524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Числа, имеющие больше двух дел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называются  составными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12- состав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делится на 1; 2; 3;4;6;1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32040" y="838080"/>
            <a:ext cx="7281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 Black"/>
              </a:rPr>
              <a:t>     </a:t>
            </a:r>
            <a:r>
              <a:rPr b="1" i="1" lang="en-US" sz="4000" spc="-1" strike="noStrike">
                <a:solidFill>
                  <a:srgbClr val="ff3300"/>
                </a:solidFill>
                <a:latin typeface="Arial Black"/>
              </a:rPr>
              <a:t>ЧИСЛА, НЕ ИМЕЮЩИЕ ОБЩИХ ДЕЛИТЕЛЕЙ (КРОМЕ 1), НАЗЫВАЮТСЯ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 Black"/>
              </a:rPr>
              <a:t>ВЗАИМНО ПРОСТЫЕ</a:t>
            </a: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419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ПРИМЕР, 6 (ДЕЛИТЕЛИ 1;2;3;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25 (ДЕЛИТЕЛИ 1;5;25)        НОД (6;25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458200" cy="626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32040" y="838080"/>
            <a:ext cx="66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Дроб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447920"/>
            <a:ext cx="7238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Термин </a:t>
            </a:r>
            <a:r>
              <a:rPr b="1" lang="en-US" sz="2000" spc="-1" strike="noStrike">
                <a:solidFill>
                  <a:srgbClr val="009999"/>
                </a:solidFill>
                <a:latin typeface="Arial Black"/>
              </a:rPr>
              <a:t>дробное число (дробь)</a:t>
            </a: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 иногда используется как синоним к термину </a:t>
            </a:r>
            <a:r>
              <a:rPr b="0" i="1" lang="en-US" sz="2000" spc="-1" strike="noStrike">
                <a:solidFill>
                  <a:srgbClr val="009999"/>
                </a:solidFill>
                <a:latin typeface="Arial Black"/>
              </a:rPr>
              <a:t>рациональное число</a:t>
            </a: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, а иногда синоним любого нецелого числа. В последнем случае, дробные и рациональные числа являются разными вещами, так как тогда нецелые рациональные числа — всего лишь частный случ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365760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роб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4184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038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быкно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43000" y="4724280"/>
                <a:ext cx="380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3" name="" descr="Как из долей получаются дроби. ЗАДАЧА. Волк пригласил на свой День рождения своих друзей: Чижа, Ежа, Утёнка, Котёнка и Бобра. Как им поделить два одинаковых кекса поровну на шестерых? Сколько кекса получит каждый? Как решить эту задачу? Можно поступить так: Разрезать каждый кекс на 6 равных частей и раздать Волку каждому гостю по две такие части. Тогда каждый получит две шестых кекса. У нас вознико число “две шестых“."/>
          <p:cNvPicPr/>
          <p:nvPr/>
        </p:nvPicPr>
        <p:blipFill>
          <a:blip r:embed="rId3"/>
          <a:stretch/>
        </p:blipFill>
        <p:spPr>
          <a:xfrm>
            <a:off x="1828800" y="4572000"/>
            <a:ext cx="1981080" cy="1523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388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6080" y="419112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сят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472428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37; 0, 28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0666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ЦЕЛЫ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ЭТО НОЛЬ, ВСЕ НАТУРАЛЬНЫЕ ЧИСЛА И ИМ ПРОТИВОПО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НАПРИМЕР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9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и  -1;  2 и  -2...  и  т.д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05740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.Я. ВИЛЕНКИН,В.И. ЖОХОВ, А.С. ЧЕСНОКОВ, С.И. ШВАРЦБУРД. МАТЕМАТИКА  Учебник для 6 класса общеобразовательных учреждений.  9 издание, стереотипное мнемозина М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.Б. Истомина Математика  6 класс учебник для 6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моленск «Ассоциация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»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тернет ресурсы: Википе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915840"/>
            <a:ext cx="49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Натураль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281240" indent="0">
              <a:spcBef>
                <a:spcPts val="901"/>
              </a:spcBef>
              <a:buNone/>
              <a:tabLst>
                <a:tab algn="l" pos="0"/>
                <a:tab algn="l" pos="17460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- Это те числа, которыми мы счит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2743200" cy="25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133720" y="3581280"/>
            <a:ext cx="2361960" cy="1990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2209680" cy="137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167652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Это числа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делятся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048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четны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1430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етны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числа, которые не делятся на 2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520" y="76212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Фигур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7524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ревнегреческие и древнеиндийские математики называли фигурными числа, которые соответствуют количеству точек, расположенных в виде некоторой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00200" y="4495680"/>
            <a:ext cx="1447920" cy="11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733920" y="4419720"/>
            <a:ext cx="137160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42670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219320"/>
            <a:ext cx="728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315.jpg"/>
          <p:cNvPicPr/>
          <p:nvPr/>
        </p:nvPicPr>
        <p:blipFill>
          <a:blip r:embed="rId3"/>
          <a:stretch/>
        </p:blipFill>
        <p:spPr>
          <a:xfrm>
            <a:off x="2971800" y="3809880"/>
            <a:ext cx="3429000" cy="24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19810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 древности вычислители часто считали с помощью камешков и, естественно, отмечали случаи, когда камешки можно было сложить в виде правильн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49520" y="76212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Фигур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457200"/>
            <a:ext cx="35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 Black"/>
              </a:rPr>
              <a:t>Простые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3680" y="1530360"/>
            <a:ext cx="260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Arial"/>
              </a:rPr>
              <a:t>Число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4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20968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Arial"/>
              </a:rPr>
              <a:t>у которого есть только два делителя – 1 и само число </a:t>
            </a:r>
            <a:r>
              <a:rPr b="0" i="1" lang="el-GR" sz="4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4800" spc="-1" strike="noStrike">
                <a:solidFill>
                  <a:srgbClr val="ff3300"/>
                </a:solidFill>
                <a:latin typeface="Arial"/>
              </a:rPr>
              <a:t>называется простым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9720" y="5257800"/>
            <a:ext cx="624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пример, 7 простое – делится на 1 и 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2040" y="838080"/>
            <a:ext cx="72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Близне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828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Два простых числа, которые отличаются на 2, как 5 и 7, 11 и 13, 17 и 19, получили образное название «близнецы». Любопытно, что в натуральном ряду имеется даже «тройня» - это числа 3, 5, 7. Ну а сколько всего существует близнецов - современной науке неизв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28880" y="914400"/>
            <a:ext cx="484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Совершен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784872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3300"/>
                </a:solidFill>
                <a:latin typeface="Arial"/>
              </a:rPr>
              <a:t>Совершенными называются числами, равные сумме своих делителей (т. е. всех делителей, включая единицу и исключая само число). Таковы, например, числа 6 и 28, поскольку 6=1+2+3, 28=1+2+4+7+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2040" y="1676520"/>
            <a:ext cx="728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Два числа, каждое из которых равно сумме делителей другого числа (не считая самого числа)- называются дружествен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41600" y="838080"/>
            <a:ext cx="549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Дружествен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809880"/>
            <a:ext cx="7696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809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Georgia"/>
              </a:rPr>
              <a:t>Их открыли ученики Пифаг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Georgia"/>
              </a:rPr>
              <a:t>Пифагорейцы знали только одну пару дружественных чисе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32880" y="508176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 и 28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26T08:57:2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