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9DD-DA0A-4DFB-9325-FFABC12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FBE-DDC6-4C0C-A5D7-A2FCB2F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334-3F47-46CA-803F-D7831E32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0CE-A867-4F66-B2C8-1F5F9F37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7627-79B7-42C2-870A-601D4994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C9CF-5AA8-44FD-A5E4-8EC1E1F7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3BE4-636A-4979-996A-0506B3E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22D-B28C-4CA9-B522-3F188AE4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E3F2-110B-4370-BE63-4129A8C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773D-9CEC-4B95-A092-11694B7C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CA30-19F3-4BE9-B3FC-27516D9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B5B-EFA8-4D41-897F-B4E45E3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D9A0-AD22-470F-A8F8-FE9E25D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224-9B24-4049-9ED4-9B46288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80F-3E89-4DCE-9CA8-C561ECA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2997-55BD-4A15-AC9F-143D14F9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E713-6E30-407E-8097-E2C8BB1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7EA-AD0F-4DF9-832A-0CBE847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8F4-F629-45D7-AC6E-8018252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9DB-5FB7-4BC3-94E8-8E14946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889-FB6C-494F-8103-F2014E45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A5F-5FA2-498E-817C-F3FB840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AB9-A2DE-45CB-BD53-8A23A1C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1E9-25F3-4E49-84CF-713FA17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3E0-9E57-4CED-BDF2-B3CAEC399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25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28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89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2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D7BE-9A5A-4569-A539-32042B7AD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-chekhov.ru/images/foto/chehov_53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4format.ru/index_pic.php?data=photos/40d17652.jpg&amp;percenta=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0/0c/Teachers-taganrog-gymnasium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ruslania.com/pictures/big/9785903073030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207040" y="990360"/>
            <a:ext cx="323856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Чех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Антон Пав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в жиз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и творче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326280" y="5686560"/>
            <a:ext cx="2425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Автор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едагог-библиотек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аратина И.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37480" y="61056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236167"/>
          <p:cNvPicPr/>
          <p:nvPr/>
        </p:nvPicPr>
        <p:blipFill>
          <a:blip r:embed="rId1"/>
          <a:stretch/>
        </p:blipFill>
        <p:spPr>
          <a:xfrm>
            <a:off x="304920" y="723960"/>
            <a:ext cx="3551040" cy="4686120"/>
          </a:xfrm>
          <a:prstGeom prst="rect">
            <a:avLst/>
          </a:prstGeom>
          <a:ln w="0">
            <a:noFill/>
          </a:ln>
        </p:spPr>
      </p:pic>
      <p:pic>
        <p:nvPicPr>
          <p:cNvPr id="145" name="1 R.Clauderman.mp3" descr=""/>
          <p:cNvPicPr/>
          <p:nvPr/>
        </p:nvPicPr>
        <p:blipFill>
          <a:blip r:embed="rId2"/>
          <a:stretch/>
        </p:blipFill>
        <p:spPr>
          <a:xfrm>
            <a:off x="9613800" y="990720"/>
            <a:ext cx="35568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2"/>
          <p:cNvSpPr/>
          <p:nvPr/>
        </p:nvSpPr>
        <p:spPr>
          <a:xfrm>
            <a:off x="6750000" y="6400800"/>
            <a:ext cx="220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2" descr="236167"/>
          <p:cNvPicPr/>
          <p:nvPr/>
        </p:nvPicPr>
        <p:blipFill>
          <a:blip r:embed="rId1"/>
          <a:stretch/>
        </p:blipFill>
        <p:spPr>
          <a:xfrm>
            <a:off x="317520" y="6602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422600" y="246240"/>
            <a:ext cx="4721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енность своим творчеством, своими знаниями, особенно знанием жизни, подвигает его на решение, удивившее современников,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на остров Сахал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царской каторги и ссыл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 flipV="1" rot="10800000">
            <a:off x="303120" y="4446360"/>
            <a:ext cx="327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звращение с острова Сахали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пароходе Петербур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октябрь-ноябрь 1890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мичман Г.Н. Глинка с мангустам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3" descr="chehov_30"/>
          <p:cNvPicPr/>
          <p:nvPr/>
        </p:nvPicPr>
        <p:blipFill>
          <a:blip r:embed="rId2"/>
          <a:stretch/>
        </p:blipFill>
        <p:spPr>
          <a:xfrm>
            <a:off x="241200" y="307800"/>
            <a:ext cx="2948040" cy="4172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4"/>
          <p:cNvSpPr/>
          <p:nvPr/>
        </p:nvSpPr>
        <p:spPr>
          <a:xfrm>
            <a:off x="4473720" y="2477520"/>
            <a:ext cx="46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утешествие было подвигом писате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ка через всю страну, пребывание на Сахалин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жизни каторжан и ссыльны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ая Чеховым перепись населения Сахалина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оставило глубокий след в 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м созна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написал книгу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ров Сахалин» (1893 - 94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зились сахалинские впечат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рассказах "В ссылке" (189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алата № 6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5" descr="chehov_42"/>
          <p:cNvPicPr/>
          <p:nvPr/>
        </p:nvPicPr>
        <p:blipFill>
          <a:blip r:embed="rId3"/>
          <a:stretch/>
        </p:blipFill>
        <p:spPr>
          <a:xfrm>
            <a:off x="177840" y="326880"/>
            <a:ext cx="3998880" cy="411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chehov_35"/>
          <p:cNvPicPr/>
          <p:nvPr/>
        </p:nvPicPr>
        <p:blipFill>
          <a:blip r:embed="rId4"/>
          <a:stretch/>
        </p:blipFill>
        <p:spPr>
          <a:xfrm>
            <a:off x="165240" y="257040"/>
            <a:ext cx="4086000" cy="557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1525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25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731080" y="6369120"/>
            <a:ext cx="2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-main-pic" descr="Картинка 69 из 789"/>
          <p:cNvPicPr/>
          <p:nvPr/>
        </p:nvPicPr>
        <p:blipFill>
          <a:blip r:embed="rId2"/>
          <a:stretch/>
        </p:blipFill>
        <p:spPr>
          <a:xfrm>
            <a:off x="285840" y="390600"/>
            <a:ext cx="7140600" cy="4789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9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369200" y="202320"/>
            <a:ext cx="17748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рра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Мелихов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hehov_36"/>
          <p:cNvPicPr/>
          <p:nvPr/>
        </p:nvPicPr>
        <p:blipFill>
          <a:blip r:embed="rId3"/>
          <a:stretch/>
        </p:blipFill>
        <p:spPr>
          <a:xfrm>
            <a:off x="5952960" y="1679400"/>
            <a:ext cx="2949840" cy="4351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4"/>
          <p:cNvSpPr/>
          <p:nvPr/>
        </p:nvSpPr>
        <p:spPr>
          <a:xfrm>
            <a:off x="360360" y="5374800"/>
            <a:ext cx="714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2 покупает имение Мелихово, где помогает местным крестьянам как врач, строит школы для крестьянских детей, выезжает в губерн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ченные голодом, участвует во всеобщей переписи насе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720720" y="57816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год (33го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8731080" y="649116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"/>
          <p:cNvSpPr/>
          <p:nvPr/>
        </p:nvSpPr>
        <p:spPr>
          <a:xfrm>
            <a:off x="316080" y="444960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4130640" y="1289160"/>
            <a:ext cx="473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дьбу в Мелихово Чехов купил в 1892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марте переехал туда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иховский период в творчестве и жизни писателя – это не только вдохновенный литературный труд, но и огромная общественная деятель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еховым написано более 40 произвед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их: "Дом с мезонином", "Палата №6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оныч", "Крыжовник", "Человек в футляре" и др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ы "Чайка", "Дядя Ван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шие писателю мировую сла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основан в1940 году при активном учас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ы Чехова Марии Павловны и его племянника Сергея Михайлович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i-main-pic" descr="Картинка 53 из 25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66760"/>
            <a:ext cx="3562560" cy="535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"/>
          <p:cNvSpPr/>
          <p:nvPr/>
        </p:nvSpPr>
        <p:spPr>
          <a:xfrm>
            <a:off x="3905280" y="264240"/>
            <a:ext cx="52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ната Антона Павловича Чехова в Мелихове. (Фото Ивана Трифонов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0" descr="chehov_31"/>
          <p:cNvPicPr/>
          <p:nvPr/>
        </p:nvPicPr>
        <p:blipFill>
          <a:blip r:embed="rId4"/>
          <a:stretch/>
        </p:blipFill>
        <p:spPr>
          <a:xfrm>
            <a:off x="190440" y="1222200"/>
            <a:ext cx="3748320" cy="4435560"/>
          </a:xfrm>
          <a:prstGeom prst="rect">
            <a:avLst/>
          </a:prstGeom>
          <a:ln w="0">
            <a:noFill/>
          </a:ln>
        </p:spPr>
      </p:pic>
      <p:pic>
        <p:nvPicPr>
          <p:cNvPr id="291" name="32 Papetti.mp3" descr=""/>
          <p:cNvPicPr/>
          <p:nvPr/>
        </p:nvPicPr>
        <p:blipFill>
          <a:blip r:embed="rId5"/>
          <a:stretch/>
        </p:blipFill>
        <p:spPr>
          <a:xfrm>
            <a:off x="9817200" y="22734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30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75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6675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9175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675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280520" y="6144120"/>
            <a:ext cx="76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ртисты Московского Художественного теат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1" descr="ChekhovGl_1"/>
          <p:cNvPicPr/>
          <p:nvPr/>
        </p:nvPicPr>
        <p:blipFill>
          <a:blip r:embed="rId1"/>
          <a:stretch/>
        </p:blipFill>
        <p:spPr>
          <a:xfrm>
            <a:off x="355680" y="584280"/>
            <a:ext cx="1361880" cy="1741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chehov_45"/>
          <p:cNvPicPr/>
          <p:nvPr/>
        </p:nvPicPr>
        <p:blipFill>
          <a:blip r:embed="rId2"/>
          <a:stretch/>
        </p:blipFill>
        <p:spPr>
          <a:xfrm>
            <a:off x="368280" y="406440"/>
            <a:ext cx="8093160" cy="57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1"/>
          <p:cNvSpPr/>
          <p:nvPr/>
        </p:nvSpPr>
        <p:spPr>
          <a:xfrm>
            <a:off x="8557560" y="6400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3" descr="236167"/>
          <p:cNvPicPr/>
          <p:nvPr/>
        </p:nvPicPr>
        <p:blipFill>
          <a:blip r:embed="rId1"/>
          <a:stretch/>
        </p:blipFill>
        <p:spPr>
          <a:xfrm>
            <a:off x="304920" y="5205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1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55600"/>
            <a:ext cx="4381560" cy="62596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4"/>
          <p:cNvSpPr/>
          <p:nvPr/>
        </p:nvSpPr>
        <p:spPr>
          <a:xfrm flipV="1" rot="10783200">
            <a:off x="5125680" y="359280"/>
            <a:ext cx="36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Т. Щепкина-Куперни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Л. Яворская, А. Чехов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189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5"/>
          <p:cNvSpPr/>
          <p:nvPr/>
        </p:nvSpPr>
        <p:spPr>
          <a:xfrm>
            <a:off x="5054760" y="1776240"/>
            <a:ext cx="37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обой глубиной и объективностью Чехов раскрывал образ русской космополитизированной интеллигенции, погибающей от бездуховности, неврастении, безволия, сознания своей оторванности от национальной жизни. Чехов, как многие его современники, не разделял русское общество на “прогрессивную интеллигенцию” и народ, а рассматривал его как единое целое. “Все мы народ, — говорил Чехов, — и все лучшее, что мы совершаем, дело народное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8461440" y="664380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6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5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059"/>
          <p:cNvSpPr/>
          <p:nvPr/>
        </p:nvSpPr>
        <p:spPr>
          <a:xfrm>
            <a:off x="7308720" y="4986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та  1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066" descr="chehov_15"/>
          <p:cNvPicPr/>
          <p:nvPr/>
        </p:nvPicPr>
        <p:blipFill>
          <a:blip r:embed="rId2"/>
          <a:stretch/>
        </p:blipFill>
        <p:spPr>
          <a:xfrm>
            <a:off x="309600" y="244440"/>
            <a:ext cx="3265560" cy="4429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067"/>
          <p:cNvSpPr/>
          <p:nvPr/>
        </p:nvSpPr>
        <p:spPr>
          <a:xfrm>
            <a:off x="495360" y="480528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(1891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69" descr="chehov_16"/>
          <p:cNvPicPr/>
          <p:nvPr/>
        </p:nvPicPr>
        <p:blipFill>
          <a:blip r:embed="rId3"/>
          <a:stretch/>
        </p:blipFill>
        <p:spPr>
          <a:xfrm>
            <a:off x="614520" y="270000"/>
            <a:ext cx="3840120" cy="504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70"/>
          <p:cNvSpPr/>
          <p:nvPr/>
        </p:nvSpPr>
        <p:spPr>
          <a:xfrm>
            <a:off x="2070000" y="57578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1893 г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072" descr="chehov_17"/>
          <p:cNvPicPr/>
          <p:nvPr/>
        </p:nvPicPr>
        <p:blipFill>
          <a:blip r:embed="rId4"/>
          <a:stretch/>
        </p:blipFill>
        <p:spPr>
          <a:xfrm>
            <a:off x="884160" y="523800"/>
            <a:ext cx="3400560" cy="482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74" descr="chehov_18"/>
          <p:cNvPicPr/>
          <p:nvPr/>
        </p:nvPicPr>
        <p:blipFill>
          <a:blip r:embed="rId5"/>
          <a:stretch/>
        </p:blipFill>
        <p:spPr>
          <a:xfrm>
            <a:off x="1189080" y="574560"/>
            <a:ext cx="4010040" cy="5532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75"/>
          <p:cNvSpPr/>
          <p:nvPr/>
        </p:nvSpPr>
        <p:spPr>
          <a:xfrm>
            <a:off x="3655800" y="6096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18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077" descr="chehov_19"/>
          <p:cNvPicPr/>
          <p:nvPr/>
        </p:nvPicPr>
        <p:blipFill>
          <a:blip r:embed="rId6"/>
          <a:stretch/>
        </p:blipFill>
        <p:spPr>
          <a:xfrm>
            <a:off x="1271520" y="409680"/>
            <a:ext cx="3787920" cy="5506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79" descr="chehov_20"/>
          <p:cNvPicPr/>
          <p:nvPr/>
        </p:nvPicPr>
        <p:blipFill>
          <a:blip r:embed="rId7"/>
          <a:stretch/>
        </p:blipFill>
        <p:spPr>
          <a:xfrm>
            <a:off x="1616040" y="358920"/>
            <a:ext cx="4276800" cy="601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81" descr="chehov_21"/>
          <p:cNvPicPr/>
          <p:nvPr/>
        </p:nvPicPr>
        <p:blipFill>
          <a:blip r:embed="rId8"/>
          <a:stretch/>
        </p:blipFill>
        <p:spPr>
          <a:xfrm>
            <a:off x="1625760" y="357120"/>
            <a:ext cx="5155920" cy="6073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82"/>
          <p:cNvSpPr/>
          <p:nvPr/>
        </p:nvSpPr>
        <p:spPr>
          <a:xfrm>
            <a:off x="5402160" y="69300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084" descr="chehov_22"/>
          <p:cNvPicPr/>
          <p:nvPr/>
        </p:nvPicPr>
        <p:blipFill>
          <a:blip r:embed="rId9"/>
          <a:stretch/>
        </p:blipFill>
        <p:spPr>
          <a:xfrm>
            <a:off x="2262240" y="181080"/>
            <a:ext cx="4868640" cy="64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8629560" y="664380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222200" y="773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6461280" y="31428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а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ая дач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-4597560" y="17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6" descr="http://chehov.moy.su/28530.jpg"/>
          <p:cNvPicPr/>
          <p:nvPr/>
        </p:nvPicPr>
        <p:blipFill>
          <a:blip r:embed="rId2"/>
          <a:stretch/>
        </p:blipFill>
        <p:spPr>
          <a:xfrm>
            <a:off x="254160" y="392040"/>
            <a:ext cx="5846760" cy="45561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9"/>
          <p:cNvSpPr/>
          <p:nvPr/>
        </p:nvSpPr>
        <p:spPr>
          <a:xfrm>
            <a:off x="436680" y="50511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купил небольшой участ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роил двухэтажный дом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нином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 современниками «Белой дачей». В этом доме он прожил с 1899 по 1904 год. Благодаря стараниям сестры писателя Марии Павловны здесь сохранилось все так, как было 1 мая 1904 года, в день отъезда Чехова из Ял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489720" y="2057760"/>
            <a:ext cx="26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вету врачей Чехов в 1898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 поселиться в Ялт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он приезжает вмес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воей матерью и сестрой Мар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1" descr="http://chehov.moy.su/yalta_1.jpg"/>
          <p:cNvPicPr/>
          <p:nvPr/>
        </p:nvPicPr>
        <p:blipFill>
          <a:blip r:embed="rId3"/>
          <a:stretch/>
        </p:blipFill>
        <p:spPr>
          <a:xfrm>
            <a:off x="177840" y="358920"/>
            <a:ext cx="6251400" cy="461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chehov_01"/>
          <p:cNvPicPr/>
          <p:nvPr/>
        </p:nvPicPr>
        <p:blipFill>
          <a:blip r:embed="rId4"/>
          <a:stretch/>
        </p:blipFill>
        <p:spPr>
          <a:xfrm>
            <a:off x="177840" y="336600"/>
            <a:ext cx="626724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4414680" y="44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7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9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8" descr="А.П. Чехов в своём кабинете в Ялте (1901 г.)"/>
          <p:cNvPicPr/>
          <p:nvPr/>
        </p:nvPicPr>
        <p:blipFill>
          <a:blip r:embed="rId2"/>
          <a:stretch/>
        </p:blipFill>
        <p:spPr>
          <a:xfrm>
            <a:off x="1511280" y="26067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8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330120" y="607248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у Л. Н. Толстого в Крыму (1901г.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6" descr="chehov_05"/>
          <p:cNvPicPr/>
          <p:nvPr/>
        </p:nvPicPr>
        <p:blipFill>
          <a:blip r:embed="rId3"/>
          <a:stretch/>
        </p:blipFill>
        <p:spPr>
          <a:xfrm>
            <a:off x="344520" y="460440"/>
            <a:ext cx="3747960" cy="5481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8" descr="chehov_06"/>
          <p:cNvPicPr/>
          <p:nvPr/>
        </p:nvPicPr>
        <p:blipFill>
          <a:blip r:embed="rId4"/>
          <a:stretch/>
        </p:blipFill>
        <p:spPr>
          <a:xfrm>
            <a:off x="258840" y="887400"/>
            <a:ext cx="763884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1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2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32760" y="601236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.М Горький на Аутской улице в Ялте (1900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9" descr="chehov_02"/>
          <p:cNvPicPr/>
          <p:nvPr/>
        </p:nvPicPr>
        <p:blipFill>
          <a:blip r:embed="rId2"/>
          <a:stretch/>
        </p:blipFill>
        <p:spPr>
          <a:xfrm>
            <a:off x="322200" y="365040"/>
            <a:ext cx="8124840" cy="55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0"/>
          <p:cNvSpPr/>
          <p:nvPr/>
        </p:nvSpPr>
        <p:spPr>
          <a:xfrm>
            <a:off x="1708200" y="187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8312040" y="6643800"/>
            <a:ext cx="83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1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4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5"/>
          <p:cNvSpPr/>
          <p:nvPr/>
        </p:nvSpPr>
        <p:spPr>
          <a:xfrm flipV="1" rot="10800000">
            <a:off x="528480" y="5742360"/>
            <a:ext cx="274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Ялта, август 1901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9" descr="chehov_39"/>
          <p:cNvPicPr/>
          <p:nvPr/>
        </p:nvPicPr>
        <p:blipFill>
          <a:blip r:embed="rId2"/>
          <a:stretch/>
        </p:blipFill>
        <p:spPr>
          <a:xfrm>
            <a:off x="360360" y="270000"/>
            <a:ext cx="3367080" cy="5440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4" descr="chehov_38"/>
          <p:cNvPicPr/>
          <p:nvPr/>
        </p:nvPicPr>
        <p:blipFill>
          <a:blip r:embed="rId3"/>
          <a:stretch/>
        </p:blipFill>
        <p:spPr>
          <a:xfrm>
            <a:off x="322200" y="244440"/>
            <a:ext cx="4005360" cy="6335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6"/>
          <p:cNvSpPr/>
          <p:nvPr/>
        </p:nvSpPr>
        <p:spPr>
          <a:xfrm>
            <a:off x="39387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i-main-pic" descr="Картинка 49 из 789"/>
          <p:cNvPicPr/>
          <p:nvPr/>
        </p:nvPicPr>
        <p:blipFill>
          <a:blip r:embed="rId4"/>
          <a:stretch/>
        </p:blipFill>
        <p:spPr>
          <a:xfrm>
            <a:off x="4767120" y="6350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8" descr="chehov_knipper"/>
          <p:cNvPicPr/>
          <p:nvPr/>
        </p:nvPicPr>
        <p:blipFill>
          <a:blip r:embed="rId5"/>
          <a:stretch/>
        </p:blipFill>
        <p:spPr>
          <a:xfrm>
            <a:off x="4597560" y="216000"/>
            <a:ext cx="4276440" cy="5932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9"/>
          <p:cNvSpPr/>
          <p:nvPr/>
        </p:nvSpPr>
        <p:spPr>
          <a:xfrm>
            <a:off x="6161040" y="5699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с жен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 flipV="1" rot="10800000">
            <a:off x="4203720" y="62290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Чехов и О.Л. Книппер (1901 г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75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625760" y="49536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— русский писател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8580600" y="647064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415800" y="1971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5524560" y="18842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ссказов, повестей и пьес, признан одним из величайших писателей в мировой литератур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702400" y="3303720"/>
            <a:ext cx="25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создал четыре произведения, ставшие классикой мировой драматургии, а его лучшие рассказы высоко оцениваются писателями и критика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5" descr="чехов"/>
          <p:cNvPicPr/>
          <p:nvPr/>
        </p:nvPicPr>
        <p:blipFill>
          <a:blip r:embed="rId1"/>
          <a:stretch/>
        </p:blipFill>
        <p:spPr>
          <a:xfrm>
            <a:off x="1289160" y="1031760"/>
            <a:ext cx="4241520" cy="551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6" descr="236167"/>
          <p:cNvPicPr/>
          <p:nvPr/>
        </p:nvPicPr>
        <p:blipFill>
          <a:blip r:embed="rId2"/>
          <a:stretch/>
        </p:blipFill>
        <p:spPr>
          <a:xfrm>
            <a:off x="304920" y="41904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1000206551"/>
          <p:cNvPicPr/>
          <p:nvPr/>
        </p:nvPicPr>
        <p:blipFill>
          <a:blip r:embed="rId3"/>
          <a:stretch/>
        </p:blipFill>
        <p:spPr>
          <a:xfrm>
            <a:off x="291960" y="423720"/>
            <a:ext cx="1208160" cy="17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225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916680" y="546120"/>
            <a:ext cx="195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рзуф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950240" y="66438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Картинка 1 из 309"/>
          <p:cNvPicPr/>
          <p:nvPr/>
        </p:nvPicPr>
        <p:blipFill>
          <a:blip r:embed="rId2"/>
          <a:stretch/>
        </p:blipFill>
        <p:spPr>
          <a:xfrm>
            <a:off x="281160" y="419040"/>
            <a:ext cx="6092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2" descr="Картинка 3 из 309"/>
          <p:cNvPicPr/>
          <p:nvPr/>
        </p:nvPicPr>
        <p:blipFill>
          <a:blip r:embed="rId3"/>
          <a:stretch/>
        </p:blipFill>
        <p:spPr>
          <a:xfrm>
            <a:off x="255600" y="336600"/>
            <a:ext cx="6616800" cy="4965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Картинка 3 из 309"/>
          <p:cNvPicPr/>
          <p:nvPr/>
        </p:nvPicPr>
        <p:blipFill>
          <a:blip r:embed="rId4"/>
          <a:stretch/>
        </p:blipFill>
        <p:spPr>
          <a:xfrm>
            <a:off x="230040" y="260280"/>
            <a:ext cx="6753240" cy="5067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2" descr="Картинка 3 из 309"/>
          <p:cNvPicPr/>
          <p:nvPr/>
        </p:nvPicPr>
        <p:blipFill>
          <a:blip r:embed="rId5"/>
          <a:stretch/>
        </p:blipFill>
        <p:spPr>
          <a:xfrm>
            <a:off x="217440" y="247680"/>
            <a:ext cx="6888240" cy="5168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5"/>
          <p:cNvSpPr/>
          <p:nvPr/>
        </p:nvSpPr>
        <p:spPr>
          <a:xfrm>
            <a:off x="203040" y="5498640"/>
            <a:ext cx="894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оду Чехов купил этот дом для отдыха и уединения, так как Ялта писателю казалась очень шумной. Прожил Чехов здесь недолго: близость моря,  влажный воздух от прибоя сказались на здоровье писателя. В августе 1900 года Чехов начал работать над пьесой "Три сестры". Позже писатель подарил дачу своей жене О.Л. Книппер, которая приезжала сюда вплоть до 1953 год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7445520" y="2563920"/>
            <a:ext cx="14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дома-музея А.П.Чехова в Ялт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32 Papetti.mp3" descr=""/>
          <p:cNvPicPr/>
          <p:nvPr/>
        </p:nvPicPr>
        <p:blipFill>
          <a:blip r:embed="rId6"/>
          <a:stretch/>
        </p:blipFill>
        <p:spPr>
          <a:xfrm>
            <a:off x="9563040" y="9399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6" nodeType="afterEffect" fill="hold" presetClass="entr" presetID="18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 flipV="1">
            <a:off x="5506920" y="415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фот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306600" y="2665440"/>
            <a:ext cx="24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28916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139840" y="1862280"/>
            <a:ext cx="309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24620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8718480" y="6643800"/>
            <a:ext cx="42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5" descr="236167"/>
          <p:cNvPicPr/>
          <p:nvPr/>
        </p:nvPicPr>
        <p:blipFill>
          <a:blip r:embed="rId1"/>
          <a:stretch/>
        </p:blipFill>
        <p:spPr>
          <a:xfrm>
            <a:off x="34308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0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9" descr="chehov_47"/>
          <p:cNvPicPr/>
          <p:nvPr/>
        </p:nvPicPr>
        <p:blipFill>
          <a:blip r:embed="rId2"/>
          <a:stretch/>
        </p:blipFill>
        <p:spPr>
          <a:xfrm>
            <a:off x="330120" y="444600"/>
            <a:ext cx="4407120" cy="5729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1" descr="chehov_24"/>
          <p:cNvPicPr/>
          <p:nvPr/>
        </p:nvPicPr>
        <p:blipFill>
          <a:blip r:embed="rId3"/>
          <a:stretch/>
        </p:blipFill>
        <p:spPr>
          <a:xfrm>
            <a:off x="250920" y="358920"/>
            <a:ext cx="4498920" cy="6256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2" descr="chehov_41"/>
          <p:cNvPicPr/>
          <p:nvPr/>
        </p:nvPicPr>
        <p:blipFill>
          <a:blip r:embed="rId4"/>
          <a:stretch/>
        </p:blipFill>
        <p:spPr>
          <a:xfrm>
            <a:off x="385920" y="270000"/>
            <a:ext cx="4336920" cy="64008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3"/>
          <p:cNvSpPr/>
          <p:nvPr/>
        </p:nvSpPr>
        <p:spPr>
          <a:xfrm>
            <a:off x="5477040" y="1611360"/>
            <a:ext cx="32828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4 в связи с резким ухудшением здоровья Чехов поехал для лечения в Германию, на курорт Банденвейлер. Здесь 2 июня (15 н.с.) он скончал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ронен на Новодевичьем кладбище в Москв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55" descr="Grave_of_Anton_Chekhov"/>
          <p:cNvPicPr/>
          <p:nvPr/>
        </p:nvPicPr>
        <p:blipFill>
          <a:blip r:embed="rId5"/>
          <a:stretch/>
        </p:blipFill>
        <p:spPr>
          <a:xfrm>
            <a:off x="5537160" y="444492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5435640" y="317520"/>
            <a:ext cx="37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знь-то прошл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и не жил..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могила_на_новодевичьем"/>
          <p:cNvPicPr/>
          <p:nvPr/>
        </p:nvPicPr>
        <p:blipFill>
          <a:blip r:embed="rId2"/>
          <a:stretch/>
        </p:blipFill>
        <p:spPr>
          <a:xfrm>
            <a:off x="380880" y="419040"/>
            <a:ext cx="4991400" cy="37465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1" descr="памятн_в_серпухове"/>
          <p:cNvPicPr/>
          <p:nvPr/>
        </p:nvPicPr>
        <p:blipFill>
          <a:blip r:embed="rId3"/>
          <a:stretch/>
        </p:blipFill>
        <p:spPr>
          <a:xfrm>
            <a:off x="3067200" y="1714680"/>
            <a:ext cx="5292720" cy="47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3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7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175360" y="787320"/>
            <a:ext cx="3676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де где бывал А.П.Чех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ы памятники в его че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3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6" descr="ch_pam_b"/>
          <p:cNvPicPr/>
          <p:nvPr/>
        </p:nvPicPr>
        <p:blipFill>
          <a:blip r:embed="rId2"/>
          <a:stretch/>
        </p:blipFill>
        <p:spPr>
          <a:xfrm>
            <a:off x="317520" y="236520"/>
            <a:ext cx="4406760" cy="6311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7" descr="Картинка 13 из 977"/>
          <p:cNvPicPr/>
          <p:nvPr/>
        </p:nvPicPr>
        <p:blipFill>
          <a:blip r:embed="rId3"/>
          <a:stretch/>
        </p:blipFill>
        <p:spPr>
          <a:xfrm>
            <a:off x="317520" y="203040"/>
            <a:ext cx="4753080" cy="6337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img_2481"/>
          <p:cNvPicPr/>
          <p:nvPr/>
        </p:nvPicPr>
        <p:blipFill>
          <a:blip r:embed="rId4"/>
          <a:stretch/>
        </p:blipFill>
        <p:spPr>
          <a:xfrm>
            <a:off x="316080" y="270000"/>
            <a:ext cx="4930560" cy="6588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9" descr="Картинка 21 из 977"/>
          <p:cNvPicPr/>
          <p:nvPr/>
        </p:nvPicPr>
        <p:blipFill>
          <a:blip r:embed="rId5"/>
          <a:stretch/>
        </p:blipFill>
        <p:spPr>
          <a:xfrm>
            <a:off x="260280" y="216000"/>
            <a:ext cx="8883720" cy="6667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0" descr="img_37744038_2121_1"/>
          <p:cNvPicPr/>
          <p:nvPr/>
        </p:nvPicPr>
        <p:blipFill>
          <a:blip r:embed="rId6"/>
          <a:stretch/>
        </p:blipFill>
        <p:spPr>
          <a:xfrm>
            <a:off x="2994120" y="270000"/>
            <a:ext cx="380664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75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667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75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08160" y="279360"/>
            <a:ext cx="6578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родился  17 (29) января 1860, в Таганроге  ( Екатеринославская губерния)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2388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6"/>
          <p:cNvSpPr/>
          <p:nvPr/>
        </p:nvSpPr>
        <p:spPr>
          <a:xfrm>
            <a:off x="2575080" y="349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1" descr="236167"/>
          <p:cNvPicPr/>
          <p:nvPr/>
        </p:nvPicPr>
        <p:blipFill>
          <a:blip r:embed="rId1"/>
          <a:stretch/>
        </p:blipFill>
        <p:spPr>
          <a:xfrm>
            <a:off x="266760" y="2793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2" descr="дом таганроге"/>
          <p:cNvPicPr/>
          <p:nvPr/>
        </p:nvPicPr>
        <p:blipFill>
          <a:blip r:embed="rId2"/>
          <a:stretch/>
        </p:blipFill>
        <p:spPr>
          <a:xfrm>
            <a:off x="380880" y="183348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4"/>
          <p:cNvSpPr/>
          <p:nvPr/>
        </p:nvSpPr>
        <p:spPr>
          <a:xfrm>
            <a:off x="6894360" y="5433840"/>
            <a:ext cx="22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детстве - у ме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ыло детства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Чех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6118200" y="1066680"/>
            <a:ext cx="330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исателя по отц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ост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ронежской губерн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упил себя с семь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Чехо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 верующий челове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 небольш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лейной лав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бы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отцу в торговл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пе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ованном и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ном хор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7" descr="family"/>
          <p:cNvPicPr/>
          <p:nvPr/>
        </p:nvPicPr>
        <p:blipFill>
          <a:blip r:embed="rId3"/>
          <a:stretch/>
        </p:blipFill>
        <p:spPr>
          <a:xfrm>
            <a:off x="203040" y="1724040"/>
            <a:ext cx="5923080" cy="3894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8"/>
          <p:cNvSpPr/>
          <p:nvPr/>
        </p:nvSpPr>
        <p:spPr>
          <a:xfrm>
            <a:off x="200160" y="5613480"/>
            <a:ext cx="64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емья Чеховых. Слева направо: стоят - Иван, Антон, Николай, Александр и Митрофан Егорович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идят - Михаил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Мария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авел Егорович, Евгения Яковлевна, Людмила Павловна и ее сын Георгий. (1874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791320" y="2019240"/>
            <a:ext cx="30733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8 поступил в гимназ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я семья Чеховых переех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у (отец разорилс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й писатель остался в Таганрог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рабатывал на жизнь репетиторств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кончить у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гать семь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ая бедствовала в Моск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1194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8545320" y="623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0"/>
          <p:cNvSpPr/>
          <p:nvPr/>
        </p:nvSpPr>
        <p:spPr>
          <a:xfrm>
            <a:off x="315612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6" descr="236167"/>
          <p:cNvPicPr/>
          <p:nvPr/>
        </p:nvPicPr>
        <p:blipFill>
          <a:blip r:embed="rId1"/>
          <a:stretch/>
        </p:blipFill>
        <p:spPr>
          <a:xfrm>
            <a:off x="343080" y="52056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7" descr="1890гChekhov_family[1]"/>
          <p:cNvPicPr/>
          <p:nvPr/>
        </p:nvPicPr>
        <p:blipFill>
          <a:blip r:embed="rId2"/>
          <a:stretch/>
        </p:blipFill>
        <p:spPr>
          <a:xfrm>
            <a:off x="1689120" y="1015920"/>
            <a:ext cx="3971880" cy="5607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1"/>
          <p:cNvSpPr/>
          <p:nvPr/>
        </p:nvSpPr>
        <p:spPr>
          <a:xfrm>
            <a:off x="5508720" y="276120"/>
            <a:ext cx="3477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ся в греческой школ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 гимназ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8672040" y="6210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275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8683560" y="640080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6093000" y="1952640"/>
            <a:ext cx="288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лись предметы: эстетика, риторика, грамматика, психология, логика, нравственная философия, и другие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1784520" y="547560"/>
            <a:ext cx="67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гимназия была основана в 1806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одатайству тогдашнего таганрогского градонача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на Кампенгаузе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261612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307332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2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800px-Gimnaz_Taganrog_2007[1]"/>
          <p:cNvPicPr/>
          <p:nvPr/>
        </p:nvPicPr>
        <p:blipFill>
          <a:blip r:embed="rId2"/>
          <a:stretch/>
        </p:blipFill>
        <p:spPr>
          <a:xfrm>
            <a:off x="762120" y="1892160"/>
            <a:ext cx="4965480" cy="372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Файл:Teachers-taganrog-gymnasiu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760" y="1917720"/>
            <a:ext cx="5729400" cy="3367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5"/>
          <p:cNvSpPr/>
          <p:nvPr/>
        </p:nvSpPr>
        <p:spPr>
          <a:xfrm>
            <a:off x="1940400" y="56894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и гимн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425"/>
                            </p:stCondLst>
                            <p:childTnLst>
                              <p:par>
                                <p:cTn id="11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925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44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225960" y="469800"/>
            <a:ext cx="60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79  (19лет) уехал в Москву и поступил на медицинский факультет Московского университ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8756640" y="64008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419640" y="1751040"/>
            <a:ext cx="549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уденческие годы стал писать рассказы, которые печатались в многочисленных юмористических журналах: «Будильнике», “Осколках”,  “Стрекозе”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севдонимами Антоша  Чехонте,  Балдастов и Человек без селезенки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нига рассказов Чехова "Сказки Мельпомены" появилась в 1884, в год окончания им университ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7" descr="chehov_34"/>
          <p:cNvPicPr/>
          <p:nvPr/>
        </p:nvPicPr>
        <p:blipFill>
          <a:blip r:embed="rId1"/>
          <a:stretch/>
        </p:blipFill>
        <p:spPr>
          <a:xfrm>
            <a:off x="314280" y="270000"/>
            <a:ext cx="2809800" cy="4459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8"/>
          <p:cNvSpPr/>
          <p:nvPr/>
        </p:nvSpPr>
        <p:spPr>
          <a:xfrm>
            <a:off x="1217160" y="4800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625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01760" y="48895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ранних рассказах   (“Письмо донского помещика”, “Злоумышленник”, “Орден” и “Хирургия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28680" y="6521400"/>
            <a:ext cx="4270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2828880" y="2639880"/>
            <a:ext cx="297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399960" y="5502240"/>
            <a:ext cx="84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бнаружил недюжинный талант и много тонкого юмора,охотно пользуясь шаржем как литературным приемом, к которому он прибегал и впоследствии, особенно в своих комедиях и одноактных водевилях, вроде “Медведя” и “Юбилея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217188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5" descr="236167"/>
          <p:cNvPicPr/>
          <p:nvPr/>
        </p:nvPicPr>
        <p:blipFill>
          <a:blip r:embed="rId1"/>
          <a:stretch/>
        </p:blipFill>
        <p:spPr>
          <a:xfrm>
            <a:off x="304920" y="6476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0" y="311688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 (25лет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2196360" y="460728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7лет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-469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834800" y="36439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8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697600" y="656676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7318800" y="436140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30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4" descr="http://www.my-chekhov.ru/images/foto/chehov27s.jpg"/>
          <p:cNvPicPr/>
          <p:nvPr/>
        </p:nvPicPr>
        <p:blipFill>
          <a:blip r:embed="rId2"/>
          <a:stretch/>
        </p:blipFill>
        <p:spPr>
          <a:xfrm>
            <a:off x="1994040" y="1522440"/>
            <a:ext cx="2189160" cy="28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7" descr="chehov_anton"/>
          <p:cNvPicPr/>
          <p:nvPr/>
        </p:nvPicPr>
        <p:blipFill>
          <a:blip r:embed="rId3"/>
          <a:stretch/>
        </p:blipFill>
        <p:spPr>
          <a:xfrm>
            <a:off x="1803240" y="1521000"/>
            <a:ext cx="2468880" cy="308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9" descr="chehov_10"/>
          <p:cNvPicPr/>
          <p:nvPr/>
        </p:nvPicPr>
        <p:blipFill>
          <a:blip r:embed="rId4"/>
          <a:stretch/>
        </p:blipFill>
        <p:spPr>
          <a:xfrm>
            <a:off x="179280" y="384120"/>
            <a:ext cx="1940040" cy="266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1" descr="chehov_12"/>
          <p:cNvPicPr/>
          <p:nvPr/>
        </p:nvPicPr>
        <p:blipFill>
          <a:blip r:embed="rId5"/>
          <a:stretch/>
        </p:blipFill>
        <p:spPr>
          <a:xfrm>
            <a:off x="4216320" y="358920"/>
            <a:ext cx="2349720" cy="315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3" descr="chehov_13"/>
          <p:cNvPicPr/>
          <p:nvPr/>
        </p:nvPicPr>
        <p:blipFill>
          <a:blip r:embed="rId6"/>
          <a:stretch/>
        </p:blipFill>
        <p:spPr>
          <a:xfrm>
            <a:off x="4237200" y="371520"/>
            <a:ext cx="2320920" cy="3192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5" descr="chehov_14"/>
          <p:cNvPicPr/>
          <p:nvPr/>
        </p:nvPicPr>
        <p:blipFill>
          <a:blip r:embed="rId7"/>
          <a:stretch/>
        </p:blipFill>
        <p:spPr>
          <a:xfrm>
            <a:off x="6334200" y="676440"/>
            <a:ext cx="2644560" cy="3585960"/>
          </a:xfrm>
          <a:prstGeom prst="rect">
            <a:avLst/>
          </a:prstGeom>
          <a:ln w="0">
            <a:noFill/>
          </a:ln>
        </p:spPr>
      </p:pic>
      <p:pic>
        <p:nvPicPr>
          <p:cNvPr id="239" name="2.Clauderman.mp3" descr=""/>
          <p:cNvPicPr/>
          <p:nvPr/>
        </p:nvPicPr>
        <p:blipFill>
          <a:blip r:embed="rId8"/>
          <a:stretch/>
        </p:blipFill>
        <p:spPr>
          <a:xfrm>
            <a:off x="9575640" y="90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5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8871120" y="6400800"/>
            <a:ext cx="27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722840" y="26341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радостный по природе, одаренный редкою наблюдательность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ным остроумием и чисто гоголевской способностью подме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хватывать смешные черточки в поступках и характерах лю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img150828"/>
          <p:cNvPicPr/>
          <p:nvPr/>
        </p:nvPicPr>
        <p:blipFill>
          <a:blip r:embed="rId1"/>
          <a:stretch/>
        </p:blipFill>
        <p:spPr>
          <a:xfrm>
            <a:off x="266760" y="228600"/>
            <a:ext cx="1762200" cy="2771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chehov_09[1]"/>
          <p:cNvPicPr/>
          <p:nvPr/>
        </p:nvPicPr>
        <p:blipFill>
          <a:blip r:embed="rId2"/>
          <a:stretch/>
        </p:blipFill>
        <p:spPr>
          <a:xfrm>
            <a:off x="227160" y="203040"/>
            <a:ext cx="4219560" cy="555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chehov_08[1]"/>
          <p:cNvPicPr/>
          <p:nvPr/>
        </p:nvPicPr>
        <p:blipFill>
          <a:blip r:embed="rId3"/>
          <a:stretch/>
        </p:blipFill>
        <p:spPr>
          <a:xfrm>
            <a:off x="216000" y="279360"/>
            <a:ext cx="4221000" cy="6164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2"/>
          <p:cNvSpPr/>
          <p:nvPr/>
        </p:nvSpPr>
        <p:spPr>
          <a:xfrm>
            <a:off x="3430080" y="50799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го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721400" y="4892760"/>
            <a:ext cx="38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ю взрослую жизнь, совместно с литературо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был практикующим врач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а — моя законная жена, а литература — любовница», — говорил 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-main-pic" descr="Картинка 76 из 7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241200"/>
            <a:ext cx="1731960" cy="24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6825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957920" y="228600"/>
            <a:ext cx="39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Чехова в Москв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11120" y="5124600"/>
            <a:ext cx="843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чалу Чехов писал рассказы только для того, чтобы заработать денег, но по мере роста его творческих амбиций, он создал новые ходы в литературе, сильно повлияв на развитие современного короткого рассказа. Оригинальность его творческого метода заключается в использовании приема под названием «поток сознания», позже перенятого Джеймсом Джойсом и другими модернистами и отсутствия финальной морали, так необходимой структуре классического рассказа того времени. Чехов не стремился дать ответы читающей публике, а считал, что роль автора заключается в том, чтобы задавать вопросы, а не отвечать на н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8877240" y="649116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7040" y="798480"/>
            <a:ext cx="420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 14 июля 1954 года в доме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дово-Кудринской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жил здес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ени 1886 по весну 1890 г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озданы: "Степь", "Скучная истори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вили "Медведь", "Лебединая песня", более ста рассказ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 его навещали П.Чайковский, И. Левитан,                     В. Немирович-Данченк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иляровский                                          и другие известные лич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проводятся экскурсии, лекц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и музыкальные веч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5" descr="ChekhovGl_1"/>
          <p:cNvPicPr/>
          <p:nvPr/>
        </p:nvPicPr>
        <p:blipFill>
          <a:blip r:embed="rId1"/>
          <a:stretch/>
        </p:blipFill>
        <p:spPr>
          <a:xfrm>
            <a:off x="231840" y="571680"/>
            <a:ext cx="1511280" cy="2135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8" descr="museumm"/>
          <p:cNvPicPr/>
          <p:nvPr/>
        </p:nvPicPr>
        <p:blipFill>
          <a:blip r:embed="rId2"/>
          <a:stretch/>
        </p:blipFill>
        <p:spPr>
          <a:xfrm>
            <a:off x="228600" y="520560"/>
            <a:ext cx="4749840" cy="4007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chehov_49"/>
          <p:cNvPicPr/>
          <p:nvPr/>
        </p:nvPicPr>
        <p:blipFill>
          <a:blip r:embed="rId3"/>
          <a:stretch/>
        </p:blipFill>
        <p:spPr>
          <a:xfrm>
            <a:off x="469800" y="430200"/>
            <a:ext cx="3530880" cy="47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6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Таратина ИВ</dc:creator>
  <dc:description/>
  <dc:language>en-US</dc:language>
  <cp:lastModifiedBy>402</cp:lastModifiedBy>
  <dcterms:modified xsi:type="dcterms:W3CDTF">2015-02-27T08:57:46Z</dcterms:modified>
  <cp:revision>174</cp:revision>
  <dc:subject/>
  <dc:title>Презентация PowerPoint</dc:title>
</cp:coreProperties>
</file>