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B42-95BF-4855-A2FC-02ABA540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965-6B6B-44A8-B6B9-96F05A3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A3C-58A5-444E-B243-66D3BEC5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665-406A-49B9-BE47-40D2FAAF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5734-0362-4EE0-AC2E-FD214354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BAE1-CFB6-4F51-BB4E-2871F64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8B7-CB0F-4DD5-881B-1287739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D468-8C67-44B1-A530-B9384A4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D69-E5B6-4D93-A3AD-D354207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1F2-0E34-40ED-8B3B-053AB43F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F7FD-4F4D-449B-B6F9-395B6AC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391-35E2-42A6-91A4-E4239E7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4E53-4D1B-40FC-9924-4C4F049C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7767-AE4A-4B42-88A8-3657ED0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E08B-D89B-43E9-A4C6-ECCF6CD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AC6-6E13-4747-9041-2F086398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D76-D052-4529-8C36-1823558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A75-F65D-43D1-B4E1-396B275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255-CB00-46AA-887C-58562FEA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719-817C-4B09-B4D2-030EF60C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C40-A2C3-40DA-AD9C-8F82E10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594-61C1-47B2-AB57-F09FC0F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4A3-7C02-4F34-8069-A12CCE4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A69-A26B-4137-9D74-D44D1B7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4A6-4C65-40F0-A1E5-D2A9736E48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BA8-979F-44D3-A132-A83A1FE275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vitiaz1.narod.ru/Image/FOTOzakaznik/Abies_al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74;&#1088;&#1086;&#1087;&#1072;" TargetMode="External"/><Relationship Id="rId2" Type="http://schemas.openxmlformats.org/officeDocument/2006/relationships/hyperlink" Target="http://ru.wikipedia.org/wiki/&#1057;&#1086;&#1089;&#1091;&#1076;&#1080;&#1089;&#1090;&#1099;&#1077;_&#1088;&#1072;&#1089;&#1090;&#1077;&#1085;&#1080;&#1103;" TargetMode="External"/><Relationship Id="rId3" Type="http://schemas.openxmlformats.org/officeDocument/2006/relationships/hyperlink" Target="http://ru.wikipedia.org/wiki/&#1057;&#1077;&#1084;&#1077;&#1085;&#1085;&#1099;&#1077;_&#1088;&#1072;&#1089;&#1090;&#1077;&#1085;&#1080;&#1103;" TargetMode="External"/><Relationship Id="rId4" Type="http://schemas.openxmlformats.org/officeDocument/2006/relationships/hyperlink" Target="http://ru.wikipedia.org/wiki/&#1052;&#1086;&#1093;_(&#1088;&#1072;&#1089;&#1090;&#1077;&#1085;&#1080;&#1077;)" TargetMode="External"/><Relationship Id="rId5" Type="http://schemas.openxmlformats.org/officeDocument/2006/relationships/hyperlink" Target="http://ru.wikipedia.org/wiki/&#1051;&#1080;&#1096;&#1072;&#1081;&#1085;&#1080;&#1082;" TargetMode="External"/><Relationship Id="rId6" Type="http://schemas.openxmlformats.org/officeDocument/2006/relationships/hyperlink" Target="http://ru.wikipedia.org/wiki/&#1043;&#1088;&#1080;&#1073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p21.org.by/p/book/bris54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p21.org.by/p/r0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p21.org.by/p/r07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bp21.org.by/p/r08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p21.org.by/p/r0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p21.org.by/p/r1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0.radikal.ru/i170/0904/e7/5fbe3326360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rfax.by/files/pic/01_03_05/103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g-fotki.yandex.ru/get/3005/tax11.0/0_9d_e480190e_X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3;&#1077;&#1082;&#1086;&#1087;&#1080;&#1090;&#1072;&#1102;&#1097;&#1080;&#1077;" TargetMode="External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5;&#1088;&#1077;&#1089;&#1084;&#1099;&#1082;&#1072;&#1102;&#1097;&#1080;&#1077;&#1089;&#1103;" TargetMode="External"/><Relationship Id="rId4" Type="http://schemas.openxmlformats.org/officeDocument/2006/relationships/hyperlink" Target="http://ru.wikipedia.org/wiki/&#1047;&#1077;&#1084;&#1085;&#1086;&#1074;&#1086;&#1076;&#1085;&#1099;&#1077;" TargetMode="External"/><Relationship Id="rId5" Type="http://schemas.openxmlformats.org/officeDocument/2006/relationships/hyperlink" Target="http://ru.wikipedia.org/wiki/&#1056;&#1099;&#1073;&#1099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302.photobucket.com/albums/nn95/sveta_by/LJ/3-17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che.picser.ru/projects/ashkimsin/forums/monthly_02_2009/user159/post8622_img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reso.ru/upload/iblock/e78/e785ed7a47f7707c65841a2758288a3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urzona.ru/files/117459238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2;&#1088;&#1100;-&#1076;&#1091;&#1073;" TargetMode="External"/><Relationship Id="rId2" Type="http://schemas.openxmlformats.org/officeDocument/2006/relationships/hyperlink" Target="http://ru.wikipedia.org/wiki/&#1044;&#1091;&#1073;" TargetMode="External"/><Relationship Id="rId3" Type="http://schemas.openxmlformats.org/officeDocument/2006/relationships/hyperlink" Target="http://ru.wikipedia.org/wiki/&#1071;&#1089;&#1077;&#1085;&#1100;" TargetMode="External"/><Relationship Id="rId4" Type="http://schemas.openxmlformats.org/officeDocument/2006/relationships/hyperlink" Target="http://ru.wikipedia.org/wiki/&#1057;&#1086;&#1089;&#1085;&#1072;" TargetMode="External"/><Relationship Id="rId5" Type="http://schemas.openxmlformats.org/officeDocument/2006/relationships/hyperlink" Target="http://ru.wikipedia.org/wiki/&#1045;&#1083;&#1100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urist.by/images/belarus/parks/puscha/ozero_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pbp.brestobl.com/im/du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36.radikal.ru/0812/34/62e4668da3a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2484360" y="907920"/>
            <a:ext cx="48243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вед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835280" y="2997360"/>
            <a:ext cx="6264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ловежская пуща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012000" y="4292640"/>
            <a:ext cx="2342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: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651640" y="486900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удентка 402 групп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084720" y="5445000"/>
            <a:ext cx="2619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хотник Г.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Картинка 2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324000" y="2637000"/>
            <a:ext cx="1785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х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332000" y="1633680"/>
            <a:ext cx="691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по числу видов растений и животных не имеет себе равных 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Здесь произрастают 958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осудист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поровых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еме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стений, зарегистрировано 26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мх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мохообразных, более 29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лишай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57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гриб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 rot="960600">
            <a:off x="5076360" y="1125000"/>
            <a:ext cx="3305160" cy="422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 rot="20925600">
            <a:off x="545760" y="823680"/>
            <a:ext cx="3173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341360"/>
            <a:ext cx="3240000" cy="395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1341360"/>
            <a:ext cx="3240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артинка 5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артинка 29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500280"/>
            <a:ext cx="3737160" cy="302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артинка 6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826920" y="1739880"/>
            <a:ext cx="7180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писке фауны Беловежская пуща насчитывается 59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лекопитающи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2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тиц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пресмыкающих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11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земновод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4 вида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ры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Картинка 6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395280" y="54936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с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908000" y="476280"/>
            <a:ext cx="4965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рриториальная карт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6" descr="Картинка 2 из 21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523880"/>
            <a:ext cx="633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артинка 2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6"/>
          <p:cNvSpPr txBox="1"/>
          <p:nvPr/>
        </p:nvSpPr>
        <p:spPr>
          <a:xfrm>
            <a:off x="1258920" y="692280"/>
            <a:ext cx="25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артинка 9 из 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826920" y="333360"/>
            <a:ext cx="42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к обыкновенны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Картинка 24 из 154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79280" y="3141720"/>
            <a:ext cx="2394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енен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артинка 19 из 154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6"/>
          <p:cNvSpPr txBox="1"/>
          <p:nvPr/>
        </p:nvSpPr>
        <p:spPr>
          <a:xfrm rot="18877800">
            <a:off x="-417240" y="2945880"/>
            <a:ext cx="33339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0824000"/>
                </a:gradFill>
                <a:latin typeface="Times New Roman"/>
              </a:rPr>
              <a:t>Орлан-белохв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0824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Картинка 55 из 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1042920" y="5445000"/>
            <a:ext cx="2737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лен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Картинка 62 из 154"/>
          <p:cNvPicPr/>
          <p:nvPr/>
        </p:nvPicPr>
        <p:blipFill>
          <a:blip r:embed="rId1"/>
          <a:stretch/>
        </p:blipFill>
        <p:spPr>
          <a:xfrm>
            <a:off x="1619280" y="620640"/>
            <a:ext cx="5905440" cy="4046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2050920" y="5084640"/>
            <a:ext cx="4991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ягушка обыкновен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255948126_29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4500720" y="981000"/>
            <a:ext cx="4103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уравль серый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Картинка 12 из 183"/>
          <p:cNvPicPr/>
          <p:nvPr/>
        </p:nvPicPr>
        <p:blipFill>
          <a:blip r:embed="rId1"/>
          <a:stretch/>
        </p:blipFill>
        <p:spPr>
          <a:xfrm>
            <a:off x="0" y="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619280" y="5950080"/>
            <a:ext cx="5832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естская креп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Картинка 49 из 183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7"/>
          <p:cNvSpPr txBox="1"/>
          <p:nvPr/>
        </p:nvSpPr>
        <p:spPr>
          <a:xfrm rot="5400000">
            <a:off x="-1155960" y="2749320"/>
            <a:ext cx="4275360" cy="102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менецкая веж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268360" y="765000"/>
            <a:ext cx="4848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мблема заповедника</a:t>
            </a:r>
            <a:endParaRPr b="0" lang="en-US" sz="1800" spc="1" strike="noStrike">
              <a:ln w="12600">
                <a:solidFill>
                  <a:srgbClr val="ffff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Картинка 645 из 1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692280"/>
            <a:ext cx="44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овежская пущ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71640" y="177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56000" y="1844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сферный заповед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116000" y="2637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созд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70836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19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187280" y="3357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ритор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492360" y="342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3 505 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32000" y="1143000"/>
            <a:ext cx="62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является уникальным и крупнейшим массивом древних лесов, типичных для равнин Средней Евро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ий возраст лесов Беловежская пуща составляет более 100 лет, отдельные участки леса имеют возраст 250—350 лет. В пуще зарегистрировано более тысячи деревьев-великанов (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Царь-ду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другие 400—60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дуб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50—3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яс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ос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00—2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-main-pic" descr="Картинка 2 из 2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250920" y="2349360"/>
            <a:ext cx="25207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рь-ду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Картинка 7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611280" y="5661000"/>
            <a:ext cx="266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34189019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395280" y="2924280"/>
            <a:ext cx="17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се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18:44Z</dcterms:created>
  <dc:creator>STUDENT</dc:creator>
  <dc:description/>
  <dc:language>en-US</dc:language>
  <cp:lastModifiedBy>Коля</cp:lastModifiedBy>
  <dcterms:modified xsi:type="dcterms:W3CDTF">2013-03-18T19:53:47Z</dcterms:modified>
  <cp:revision>5</cp:revision>
  <dc:subject/>
  <dc:title>Слайд 1</dc:title>
</cp:coreProperties>
</file>