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8C4-8974-4F93-B920-543D6A10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E3E-69B7-431B-8875-F6E9A676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29D-3B6C-4CA1-8F96-C637251B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8EA-0795-47AA-A706-C56B6148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3733-7942-4051-95FD-A1FA1E31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23C9-0058-4A92-80D6-F23C8BDD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CC03-196A-4346-8228-EC44DC44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C25C-B8B3-41BC-ADFC-D57913F1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298C-2ABF-4640-96B3-98CC63F8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D334-38D7-4E90-A30E-AA7F5BD0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934A-B908-40B5-81B8-9C9C3731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ABD-D845-46AD-B32F-A3684DAF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43AD-E1D6-4E05-AE29-5F49AFE0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AFF5-CA0A-4817-B2BB-A4D5BCA4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9F43-D217-4D57-A531-6C9F5B3E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A0AD-39B3-4048-9CA3-E375448A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E4D2-D526-4EE1-9377-9E573001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113-23AF-461B-B402-184FD9B2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E4E-FCC4-424A-BE75-9BC28B4D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812F-66E8-4D2C-8668-D4C434E1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D9C-355F-43C8-BEDE-A88E6535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D86-408B-4193-B19E-DFF6216E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512-D1B9-48B3-823A-32761E6D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BF7-E6E4-42EE-934D-BA8CFC3E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1E4F-D093-4B3F-9204-6D67A99F26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72A5-B46A-4742-860B-E1D6E1A81B3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vitiaz1.narod.ru/Image/FOTOzakaznik/Abies_alb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5;&#1074;&#1088;&#1086;&#1087;&#1072;" TargetMode="External"/><Relationship Id="rId2" Type="http://schemas.openxmlformats.org/officeDocument/2006/relationships/hyperlink" Target="http://ru.wikipedia.org/wiki/&#1057;&#1086;&#1089;&#1091;&#1076;&#1080;&#1089;&#1090;&#1099;&#1077;_&#1088;&#1072;&#1089;&#1090;&#1077;&#1085;&#1080;&#1103;" TargetMode="External"/><Relationship Id="rId3" Type="http://schemas.openxmlformats.org/officeDocument/2006/relationships/hyperlink" Target="http://ru.wikipedia.org/wiki/&#1057;&#1077;&#1084;&#1077;&#1085;&#1085;&#1099;&#1077;_&#1088;&#1072;&#1089;&#1090;&#1077;&#1085;&#1080;&#1103;" TargetMode="External"/><Relationship Id="rId4" Type="http://schemas.openxmlformats.org/officeDocument/2006/relationships/hyperlink" Target="http://ru.wikipedia.org/wiki/&#1052;&#1086;&#1093;_(&#1088;&#1072;&#1089;&#1090;&#1077;&#1085;&#1080;&#1077;)" TargetMode="External"/><Relationship Id="rId5" Type="http://schemas.openxmlformats.org/officeDocument/2006/relationships/hyperlink" Target="http://ru.wikipedia.org/wiki/&#1051;&#1080;&#1096;&#1072;&#1081;&#1085;&#1080;&#1082;" TargetMode="External"/><Relationship Id="rId6" Type="http://schemas.openxmlformats.org/officeDocument/2006/relationships/hyperlink" Target="http://ru.wikipedia.org/wiki/&#1043;&#1088;&#1080;&#1073;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p21.org.by/p/book/bris54b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bp21.org.by/p/r01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p21.org.by/p/r07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bp21.org.by/p/r08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p21.org.by/p/r03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p21.org.by/p/r13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60.radikal.ru/i170/0904/e7/5fbe33263602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terfax.by/files/pic/01_03_05/103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g-fotki.yandex.ru/get/3005/tax11.0/0_9d_e480190e_X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3;&#1077;&#1082;&#1086;&#1087;&#1080;&#1090;&#1072;&#1102;&#1097;&#1080;&#1077;" TargetMode="External"/><Relationship Id="rId2" Type="http://schemas.openxmlformats.org/officeDocument/2006/relationships/hyperlink" Target="http://ru.wikipedia.org/wiki/&#1055;&#1090;&#1080;&#1094;&#1099;" TargetMode="External"/><Relationship Id="rId3" Type="http://schemas.openxmlformats.org/officeDocument/2006/relationships/hyperlink" Target="http://ru.wikipedia.org/wiki/&#1055;&#1088;&#1077;&#1089;&#1084;&#1099;&#1082;&#1072;&#1102;&#1097;&#1080;&#1077;&#1089;&#1103;" TargetMode="External"/><Relationship Id="rId4" Type="http://schemas.openxmlformats.org/officeDocument/2006/relationships/hyperlink" Target="http://ru.wikipedia.org/wiki/&#1047;&#1077;&#1084;&#1085;&#1086;&#1074;&#1086;&#1076;&#1085;&#1099;&#1077;" TargetMode="External"/><Relationship Id="rId5" Type="http://schemas.openxmlformats.org/officeDocument/2006/relationships/hyperlink" Target="http://ru.wikipedia.org/wiki/&#1056;&#1099;&#1073;&#1099;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302.photobucket.com/albums/nn95/sveta_by/LJ/3-17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ache.picser.ru/projects/ashkimsin/forums/monthly_02_2009/user159/post8622_img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vreso.ru/upload/iblock/e78/e785ed7a47f7707c65841a2758288a30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urzona.ru/files/1174592383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72;&#1088;&#1100;-&#1076;&#1091;&#1073;" TargetMode="External"/><Relationship Id="rId2" Type="http://schemas.openxmlformats.org/officeDocument/2006/relationships/hyperlink" Target="http://ru.wikipedia.org/wiki/&#1044;&#1091;&#1073;" TargetMode="External"/><Relationship Id="rId3" Type="http://schemas.openxmlformats.org/officeDocument/2006/relationships/hyperlink" Target="http://ru.wikipedia.org/wiki/&#1071;&#1089;&#1077;&#1085;&#1100;" TargetMode="External"/><Relationship Id="rId4" Type="http://schemas.openxmlformats.org/officeDocument/2006/relationships/hyperlink" Target="http://ru.wikipedia.org/wiki/&#1057;&#1086;&#1089;&#1085;&#1072;" TargetMode="External"/><Relationship Id="rId5" Type="http://schemas.openxmlformats.org/officeDocument/2006/relationships/hyperlink" Target="http://ru.wikipedia.org/wiki/&#1045;&#1083;&#1100;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urist.by/images/belarus/parks/puscha/ozero_0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pbp.brestobl.com/im/dub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036.radikal.ru/0812/34/62e4668da3a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5"/>
          <p:cNvSpPr txBox="1"/>
          <p:nvPr/>
        </p:nvSpPr>
        <p:spPr>
          <a:xfrm>
            <a:off x="2484360" y="907920"/>
            <a:ext cx="482436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поведни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1835280" y="2997360"/>
            <a:ext cx="626400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Беловежская пуща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6012000" y="4292640"/>
            <a:ext cx="23428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полнила: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5651640" y="4869000"/>
            <a:ext cx="331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удентка 402 группы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6084720" y="5445000"/>
            <a:ext cx="2619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ахотник Г.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Картинка 2 из 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0"/>
            <a:ext cx="66596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>
            <a:off x="324000" y="2637000"/>
            <a:ext cx="17859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хт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5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55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332000" y="1633680"/>
            <a:ext cx="691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овежская пуща по числу видов растений и животных не имеет себе равных в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Европ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Здесь произрастают 958 видов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сосудист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поровых и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семенн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астений, зарегистрировано 260 видов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мх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мохообразных, более 290 видов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лишайни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570 видов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гриб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Картинка 8 из 56">
            <a:hlinkClick r:id="rId1"/>
          </p:cNvPr>
          <p:cNvPicPr/>
          <p:nvPr/>
        </p:nvPicPr>
        <p:blipFill>
          <a:blip r:embed="rId2"/>
          <a:stretch/>
        </p:blipFill>
        <p:spPr>
          <a:xfrm rot="960600">
            <a:off x="5076360" y="1125000"/>
            <a:ext cx="3305160" cy="422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Картинка 8 из 56">
            <a:hlinkClick r:id="rId3"/>
          </p:cNvPr>
          <p:cNvPicPr/>
          <p:nvPr/>
        </p:nvPicPr>
        <p:blipFill>
          <a:blip r:embed="rId4"/>
          <a:stretch/>
        </p:blipFill>
        <p:spPr>
          <a:xfrm rot="20925600">
            <a:off x="545760" y="823680"/>
            <a:ext cx="31734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Картинка 8 из 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341360"/>
            <a:ext cx="3240000" cy="3952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Картинка 8 из 5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1341360"/>
            <a:ext cx="3240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Картинка 8 из 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Картинка 8 из 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Картинка 5 из 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Картинка 29 из 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500280"/>
            <a:ext cx="3737160" cy="302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Картинка 6 из 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5076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826920" y="1739880"/>
            <a:ext cx="7180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писке фауны Беловежская пуща насчитывается 59 видов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млекопитающи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227 видов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птиц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7 видов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пресмыкающихс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11 видов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земноводны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24 вида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ры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Картинка 6 из 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6"/>
          <p:cNvSpPr txBox="1"/>
          <p:nvPr/>
        </p:nvSpPr>
        <p:spPr>
          <a:xfrm>
            <a:off x="395280" y="549360"/>
            <a:ext cx="23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с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908000" y="476280"/>
            <a:ext cx="4965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ерриториальная карта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Picture 6" descr="Картинка 2 из 21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1523880"/>
            <a:ext cx="6337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Картинка 2 из 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6"/>
          <p:cNvSpPr txBox="1"/>
          <p:nvPr/>
        </p:nvSpPr>
        <p:spPr>
          <a:xfrm>
            <a:off x="1258920" y="692280"/>
            <a:ext cx="259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уб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Картинка 9 из 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6"/>
          <p:cNvSpPr txBox="1"/>
          <p:nvPr/>
        </p:nvSpPr>
        <p:spPr>
          <a:xfrm>
            <a:off x="826920" y="333360"/>
            <a:ext cx="421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лк обыкновенный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Картинка 24 из 154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6"/>
          <p:cNvSpPr txBox="1"/>
          <p:nvPr/>
        </p:nvSpPr>
        <p:spPr>
          <a:xfrm>
            <a:off x="179280" y="3141720"/>
            <a:ext cx="2394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ленено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Картинка 19 из 154"/>
          <p:cNvPicPr/>
          <p:nvPr/>
        </p:nvPicPr>
        <p:blipFill>
          <a:blip r:embed="rId1"/>
          <a:stretch/>
        </p:blipFill>
        <p:spPr>
          <a:xfrm>
            <a:off x="2484360" y="0"/>
            <a:ext cx="665964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6"/>
          <p:cNvSpPr txBox="1"/>
          <p:nvPr/>
        </p:nvSpPr>
        <p:spPr>
          <a:xfrm rot="18877800">
            <a:off x="-417240" y="2945880"/>
            <a:ext cx="333396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10824000"/>
                </a:gradFill>
                <a:latin typeface="Times New Roman"/>
              </a:rPr>
              <a:t>Орлан-белохво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10824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Картинка 55 из 1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WordArt 6"/>
          <p:cNvSpPr txBox="1"/>
          <p:nvPr/>
        </p:nvSpPr>
        <p:spPr>
          <a:xfrm>
            <a:off x="1042920" y="5445000"/>
            <a:ext cx="2737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лен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Картинка 62 из 154"/>
          <p:cNvPicPr/>
          <p:nvPr/>
        </p:nvPicPr>
        <p:blipFill>
          <a:blip r:embed="rId1"/>
          <a:stretch/>
        </p:blipFill>
        <p:spPr>
          <a:xfrm>
            <a:off x="1619280" y="620640"/>
            <a:ext cx="5905440" cy="4046760"/>
          </a:xfrm>
          <a:prstGeom prst="rect">
            <a:avLst/>
          </a:prstGeom>
          <a:ln w="0">
            <a:noFill/>
          </a:ln>
        </p:spPr>
      </p:pic>
      <p:sp>
        <p:nvSpPr>
          <p:cNvPr id="148" name="WordArt 6"/>
          <p:cNvSpPr txBox="1"/>
          <p:nvPr/>
        </p:nvSpPr>
        <p:spPr>
          <a:xfrm>
            <a:off x="2050920" y="5084640"/>
            <a:ext cx="49914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ягушка обыкновен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1255948126_298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6"/>
          <p:cNvSpPr txBox="1"/>
          <p:nvPr/>
        </p:nvSpPr>
        <p:spPr>
          <a:xfrm>
            <a:off x="4500720" y="981000"/>
            <a:ext cx="41036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уравль серый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Картинка 12 из 183"/>
          <p:cNvPicPr/>
          <p:nvPr/>
        </p:nvPicPr>
        <p:blipFill>
          <a:blip r:embed="rId1"/>
          <a:stretch/>
        </p:blipFill>
        <p:spPr>
          <a:xfrm>
            <a:off x="0" y="0"/>
            <a:ext cx="9144000" cy="5830920"/>
          </a:xfrm>
          <a:prstGeom prst="rect">
            <a:avLst/>
          </a:prstGeom>
          <a:ln w="0">
            <a:noFill/>
          </a:ln>
        </p:spPr>
      </p:pic>
      <p:sp>
        <p:nvSpPr>
          <p:cNvPr id="152" name="WordArt 6"/>
          <p:cNvSpPr txBox="1"/>
          <p:nvPr/>
        </p:nvSpPr>
        <p:spPr>
          <a:xfrm>
            <a:off x="1619280" y="5950080"/>
            <a:ext cx="58323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рестская крепос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Картинка 49 из 183"/>
          <p:cNvPicPr/>
          <p:nvPr/>
        </p:nvPicPr>
        <p:blipFill>
          <a:blip r:embed="rId1"/>
          <a:stretch/>
        </p:blipFill>
        <p:spPr>
          <a:xfrm>
            <a:off x="190800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7"/>
          <p:cNvSpPr txBox="1"/>
          <p:nvPr/>
        </p:nvSpPr>
        <p:spPr>
          <a:xfrm rot="5400000">
            <a:off x="-1155960" y="2749320"/>
            <a:ext cx="4275360" cy="102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менецкая веж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2268360" y="765000"/>
            <a:ext cx="4848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мблема заповедника</a:t>
            </a:r>
            <a:endParaRPr b="0" lang="en-US" sz="1800" spc="1" strike="noStrike">
              <a:ln w="12600">
                <a:solidFill>
                  <a:srgbClr val="ffff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6" descr="Картинка 645 из 17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411280" y="692280"/>
            <a:ext cx="446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ловежская пущ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71640" y="1773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тус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556000" y="184464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иосферный заповед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116000" y="263700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созд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708360" y="2637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19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187280" y="3357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рритор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492360" y="3429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3 505 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332000" y="1143000"/>
            <a:ext cx="622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овежская пуща является уникальным и крупнейшим массивом древних лесов, типичных для равнин Средней Евро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ний возраст лесов Беловежская пуща составляет более 100 лет, отдельные участки леса имеют возраст 250—350 лет. В пуще зарегистрировано более тысячи деревьев-великанов (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Царь-дуб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другие 400—600 летние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дуб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250—350 летние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ясен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сос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200—250 летние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-main-pic" descr="Картинка 2 из 2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Картинка 9 из 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3320" y="0"/>
            <a:ext cx="58006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6"/>
          <p:cNvSpPr txBox="1"/>
          <p:nvPr/>
        </p:nvSpPr>
        <p:spPr>
          <a:xfrm>
            <a:off x="250920" y="2349360"/>
            <a:ext cx="252072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арь-дуб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Картинка 7 из 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6"/>
          <p:cNvSpPr txBox="1"/>
          <p:nvPr/>
        </p:nvSpPr>
        <p:spPr>
          <a:xfrm>
            <a:off x="611280" y="5661000"/>
            <a:ext cx="2665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с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334189019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6"/>
          <p:cNvSpPr txBox="1"/>
          <p:nvPr/>
        </p:nvSpPr>
        <p:spPr>
          <a:xfrm>
            <a:off x="395280" y="2924280"/>
            <a:ext cx="17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сен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1:18:44Z</dcterms:created>
  <dc:creator>STUDENT</dc:creator>
  <dc:description/>
  <dc:language>en-US</dc:language>
  <cp:lastModifiedBy>Коля</cp:lastModifiedBy>
  <dcterms:modified xsi:type="dcterms:W3CDTF">2013-03-18T19:53:47Z</dcterms:modified>
  <cp:revision>5</cp:revision>
  <dc:subject/>
  <dc:title>Слайд 1</dc:title>
</cp:coreProperties>
</file>