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png" ContentType="image/png"/>
  <Override PartName="/ppt/media/image11.png" ContentType="image/png"/>
  <Override PartName="/ppt/media/image9.png" ContentType="image/png"/>
  <Override PartName="/ppt/media/image6.gif" ContentType="image/gif"/>
  <Override PartName="/ppt/media/image8.gif" ContentType="image/gif"/>
  <Override PartName="/ppt/media/image7.gif" ContentType="image/gif"/>
  <Override PartName="/ppt/media/image10.png" ContentType="image/png"/>
  <Override PartName="/ppt/media/image5.png" ContentType="image/png"/>
  <Override PartName="/ppt/media/image4.png" ContentType="image/png"/>
  <Override PartName="/ppt/media/image24.gif" ContentType="image/gif"/>
  <Override PartName="/ppt/media/image3.png" ContentType="image/png"/>
  <Override PartName="/ppt/media/image25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8.gif" ContentType="image/gif"/>
  <Override PartName="/ppt/media/image23.png" ContentType="image/png"/>
  <Override PartName="/ppt/media/image20.gif" ContentType="image/gif"/>
  <Override PartName="/ppt/media/image22.png" ContentType="image/png"/>
  <Override PartName="/ppt/media/image17.gif" ContentType="image/gif"/>
  <Override PartName="/ppt/media/image2.jpeg" ContentType="image/jpeg"/>
  <Override PartName="/ppt/media/image16.png" ContentType="image/png"/>
  <Override PartName="/ppt/media/image15.png" ContentType="image/png"/>
  <Override PartName="/ppt/media/image14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  <p:sldId id="292" r:id="rId50"/>
    <p:sldId id="293" r:id="rId51"/>
    <p:sldId id="29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slide" Target="slides/slide37.xml"/><Relationship Id="rId51" Type="http://schemas.openxmlformats.org/officeDocument/2006/relationships/slide" Target="slides/slide38.xml"/><Relationship Id="rId52" Type="http://schemas.openxmlformats.org/officeDocument/2006/relationships/slide" Target="slides/slide3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8C46-D866-412C-95D5-D1B18653E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6EE4-4E09-4BD1-9BE2-3451555D1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819E1F-981A-4FE2-AAEF-99A0F5B81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EFA5E9-7F66-4022-96AD-0CD5528E6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BB5B61-0566-4953-95F9-1AB21F709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68E4C3-CDF3-4EDB-A64C-BE7263AA2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328E01-5430-45EA-95BA-C3B84F113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079D78-8584-4B45-AEF0-D36060FF3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7898E7-8992-43F9-A6BC-70B4313CD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384896-6A85-465E-8279-BE1BC4058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14CEAE-F6DE-4583-ADE0-7AE5A50FE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852F89-C332-4AEB-A742-58ED0F4D7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C332-1F0B-4DC3-B5C1-246597DFD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1ADCB8-D334-40B3-8E35-93F4F13D7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D44137-8ECF-4B92-A407-3EB0596E6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BD688B-6F33-4DA8-BC40-161E2C422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10AFA1-D70C-4E89-AEC5-89DC26D30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884C5D-8FE0-45DB-A927-3FAD702AA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A14464-A9CA-4D40-87AD-1978AA742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096A55-BEA0-4966-8D3C-C6BBC8E32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CF76B1-0478-4B63-8390-AEB15DC33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AF36BD-6219-4725-83A7-13EF91A60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67373D-11E9-41C7-8DFE-08E88B5E0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E50A-75B4-441C-9477-64FB799F4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72AC73-FC20-47AF-9EA0-7574D0BA7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1C6748-4F7D-41AA-A8A3-3830AB314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6D0771-70B2-4C79-99F5-A20615090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778C8B-E818-4442-A6D2-F9540C176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415552-0170-45A9-B5E0-785F4FD7A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BB03E2-775A-43E0-B6D3-3396CF016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F0685B-BBA1-4CE9-9347-1B259A7F4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AD8F86-A910-42E3-A417-ACAB7A29D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645FA7-483D-4BB5-B775-60A238BD2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E1C310-C5F4-4ECF-9256-65D3392DC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B1EB4-9DAF-4100-A89F-7208A4CD6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A4CAB2-D1AB-43BF-8443-D17DAD1A3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0AB4E2-EA5F-4DF4-8A97-FEF5B8A2B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8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9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A73D51-9FB7-4519-93CC-8D6CBAE90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E553E7-D602-405E-AAA7-E7B24858A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E0B6BE-F023-4F7B-9E40-505F2250B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482B2E-E064-4863-8C82-0A1B421FD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EE6FD4-3BC8-4E62-92C3-55C244255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CAA5AB-1A02-4B16-9D3C-4A182AF6C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EAA0F2-EC38-49B0-98F6-0F660C421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8A101C-011D-46D7-9F58-7A7692C2B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3F99E-0A5D-4777-AF01-C3DA22DBC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6E987E-0426-444B-AEAF-4F605023D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A9F297-434A-483F-9AD0-FA7677A59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D9C4D0-7F75-4C1D-9F0B-EFBA7A249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5CD49C-E3B6-4AF8-A950-6A5BDC424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8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9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1A83BF-B278-4523-9599-FB6539109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BE20D-6F01-4C19-99A4-86BFFCEAB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506E9-03FE-4BDE-BBEE-50184040D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548EE-B5D8-4BD3-AE9C-4D6368A7D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EA3A8-F81D-435C-97EA-9234FFC23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A0875-C340-4CB5-997E-32B113CB0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CA24-5ABC-4373-B452-84E37BF82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84314-AD3F-4FFF-9BFA-0B8E5F9DC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D7590-6EB7-466B-8EA0-C4883ABC2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9955D-4E10-481D-863A-B841CAB2D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EDED5-1EE9-4F30-9783-02D5A9168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18BB0-8564-4223-A0E5-64E74EC97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78E581-26D5-45BA-B9D1-C0408F4F5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25D1DF-4F9E-4E75-AFAE-915CC72BD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DEDB79-DD26-4559-A3B4-D56FFCEDD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C4EB66-9503-4D56-9C60-EBD618A61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8BAC54-4C09-48C5-86C2-E8A7F8CE8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18EF-EB66-44EF-B725-E68C88EBF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DA3051-B76C-4677-A7D4-D00DAB3C9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C3EE7A-F3F4-4587-B25F-D47102CD1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6B9EED-0624-46A4-9E25-0C77C7636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D284A1-F039-4060-B72D-1C3918B3B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32D11D-C671-407B-98C4-EABE50181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453586-267F-4867-A19C-FDFEE9C38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6EB529-D63A-4990-951A-794722735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C9068A0-ADC5-4B77-83DF-2EEE822DB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9C18F30-3353-4276-BA1D-B996A114C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FD91329-3C2F-4ECA-933B-C4B3A994F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16F8-2250-4DC2-803B-D1941F86A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EA8ECBE-7685-472D-8EDE-961B94FB8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0200A1B-6AEB-489C-80EC-7FDF1C003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C1A5CBC-553C-44A0-B60E-48560E1E1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C158F27-62C7-42ED-A5DE-DEE47E782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CE2D57A-7AB2-4D7B-ADE2-E33957ACB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DE95B72-DB05-42C1-B14B-F294C5E7F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98E8242-DB7F-4CA8-9024-4CFB42DA1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068AA84-760E-46E6-AE42-0FEB112B9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4D9CC47-8FEC-4B0A-B78B-835EB2D64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D47565-CCEA-4C63-B922-AC0EDF84F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4BEB-E544-464F-B736-0CC459FB1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7C7739-FE62-4263-9C64-CCB6D41AB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FB4964-6AB7-42A1-9435-79C39D36B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04B679-68C9-441C-B5EA-05E277CF7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7AC3C0-497C-4418-B60D-3A040390B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9B1070-EC9A-4B5C-91D0-661E030E1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12F54D-AE65-46FE-B874-5D9F62674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362C39-5670-4306-B7BF-AA31EF934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C6C580-F896-4BFF-80A0-7B0C717BC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8239EA-5739-43E3-A8E0-F140C620E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E3946A-7CD8-460E-ABB7-364540740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298F-5E73-451C-B1F0-21D7267A6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8860C7-FA17-4761-A2A6-87EA72BB5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D6E6A0-E6D0-42C2-9285-C78DE3646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4C2C6B-A420-4EC3-B85D-548214EF8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48037A-890C-42EB-8FDB-9ABDFFA08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0573A9-77B7-475A-AAB4-3F53ACEB7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3F3524-A39B-46BE-8AD9-9DE30599B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884366-73B0-44ED-9A42-88A04F27D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5DCFB8-EC59-41CA-BA4A-7BB9A1D66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2FFF5E-A4CC-425F-8F8D-07EB44554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C4869B-2EDE-4A1C-880E-72EBD0903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6CED-8D56-4280-9A38-66BD71138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C04604-AD60-4A0D-A572-4622915BC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6495B4-4FB0-4E30-99BD-5DF846BAE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582A14-6F8D-44C7-9818-00AFBA679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3AC429-CD5A-434E-ADC1-941F5FC78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6A622E-8B27-44E9-9E53-3B23A780D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BBF19B-B231-48F6-95D2-A27277FA0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44AF87-C041-4270-8A33-D460EFA88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6783C9-E6B8-4240-AD70-AB3DE615B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3EEE10-89ED-43C9-B3E2-84F069575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221C0C-12C1-4411-96BC-EC1006078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01EF-EA4A-4296-BA71-058230263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953F1E-ADAF-44E6-9929-5E6A86F85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0E3CBE-33EC-4662-8C04-6593B96F7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B9F305-2721-4189-B3C4-E06A28AE4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EA888F-297F-4B70-A5AD-94E031C12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749AA4-8105-4453-934D-1DF73F8B6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7895F3-ADC5-45E5-A5E1-065158887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C026BA-632F-4236-9CC7-5C96F0403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A397B4-CC78-4E49-9A1C-ED391CE87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C0E6B5-7052-480A-8E0D-A66BAB1AD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FC9AB7-4D92-4C9B-B44E-BE243DA6E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8480-48EF-4957-9368-403EC4F8F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489FC5-6C83-4FC8-95C0-A43C80010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E5E137-AEA2-4556-85B2-9456007DC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F7A6EE-4A61-4A79-AB42-3577E8013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CF6AA3-5C51-49BF-9521-85C6615A4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0B8E16-0382-4CA1-B2C2-9DDA24B47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A07756-C6CF-495C-BC49-D77100BEC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45C4E5-A410-4D9E-8562-97323C3E1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E74AF2-09B0-49B1-980F-C8ECDF472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1488CB-C704-43D1-BE3D-749112E93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7B3BA6-8392-47FA-B6F6-418B3F764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A443A-3C8E-40D0-A0F5-1FB4A499530E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2" name="Group 2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473" name="Group 3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474" name="Freeform 4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5" name="Freeform 5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6" name="Freeform 6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7" name="Freeform 7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8" name="Freeform 8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9" name="Freeform 9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0" name="Freeform 10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81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2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3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4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5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6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87" name="Group 17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488" name="Freeform 18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9" name="Freeform 19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0" name="Freeform 20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91" name="Group 21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492" name="Freeform 22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3" name="Freeform 23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4" name="Freeform 24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95" name="Group 25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496" name="Freeform 26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7" name="Freeform 27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8" name="Freeform 28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99" name="Group 29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500" name="Freeform 30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01" name="Freeform 31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02" name="Freeform 32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503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504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05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06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507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8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9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0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1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2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3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81C06-1963-467B-A5A0-8EE154B3AFAA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5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56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7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58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9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0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1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2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3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4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5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6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7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8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F10C4-12CE-4459-826D-9A7062E58A5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61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2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62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4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4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4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4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4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4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4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4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4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8FD14-40A3-4C54-A611-DF1C8DD50DB1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B2D7D-A1CC-45FF-9699-0C1D423CEAAE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89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90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91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2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3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94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95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96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7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8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9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0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01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02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3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4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05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06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7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8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9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110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1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2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13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114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5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6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17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8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9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0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1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2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3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4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5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6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7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8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9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71476-3F99-49D5-B867-DEB6F326C9E9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ftr" idx="1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52F0B-FF6F-447C-8770-5BF09E4AEA7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74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75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6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7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8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9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0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1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2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3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84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BF3E8-D203-4B16-9BE4-EE5739ACE9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7BD57-E25D-4ACB-BE09-D962C1B2EB2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306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7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8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9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0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1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2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3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4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5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6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7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318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319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20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21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22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23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24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25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26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27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28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29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30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31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32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33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34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35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36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37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38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39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40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41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42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43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4DF99-511A-4D1F-B678-9962F013A090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35E50-B9A5-4833-988E-6D51341A4F2D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7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28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9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0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F5946-A47C-47A6-B1B8-9051691CF12E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2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6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7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Презентация к уроку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8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500" spc="-1" strike="noStrike">
                <a:solidFill>
                  <a:srgbClr val="336699"/>
                </a:solidFill>
                <a:latin typeface="Verdana"/>
              </a:rPr>
              <a:t>Алгоритм   исследования </a:t>
            </a:r>
            <a:br>
              <a:rPr sz="3500"/>
            </a:br>
            <a:r>
              <a:rPr b="1" i="1" lang="ru-RU" sz="3500" spc="-1" strike="noStrike">
                <a:solidFill>
                  <a:srgbClr val="336699"/>
                </a:solidFill>
                <a:latin typeface="Verdana"/>
              </a:rPr>
              <a:t>функции с помощью производной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500" spc="-1" strike="noStrike">
                <a:solidFill>
                  <a:srgbClr val="336699"/>
                </a:solidFill>
                <a:latin typeface="Verdana"/>
              </a:rPr>
              <a:t>Преподаватель: 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500" spc="-1" strike="noStrike">
                <a:solidFill>
                  <a:srgbClr val="336699"/>
                </a:solidFill>
                <a:latin typeface="Verdana"/>
              </a:rPr>
              <a:t>                          </a:t>
            </a:r>
            <a:r>
              <a:rPr b="1" i="1" lang="ru-RU" sz="3500" spc="-1" strike="noStrike">
                <a:solidFill>
                  <a:srgbClr val="336699"/>
                </a:solidFill>
                <a:latin typeface="Verdana"/>
              </a:rPr>
              <a:t>Макарова В.В.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500" spc="-1" strike="noStrike">
                <a:solidFill>
                  <a:srgbClr val="336699"/>
                </a:solidFill>
                <a:latin typeface="Verdana"/>
              </a:rPr>
              <a:t>ГУ «Профессиональный лицей №8» г.Семей  2010г.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ectangle 2"/>
          <p:cNvSpPr/>
          <p:nvPr/>
        </p:nvSpPr>
        <p:spPr>
          <a:xfrm>
            <a:off x="762120" y="1600200"/>
            <a:ext cx="8001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761760" y="404280"/>
            <a:ext cx="7924680" cy="94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Кроссворд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724" name=""/>
          <p:cNvGraphicFramePr/>
          <p:nvPr/>
        </p:nvGraphicFramePr>
        <p:xfrm>
          <a:off x="838080" y="1752480"/>
          <a:ext cx="7693200" cy="4754520"/>
        </p:xfrm>
        <a:graphic>
          <a:graphicData uri="http://schemas.openxmlformats.org/drawingml/2006/table">
            <a:tbl>
              <a:tblPr/>
              <a:tblGrid>
                <a:gridCol w="1043280"/>
                <a:gridCol w="1109520"/>
                <a:gridCol w="1109520"/>
                <a:gridCol w="1219320"/>
                <a:gridCol w="1058760"/>
                <a:gridCol w="1059120"/>
                <a:gridCol w="109368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 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 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4 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 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5  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2"/>
          <p:cNvSpPr/>
          <p:nvPr/>
        </p:nvSpPr>
        <p:spPr>
          <a:xfrm>
            <a:off x="762120" y="1600200"/>
            <a:ext cx="8001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761760" y="404280"/>
            <a:ext cx="7924680" cy="94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Кроссворд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727" name=""/>
          <p:cNvGraphicFramePr/>
          <p:nvPr/>
        </p:nvGraphicFramePr>
        <p:xfrm>
          <a:off x="838080" y="1752480"/>
          <a:ext cx="7693200" cy="4754520"/>
        </p:xfrm>
        <a:graphic>
          <a:graphicData uri="http://schemas.openxmlformats.org/drawingml/2006/table">
            <a:tbl>
              <a:tblPr/>
              <a:tblGrid>
                <a:gridCol w="1043280"/>
                <a:gridCol w="1109520"/>
                <a:gridCol w="1109520"/>
                <a:gridCol w="1219320"/>
                <a:gridCol w="1058760"/>
                <a:gridCol w="1059120"/>
                <a:gridCol w="109368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 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6 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 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4 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 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5  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Rectangle 2"/>
          <p:cNvSpPr/>
          <p:nvPr/>
        </p:nvSpPr>
        <p:spPr>
          <a:xfrm>
            <a:off x="762120" y="1600200"/>
            <a:ext cx="8001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761760" y="404280"/>
            <a:ext cx="7924680" cy="94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Кроссворд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730" name=""/>
          <p:cNvGraphicFramePr/>
          <p:nvPr/>
        </p:nvGraphicFramePr>
        <p:xfrm>
          <a:off x="838080" y="1752480"/>
          <a:ext cx="7693200" cy="4754520"/>
        </p:xfrm>
        <a:graphic>
          <a:graphicData uri="http://schemas.openxmlformats.org/drawingml/2006/table">
            <a:tbl>
              <a:tblPr/>
              <a:tblGrid>
                <a:gridCol w="1043280"/>
                <a:gridCol w="1109520"/>
                <a:gridCol w="1109520"/>
                <a:gridCol w="1219320"/>
                <a:gridCol w="1058760"/>
                <a:gridCol w="1059120"/>
                <a:gridCol w="109368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 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6 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 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4 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7 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 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5  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Ж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Rectangle 2"/>
          <p:cNvSpPr/>
          <p:nvPr/>
        </p:nvSpPr>
        <p:spPr>
          <a:xfrm>
            <a:off x="762120" y="1600200"/>
            <a:ext cx="8001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761760" y="404280"/>
            <a:ext cx="7924680" cy="94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Кроссворд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733" name=""/>
          <p:cNvGraphicFramePr/>
          <p:nvPr/>
        </p:nvGraphicFramePr>
        <p:xfrm>
          <a:off x="838080" y="1752480"/>
          <a:ext cx="7693200" cy="4754520"/>
        </p:xfrm>
        <a:graphic>
          <a:graphicData uri="http://schemas.openxmlformats.org/drawingml/2006/table">
            <a:tbl>
              <a:tblPr/>
              <a:tblGrid>
                <a:gridCol w="1043280"/>
                <a:gridCol w="1109520"/>
                <a:gridCol w="1109520"/>
                <a:gridCol w="1219320"/>
                <a:gridCol w="1058760"/>
                <a:gridCol w="1059120"/>
                <a:gridCol w="109368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 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6 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 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4 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7 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 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5  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Ж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0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Verdana"/>
              </a:rPr>
              <a:t>                              </a:t>
            </a: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Лагранж</a:t>
            </a:r>
            <a:r>
              <a:rPr b="0" lang="ru-RU" sz="3100" spc="-1" strike="noStrike">
                <a:solidFill>
                  <a:srgbClr val="006666"/>
                </a:solidFill>
                <a:latin typeface="Verdana"/>
              </a:rPr>
              <a:t>                                </a:t>
            </a:r>
            <a:br>
              <a:rPr sz="2500"/>
            </a:br>
            <a:r>
              <a:rPr b="0" lang="ru-RU" sz="3100" spc="-1" strike="noStrike">
                <a:solidFill>
                  <a:srgbClr val="006666"/>
                </a:solidFill>
                <a:latin typeface="Verdana"/>
              </a:rPr>
              <a:t> </a:t>
            </a:r>
            <a:r>
              <a:rPr b="0" lang="ru-RU" sz="4000" spc="-1" strike="noStrike">
                <a:solidFill>
                  <a:srgbClr val="006666"/>
                </a:solidFill>
                <a:latin typeface="Verdana"/>
              </a:rPr>
              <a:t>1736-1813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48320" y="1341000"/>
            <a:ext cx="4495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Verdana"/>
              </a:rPr>
              <a:t>В 19 лет он стал профессором в Артиллерийской школе Турина. Именно Лагранж в 1791 г. ввёл термин «производная», ему же мы обязаны и современным обозначением производной (с помощью штриха). Термин «вторая производная» и обозначение(два штриха) также ввёл</a:t>
            </a: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 Лангранж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737" name="Picture 5" descr="00042801"/>
          <p:cNvPicPr/>
          <p:nvPr/>
        </p:nvPicPr>
        <p:blipFill>
          <a:blip r:embed="rId1"/>
          <a:stretch/>
        </p:blipFill>
        <p:spPr>
          <a:xfrm>
            <a:off x="0" y="189000"/>
            <a:ext cx="4932360" cy="5759280"/>
          </a:xfrm>
          <a:prstGeom prst="rect">
            <a:avLst/>
          </a:prstGeom>
          <a:ln w="0">
            <a:noFill/>
          </a:ln>
        </p:spPr>
      </p:pic>
      <p:sp>
        <p:nvSpPr>
          <p:cNvPr id="738" name="Rectangle 6"/>
          <p:cNvSpPr/>
          <p:nvPr/>
        </p:nvSpPr>
        <p:spPr>
          <a:xfrm>
            <a:off x="322200" y="6021360"/>
            <a:ext cx="526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(Joseph-Louis Largauge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10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5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/>
          </p:nvPr>
        </p:nvSpPr>
        <p:spPr>
          <a:xfrm>
            <a:off x="539280" y="177300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55400" indent="0"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700" spc="-1" strike="noStrike">
                <a:solidFill>
                  <a:srgbClr val="000000"/>
                </a:solidFill>
                <a:latin typeface="Verdana"/>
              </a:rPr>
              <a:t>Основными  объектами, изучаемыми в математическом анализе являются  функция, ее производная, графики.</a:t>
            </a:r>
            <a:endParaRPr b="0" lang="en-US" sz="47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spcBef>
                <a:spcPts val="1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zoom dir="out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Как проходит график между двумя точками?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41" name="Picture 4" descr=""/>
          <p:cNvPicPr/>
          <p:nvPr/>
        </p:nvPicPr>
        <p:blipFill>
          <a:blip r:embed="rId1"/>
          <a:srcRect l="0" t="0" r="72192" b="0"/>
          <a:stretch/>
        </p:blipFill>
        <p:spPr>
          <a:xfrm>
            <a:off x="684360" y="1700280"/>
            <a:ext cx="2303280" cy="2571840"/>
          </a:xfrm>
          <a:prstGeom prst="rect">
            <a:avLst/>
          </a:prstGeom>
          <a:ln w="0">
            <a:noFill/>
          </a:ln>
        </p:spPr>
      </p:pic>
      <p:pic>
        <p:nvPicPr>
          <p:cNvPr id="742" name="Picture 5" descr=""/>
          <p:cNvPicPr/>
          <p:nvPr/>
        </p:nvPicPr>
        <p:blipFill>
          <a:blip r:embed="rId2"/>
          <a:srcRect l="32163" t="0" r="32186" b="0"/>
          <a:stretch/>
        </p:blipFill>
        <p:spPr>
          <a:xfrm>
            <a:off x="3203640" y="2637000"/>
            <a:ext cx="2952720" cy="2571480"/>
          </a:xfrm>
          <a:prstGeom prst="rect">
            <a:avLst/>
          </a:prstGeom>
          <a:ln w="0">
            <a:noFill/>
          </a:ln>
        </p:spPr>
      </p:pic>
      <p:pic>
        <p:nvPicPr>
          <p:cNvPr id="743" name="Picture 6" descr=""/>
          <p:cNvPicPr/>
          <p:nvPr/>
        </p:nvPicPr>
        <p:blipFill>
          <a:blip r:embed="rId3"/>
          <a:srcRect l="69547" t="0" r="0" b="0"/>
          <a:stretch/>
        </p:blipFill>
        <p:spPr>
          <a:xfrm>
            <a:off x="6372360" y="3789360"/>
            <a:ext cx="2522520" cy="25718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10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10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" dur="10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4" name="Picture 2" descr=""/>
          <p:cNvPicPr/>
          <p:nvPr/>
        </p:nvPicPr>
        <p:blipFill>
          <a:blip r:embed="rId1"/>
          <a:srcRect l="28361" t="22153" r="49195" b="49806"/>
          <a:stretch/>
        </p:blipFill>
        <p:spPr>
          <a:xfrm>
            <a:off x="5651640" y="3573360"/>
            <a:ext cx="3132000" cy="31305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682560" y="333360"/>
            <a:ext cx="8461440" cy="511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700" spc="-1" strike="noStrike">
                <a:solidFill>
                  <a:srgbClr val="666699"/>
                </a:solidFill>
                <a:latin typeface="Arial"/>
              </a:rPr>
              <a:t>                    </a:t>
            </a:r>
            <a:r>
              <a:rPr b="1" i="1" lang="ru-RU" sz="5700" spc="-1" strike="noStrike">
                <a:solidFill>
                  <a:srgbClr val="666699"/>
                </a:solidFill>
                <a:latin typeface="Arial"/>
              </a:rPr>
              <a:t>Алгоритм </a:t>
            </a:r>
            <a:br>
              <a:rPr sz="5700"/>
            </a:br>
            <a:r>
              <a:rPr b="1" i="1" lang="ru-RU" sz="5700" spc="-1" strike="noStrike">
                <a:solidFill>
                  <a:srgbClr val="666699"/>
                </a:solidFill>
                <a:latin typeface="Arial"/>
              </a:rPr>
              <a:t>               исследования </a:t>
            </a:r>
            <a:br>
              <a:rPr sz="5700"/>
            </a:br>
            <a:br>
              <a:rPr sz="5700"/>
            </a:br>
            <a:br>
              <a:rPr sz="5700"/>
            </a:br>
            <a:br>
              <a:rPr sz="5700"/>
            </a:br>
            <a:r>
              <a:rPr b="1" i="1" lang="ru-RU" sz="5700" spc="-1" strike="noStrike">
                <a:solidFill>
                  <a:srgbClr val="666699"/>
                </a:solidFill>
                <a:latin typeface="Arial"/>
              </a:rPr>
              <a:t>функции с помощью производной </a:t>
            </a: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6" name="Picture 4" descr="p1_4-2"/>
          <p:cNvPicPr/>
          <p:nvPr/>
        </p:nvPicPr>
        <p:blipFill>
          <a:blip r:embed="rId2"/>
          <a:stretch/>
        </p:blipFill>
        <p:spPr>
          <a:xfrm>
            <a:off x="468360" y="333360"/>
            <a:ext cx="3600360" cy="28209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10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7" name="Picture 2" descr="ana7e"/>
          <p:cNvPicPr/>
          <p:nvPr/>
        </p:nvPicPr>
        <p:blipFill>
          <a:blip r:embed="rId1"/>
          <a:srcRect l="0" t="0" r="0" b="11933"/>
          <a:stretch/>
        </p:blipFill>
        <p:spPr>
          <a:xfrm>
            <a:off x="5343480" y="2349360"/>
            <a:ext cx="3800520" cy="3024360"/>
          </a:xfrm>
          <a:prstGeom prst="rect">
            <a:avLst/>
          </a:prstGeom>
          <a:ln w="0">
            <a:noFill/>
          </a:ln>
        </p:spPr>
      </p:pic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7778520" cy="129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600" spc="-1" strike="noStrike">
                <a:solidFill>
                  <a:srgbClr val="336699"/>
                </a:solidFill>
                <a:latin typeface="Tahoma"/>
              </a:rPr>
              <a:t>Цель урока: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5852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11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e5ffff"/>
                </a:solidFill>
                <a:latin typeface="Times New Roman"/>
              </a:rPr>
              <a:t>Овладеть умением исследовать функции с помощью производной по заданному алгоритму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zoom dir="out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1" dur="1000"/>
                                        <p:tgtEl>
                                          <p:spTgt spid="7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0066"/>
                </a:solidFill>
                <a:latin typeface="Verdana"/>
              </a:rPr>
              <a:t>Диктант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1" name="Object 3"/>
              <p:cNvSpPr txBox="1"/>
              <p:nvPr/>
            </p:nvSpPr>
            <p:spPr>
              <a:xfrm>
                <a:off x="755640" y="4005360"/>
                <a:ext cx="1747800" cy="114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х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′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Object 4"/>
              <p:cNvSpPr txBox="1"/>
              <p:nvPr/>
            </p:nvSpPr>
            <p:spPr>
              <a:xfrm>
                <a:off x="5057640" y="5159520"/>
                <a:ext cx="2754360" cy="78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kx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e>
                    </m:d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′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3" name="Object 5"/>
              <p:cNvSpPr txBox="1"/>
              <p:nvPr/>
            </p:nvSpPr>
            <p:spPr>
              <a:xfrm>
                <a:off x="977760" y="1798560"/>
                <a:ext cx="1506600" cy="100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С</m:t>
                            </m:r>
                          </m:e>
                        </m:d>
                      </m:e>
                      <m:sup>
                        <m:r>
                          <m:t xml:space="preserve">′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4" name="Object 6"/>
              <p:cNvSpPr txBox="1"/>
              <p:nvPr/>
            </p:nvSpPr>
            <p:spPr>
              <a:xfrm>
                <a:off x="5303880" y="1916280"/>
                <a:ext cx="200484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p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′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5" name="Object 7"/>
              <p:cNvSpPr txBox="1"/>
              <p:nvPr/>
            </p:nvSpPr>
            <p:spPr>
              <a:xfrm>
                <a:off x="5502240" y="2867040"/>
                <a:ext cx="1152720" cy="12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х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′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6" name="Object 8"/>
              <p:cNvSpPr txBox="1"/>
              <p:nvPr/>
            </p:nvSpPr>
            <p:spPr>
              <a:xfrm>
                <a:off x="5435640" y="4221000"/>
                <a:ext cx="1657440" cy="7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х</m:t>
                                </m:r>
                              </m:e>
                            </m:rad>
                          </m:e>
                        </m:d>
                      </m:e>
                      <m:sup>
                        <m:r>
                          <m:t xml:space="preserve">′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7" name="Object 9"/>
              <p:cNvSpPr txBox="1"/>
              <p:nvPr/>
            </p:nvSpPr>
            <p:spPr>
              <a:xfrm>
                <a:off x="900000" y="2852640"/>
                <a:ext cx="1602000" cy="11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х</m:t>
                            </m:r>
                          </m:e>
                        </m:d>
                      </m:e>
                      <m:sup>
                        <m:r>
                          <m:t xml:space="preserve">′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8" name="Object 10"/>
              <p:cNvSpPr txBox="1"/>
              <p:nvPr/>
            </p:nvSpPr>
            <p:spPr>
              <a:xfrm>
                <a:off x="385920" y="5180040"/>
                <a:ext cx="246852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′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94" name="Picture 4" descr="1fcb3c7df050"/>
          <p:cNvPicPr/>
          <p:nvPr/>
        </p:nvPicPr>
        <p:blipFill>
          <a:blip r:embed="rId1"/>
          <a:stretch/>
        </p:blipFill>
        <p:spPr>
          <a:xfrm>
            <a:off x="971640" y="907920"/>
            <a:ext cx="3887640" cy="3746520"/>
          </a:xfrm>
          <a:prstGeom prst="rect">
            <a:avLst/>
          </a:prstGeom>
          <a:ln w="0">
            <a:noFill/>
          </a:ln>
        </p:spPr>
      </p:pic>
      <p:pic>
        <p:nvPicPr>
          <p:cNvPr id="695" name="Picture 5" descr="8b8aabc094e4"/>
          <p:cNvPicPr/>
          <p:nvPr/>
        </p:nvPicPr>
        <p:blipFill>
          <a:blip r:embed="rId2"/>
          <a:stretch/>
        </p:blipFill>
        <p:spPr>
          <a:xfrm>
            <a:off x="4427640" y="4724280"/>
            <a:ext cx="3240000" cy="9590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990000"/>
                </a:solidFill>
                <a:latin typeface="Verdana"/>
              </a:rPr>
              <a:t>Ответы на диктант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0" name="Object 3"/>
              <p:cNvSpPr txBox="1"/>
              <p:nvPr/>
            </p:nvSpPr>
            <p:spPr>
              <a:xfrm>
                <a:off x="539640" y="4005360"/>
                <a:ext cx="250344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х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′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х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1" name="Object 4"/>
              <p:cNvSpPr txBox="1"/>
              <p:nvPr/>
            </p:nvSpPr>
            <p:spPr>
              <a:xfrm>
                <a:off x="4067280" y="5214960"/>
                <a:ext cx="5076720" cy="7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kx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e>
                    </m:d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′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kx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2" name="Object 5"/>
              <p:cNvSpPr txBox="1"/>
              <p:nvPr/>
            </p:nvSpPr>
            <p:spPr>
              <a:xfrm>
                <a:off x="777960" y="2049480"/>
                <a:ext cx="1778040" cy="8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С</m:t>
                            </m:r>
                          </m:e>
                        </m:d>
                      </m:e>
                      <m:sup>
                        <m:r>
                          <m:t xml:space="preserve">′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3" name="Object 6"/>
              <p:cNvSpPr txBox="1"/>
              <p:nvPr/>
            </p:nvSpPr>
            <p:spPr>
              <a:xfrm>
                <a:off x="4500720" y="1916280"/>
                <a:ext cx="3816360" cy="92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p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′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4" name="Object 7"/>
              <p:cNvSpPr txBox="1"/>
              <p:nvPr/>
            </p:nvSpPr>
            <p:spPr>
              <a:xfrm>
                <a:off x="4716360" y="2924280"/>
                <a:ext cx="2162160" cy="12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х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′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5" name="Object 8"/>
              <p:cNvSpPr txBox="1"/>
              <p:nvPr/>
            </p:nvSpPr>
            <p:spPr>
              <a:xfrm>
                <a:off x="4932360" y="4076640"/>
                <a:ext cx="2664000" cy="101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х</m:t>
                                </m:r>
                              </m:e>
                            </m:rad>
                          </m:e>
                        </m:d>
                      </m:e>
                      <m:sup>
                        <m:r>
                          <m:t xml:space="preserve">′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х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6" name="Object 9"/>
              <p:cNvSpPr txBox="1"/>
              <p:nvPr/>
            </p:nvSpPr>
            <p:spPr>
              <a:xfrm>
                <a:off x="611280" y="2924280"/>
                <a:ext cx="1728720" cy="105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х</m:t>
                            </m:r>
                          </m:e>
                        </m:d>
                      </m:e>
                      <m:sup>
                        <m:r>
                          <m:t xml:space="preserve">′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7" name="Object 10"/>
              <p:cNvSpPr txBox="1"/>
              <p:nvPr/>
            </p:nvSpPr>
            <p:spPr>
              <a:xfrm>
                <a:off x="203040" y="5037120"/>
                <a:ext cx="3576960" cy="9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′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</p:spTree>
  </p:cSld>
  <p:transition spd="slow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думай и отве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-360" y="1557000"/>
            <a:ext cx="86756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99"/>
                </a:solidFill>
                <a:latin typeface="Times New Roman"/>
              </a:rPr>
              <a:t>Сформулировать достаточные условия возрастания(убывания)</a:t>
            </a:r>
            <a:r>
              <a:rPr b="0" i="1" lang="ru-RU" sz="5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ru-RU" sz="5400" spc="-1" strike="noStrike">
                <a:solidFill>
                  <a:srgbClr val="000099"/>
                </a:solidFill>
                <a:latin typeface="Times New Roman"/>
              </a:rPr>
              <a:t> функции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7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думай и отве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539640" y="206028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6699"/>
                </a:solidFill>
                <a:latin typeface="Times New Roman"/>
              </a:rPr>
              <a:t>Какие точки называются критическими ?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думай и отве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lnSpc>
                <a:spcPct val="100000"/>
              </a:lnSpc>
              <a:spcBef>
                <a:spcPts val="1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66"/>
                </a:solidFill>
                <a:latin typeface="Times New Roman"/>
              </a:rPr>
              <a:t>Сформулировать достаточный и необходимый признаки существования   максимума(минимума) функци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2" dur="500"/>
                                        <p:tgtEl>
                                          <p:spTgt spid="7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39640" y="530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r>
              <a:rPr b="1" i="1" lang="ru-RU" sz="4800" spc="-1" strike="noStrike">
                <a:solidFill>
                  <a:srgbClr val="ff0000"/>
                </a:solidFill>
                <a:latin typeface="Verdana"/>
              </a:rPr>
              <a:t>  </a:t>
            </a:r>
            <a:br>
              <a:rPr sz="4800"/>
            </a:br>
            <a:br>
              <a:rPr sz="4800"/>
            </a:br>
            <a:r>
              <a:rPr b="1" i="1" lang="ru-RU" sz="4800" spc="-1" strike="noStrike">
                <a:solidFill>
                  <a:srgbClr val="ff0000"/>
                </a:solidFill>
                <a:latin typeface="Verdana"/>
              </a:rPr>
              <a:t>«Спорьте, заблуждайтесь,                            </a:t>
            </a:r>
            <a:br>
              <a:rPr sz="4800"/>
            </a:br>
            <a:r>
              <a:rPr b="1" i="1" lang="ru-RU" sz="4800" spc="-1" strike="noStrike">
                <a:solidFill>
                  <a:srgbClr val="ff0000"/>
                </a:solidFill>
                <a:latin typeface="Verdana"/>
              </a:rPr>
              <a:t>  ошибайтесь, но, ради Бога</a:t>
            </a:r>
            <a:br>
              <a:rPr sz="4800"/>
            </a:br>
            <a:r>
              <a:rPr b="1" i="1" lang="ru-RU" sz="4800" spc="-1" strike="noStrike">
                <a:solidFill>
                  <a:srgbClr val="ff0000"/>
                </a:solidFill>
                <a:latin typeface="Verdana"/>
              </a:rPr>
              <a:t> размышляйте, и, хотя криво </a:t>
            </a:r>
            <a:br>
              <a:rPr sz="4800"/>
            </a:br>
            <a:r>
              <a:rPr b="1" i="1" lang="ru-RU" sz="4800" spc="-1" strike="noStrike">
                <a:solidFill>
                  <a:srgbClr val="ff0000"/>
                </a:solidFill>
                <a:latin typeface="Verdana"/>
              </a:rPr>
              <a:t> – да сами , ». </a:t>
            </a:r>
            <a:br>
              <a:rPr sz="4800"/>
            </a:br>
            <a:r>
              <a:rPr b="1" i="1" lang="ru-RU" sz="4800" spc="-1" strike="noStrike">
                <a:solidFill>
                  <a:srgbClr val="ff0000"/>
                </a:solidFill>
                <a:latin typeface="Verdana"/>
              </a:rPr>
              <a:t>               </a:t>
            </a:r>
            <a:r>
              <a:rPr b="1" i="1" lang="ru-RU" sz="4000" spc="-1" strike="noStrike">
                <a:solidFill>
                  <a:srgbClr val="006666"/>
                </a:solidFill>
                <a:latin typeface="Verdana"/>
              </a:rPr>
              <a:t>Г. Лессинг.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76" name="Picture 3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959880"/>
          </a:xfrm>
          <a:prstGeom prst="rect">
            <a:avLst/>
          </a:prstGeom>
          <a:ln w="0">
            <a:noFill/>
          </a:ln>
        </p:spPr>
      </p:pic>
      <p:pic>
        <p:nvPicPr>
          <p:cNvPr id="777" name="Picture 4" descr="parus"/>
          <p:cNvPicPr/>
          <p:nvPr/>
        </p:nvPicPr>
        <p:blipFill>
          <a:blip r:embed="rId2"/>
          <a:stretch/>
        </p:blipFill>
        <p:spPr>
          <a:xfrm>
            <a:off x="7236000" y="476280"/>
            <a:ext cx="1726920" cy="17272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0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Line 2"/>
          <p:cNvSpPr/>
          <p:nvPr/>
        </p:nvSpPr>
        <p:spPr>
          <a:xfrm flipV="1">
            <a:off x="4495680" y="1295280"/>
            <a:ext cx="0" cy="5181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9" name="Line 3"/>
          <p:cNvSpPr/>
          <p:nvPr/>
        </p:nvSpPr>
        <p:spPr>
          <a:xfrm>
            <a:off x="1116000" y="3429000"/>
            <a:ext cx="6934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4495680" y="1219320"/>
            <a:ext cx="38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1" name="Text Box 5"/>
          <p:cNvSpPr/>
          <p:nvPr/>
        </p:nvSpPr>
        <p:spPr>
          <a:xfrm>
            <a:off x="7848720" y="350532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2" name="Text Box 6"/>
          <p:cNvSpPr/>
          <p:nvPr/>
        </p:nvSpPr>
        <p:spPr>
          <a:xfrm>
            <a:off x="5715000" y="335268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3" name="Text Box 7"/>
          <p:cNvSpPr/>
          <p:nvPr/>
        </p:nvSpPr>
        <p:spPr>
          <a:xfrm>
            <a:off x="4648320" y="3352680"/>
            <a:ext cx="30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4" name="Text Box 8"/>
          <p:cNvSpPr/>
          <p:nvPr/>
        </p:nvSpPr>
        <p:spPr>
          <a:xfrm>
            <a:off x="3276720" y="335268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5" name="Text Box 9"/>
          <p:cNvSpPr/>
          <p:nvPr/>
        </p:nvSpPr>
        <p:spPr>
          <a:xfrm>
            <a:off x="2666880" y="335268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6" name="Text Box 10"/>
          <p:cNvSpPr/>
          <p:nvPr/>
        </p:nvSpPr>
        <p:spPr>
          <a:xfrm>
            <a:off x="6324480" y="335268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7" name="Freeform 11"/>
          <p:cNvSpPr/>
          <p:nvPr/>
        </p:nvSpPr>
        <p:spPr>
          <a:xfrm>
            <a:off x="2700360" y="907920"/>
            <a:ext cx="3759120" cy="5727960"/>
          </a:xfrm>
          <a:custGeom>
            <a:avLst/>
            <a:gdLst/>
            <a:ahLst/>
            <a:rect l="l" t="t" r="r" b="b"/>
            <a:pathLst>
              <a:path w="2368" h="3608">
                <a:moveTo>
                  <a:pt x="0" y="1056"/>
                </a:moveTo>
                <a:cubicBezTo>
                  <a:pt x="76" y="1980"/>
                  <a:pt x="152" y="2904"/>
                  <a:pt x="480" y="2736"/>
                </a:cubicBezTo>
                <a:cubicBezTo>
                  <a:pt x="808" y="2568"/>
                  <a:pt x="1664" y="0"/>
                  <a:pt x="1968" y="48"/>
                </a:cubicBezTo>
                <a:cubicBezTo>
                  <a:pt x="2272" y="96"/>
                  <a:pt x="2240" y="2440"/>
                  <a:pt x="2304" y="3024"/>
                </a:cubicBezTo>
                <a:cubicBezTo>
                  <a:pt x="2368" y="3608"/>
                  <a:pt x="2360" y="3580"/>
                  <a:pt x="2352" y="3552"/>
                </a:cubicBez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8" name="Text Box 12"/>
          <p:cNvSpPr/>
          <p:nvPr/>
        </p:nvSpPr>
        <p:spPr>
          <a:xfrm>
            <a:off x="4284720" y="314172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9" name="Text Box 13"/>
          <p:cNvSpPr/>
          <p:nvPr/>
        </p:nvSpPr>
        <p:spPr>
          <a:xfrm>
            <a:off x="304920" y="152280"/>
            <a:ext cx="8839080" cy="619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айдите промежутки монотонности функции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y = f(X)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если изображен график её производной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90" name="Picture 15" descr="0024"/>
          <p:cNvPicPr/>
          <p:nvPr/>
        </p:nvPicPr>
        <p:blipFill>
          <a:blip r:embed="rId1"/>
          <a:stretch/>
        </p:blipFill>
        <p:spPr>
          <a:xfrm>
            <a:off x="7315200" y="838080"/>
            <a:ext cx="1374840" cy="1800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Verdana"/>
              </a:rPr>
              <a:t>Подумай и ответь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92" name="Picture 4" descr=""/>
          <p:cNvPicPr/>
          <p:nvPr/>
        </p:nvPicPr>
        <p:blipFill>
          <a:blip r:embed="rId1"/>
          <a:stretch/>
        </p:blipFill>
        <p:spPr>
          <a:xfrm>
            <a:off x="250920" y="1700280"/>
            <a:ext cx="8550360" cy="3511440"/>
          </a:xfrm>
          <a:prstGeom prst="rect">
            <a:avLst/>
          </a:prstGeom>
          <a:ln w="0">
            <a:noFill/>
          </a:ln>
        </p:spPr>
      </p:pic>
      <p:pic>
        <p:nvPicPr>
          <p:cNvPr id="793" name="Picture 6" descr="J0286674"/>
          <p:cNvPicPr/>
          <p:nvPr/>
        </p:nvPicPr>
        <p:blipFill>
          <a:blip r:embed="rId2"/>
          <a:stretch/>
        </p:blipFill>
        <p:spPr>
          <a:xfrm>
            <a:off x="324000" y="4653000"/>
            <a:ext cx="1676160" cy="1981080"/>
          </a:xfrm>
          <a:prstGeom prst="rect">
            <a:avLst/>
          </a:prstGeom>
          <a:ln w="0">
            <a:noFill/>
          </a:ln>
        </p:spPr>
      </p:pic>
      <p:sp>
        <p:nvSpPr>
          <p:cNvPr id="794" name="Text Box 7"/>
          <p:cNvSpPr/>
          <p:nvPr/>
        </p:nvSpPr>
        <p:spPr>
          <a:xfrm>
            <a:off x="2638800" y="4724280"/>
            <a:ext cx="5731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пределяя критические точки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ченик указа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x = –6; x = –3; x = –1; x = 2; x = 4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ав ли он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8366040" cy="76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99ff"/>
                </a:solidFill>
                <a:latin typeface="Verdana"/>
              </a:rPr>
              <a:t>Схема исследования функции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8532720" cy="544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85280" indent="-4852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Найти область определения функции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485280" indent="-4852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Определить четность и нечетность, периодичность функции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485280" indent="-4852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Найти точки пересечения графика функции с осями координат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485280" indent="-4852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Определить промежутки знакопостоянства функции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485280" indent="-4852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Определить промежутки возрастания, убывания, найти экстремумы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485280" indent="-4852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На основании исследования построить график функции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48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2000" fill="hold"/>
                                        <p:tgtEl>
                                          <p:spTgt spid="7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2000" fill="hold"/>
                                        <p:tgtEl>
                                          <p:spTgt spid="7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2000" fill="hold"/>
                                        <p:tgtEl>
                                          <p:spTgt spid="7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2000" fill="hold"/>
                                        <p:tgtEl>
                                          <p:spTgt spid="7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2000" fill="hold"/>
                                        <p:tgtEl>
                                          <p:spTgt spid="7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2000" fill="hold"/>
                                        <p:tgtEl>
                                          <p:spTgt spid="7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2000" fill="hold"/>
                                        <p:tgtEl>
                                          <p:spTgt spid="7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2000" fill="hold"/>
                                        <p:tgtEl>
                                          <p:spTgt spid="7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2000" fill="hold"/>
                                        <p:tgtEl>
                                          <p:spTgt spid="7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2000" fill="hold"/>
                                        <p:tgtEl>
                                          <p:spTgt spid="7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2000" fill="hold"/>
                                        <p:tgtEl>
                                          <p:spTgt spid="7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2000" fill="hold"/>
                                        <p:tgtEl>
                                          <p:spTgt spid="7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699"/>
                </a:solidFill>
                <a:latin typeface="Arial"/>
              </a:rPr>
              <a:t>Схема исследования функции с помощью  её производно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68000" y="1599840"/>
            <a:ext cx="86756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11920" indent="-511920">
              <a:spcBef>
                <a:spcPts val="901"/>
              </a:spcBef>
              <a:buClr>
                <a:srgbClr val="00007d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айти область определения функци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spcBef>
                <a:spcPts val="901"/>
              </a:spcBef>
              <a:buClr>
                <a:srgbClr val="00007d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пределить четность и нечетность, периодичность функци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spcBef>
                <a:spcPts val="901"/>
              </a:spcBef>
              <a:buClr>
                <a:srgbClr val="00007d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айти точки пересечения графика функции с осями координа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spcBef>
                <a:spcPts val="901"/>
              </a:spcBef>
              <a:buClr>
                <a:srgbClr val="00007d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пределить промежутки знакопостоянства функци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2000" fill="hold"/>
                                        <p:tgtEl>
                                          <p:spTgt spid="7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2000" fill="hold"/>
                                        <p:tgtEl>
                                          <p:spTgt spid="7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2000" fill="hold"/>
                                        <p:tgtEl>
                                          <p:spTgt spid="7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2000" fill="hold"/>
                                        <p:tgtEl>
                                          <p:spTgt spid="7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2000" fill="hold"/>
                                        <p:tgtEl>
                                          <p:spTgt spid="7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2000" fill="hold"/>
                                        <p:tgtEl>
                                          <p:spTgt spid="7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2000" fill="hold"/>
                                        <p:tgtEl>
                                          <p:spTgt spid="7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2000" fill="hold"/>
                                        <p:tgtEl>
                                          <p:spTgt spid="7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36680"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800" spc="-1" strike="noStrike">
                <a:solidFill>
                  <a:srgbClr val="cc0000"/>
                </a:solidFill>
                <a:latin typeface="Verdana"/>
              </a:rPr>
              <a:t>«Дорогу осилит идущий, а математику – мыслящий»</a:t>
            </a:r>
            <a:r>
              <a:rPr b="0" lang="ru-RU" sz="5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5100" spc="-1" strike="noStrike">
              <a:solidFill>
                <a:srgbClr val="000000"/>
              </a:solidFill>
              <a:latin typeface="Verdana"/>
            </a:endParaRPr>
          </a:p>
          <a:p>
            <a:pPr marL="436680"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100" spc="-1" strike="noStrike">
                <a:solidFill>
                  <a:srgbClr val="000000"/>
                </a:solidFill>
                <a:latin typeface="Verdana"/>
              </a:rPr>
              <a:t>                        </a:t>
            </a:r>
            <a:endParaRPr b="0" lang="en-US" sz="5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8" name="Rectangle 4"/>
          <p:cNvSpPr/>
          <p:nvPr/>
        </p:nvSpPr>
        <p:spPr>
          <a:xfrm>
            <a:off x="1553760" y="189000"/>
            <a:ext cx="5808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ш сегодняшний урок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ойдет под девизом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99" name="Picture 7" descr="2n"/>
          <p:cNvPicPr/>
          <p:nvPr/>
        </p:nvPicPr>
        <p:blipFill>
          <a:blip r:embed="rId1"/>
          <a:stretch/>
        </p:blipFill>
        <p:spPr>
          <a:xfrm>
            <a:off x="6300720" y="2637000"/>
            <a:ext cx="2482920" cy="266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/>
          </p:nvPr>
        </p:nvSpPr>
        <p:spPr>
          <a:xfrm>
            <a:off x="684360" y="76500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8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) Найти производную функци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(х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йти критические точки - решить уравнение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(х)=0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) Найти промежутки возрастания, убывания функции - решить  неравенства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(х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&lt;0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(х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&gt;0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Определить экстремумы функци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7)На основании исследования построить график функ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2000" fill="hold"/>
                                        <p:tgtEl>
                                          <p:spTgt spid="7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2000" fill="hold"/>
                                        <p:tgtEl>
                                          <p:spTgt spid="7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2000" fill="hold"/>
                                        <p:tgtEl>
                                          <p:spTgt spid="7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2000" fill="hold"/>
                                        <p:tgtEl>
                                          <p:spTgt spid="7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2000" fill="hold"/>
                                        <p:tgtEl>
                                          <p:spTgt spid="7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2000" fill="hold"/>
                                        <p:tgtEl>
                                          <p:spTgt spid="7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2000" fill="hold"/>
                                        <p:tgtEl>
                                          <p:spTgt spid="7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2000" fill="hold"/>
                                        <p:tgtEl>
                                          <p:spTgt spid="7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/>
          </p:nvPr>
        </p:nvSpPr>
        <p:spPr>
          <a:xfrm>
            <a:off x="468000" y="162864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6600ff"/>
                </a:solidFill>
                <a:latin typeface="Times New Roman"/>
              </a:rPr>
              <a:t>Скажи мне, я забуду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6600ff"/>
                </a:solidFill>
                <a:latin typeface="Times New Roman"/>
              </a:rPr>
              <a:t>Покажи мне, и, может быть, я буду помнить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6600ff"/>
                </a:solidFill>
                <a:latin typeface="Times New Roman"/>
              </a:rPr>
              <a:t>Позволь мне сделать это, и это станет моим навсегда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6600ff"/>
                </a:solidFill>
                <a:latin typeface="Times New Roman"/>
              </a:rPr>
              <a:t>(Китайская пословица)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 advTm="0">
    <p:zoom dir="out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8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8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8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8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8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8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8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8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8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8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8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8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0" y="62028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Какой из графиков наиболее точно отражает описанную ситуацию?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802" name="Picture 11" descr=""/>
          <p:cNvPicPr/>
          <p:nvPr/>
        </p:nvPicPr>
        <p:blipFill>
          <a:blip r:embed="rId1"/>
          <a:stretch/>
        </p:blipFill>
        <p:spPr>
          <a:xfrm>
            <a:off x="2273400" y="1851120"/>
            <a:ext cx="6114960" cy="48862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250920" y="404280"/>
            <a:ext cx="8424720" cy="151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r>
              <a:rPr b="0" lang="ru-RU" sz="3000" spc="-1" strike="noStrike">
                <a:solidFill>
                  <a:srgbClr val="000000"/>
                </a:solidFill>
                <a:latin typeface="Arial Black"/>
              </a:rPr>
              <a:t>Опишите динамику производительности труда 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Arial Black"/>
              </a:rPr>
              <a:t>рабочего, пользуясь ее графиком 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4" name="Rectangle 5"/>
          <p:cNvSpPr/>
          <p:nvPr/>
        </p:nvSpPr>
        <p:spPr>
          <a:xfrm>
            <a:off x="8389800" y="40759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05" name="Picture 6" descr=""/>
          <p:cNvPicPr/>
          <p:nvPr/>
        </p:nvPicPr>
        <p:blipFill>
          <a:blip r:embed="rId1"/>
          <a:stretch/>
        </p:blipFill>
        <p:spPr>
          <a:xfrm>
            <a:off x="468360" y="1822320"/>
            <a:ext cx="8675640" cy="33973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Реклам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400" spc="-1" strike="noStrike">
                <a:solidFill>
                  <a:srgbClr val="000000"/>
                </a:solidFill>
                <a:latin typeface="Verdana"/>
              </a:rPr>
              <a:t>Изучение производных поможет Вам быстро и правильно принимать решения в различных ситуациях, так как Вы уже учитесь думать, преодолевать трудности и рассуждать, а это всё ведет к приобретению мудрости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zoom dir="out"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63" dur="2000"/>
                                        <p:tgtEl>
                                          <p:spTgt spid="8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«Ситуации в жизни бывают такие: либо сложные, либо простые…»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09" name="Picture 4" descr=""/>
          <p:cNvPicPr/>
          <p:nvPr/>
        </p:nvPicPr>
        <p:blipFill>
          <a:blip r:embed="rId1"/>
          <a:stretch/>
        </p:blipFill>
        <p:spPr>
          <a:xfrm>
            <a:off x="0" y="2289240"/>
            <a:ext cx="8964720" cy="3133800"/>
          </a:xfrm>
          <a:prstGeom prst="rect">
            <a:avLst/>
          </a:prstGeom>
          <a:ln w="0">
            <a:noFill/>
          </a:ln>
        </p:spPr>
      </p:pic>
      <p:pic>
        <p:nvPicPr>
          <p:cNvPr id="810" name="Picture 5" descr="3"/>
          <p:cNvPicPr/>
          <p:nvPr/>
        </p:nvPicPr>
        <p:blipFill>
          <a:blip r:embed="rId2"/>
          <a:stretch/>
        </p:blipFill>
        <p:spPr>
          <a:xfrm>
            <a:off x="539640" y="4941720"/>
            <a:ext cx="1619280" cy="16192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Домашнее задание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73184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102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000066"/>
                </a:solidFill>
                <a:latin typeface="Verdana"/>
              </a:rPr>
              <a:t>Исследовать функцию и построить гафик</a:t>
            </a:r>
            <a:endParaRPr b="0" lang="en-US" sz="4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66"/>
                </a:solidFill>
                <a:latin typeface="Verdana"/>
              </a:rPr>
              <a:t>    </a:t>
            </a:r>
            <a:r>
              <a:rPr b="0" lang="en-US" sz="4100" spc="-1" strike="noStrike">
                <a:solidFill>
                  <a:srgbClr val="000066"/>
                </a:solidFill>
                <a:latin typeface="Verdana"/>
              </a:rPr>
              <a:t>f(x)=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4100" spc="-1" strike="noStrike">
                <a:solidFill>
                  <a:srgbClr val="000066"/>
                </a:solidFill>
                <a:latin typeface="Verdana"/>
              </a:rPr>
              <a:t>2x²+5x+2</a:t>
            </a:r>
            <a:endParaRPr b="0" lang="en-US" sz="4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3" name="Rectangle 6"/>
          <p:cNvSpPr/>
          <p:nvPr/>
        </p:nvSpPr>
        <p:spPr>
          <a:xfrm>
            <a:off x="4311360" y="324576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4064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Вывод 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85406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3366"/>
                </a:solidFill>
                <a:latin typeface="Verdana"/>
              </a:rPr>
              <a:t>Аппарат производной можно использовать при решении геометрических задач, задач из естественных  и гуманитарных наук, экономических задач.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ru-RU" sz="3400" spc="-1" strike="noStrike">
                <a:solidFill>
                  <a:srgbClr val="003366"/>
                </a:solidFill>
                <a:latin typeface="Verdana"/>
              </a:rPr>
              <a:t>И, конечно, не обойтись без производной при исследовании функции и построении графиков.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zoom dir="out"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0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0" dur="80"/>
                                        <p:tgtEl>
                                          <p:spTgt spid="8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1" dur="80"/>
                                        <p:tgtEl>
                                          <p:spTgt spid="8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2" dur="80"/>
                                        <p:tgtEl>
                                          <p:spTgt spid="8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4880"/>
                            </p:stCondLst>
                            <p:childTnLst>
                              <p:par>
                                <p:cTn id="27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6" dur="80"/>
                                        <p:tgtEl>
                                          <p:spTgt spid="8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7" dur="80"/>
                                        <p:tgtEl>
                                          <p:spTgt spid="8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8" dur="80"/>
                                        <p:tgtEl>
                                          <p:spTgt spid="8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18" name="Picture 4" descr=""/>
          <p:cNvPicPr/>
          <p:nvPr/>
        </p:nvPicPr>
        <p:blipFill>
          <a:blip r:embed="rId1"/>
          <a:stretch/>
        </p:blipFill>
        <p:spPr>
          <a:xfrm>
            <a:off x="324000" y="-3240"/>
            <a:ext cx="8496000" cy="68644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WordArt 4"/>
          <p:cNvSpPr txBox="1"/>
          <p:nvPr/>
        </p:nvSpPr>
        <p:spPr>
          <a:xfrm>
            <a:off x="1187280" y="2349360"/>
            <a:ext cx="6840720" cy="295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асибо за урок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zoom dir="out"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0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10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Rectangle 11"/>
          <p:cNvSpPr/>
          <p:nvPr/>
        </p:nvSpPr>
        <p:spPr>
          <a:xfrm>
            <a:off x="5869440" y="1181160"/>
            <a:ext cx="290268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0" spc="-1" strike="noStrike">
                <a:solidFill>
                  <a:srgbClr val="6600ff"/>
                </a:solidFill>
                <a:latin typeface="Arial"/>
              </a:rPr>
              <a:t>ная</a:t>
            </a:r>
            <a:endParaRPr b="0" lang="en-US" sz="1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700" spc="-1" strike="noStrike">
                <a:solidFill>
                  <a:srgbClr val="000000"/>
                </a:solidFill>
                <a:latin typeface="Verdana"/>
              </a:rPr>
              <a:t>Отгадай ребус</a:t>
            </a:r>
            <a:endParaRPr b="0" lang="en-US" sz="6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25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900" spc="-1" strike="noStrike">
                <a:solidFill>
                  <a:srgbClr val="000000"/>
                </a:solidFill>
                <a:latin typeface="Verdana"/>
              </a:rPr>
              <a:t>П</a:t>
            </a:r>
            <a:r>
              <a:rPr b="0" lang="ru-RU" sz="103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3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03" name="Picture 5" descr=""/>
          <p:cNvPicPr/>
          <p:nvPr/>
        </p:nvPicPr>
        <p:blipFill>
          <a:blip r:embed="rId1"/>
          <a:stretch/>
        </p:blipFill>
        <p:spPr>
          <a:xfrm>
            <a:off x="2268360" y="2349360"/>
            <a:ext cx="2140200" cy="2043360"/>
          </a:xfrm>
          <a:prstGeom prst="rect">
            <a:avLst/>
          </a:prstGeom>
          <a:ln w="0">
            <a:noFill/>
          </a:ln>
        </p:spPr>
      </p:pic>
      <p:sp>
        <p:nvSpPr>
          <p:cNvPr id="704" name="Rectangle 8"/>
          <p:cNvSpPr/>
          <p:nvPr/>
        </p:nvSpPr>
        <p:spPr>
          <a:xfrm>
            <a:off x="4284720" y="1124640"/>
            <a:ext cx="122400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0" spc="-1" strike="noStrike">
                <a:solidFill>
                  <a:srgbClr val="000000"/>
                </a:solidFill>
                <a:latin typeface="Arial"/>
              </a:rPr>
              <a:t>,, </a:t>
            </a:r>
            <a:endParaRPr b="0" lang="en-US" sz="1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05" name="Picture 9" descr=""/>
          <p:cNvPicPr/>
          <p:nvPr/>
        </p:nvPicPr>
        <p:blipFill>
          <a:blip r:embed="rId2"/>
          <a:stretch/>
        </p:blipFill>
        <p:spPr>
          <a:xfrm>
            <a:off x="4511520" y="3284640"/>
            <a:ext cx="4632480" cy="3371760"/>
          </a:xfrm>
          <a:prstGeom prst="rect">
            <a:avLst/>
          </a:prstGeom>
          <a:ln w="0">
            <a:noFill/>
          </a:ln>
        </p:spPr>
      </p:pic>
      <p:sp>
        <p:nvSpPr>
          <p:cNvPr id="706" name="Rectangle 10"/>
          <p:cNvSpPr/>
          <p:nvPr/>
        </p:nvSpPr>
        <p:spPr>
          <a:xfrm>
            <a:off x="8501040" y="1413000"/>
            <a:ext cx="67788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4" dur="2000"/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" dur="20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" dur="20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9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Rectangle 2"/>
          <p:cNvSpPr/>
          <p:nvPr/>
        </p:nvSpPr>
        <p:spPr>
          <a:xfrm>
            <a:off x="762120" y="1600200"/>
            <a:ext cx="8001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761760" y="404280"/>
            <a:ext cx="7924680" cy="94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Кроссворд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709" name=""/>
          <p:cNvGraphicFramePr/>
          <p:nvPr/>
        </p:nvGraphicFramePr>
        <p:xfrm>
          <a:off x="838080" y="1752480"/>
          <a:ext cx="7693200" cy="4754520"/>
        </p:xfrm>
        <a:graphic>
          <a:graphicData uri="http://schemas.openxmlformats.org/drawingml/2006/table">
            <a:tbl>
              <a:tblPr/>
              <a:tblGrid>
                <a:gridCol w="1043280"/>
                <a:gridCol w="1109520"/>
                <a:gridCol w="1109520"/>
                <a:gridCol w="1219320"/>
                <a:gridCol w="1058760"/>
                <a:gridCol w="1059120"/>
                <a:gridCol w="109368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4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5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Rectangle 2"/>
          <p:cNvSpPr/>
          <p:nvPr/>
        </p:nvSpPr>
        <p:spPr>
          <a:xfrm>
            <a:off x="762120" y="1600200"/>
            <a:ext cx="8001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761760" y="404280"/>
            <a:ext cx="7924680" cy="94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Кроссворд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712" name=""/>
          <p:cNvGraphicFramePr/>
          <p:nvPr/>
        </p:nvGraphicFramePr>
        <p:xfrm>
          <a:off x="838080" y="1752480"/>
          <a:ext cx="7693200" cy="4754520"/>
        </p:xfrm>
        <a:graphic>
          <a:graphicData uri="http://schemas.openxmlformats.org/drawingml/2006/table">
            <a:tbl>
              <a:tblPr/>
              <a:tblGrid>
                <a:gridCol w="1043280"/>
                <a:gridCol w="1109520"/>
                <a:gridCol w="1109520"/>
                <a:gridCol w="1219320"/>
                <a:gridCol w="1058760"/>
                <a:gridCol w="1059120"/>
                <a:gridCol w="109368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 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2"/>
          <p:cNvSpPr/>
          <p:nvPr/>
        </p:nvSpPr>
        <p:spPr>
          <a:xfrm>
            <a:off x="762120" y="1600200"/>
            <a:ext cx="8001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761760" y="404280"/>
            <a:ext cx="7924680" cy="94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Кроссворд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715" name=""/>
          <p:cNvGraphicFramePr/>
          <p:nvPr/>
        </p:nvGraphicFramePr>
        <p:xfrm>
          <a:off x="838080" y="1752480"/>
          <a:ext cx="7693200" cy="4754520"/>
        </p:xfrm>
        <a:graphic>
          <a:graphicData uri="http://schemas.openxmlformats.org/drawingml/2006/table">
            <a:tbl>
              <a:tblPr/>
              <a:tblGrid>
                <a:gridCol w="1043280"/>
                <a:gridCol w="1109520"/>
                <a:gridCol w="1109520"/>
                <a:gridCol w="1219320"/>
                <a:gridCol w="1058760"/>
                <a:gridCol w="1059120"/>
                <a:gridCol w="109368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 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 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2"/>
          <p:cNvSpPr/>
          <p:nvPr/>
        </p:nvSpPr>
        <p:spPr>
          <a:xfrm>
            <a:off x="762120" y="1600200"/>
            <a:ext cx="8001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761760" y="404280"/>
            <a:ext cx="7924680" cy="94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Кроссворд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718" name=""/>
          <p:cNvGraphicFramePr/>
          <p:nvPr/>
        </p:nvGraphicFramePr>
        <p:xfrm>
          <a:off x="838080" y="1752480"/>
          <a:ext cx="7693200" cy="4754520"/>
        </p:xfrm>
        <a:graphic>
          <a:graphicData uri="http://schemas.openxmlformats.org/drawingml/2006/table">
            <a:tbl>
              <a:tblPr/>
              <a:tblGrid>
                <a:gridCol w="1043280"/>
                <a:gridCol w="1109520"/>
                <a:gridCol w="1109520"/>
                <a:gridCol w="1219320"/>
                <a:gridCol w="1058760"/>
                <a:gridCol w="1059120"/>
                <a:gridCol w="109368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 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 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 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2"/>
          <p:cNvSpPr/>
          <p:nvPr/>
        </p:nvSpPr>
        <p:spPr>
          <a:xfrm>
            <a:off x="762120" y="1600200"/>
            <a:ext cx="8001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761760" y="404280"/>
            <a:ext cx="7924680" cy="94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Кроссворд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721" name=""/>
          <p:cNvGraphicFramePr/>
          <p:nvPr/>
        </p:nvGraphicFramePr>
        <p:xfrm>
          <a:off x="838080" y="1752480"/>
          <a:ext cx="7693200" cy="4754520"/>
        </p:xfrm>
        <a:graphic>
          <a:graphicData uri="http://schemas.openxmlformats.org/drawingml/2006/table">
            <a:tbl>
              <a:tblPr/>
              <a:tblGrid>
                <a:gridCol w="1043280"/>
                <a:gridCol w="1109520"/>
                <a:gridCol w="1109520"/>
                <a:gridCol w="1219320"/>
                <a:gridCol w="1058760"/>
                <a:gridCol w="1059120"/>
                <a:gridCol w="109368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 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 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4 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 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5T15:03:42Z</dcterms:created>
  <dc:creator>student</dc:creator>
  <dc:description/>
  <dc:language>en-US</dc:language>
  <cp:lastModifiedBy>Валентина</cp:lastModifiedBy>
  <dcterms:modified xsi:type="dcterms:W3CDTF">2015-02-05T13:29:42Z</dcterms:modified>
  <cp:revision>66</cp:revision>
  <dc:subject/>
  <dc:title>Применение производной к исследованию функции</dc:title>
</cp:coreProperties>
</file>