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1.png" ContentType="image/png"/>
  <Override PartName="/ppt/media/image9.png" ContentType="image/png"/>
  <Override PartName="/ppt/media/image6.gif" ContentType="image/gif"/>
  <Override PartName="/ppt/media/image8.gif" ContentType="image/gif"/>
  <Override PartName="/ppt/media/image7.gif" ContentType="image/gif"/>
  <Override PartName="/ppt/media/image10.png" ContentType="image/png"/>
  <Override PartName="/ppt/media/image5.png" ContentType="image/png"/>
  <Override PartName="/ppt/media/image4.png" ContentType="image/png"/>
  <Override PartName="/ppt/media/image24.gif" ContentType="image/gif"/>
  <Override PartName="/ppt/media/image3.png" ContentType="image/png"/>
  <Override PartName="/ppt/media/image25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gif" ContentType="image/gif"/>
  <Override PartName="/ppt/media/image23.png" ContentType="image/png"/>
  <Override PartName="/ppt/media/image20.gif" ContentType="image/gif"/>
  <Override PartName="/ppt/media/image22.png" ContentType="image/png"/>
  <Override PartName="/ppt/media/image17.gif" ContentType="image/gif"/>
  <Override PartName="/ppt/media/image2.jpeg" ContentType="image/jpeg"/>
  <Override PartName="/ppt/media/image16.png" ContentType="image/png"/>
  <Override PartName="/ppt/media/image15.png" ContentType="image/png"/>
  <Override PartName="/ppt/media/image1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8CC-7D4F-46B2-8565-0CAEC93F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5691-8394-4874-A707-0C949FC3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7A799-E3A4-4DAB-963A-C2E3F01A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A100F-2DEE-4FF5-AE36-43BEC980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1A135-5601-455E-9E4C-5CA9E757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1D0C7-14CC-47B2-AFF4-36747A9F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48646-48B7-4CC8-B410-B8FD19C3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F8108-D88B-472D-9F1B-304DF325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2894B-A31E-402A-9B53-A3C48503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90891-2BA8-4D6E-9853-C167F9E5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C45A4-C4D2-43AF-AA59-13690544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B4FED-72F8-41CB-BA64-60119897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D7B7-082B-446D-9B1B-BDD78888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65BC8-5FE8-4A92-AB97-662F6111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28B88-7B9B-456F-BED1-FAAF0BE9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C6C60-7686-4B23-B377-1681A0D6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F51F1-F42F-4597-B2D4-26282AF7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1935B-35DA-46D3-973E-7CC16967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64C5B-259B-4834-9827-86873F94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E47C7-1A2C-4A6E-BE95-D7C01C3A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1C8B7-5929-427A-9AEA-993A887A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0698C-2B8D-4628-81AC-736D4F2D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E75C9-BE61-4B23-B9CA-FFAF2FAE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AF61-7716-4470-A5B3-70E26DF9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5F0A5-0531-4016-8B5C-489929A6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A7FB0-62C8-4D8D-A539-1F0B14A5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E4643-9C81-4EC5-B29A-353D3F85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FF067-9AE1-4B5F-AAFC-B1DA3C64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057F9-74AF-4FE6-ACB3-94CCEAB8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9F477-7B81-43B4-8A74-47E9701B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53FF8-F035-48DA-BF2C-78BA36D0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0699F-ECB0-4FAD-9F7B-6DB6FAB6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FF1DD-A09C-4DCD-84E0-490E729B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396D7-45DE-4CA7-80AE-92EBB27A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4736-2611-4310-B7DB-266EE691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EF5F1-5747-4ED1-9C1D-EEB03F34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8CD29-765F-4083-B3FD-6F87B8C7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F4F2D-507F-4B71-88BE-4D48852C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7A1D7-BC9D-4AA1-9ED6-66550C3A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B0062-36AE-4427-9DBD-8F5E1C4D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BDBE1-CCFC-4328-A320-B73BE7CB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B3FFB-3085-4748-AFA4-B3503F85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CBA85-254C-4670-A34A-6C41AD41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39D90-6501-483B-8E63-9957BE19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5B20E-8A5C-4418-BD49-0331184E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91B4-66D6-427B-B9EE-BDC22AC6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64107-2F41-4F1E-9CFE-67A89F93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02A3C-A114-4222-84D0-C64EC7C1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8C027-395C-46D4-A68F-DC3E9903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D91E0-EB1D-4AC0-83AB-622648AD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4467B-B0B2-4421-A976-3D6862E3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3A70-063B-4AF1-B8BE-77F40366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F571-036A-4BE8-A280-912CF8DE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B504-9C56-4E9A-824E-1EE7271F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F8E2-64FC-463E-BE06-D52EC4F4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E4E4-0732-4BC0-91CE-0F913A5C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850-2BC5-42D4-99DF-FF1DB777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9C88-9CB2-40AA-8389-5BDC5E06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8452-91C9-42FA-8E29-2DD89193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8FD7-3DA7-4E46-9C53-40DF307D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5D75-A25F-4ADE-8A48-25CB030F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9DB4-86DF-4F0B-8FBB-B5316832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25A2F-B2CE-409B-BD1B-F9A62DA1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55A40-D25D-4231-B0D3-4D90076C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F5E0A-B58F-40AB-A750-2FE6CF88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B304F-5BFD-408A-A23D-5B73630C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6AFDC-D868-44CF-8B30-7EE5C347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53E1-53D1-4A91-9071-099B31C0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69D45-8FF3-44AE-81BA-8859E191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5AC59-1161-4F23-85B6-1446FB56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37054-34AB-4874-9D92-19F23B49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6A218-D2F7-47CB-AB90-1427E0AD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E6705-472C-4E93-8EC1-391712D1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B4718-E48D-433E-9757-48BE5292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8F2CD-0EC6-421F-A822-4D223883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3F60C7-E8A1-47CF-8FE8-BE685E19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815F73-E1DE-4F28-B730-1101AFC6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5C12AA-7B20-446C-B00F-1EC24652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8A80-A9B9-4143-A7A0-1548512F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3A5DF7-ED85-4E5B-BE46-1DFBFED5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764E0C-4D76-4D5C-81A2-011250F7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7588C9-65A0-4025-AB47-B681FD52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F53454-F293-42F2-9454-3FF15C02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B1B97E-D8D5-48F8-8E56-6C258A3F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C892A1-D63D-4DFB-ACC7-53FBC89E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0FAA55-9CE4-4869-92CD-53132CF5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2F5497-42D4-423E-B10F-E01F17C8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FA73FC-86F8-42CA-8BF0-23EAF2BD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F7435-1DED-48EE-9B3C-45C33272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A6A-5BAA-4B61-9BA3-C256C7B8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351E5-6DFC-40F1-B335-F538388F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35D69-F7BD-40FA-A204-389A584E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CF443-95A3-406F-B25D-D6E1DF4B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C26CC-49A6-4D5D-911C-B61F038D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25269-B0FC-4507-9DCF-CB214F7C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8B898-B82A-4400-B36F-06313B3B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2491F-3BD8-406A-84C3-289E371C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02DD3-A3D1-4D17-B680-F3CA4597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E0901-6D3E-4B64-A864-8D5F94BD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90E8B-0848-473C-9C87-D2DDB788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6149-518F-44AD-ACF7-16BB42A3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D79CD-4644-411A-8470-245BA9FA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EC1C1-A0A9-4B82-8D17-2644EB1D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8813D-ADAB-4734-9D3A-828B65DA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07FEB-B9FB-47D1-B96D-B1CD4762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7229C-84AC-4F6F-B2BC-D92021C0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6842A-38DA-4BCB-868D-D39666C7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69469-5C82-4F2A-9A60-850D7904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168B4-2D10-4A93-822F-92155A19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2F64B-50D4-4996-85D0-07FDCDE4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EF321-22BD-45CD-9586-955D2711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4EA7-B7A0-4E00-B8C6-36EC65E4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FF504-362A-4AAA-9550-BFDBA30D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E5735-93B5-4CF0-A8FF-B593680E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244BA-0C6C-4475-B438-17CFAA7C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B0651-BCF1-4DA3-88D1-A5EB7CBF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CAAC9-8958-4D02-B488-F90C8948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9B26F-4ED1-49A2-97F2-11DE899B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26AA1-9797-4AB8-977A-D3969049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7D11B-DD17-458C-AF07-793D6EAE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6B86B-D35C-4AF9-AF67-4589B98E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09C88-94A2-41C8-84CE-FCD774DC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DA5D-B2C1-44FB-AB19-5AC6568E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322DC-322D-42C0-B599-D3E55208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259B5-75DB-4C9A-9C4B-3403103D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031D2-8856-4323-B963-5F5A5F76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3FC5A-EC25-41C1-8FC0-53801153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8E68A-78C5-4363-B9BC-16D29807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27BCE-FB0A-448A-A075-A4D1C6F2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9B908-C89F-46CA-AB5A-07D717F1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6305E-8A23-4A32-9D91-7883C55F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5BA0B-F720-4BEC-BD82-CACF6A87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037E6-2C5D-4045-90DD-72E5E1AF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287A-D8E6-4A8B-986F-CB887344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83B31-F3CB-441C-91C9-25B93C64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36F16-3D16-423C-80B8-703A209E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F1CEB-58A4-435E-B372-6D1B9D33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385C4-5000-4D54-BB54-D223C7D0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B4537-A887-44D5-8681-361B9406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883D6-5292-4CF6-9BB7-AB2F3BEA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D38C8-D358-42D5-8E21-97E2838A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4187E-2918-4903-95E9-019E976E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7BAC3-A3DD-4525-8ADD-6A14A08F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B2B84-0982-486C-96F4-9EE1700B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D2DC-73C1-4FE1-889A-6427C0EC5BA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473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474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5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6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8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9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0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1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7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488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9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492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4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5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496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7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8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9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500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1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03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504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5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6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7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2093-EE73-4EE2-BC8B-235F3B30EE7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5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2473-8745-425D-AC4C-27E1E3B461D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1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2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7ED6-FA03-4834-AEC3-5C6F8B0AABD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B76E-083A-4A5D-9A13-AE7596757A1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9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91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4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5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6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1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2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5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6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10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3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4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7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0167-984F-49CA-A3F2-B71CCD86C1F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347B-239E-49D6-9D46-C909B2976D9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F69E-48D6-4943-94D5-2ED4AB64BD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2DB3-7012-4BBF-86FE-92D50C6BBB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06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18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19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0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1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2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3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5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6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7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8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9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0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2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3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4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5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6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7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8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9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0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2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3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A496-317D-441E-914D-EFDB79A1F45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C286-ED28-4453-B4B7-343B1584910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28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0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CB63-2123-40A3-B1C4-8A0FABA9B54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езентация к уроку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36699"/>
                </a:solidFill>
                <a:latin typeface="Verdana"/>
              </a:rPr>
              <a:t>Алгоритм   исследования </a:t>
            </a:r>
            <a:br>
              <a:rPr sz="3500"/>
            </a:br>
            <a:r>
              <a:rPr b="1" i="1" lang="ru-RU" sz="3500" spc="-1" strike="noStrike">
                <a:solidFill>
                  <a:srgbClr val="336699"/>
                </a:solidFill>
                <a:latin typeface="Verdana"/>
              </a:rPr>
              <a:t>функции с помощью производной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36699"/>
                </a:solidFill>
                <a:latin typeface="Verdana"/>
              </a:rPr>
              <a:t>Преподаватель: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36699"/>
                </a:solidFill>
                <a:latin typeface="Verdana"/>
              </a:rPr>
              <a:t>                          </a:t>
            </a:r>
            <a:r>
              <a:rPr b="1" i="1" lang="ru-RU" sz="3500" spc="-1" strike="noStrike">
                <a:solidFill>
                  <a:srgbClr val="336699"/>
                </a:solidFill>
                <a:latin typeface="Verdana"/>
              </a:rPr>
              <a:t>Макарова В.В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36699"/>
                </a:solidFill>
                <a:latin typeface="Verdana"/>
              </a:rPr>
              <a:t>ГУ «Профессиональный лицей №8» г.Семей  2010г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2"/>
          <p:cNvSpPr/>
          <p:nvPr/>
        </p:nvSpPr>
        <p:spPr>
          <a:xfrm>
            <a:off x="762120" y="160020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79246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оссвор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838080" y="1752480"/>
          <a:ext cx="7693200" cy="4754520"/>
        </p:xfrm>
        <a:graphic>
          <a:graphicData uri="http://schemas.openxmlformats.org/drawingml/2006/table">
            <a:tbl>
              <a:tblPr/>
              <a:tblGrid>
                <a:gridCol w="1043280"/>
                <a:gridCol w="1109520"/>
                <a:gridCol w="1109520"/>
                <a:gridCol w="1219320"/>
                <a:gridCol w="1058760"/>
                <a:gridCol w="1059120"/>
                <a:gridCol w="1093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  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762120" y="160020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79246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оссвор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838080" y="1752480"/>
          <a:ext cx="7693200" cy="4754520"/>
        </p:xfrm>
        <a:graphic>
          <a:graphicData uri="http://schemas.openxmlformats.org/drawingml/2006/table">
            <a:tbl>
              <a:tblPr/>
              <a:tblGrid>
                <a:gridCol w="1043280"/>
                <a:gridCol w="1109520"/>
                <a:gridCol w="1109520"/>
                <a:gridCol w="1219320"/>
                <a:gridCol w="1058760"/>
                <a:gridCol w="1059120"/>
                <a:gridCol w="1093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 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  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2"/>
          <p:cNvSpPr/>
          <p:nvPr/>
        </p:nvSpPr>
        <p:spPr>
          <a:xfrm>
            <a:off x="762120" y="160020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79246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оссвор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838080" y="1752480"/>
          <a:ext cx="7693200" cy="4754520"/>
        </p:xfrm>
        <a:graphic>
          <a:graphicData uri="http://schemas.openxmlformats.org/drawingml/2006/table">
            <a:tbl>
              <a:tblPr/>
              <a:tblGrid>
                <a:gridCol w="1043280"/>
                <a:gridCol w="1109520"/>
                <a:gridCol w="1109520"/>
                <a:gridCol w="1219320"/>
                <a:gridCol w="1058760"/>
                <a:gridCol w="1059120"/>
                <a:gridCol w="1093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 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  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762120" y="160020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79246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оссвор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838080" y="1752480"/>
          <a:ext cx="7693200" cy="4754520"/>
        </p:xfrm>
        <a:graphic>
          <a:graphicData uri="http://schemas.openxmlformats.org/drawingml/2006/table">
            <a:tbl>
              <a:tblPr/>
              <a:tblGrid>
                <a:gridCol w="1043280"/>
                <a:gridCol w="1109520"/>
                <a:gridCol w="1109520"/>
                <a:gridCol w="1219320"/>
                <a:gridCol w="1058760"/>
                <a:gridCol w="1059120"/>
                <a:gridCol w="1093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 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  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                             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Лагранж</a:t>
            </a:r>
            <a:r>
              <a:rPr b="0" lang="ru-RU" sz="3100" spc="-1" strike="noStrike">
                <a:solidFill>
                  <a:srgbClr val="006666"/>
                </a:solidFill>
                <a:latin typeface="Verdana"/>
              </a:rPr>
              <a:t>                                </a:t>
            </a:r>
            <a:br>
              <a:rPr sz="2500"/>
            </a:br>
            <a:r>
              <a:rPr b="0" lang="ru-RU" sz="31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1736-1813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В 19 лет он стал профессором в Артиллерийской школе Турина. Именно Лагранж в 1791 г. ввёл термин «производная», ему же мы обязаны и современным обозначением производной (с помощью штриха). Термин «вторая производная» и обозначение(два штриха) также ввёл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Лангранж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7" name="Picture 5" descr="00042801"/>
          <p:cNvPicPr/>
          <p:nvPr/>
        </p:nvPicPr>
        <p:blipFill>
          <a:blip r:embed="rId1"/>
          <a:stretch/>
        </p:blipFill>
        <p:spPr>
          <a:xfrm>
            <a:off x="0" y="189000"/>
            <a:ext cx="4932360" cy="5759280"/>
          </a:xfrm>
          <a:prstGeom prst="rect">
            <a:avLst/>
          </a:prstGeom>
          <a:ln w="0">
            <a:noFill/>
          </a:ln>
        </p:spPr>
      </p:pic>
      <p:sp>
        <p:nvSpPr>
          <p:cNvPr id="738" name="Rectangle 6"/>
          <p:cNvSpPr/>
          <p:nvPr/>
        </p:nvSpPr>
        <p:spPr>
          <a:xfrm>
            <a:off x="322200" y="6021360"/>
            <a:ext cx="526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(Joseph-Louis Largauge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Verdana"/>
              </a:rPr>
              <a:t>Основными  объектами, изучаемыми в математическом анализе являются  функция, ее производная, графики.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Как проходит график между двумя точками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1" name="Picture 4" descr=""/>
          <p:cNvPicPr/>
          <p:nvPr/>
        </p:nvPicPr>
        <p:blipFill>
          <a:blip r:embed="rId1"/>
          <a:srcRect l="0" t="0" r="72192" b="0"/>
          <a:stretch/>
        </p:blipFill>
        <p:spPr>
          <a:xfrm>
            <a:off x="684360" y="1700280"/>
            <a:ext cx="2303280" cy="25718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5" descr=""/>
          <p:cNvPicPr/>
          <p:nvPr/>
        </p:nvPicPr>
        <p:blipFill>
          <a:blip r:embed="rId2"/>
          <a:srcRect l="32163" t="0" r="32186" b="0"/>
          <a:stretch/>
        </p:blipFill>
        <p:spPr>
          <a:xfrm>
            <a:off x="3203640" y="2637000"/>
            <a:ext cx="2952720" cy="257148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6" descr=""/>
          <p:cNvPicPr/>
          <p:nvPr/>
        </p:nvPicPr>
        <p:blipFill>
          <a:blip r:embed="rId3"/>
          <a:srcRect l="69547" t="0" r="0" b="0"/>
          <a:stretch/>
        </p:blipFill>
        <p:spPr>
          <a:xfrm>
            <a:off x="6372360" y="3789360"/>
            <a:ext cx="25225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"/>
          <p:cNvPicPr/>
          <p:nvPr/>
        </p:nvPicPr>
        <p:blipFill>
          <a:blip r:embed="rId1"/>
          <a:srcRect l="28361" t="22153" r="49195" b="49806"/>
          <a:stretch/>
        </p:blipFill>
        <p:spPr>
          <a:xfrm>
            <a:off x="5651640" y="3573360"/>
            <a:ext cx="3132000" cy="31305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2560" y="333360"/>
            <a:ext cx="846144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700" spc="-1" strike="noStrike">
                <a:solidFill>
                  <a:srgbClr val="666699"/>
                </a:solidFill>
                <a:latin typeface="Arial"/>
              </a:rPr>
              <a:t>                    </a:t>
            </a:r>
            <a:r>
              <a:rPr b="1" i="1" lang="ru-RU" sz="5700" spc="-1" strike="noStrike">
                <a:solidFill>
                  <a:srgbClr val="666699"/>
                </a:solidFill>
                <a:latin typeface="Arial"/>
              </a:rPr>
              <a:t>Алгоритм </a:t>
            </a:r>
            <a:br>
              <a:rPr sz="5700"/>
            </a:br>
            <a:r>
              <a:rPr b="1" i="1" lang="ru-RU" sz="5700" spc="-1" strike="noStrike">
                <a:solidFill>
                  <a:srgbClr val="666699"/>
                </a:solidFill>
                <a:latin typeface="Arial"/>
              </a:rPr>
              <a:t>               исследования </a:t>
            </a: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r>
              <a:rPr b="1" i="1" lang="ru-RU" sz="5700" spc="-1" strike="noStrike">
                <a:solidFill>
                  <a:srgbClr val="666699"/>
                </a:solidFill>
                <a:latin typeface="Arial"/>
              </a:rPr>
              <a:t>функции с помощью производной 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4" descr="p1_4-2"/>
          <p:cNvPicPr/>
          <p:nvPr/>
        </p:nvPicPr>
        <p:blipFill>
          <a:blip r:embed="rId2"/>
          <a:stretch/>
        </p:blipFill>
        <p:spPr>
          <a:xfrm>
            <a:off x="468360" y="333360"/>
            <a:ext cx="3600360" cy="2820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ana7e"/>
          <p:cNvPicPr/>
          <p:nvPr/>
        </p:nvPicPr>
        <p:blipFill>
          <a:blip r:embed="rId1"/>
          <a:srcRect l="0" t="0" r="0" b="11933"/>
          <a:stretch/>
        </p:blipFill>
        <p:spPr>
          <a:xfrm>
            <a:off x="5343480" y="2349360"/>
            <a:ext cx="3800520" cy="3024360"/>
          </a:xfrm>
          <a:prstGeom prst="rect">
            <a:avLst/>
          </a:prstGeom>
          <a:ln w="0">
            <a:noFill/>
          </a:ln>
        </p:spPr>
      </p:pic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78520" cy="12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336699"/>
                </a:solidFill>
                <a:latin typeface="Tahoma"/>
              </a:rPr>
              <a:t>Цель урока: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58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5ffff"/>
                </a:solidFill>
                <a:latin typeface="Times New Roman"/>
              </a:rPr>
              <a:t>Овладеть умением исследовать функции с помощью производной по заданному алгоритм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10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66"/>
                </a:solidFill>
                <a:latin typeface="Verdana"/>
              </a:rPr>
              <a:t>Диктан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Object 3"/>
              <p:cNvSpPr txBox="1"/>
              <p:nvPr/>
            </p:nvSpPr>
            <p:spPr>
              <a:xfrm>
                <a:off x="755640" y="4005360"/>
                <a:ext cx="174780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Object 4"/>
              <p:cNvSpPr txBox="1"/>
              <p:nvPr/>
            </p:nvSpPr>
            <p:spPr>
              <a:xfrm>
                <a:off x="5057640" y="5159520"/>
                <a:ext cx="27543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Object 5"/>
              <p:cNvSpPr txBox="1"/>
              <p:nvPr/>
            </p:nvSpPr>
            <p:spPr>
              <a:xfrm>
                <a:off x="977760" y="1798560"/>
                <a:ext cx="15066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С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Object 6"/>
              <p:cNvSpPr txBox="1"/>
              <p:nvPr/>
            </p:nvSpPr>
            <p:spPr>
              <a:xfrm>
                <a:off x="5303880" y="1916280"/>
                <a:ext cx="20048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Object 7"/>
              <p:cNvSpPr txBox="1"/>
              <p:nvPr/>
            </p:nvSpPr>
            <p:spPr>
              <a:xfrm>
                <a:off x="5502240" y="2867040"/>
                <a:ext cx="11527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х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Object 8"/>
              <p:cNvSpPr txBox="1"/>
              <p:nvPr/>
            </p:nvSpPr>
            <p:spPr>
              <a:xfrm>
                <a:off x="5435640" y="4221000"/>
                <a:ext cx="16574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х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Object 9"/>
              <p:cNvSpPr txBox="1"/>
              <p:nvPr/>
            </p:nvSpPr>
            <p:spPr>
              <a:xfrm>
                <a:off x="900000" y="2852640"/>
                <a:ext cx="160200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Object 10"/>
              <p:cNvSpPr txBox="1"/>
              <p:nvPr/>
            </p:nvSpPr>
            <p:spPr>
              <a:xfrm>
                <a:off x="385920" y="5180040"/>
                <a:ext cx="246852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4" name="Picture 4" descr="1fcb3c7df050"/>
          <p:cNvPicPr/>
          <p:nvPr/>
        </p:nvPicPr>
        <p:blipFill>
          <a:blip r:embed="rId1"/>
          <a:stretch/>
        </p:blipFill>
        <p:spPr>
          <a:xfrm>
            <a:off x="971640" y="907920"/>
            <a:ext cx="3887640" cy="37465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5" descr="8b8aabc094e4"/>
          <p:cNvPicPr/>
          <p:nvPr/>
        </p:nvPicPr>
        <p:blipFill>
          <a:blip r:embed="rId2"/>
          <a:stretch/>
        </p:blipFill>
        <p:spPr>
          <a:xfrm>
            <a:off x="4427640" y="4724280"/>
            <a:ext cx="3240000" cy="959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00"/>
                </a:solidFill>
                <a:latin typeface="Verdana"/>
              </a:rPr>
              <a:t>Ответы на диктант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Object 3"/>
              <p:cNvSpPr txBox="1"/>
              <p:nvPr/>
            </p:nvSpPr>
            <p:spPr>
              <a:xfrm>
                <a:off x="539640" y="4005360"/>
                <a:ext cx="25034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Object 4"/>
              <p:cNvSpPr txBox="1"/>
              <p:nvPr/>
            </p:nvSpPr>
            <p:spPr>
              <a:xfrm>
                <a:off x="4067280" y="5214960"/>
                <a:ext cx="50767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5"/>
              <p:cNvSpPr txBox="1"/>
              <p:nvPr/>
            </p:nvSpPr>
            <p:spPr>
              <a:xfrm>
                <a:off x="777960" y="2049480"/>
                <a:ext cx="17780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С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Object 6"/>
              <p:cNvSpPr txBox="1"/>
              <p:nvPr/>
            </p:nvSpPr>
            <p:spPr>
              <a:xfrm>
                <a:off x="4500720" y="1916280"/>
                <a:ext cx="38163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Object 7"/>
              <p:cNvSpPr txBox="1"/>
              <p:nvPr/>
            </p:nvSpPr>
            <p:spPr>
              <a:xfrm>
                <a:off x="4716360" y="2924280"/>
                <a:ext cx="216216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х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Object 8"/>
              <p:cNvSpPr txBox="1"/>
              <p:nvPr/>
            </p:nvSpPr>
            <p:spPr>
              <a:xfrm>
                <a:off x="4932360" y="4076640"/>
                <a:ext cx="26640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х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Object 9"/>
              <p:cNvSpPr txBox="1"/>
              <p:nvPr/>
            </p:nvSpPr>
            <p:spPr>
              <a:xfrm>
                <a:off x="611280" y="2924280"/>
                <a:ext cx="17287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Object 10"/>
              <p:cNvSpPr txBox="1"/>
              <p:nvPr/>
            </p:nvSpPr>
            <p:spPr>
              <a:xfrm>
                <a:off x="203040" y="5037120"/>
                <a:ext cx="35769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умай и отве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8675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Сформулировать достаточные условия возрастания(убывания)</a:t>
            </a:r>
            <a:r>
              <a:rPr b="0" i="1" lang="ru-RU" sz="5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 функци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умай и отве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99"/>
                </a:solidFill>
                <a:latin typeface="Times New Roman"/>
              </a:rPr>
              <a:t>Какие точки называются критическими 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умай и отве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66"/>
                </a:solidFill>
                <a:latin typeface="Times New Roman"/>
              </a:rPr>
              <a:t>Сформулировать достаточный и необходимый признаки существования   максимума(минимума) функ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  </a:t>
            </a: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«Спорьте, заблуждайтесь,                            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  ошибайтесь, но, ради Бога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 размышляйте, и, хотя криво 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 – да сами , ». 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               </a:t>
            </a: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Г. Лессинг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6" name="Picture 3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9598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4" descr="parus"/>
          <p:cNvPicPr/>
          <p:nvPr/>
        </p:nvPicPr>
        <p:blipFill>
          <a:blip r:embed="rId2"/>
          <a:stretch/>
        </p:blipFill>
        <p:spPr>
          <a:xfrm>
            <a:off x="7236000" y="476280"/>
            <a:ext cx="1726920" cy="1727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Line 2"/>
          <p:cNvSpPr/>
          <p:nvPr/>
        </p:nvSpPr>
        <p:spPr>
          <a:xfrm flipV="1">
            <a:off x="4495680" y="1295280"/>
            <a:ext cx="0" cy="5181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Line 3"/>
          <p:cNvSpPr/>
          <p:nvPr/>
        </p:nvSpPr>
        <p:spPr>
          <a:xfrm>
            <a:off x="1116000" y="3429000"/>
            <a:ext cx="6934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4495680" y="12193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Text Box 5"/>
          <p:cNvSpPr/>
          <p:nvPr/>
        </p:nvSpPr>
        <p:spPr>
          <a:xfrm>
            <a:off x="7848720" y="35053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6"/>
          <p:cNvSpPr/>
          <p:nvPr/>
        </p:nvSpPr>
        <p:spPr>
          <a:xfrm>
            <a:off x="5715000" y="33526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Text Box 7"/>
          <p:cNvSpPr/>
          <p:nvPr/>
        </p:nvSpPr>
        <p:spPr>
          <a:xfrm>
            <a:off x="4648320" y="33526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Text Box 8"/>
          <p:cNvSpPr/>
          <p:nvPr/>
        </p:nvSpPr>
        <p:spPr>
          <a:xfrm>
            <a:off x="3276720" y="33526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2666880" y="33526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10"/>
          <p:cNvSpPr/>
          <p:nvPr/>
        </p:nvSpPr>
        <p:spPr>
          <a:xfrm>
            <a:off x="6324480" y="33526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Freeform 11"/>
          <p:cNvSpPr/>
          <p:nvPr/>
        </p:nvSpPr>
        <p:spPr>
          <a:xfrm>
            <a:off x="2700360" y="907920"/>
            <a:ext cx="3759120" cy="5727960"/>
          </a:xfrm>
          <a:custGeom>
            <a:avLst/>
            <a:gdLst/>
            <a:ahLst/>
            <a:rect l="l" t="t" r="r" b="b"/>
            <a:pathLst>
              <a:path w="2368" h="3608">
                <a:moveTo>
                  <a:pt x="0" y="1056"/>
                </a:moveTo>
                <a:cubicBezTo>
                  <a:pt x="76" y="1980"/>
                  <a:pt x="152" y="2904"/>
                  <a:pt x="480" y="2736"/>
                </a:cubicBezTo>
                <a:cubicBezTo>
                  <a:pt x="808" y="2568"/>
                  <a:pt x="1664" y="0"/>
                  <a:pt x="1968" y="48"/>
                </a:cubicBezTo>
                <a:cubicBezTo>
                  <a:pt x="2272" y="96"/>
                  <a:pt x="2240" y="2440"/>
                  <a:pt x="2304" y="3024"/>
                </a:cubicBezTo>
                <a:cubicBezTo>
                  <a:pt x="2368" y="3608"/>
                  <a:pt x="2360" y="3580"/>
                  <a:pt x="2352" y="355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Text Box 12"/>
          <p:cNvSpPr/>
          <p:nvPr/>
        </p:nvSpPr>
        <p:spPr>
          <a:xfrm>
            <a:off x="4284720" y="31417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13"/>
          <p:cNvSpPr/>
          <p:nvPr/>
        </p:nvSpPr>
        <p:spPr>
          <a:xfrm>
            <a:off x="304920" y="152280"/>
            <a:ext cx="883908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дите промежутки монотонности функци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 = f(X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ли изображен график её производно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0" name="Picture 15" descr="0024"/>
          <p:cNvPicPr/>
          <p:nvPr/>
        </p:nvPicPr>
        <p:blipFill>
          <a:blip r:embed="rId1"/>
          <a:stretch/>
        </p:blipFill>
        <p:spPr>
          <a:xfrm>
            <a:off x="7315200" y="838080"/>
            <a:ext cx="137484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Подумай и отве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2" name="Picture 4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550360" cy="351144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6" descr="J0286674"/>
          <p:cNvPicPr/>
          <p:nvPr/>
        </p:nvPicPr>
        <p:blipFill>
          <a:blip r:embed="rId2"/>
          <a:stretch/>
        </p:blipFill>
        <p:spPr>
          <a:xfrm>
            <a:off x="324000" y="4653000"/>
            <a:ext cx="1676160" cy="198108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7"/>
          <p:cNvSpPr/>
          <p:nvPr/>
        </p:nvSpPr>
        <p:spPr>
          <a:xfrm>
            <a:off x="2638800" y="4724280"/>
            <a:ext cx="5731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яя критические точки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ник указ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x = –6; x = –3; x = –1; x = 2; x = 4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в ли он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36604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ff"/>
                </a:solidFill>
                <a:latin typeface="Verdana"/>
              </a:rPr>
              <a:t>Схема исследования функци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5327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айти область определения функци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Определить четность и нечетность, периодичность функци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айти точки пересечения графика функции с осями координа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Определить промежутки знакопостоянства функци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Определить промежутки возрастания, убывания, найти экстремум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а основании исследования построить график функци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48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Схема исследования функции с помощью  её производ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675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 область определения функ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ить четность и нечетность, периодичность функ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 точки пересечения графика функции с осями координ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ить промежутки знакопостоянства функ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cc0000"/>
                </a:solidFill>
                <a:latin typeface="Verdana"/>
              </a:rPr>
              <a:t>«Дорогу осилит идущий, а математику – мыслящий»</a:t>
            </a:r>
            <a:r>
              <a:rPr b="0" lang="ru-RU" sz="5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1553760" y="189000"/>
            <a:ext cx="580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ш сегодняшний урок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йдет под девизо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9" name="Picture 7" descr="2n"/>
          <p:cNvPicPr/>
          <p:nvPr/>
        </p:nvPicPr>
        <p:blipFill>
          <a:blip r:embed="rId1"/>
          <a:stretch/>
        </p:blipFill>
        <p:spPr>
          <a:xfrm>
            <a:off x="6300720" y="2637000"/>
            <a:ext cx="248292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8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Найти производную функц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х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критические точки - решить уравнен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х)=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Найти промежутки возрастания, убывания функции - решить  неравенств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х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х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0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пределить экстремумы функ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На основании исследования построить график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ff"/>
                </a:solidFill>
                <a:latin typeface="Times New Roman"/>
              </a:rPr>
              <a:t>Скажи мне, я забуду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ff"/>
                </a:solidFill>
                <a:latin typeface="Times New Roman"/>
              </a:rPr>
              <a:t>Покажи мне, и, может быть, я буду помнить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ff"/>
                </a:solidFill>
                <a:latin typeface="Times New Roman"/>
              </a:rPr>
              <a:t>Позволь мне сделать это, и это станет моим навсегд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ff"/>
                </a:solidFill>
                <a:latin typeface="Times New Roman"/>
              </a:rPr>
              <a:t>(Китайская пословица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0"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Какой из графиков наиболее точно отражает описанную ситуацию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02" name="Picture 11" descr=""/>
          <p:cNvPicPr/>
          <p:nvPr/>
        </p:nvPicPr>
        <p:blipFill>
          <a:blip r:embed="rId1"/>
          <a:stretch/>
        </p:blipFill>
        <p:spPr>
          <a:xfrm>
            <a:off x="2273400" y="1851120"/>
            <a:ext cx="6114960" cy="4886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2472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0" lang="ru-RU" sz="3000" spc="-1" strike="noStrike">
                <a:solidFill>
                  <a:srgbClr val="000000"/>
                </a:solidFill>
                <a:latin typeface="Arial Black"/>
              </a:rPr>
              <a:t>Опишите динамику производительности труда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 Black"/>
              </a:rPr>
              <a:t>рабочего, пользуясь ее графиком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Rectangle 5"/>
          <p:cNvSpPr/>
          <p:nvPr/>
        </p:nvSpPr>
        <p:spPr>
          <a:xfrm>
            <a:off x="8389800" y="4075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5" name="Picture 6" descr=""/>
          <p:cNvPicPr/>
          <p:nvPr/>
        </p:nvPicPr>
        <p:blipFill>
          <a:blip r:embed="rId1"/>
          <a:stretch/>
        </p:blipFill>
        <p:spPr>
          <a:xfrm>
            <a:off x="468360" y="1822320"/>
            <a:ext cx="8675640" cy="3397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еклам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Verdana"/>
              </a:rPr>
              <a:t>Изучение производных поможет Вам быстро и правильно принимать решения в различных ситуациях, так как Вы уже учитесь думать, преодолевать трудности и рассуждать, а это всё ведет к приобретению мудрости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3" dur="20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«Ситуации в жизни бывают такие: либо сложные, либо простые…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9" name="Picture 4" descr=""/>
          <p:cNvPicPr/>
          <p:nvPr/>
        </p:nvPicPr>
        <p:blipFill>
          <a:blip r:embed="rId1"/>
          <a:stretch/>
        </p:blipFill>
        <p:spPr>
          <a:xfrm>
            <a:off x="0" y="2289240"/>
            <a:ext cx="8964720" cy="313380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5" descr="3"/>
          <p:cNvPicPr/>
          <p:nvPr/>
        </p:nvPicPr>
        <p:blipFill>
          <a:blip r:embed="rId2"/>
          <a:stretch/>
        </p:blipFill>
        <p:spPr>
          <a:xfrm>
            <a:off x="539640" y="494172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318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10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66"/>
                </a:solidFill>
                <a:latin typeface="Verdana"/>
              </a:rPr>
              <a:t>Исследовать функцию и построить гафик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4100" spc="-1" strike="noStrike">
                <a:solidFill>
                  <a:srgbClr val="000066"/>
                </a:solidFill>
                <a:latin typeface="Verdana"/>
              </a:rPr>
              <a:t>f(x)=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100" spc="-1" strike="noStrike">
                <a:solidFill>
                  <a:srgbClr val="000066"/>
                </a:solidFill>
                <a:latin typeface="Verdana"/>
              </a:rPr>
              <a:t>2x²+5x+2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4311360" y="3245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ывод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540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Verdana"/>
              </a:rPr>
              <a:t>Аппарат производной можно использовать при решении геометрических задач, задач из естественных  и гуманитарных наук, экономических задач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400" spc="-1" strike="noStrike">
                <a:solidFill>
                  <a:srgbClr val="003366"/>
                </a:solidFill>
                <a:latin typeface="Verdana"/>
              </a:rPr>
              <a:t>И, конечно, не обойтись без производной при исследовании функции и построении графиков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8" name="Picture 4" descr=""/>
          <p:cNvPicPr/>
          <p:nvPr/>
        </p:nvPicPr>
        <p:blipFill>
          <a:blip r:embed="rId1"/>
          <a:stretch/>
        </p:blipFill>
        <p:spPr>
          <a:xfrm>
            <a:off x="324000" y="-3240"/>
            <a:ext cx="8496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WordArt 4"/>
          <p:cNvSpPr txBox="1"/>
          <p:nvPr/>
        </p:nvSpPr>
        <p:spPr>
          <a:xfrm>
            <a:off x="1187280" y="2349360"/>
            <a:ext cx="684072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11"/>
          <p:cNvSpPr/>
          <p:nvPr/>
        </p:nvSpPr>
        <p:spPr>
          <a:xfrm>
            <a:off x="5869440" y="1181160"/>
            <a:ext cx="2902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0" spc="-1" strike="noStrike">
                <a:solidFill>
                  <a:srgbClr val="6600ff"/>
                </a:solidFill>
                <a:latin typeface="Arial"/>
              </a:rPr>
              <a:t>ная</a:t>
            </a:r>
            <a:endParaRPr b="0" lang="en-US" sz="1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700" spc="-1" strike="noStrike">
                <a:solidFill>
                  <a:srgbClr val="000000"/>
                </a:solidFill>
                <a:latin typeface="Verdana"/>
              </a:rPr>
              <a:t>Отгадай ребус</a:t>
            </a:r>
            <a:endParaRPr b="0" lang="en-US" sz="6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25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9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0" lang="ru-RU" sz="10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3" name="Picture 5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2140200" cy="204336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8"/>
          <p:cNvSpPr/>
          <p:nvPr/>
        </p:nvSpPr>
        <p:spPr>
          <a:xfrm>
            <a:off x="4284720" y="1124640"/>
            <a:ext cx="1224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0" spc="-1" strike="noStrike">
                <a:solidFill>
                  <a:srgbClr val="000000"/>
                </a:solidFill>
                <a:latin typeface="Arial"/>
              </a:rPr>
              <a:t>,, </a:t>
            </a:r>
            <a:endParaRPr b="0" lang="en-US" sz="1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5" name="Picture 9" descr=""/>
          <p:cNvPicPr/>
          <p:nvPr/>
        </p:nvPicPr>
        <p:blipFill>
          <a:blip r:embed="rId2"/>
          <a:stretch/>
        </p:blipFill>
        <p:spPr>
          <a:xfrm>
            <a:off x="4511520" y="3284640"/>
            <a:ext cx="4632480" cy="3371760"/>
          </a:xfrm>
          <a:prstGeom prst="rect">
            <a:avLst/>
          </a:prstGeom>
          <a:ln w="0">
            <a:noFill/>
          </a:ln>
        </p:spPr>
      </p:pic>
      <p:sp>
        <p:nvSpPr>
          <p:cNvPr id="706" name="Rectangle 10"/>
          <p:cNvSpPr/>
          <p:nvPr/>
        </p:nvSpPr>
        <p:spPr>
          <a:xfrm>
            <a:off x="8501040" y="1413000"/>
            <a:ext cx="6778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" dur="20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2"/>
          <p:cNvSpPr/>
          <p:nvPr/>
        </p:nvSpPr>
        <p:spPr>
          <a:xfrm>
            <a:off x="762120" y="160020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79246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оссвор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838080" y="1752480"/>
          <a:ext cx="7693200" cy="4754520"/>
        </p:xfrm>
        <a:graphic>
          <a:graphicData uri="http://schemas.openxmlformats.org/drawingml/2006/table">
            <a:tbl>
              <a:tblPr/>
              <a:tblGrid>
                <a:gridCol w="1043280"/>
                <a:gridCol w="1109520"/>
                <a:gridCol w="1109520"/>
                <a:gridCol w="1219320"/>
                <a:gridCol w="1058760"/>
                <a:gridCol w="1059120"/>
                <a:gridCol w="1093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762120" y="160020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79246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оссвор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838080" y="1752480"/>
          <a:ext cx="7693200" cy="4754520"/>
        </p:xfrm>
        <a:graphic>
          <a:graphicData uri="http://schemas.openxmlformats.org/drawingml/2006/table">
            <a:tbl>
              <a:tblPr/>
              <a:tblGrid>
                <a:gridCol w="1043280"/>
                <a:gridCol w="1109520"/>
                <a:gridCol w="1109520"/>
                <a:gridCol w="1219320"/>
                <a:gridCol w="1058760"/>
                <a:gridCol w="1059120"/>
                <a:gridCol w="1093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762120" y="160020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79246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оссвор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838080" y="1752480"/>
          <a:ext cx="7693200" cy="4754520"/>
        </p:xfrm>
        <a:graphic>
          <a:graphicData uri="http://schemas.openxmlformats.org/drawingml/2006/table">
            <a:tbl>
              <a:tblPr/>
              <a:tblGrid>
                <a:gridCol w="1043280"/>
                <a:gridCol w="1109520"/>
                <a:gridCol w="1109520"/>
                <a:gridCol w="1219320"/>
                <a:gridCol w="1058760"/>
                <a:gridCol w="1059120"/>
                <a:gridCol w="1093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/>
          <p:cNvSpPr/>
          <p:nvPr/>
        </p:nvSpPr>
        <p:spPr>
          <a:xfrm>
            <a:off x="762120" y="160020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79246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оссвор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838080" y="1752480"/>
          <a:ext cx="7693200" cy="4754520"/>
        </p:xfrm>
        <a:graphic>
          <a:graphicData uri="http://schemas.openxmlformats.org/drawingml/2006/table">
            <a:tbl>
              <a:tblPr/>
              <a:tblGrid>
                <a:gridCol w="1043280"/>
                <a:gridCol w="1109520"/>
                <a:gridCol w="1109520"/>
                <a:gridCol w="1219320"/>
                <a:gridCol w="1058760"/>
                <a:gridCol w="1059120"/>
                <a:gridCol w="1093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762120" y="160020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79246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оссвор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838080" y="1752480"/>
          <a:ext cx="7693200" cy="4754520"/>
        </p:xfrm>
        <a:graphic>
          <a:graphicData uri="http://schemas.openxmlformats.org/drawingml/2006/table">
            <a:tbl>
              <a:tblPr/>
              <a:tblGrid>
                <a:gridCol w="1043280"/>
                <a:gridCol w="1109520"/>
                <a:gridCol w="1109520"/>
                <a:gridCol w="1219320"/>
                <a:gridCol w="1058760"/>
                <a:gridCol w="1059120"/>
                <a:gridCol w="1093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5:03:42Z</dcterms:created>
  <dc:creator>student</dc:creator>
  <dc:description/>
  <dc:language>en-US</dc:language>
  <cp:lastModifiedBy>Валентина</cp:lastModifiedBy>
  <dcterms:modified xsi:type="dcterms:W3CDTF">2015-02-05T13:29:42Z</dcterms:modified>
  <cp:revision>66</cp:revision>
  <dc:subject/>
  <dc:title>Применение производной к исследованию функции</dc:title>
</cp:coreProperties>
</file>