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1.png" ContentType="image/png"/>
  <Override PartName="/ppt/media/image9.png" ContentType="image/png"/>
  <Override PartName="/ppt/media/image6.gif" ContentType="image/gif"/>
  <Override PartName="/ppt/media/image8.gif" ContentType="image/gif"/>
  <Override PartName="/ppt/media/image7.gif" ContentType="image/gif"/>
  <Override PartName="/ppt/media/image10.png" ContentType="image/png"/>
  <Override PartName="/ppt/media/image5.png" ContentType="image/png"/>
  <Override PartName="/ppt/media/image4.png" ContentType="image/png"/>
  <Override PartName="/ppt/media/image24.gif" ContentType="image/gif"/>
  <Override PartName="/ppt/media/image3.png" ContentType="image/png"/>
  <Override PartName="/ppt/media/image25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gif" ContentType="image/gif"/>
  <Override PartName="/ppt/media/image23.png" ContentType="image/png"/>
  <Override PartName="/ppt/media/image20.gif" ContentType="image/gif"/>
  <Override PartName="/ppt/media/image22.png" ContentType="image/png"/>
  <Override PartName="/ppt/media/image17.gif" ContentType="image/gif"/>
  <Override PartName="/ppt/media/image2.jpeg" ContentType="image/jpeg"/>
  <Override PartName="/ppt/media/image16.png" ContentType="image/png"/>
  <Override PartName="/ppt/media/image15.png" ContentType="image/png"/>
  <Override PartName="/ppt/media/image1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98AF-188E-4C67-9CBB-84122C07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E07A-BD36-404E-A92E-BE0F8AE0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331CE-BDA6-461E-A33B-D477724D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6A0CC-4591-404B-A9C6-8BFA62E3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F6085-6649-4F5B-B279-C7ABA09B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FB05F-8CEE-4288-9D6D-7410362B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654D4-9817-47C0-861F-3FF54747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B74DE-71D4-4F16-99CE-5FEAD188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A812F-144E-4C34-AD9C-16A1F675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37A79-2565-44F9-8371-13C1397C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5B939-744E-48A9-BC4D-97D2D87A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5A1AE-906A-478A-B459-40F60497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E97A-D333-436E-A00E-3BBCA13CE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17A85-8142-4E91-B8DC-28A52DA0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93AE3-22AB-413C-BBAA-39447957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C2045-F8C5-4C0F-AB78-55E4EE51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4950C-B8D4-4C96-87E3-E591CDF9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9A193-BFD7-434D-9CD9-B1A485AB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D754C-F71F-4947-BBDA-05DE0BC6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7A5C5-4748-433F-8A9C-CAAB34C9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5110E-DC4D-435F-AF42-4C44716B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C0506-834F-4F32-88F0-10843013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6181C-171D-460B-AE09-B07FE540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739B-53FC-4092-AD2E-F652EBE1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33B2C-F688-478A-A39F-9C757071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9C57E-DE04-4B7F-982A-B47F99D3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A9348-D6ED-4F2C-BDDE-DBAA4783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80191-73B3-4855-B5BF-8D49CD37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67741-8186-4985-B10F-9A893A6D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F4C82-1B41-47CB-A329-293D7F0F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94BAE-4546-40D1-A490-CD5DF840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108C6-E832-4865-BC85-D929470F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5050B-23B3-4D89-9AF5-405D87B1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0D48E-68AC-48BD-9174-921EF1CE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9015-5F16-463C-8A4B-0A53CD6B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7F468-FE03-4895-81DA-EF376D84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83B85-F532-4DA0-8E5C-CFD7B595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9C594-BF2B-4E51-8279-2ADEC015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4A553-8EE5-438D-9013-431EEEC4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BC886-4647-4740-BE12-4F8BCCC9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73B3E-AC81-4202-87E7-56DD01D5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F7353-360D-413E-AAD9-D525A0DC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FE004-98E3-4CF3-BF27-BBFC8A81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FF88B-DAAC-49CF-8476-80A3AA18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877C8-6269-41E6-873A-74B48CBD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43EF-81A7-47DE-AA66-129439A8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D35FA-116E-4AE8-8937-B049C0C6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BD85F-B1A6-4232-AB4F-60BFFB4B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E5333-6498-4B78-AC4D-77257198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6BD0F-686E-4157-8A93-4F02800E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3F540-63AD-4334-BBD4-99521092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24B6-D481-4FA6-929F-0CFCDC88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24A4-034C-47E8-9D17-3BE72833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7BA5-19AC-400C-A7AD-4B8EA66D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BDCD-A128-4555-BE02-4ED2C072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F43B-2C24-44CD-B6DA-74174E6D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10C1-7E93-4F09-A74A-72B74AE5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D2F8-C72F-413A-AD01-5CA7F3B1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EB4C-05CD-485C-914A-E1DD3826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E4BF-2E42-430B-AE2C-19A61DB7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28C2-DB4E-4BAD-8950-921D24E6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EDCE-3CB1-42FA-9D95-28289BEC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78E11-1E78-46BA-B093-0D570E91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13C65-D4AE-402D-832F-30DB4530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EB713-B2D9-45C8-A6A5-7DB5F4F4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BEDF1-7448-4CE5-8AC8-44088C4A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E6AA3-480B-4483-A144-75AC338E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EECD-34FC-458D-932D-1228A8D0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24181-A69D-4C7B-9337-24BCADB1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6689B-39D7-431F-AF86-29ABE6B6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C5B8F-337B-4246-8FAB-1FEF7BAC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19F25-9240-4F13-8B61-4E23B1B8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13982-9E7B-4F03-A30C-CA744650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896BD-49CA-4D89-87B8-8810C820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51230-4D37-487D-B1AE-94CD9756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9F8ACE-6C19-4340-A05F-5BEA5020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F04095-DF27-4808-B0EC-F196698D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D03BD9-8372-4FC9-8F4B-3B4ADBEE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3CD5-62D5-450D-8490-63738EF4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0E35D4-F1CD-4F29-B24C-C61FC44E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058478-574E-4CD5-9F06-E1303454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AA621D-2CED-4D81-A398-997404DF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69A70C-029A-4F92-92DB-A9ED29D5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52245A-4E3B-4F6F-A72A-495AAC63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69B0A7-B73F-4520-8728-82C7C96F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EB96E4-77DD-4802-A14C-5D01E5A3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94B039-854E-4559-BFA8-A4A36C2D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5FBA39-98BF-42FA-AD56-3502A9F7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025C2-A4D6-4B34-B493-EE5EE097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F30C-7A41-42BD-A154-1DDE8DF5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5227F-74AD-4819-9571-6E5F2A3A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43FF5-B1DC-4913-A28D-2A1CD9AA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665A1-621B-4E3B-BAFF-ACD1BEB3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0837C-B859-4663-AB9B-0C9F53AB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90030-E220-422B-BD3B-F796DDAB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5F7B2-635F-4905-A3F1-AE0F5362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2A3F4-37CA-4B23-917B-95A1E95D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64835-2207-45AB-AC37-173E863A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D8C42-AEC6-449F-8E45-7F93DACF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982E5-A181-439F-8F48-C227E162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2FD6-312C-44E0-BB7D-8BC837EC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E9A85-AB3D-4DF2-822B-A1902002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48B7C-B2FE-4992-88B9-A2BDB4AF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323E2-D26C-4AF2-ABB4-D295FEB4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72AC3-4360-41EE-B39E-E5017C26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5B3A6-6413-46F3-BACF-23BA0109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9F5BE-D830-40A1-82E3-9DF0EF9E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002B8-FF25-442B-80AE-846366CC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E33FC-5697-4F8C-B820-ADA4BCAA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D19D0-CDE1-4A53-950A-F7EB154F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1EC72-A708-4B64-B22E-26632E30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C09E-5A41-4C87-A883-F9F20476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60509-F936-4343-BF5D-DE740316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85935-332E-4443-A33A-EB5D7356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CB74F-CD20-48AC-AF3B-87AEEDA5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7AC27-093B-43BB-882C-BEC36A86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85C3A-31A0-40C7-B54C-2CEF32A8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3BC57-6522-44E3-828D-E53F65CB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B7960-3AEF-46D5-AB29-C9E17865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E4612-225A-48AF-B3C6-B3E1B003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C4526-56B9-4BD2-B510-F0C956E6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5B3F3-0F60-4EF3-BCEB-3BADA610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2FAF-D4A0-49A1-85A8-F6A13219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58EF3-B123-4203-BC9D-1061B923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24DCD-0F3D-4CE7-945B-35684C7D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B3D70-1E6B-495D-8DA2-73FA9B99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94119-05F1-4B08-8A4A-5E240C14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75E90-F30A-425C-827C-B1EAF9AEB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65B0D-5F8D-4CC7-A5A6-FB6869F6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4FFA6-A03A-4419-BCA0-2E807A3E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81576-BE1B-47CB-8AFA-F95EA3C9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F4F24-A431-4D59-8FEB-99898A22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04291-1E23-4FA0-8CCA-F44F52FC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41CE-4957-41F5-826C-11504B81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06039-B78B-4054-B066-82462451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FB028-51AA-427F-A6EA-B9DCF871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0EA40-F69E-4789-A992-26CC9A39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9EF78-4C49-4FD0-ACF9-0C62B343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2FA34-85F8-4B1D-B414-6695CD05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C6A4D-043E-4C14-95E5-55BA290E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14B26-0D1C-48D1-AA80-3A73C3D6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B0546-CC0F-4F81-BBB0-264166B0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84BB8-43DB-4359-A667-A6797B03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BB618-908F-4C2A-8C53-BEB0E6A9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76BC-1EAB-4161-BB54-73E2F540B96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473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474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5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6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8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9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0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1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7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488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9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492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4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5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496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7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8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9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500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1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03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504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5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6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7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218B-8A26-4A8D-8340-9AEA43FC431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5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4303-1A5D-4F69-BBA1-2076598CAB1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1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2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5FE8-95A6-40A6-83D6-99E0E400830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893A-3089-4D55-9985-94C81A8E773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9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91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4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5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96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1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02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5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6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10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3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4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7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456F-5570-4753-99BD-034A866FD90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8EA1-D733-4BBA-A37A-C5633F752A6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DF2C-D4F7-4089-ADC0-AB458268BA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8E49-C881-495F-9EB3-FFBF393F30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06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18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19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0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1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2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3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5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6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7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8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9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0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2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3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4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5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6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7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8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9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0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2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3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FD39-F82A-44FE-A690-716162E2D3C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0DBB-A7F9-4272-A6AE-6C4B7F40675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28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9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0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3C66-5F15-4967-9F96-9BEF6E49828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езентация к уроку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36699"/>
                </a:solidFill>
                <a:latin typeface="Verdana"/>
              </a:rPr>
              <a:t>Алгоритм   исследования </a:t>
            </a:r>
            <a:br>
              <a:rPr sz="3500"/>
            </a:br>
            <a:r>
              <a:rPr b="1" i="1" lang="ru-RU" sz="3500" spc="-1" strike="noStrike">
                <a:solidFill>
                  <a:srgbClr val="336699"/>
                </a:solidFill>
                <a:latin typeface="Verdana"/>
              </a:rPr>
              <a:t>функции с помощью производной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36699"/>
                </a:solidFill>
                <a:latin typeface="Verdana"/>
              </a:rPr>
              <a:t>Преподаватель: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36699"/>
                </a:solidFill>
                <a:latin typeface="Verdana"/>
              </a:rPr>
              <a:t>                          </a:t>
            </a:r>
            <a:r>
              <a:rPr b="1" i="1" lang="ru-RU" sz="3500" spc="-1" strike="noStrike">
                <a:solidFill>
                  <a:srgbClr val="336699"/>
                </a:solidFill>
                <a:latin typeface="Verdana"/>
              </a:rPr>
              <a:t>Макарова В.В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36699"/>
                </a:solidFill>
                <a:latin typeface="Verdana"/>
              </a:rPr>
              <a:t>ГУ «Профессиональный лицей №8» г.Семей  2010г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2"/>
          <p:cNvSpPr/>
          <p:nvPr/>
        </p:nvSpPr>
        <p:spPr>
          <a:xfrm>
            <a:off x="762120" y="1600200"/>
            <a:ext cx="8001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761760" y="404280"/>
            <a:ext cx="792468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оссвор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838080" y="1752480"/>
          <a:ext cx="7693200" cy="4754520"/>
        </p:xfrm>
        <a:graphic>
          <a:graphicData uri="http://schemas.openxmlformats.org/drawingml/2006/table">
            <a:tbl>
              <a:tblPr/>
              <a:tblGrid>
                <a:gridCol w="1043280"/>
                <a:gridCol w="1109520"/>
                <a:gridCol w="1109520"/>
                <a:gridCol w="1219320"/>
                <a:gridCol w="1058760"/>
                <a:gridCol w="1059120"/>
                <a:gridCol w="10936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 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  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762120" y="1600200"/>
            <a:ext cx="8001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761760" y="404280"/>
            <a:ext cx="792468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оссвор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838080" y="1752480"/>
          <a:ext cx="7693200" cy="4754520"/>
        </p:xfrm>
        <a:graphic>
          <a:graphicData uri="http://schemas.openxmlformats.org/drawingml/2006/table">
            <a:tbl>
              <a:tblPr/>
              <a:tblGrid>
                <a:gridCol w="1043280"/>
                <a:gridCol w="1109520"/>
                <a:gridCol w="1109520"/>
                <a:gridCol w="1219320"/>
                <a:gridCol w="1058760"/>
                <a:gridCol w="1059120"/>
                <a:gridCol w="10936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 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 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  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2"/>
          <p:cNvSpPr/>
          <p:nvPr/>
        </p:nvSpPr>
        <p:spPr>
          <a:xfrm>
            <a:off x="762120" y="1600200"/>
            <a:ext cx="8001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1760" y="404280"/>
            <a:ext cx="792468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оссвор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838080" y="1752480"/>
          <a:ext cx="7693200" cy="4754520"/>
        </p:xfrm>
        <a:graphic>
          <a:graphicData uri="http://schemas.openxmlformats.org/drawingml/2006/table">
            <a:tbl>
              <a:tblPr/>
              <a:tblGrid>
                <a:gridCol w="1043280"/>
                <a:gridCol w="1109520"/>
                <a:gridCol w="1109520"/>
                <a:gridCol w="1219320"/>
                <a:gridCol w="1058760"/>
                <a:gridCol w="1059120"/>
                <a:gridCol w="10936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 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 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  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762120" y="1600200"/>
            <a:ext cx="8001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1760" y="404280"/>
            <a:ext cx="792468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оссвор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838080" y="1752480"/>
          <a:ext cx="7693200" cy="4754520"/>
        </p:xfrm>
        <a:graphic>
          <a:graphicData uri="http://schemas.openxmlformats.org/drawingml/2006/table">
            <a:tbl>
              <a:tblPr/>
              <a:tblGrid>
                <a:gridCol w="1043280"/>
                <a:gridCol w="1109520"/>
                <a:gridCol w="1109520"/>
                <a:gridCol w="1219320"/>
                <a:gridCol w="1058760"/>
                <a:gridCol w="1059120"/>
                <a:gridCol w="10936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 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 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  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                             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Лагранж</a:t>
            </a:r>
            <a:r>
              <a:rPr b="0" lang="ru-RU" sz="3100" spc="-1" strike="noStrike">
                <a:solidFill>
                  <a:srgbClr val="006666"/>
                </a:solidFill>
                <a:latin typeface="Verdana"/>
              </a:rPr>
              <a:t>                                </a:t>
            </a:r>
            <a:br>
              <a:rPr sz="2500"/>
            </a:br>
            <a:r>
              <a:rPr b="0" lang="ru-RU" sz="31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1736-1813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В 19 лет он стал профессором в Артиллерийской школе Турина. Именно Лагранж в 1791 г. ввёл термин «производная», ему же мы обязаны и современным обозначением производной (с помощью штриха). Термин «вторая производная» и обозначение(два штриха) также ввёл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Лангранж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37" name="Picture 5" descr="00042801"/>
          <p:cNvPicPr/>
          <p:nvPr/>
        </p:nvPicPr>
        <p:blipFill>
          <a:blip r:embed="rId1"/>
          <a:stretch/>
        </p:blipFill>
        <p:spPr>
          <a:xfrm>
            <a:off x="0" y="189000"/>
            <a:ext cx="4932360" cy="5759280"/>
          </a:xfrm>
          <a:prstGeom prst="rect">
            <a:avLst/>
          </a:prstGeom>
          <a:ln w="0">
            <a:noFill/>
          </a:ln>
        </p:spPr>
      </p:pic>
      <p:sp>
        <p:nvSpPr>
          <p:cNvPr id="738" name="Rectangle 6"/>
          <p:cNvSpPr/>
          <p:nvPr/>
        </p:nvSpPr>
        <p:spPr>
          <a:xfrm>
            <a:off x="322200" y="6021360"/>
            <a:ext cx="526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(Joseph-Louis Largauge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Verdana"/>
              </a:rPr>
              <a:t>Основными  объектами, изучаемыми в математическом анализе являются  функция, ее производная, графики.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Как проходит график между двумя точками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1" name="Picture 4" descr=""/>
          <p:cNvPicPr/>
          <p:nvPr/>
        </p:nvPicPr>
        <p:blipFill>
          <a:blip r:embed="rId1"/>
          <a:srcRect l="0" t="0" r="72192" b="0"/>
          <a:stretch/>
        </p:blipFill>
        <p:spPr>
          <a:xfrm>
            <a:off x="684360" y="1700280"/>
            <a:ext cx="2303280" cy="25718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5" descr=""/>
          <p:cNvPicPr/>
          <p:nvPr/>
        </p:nvPicPr>
        <p:blipFill>
          <a:blip r:embed="rId2"/>
          <a:srcRect l="32163" t="0" r="32186" b="0"/>
          <a:stretch/>
        </p:blipFill>
        <p:spPr>
          <a:xfrm>
            <a:off x="3203640" y="2637000"/>
            <a:ext cx="2952720" cy="257148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6" descr=""/>
          <p:cNvPicPr/>
          <p:nvPr/>
        </p:nvPicPr>
        <p:blipFill>
          <a:blip r:embed="rId3"/>
          <a:srcRect l="69547" t="0" r="0" b="0"/>
          <a:stretch/>
        </p:blipFill>
        <p:spPr>
          <a:xfrm>
            <a:off x="6372360" y="3789360"/>
            <a:ext cx="252252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" descr=""/>
          <p:cNvPicPr/>
          <p:nvPr/>
        </p:nvPicPr>
        <p:blipFill>
          <a:blip r:embed="rId1"/>
          <a:srcRect l="28361" t="22153" r="49195" b="49806"/>
          <a:stretch/>
        </p:blipFill>
        <p:spPr>
          <a:xfrm>
            <a:off x="5651640" y="3573360"/>
            <a:ext cx="3132000" cy="31305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2560" y="333360"/>
            <a:ext cx="846144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700" spc="-1" strike="noStrike">
                <a:solidFill>
                  <a:srgbClr val="666699"/>
                </a:solidFill>
                <a:latin typeface="Arial"/>
              </a:rPr>
              <a:t>                    </a:t>
            </a:r>
            <a:r>
              <a:rPr b="1" i="1" lang="ru-RU" sz="5700" spc="-1" strike="noStrike">
                <a:solidFill>
                  <a:srgbClr val="666699"/>
                </a:solidFill>
                <a:latin typeface="Arial"/>
              </a:rPr>
              <a:t>Алгоритм </a:t>
            </a:r>
            <a:br>
              <a:rPr sz="5700"/>
            </a:br>
            <a:r>
              <a:rPr b="1" i="1" lang="ru-RU" sz="5700" spc="-1" strike="noStrike">
                <a:solidFill>
                  <a:srgbClr val="666699"/>
                </a:solidFill>
                <a:latin typeface="Arial"/>
              </a:rPr>
              <a:t>               исследования </a:t>
            </a:r>
            <a:br>
              <a:rPr sz="5700"/>
            </a:br>
            <a:br>
              <a:rPr sz="5700"/>
            </a:br>
            <a:br>
              <a:rPr sz="5700"/>
            </a:br>
            <a:br>
              <a:rPr sz="5700"/>
            </a:br>
            <a:r>
              <a:rPr b="1" i="1" lang="ru-RU" sz="5700" spc="-1" strike="noStrike">
                <a:solidFill>
                  <a:srgbClr val="666699"/>
                </a:solidFill>
                <a:latin typeface="Arial"/>
              </a:rPr>
              <a:t>функции с помощью производной 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4" descr="p1_4-2"/>
          <p:cNvPicPr/>
          <p:nvPr/>
        </p:nvPicPr>
        <p:blipFill>
          <a:blip r:embed="rId2"/>
          <a:stretch/>
        </p:blipFill>
        <p:spPr>
          <a:xfrm>
            <a:off x="468360" y="333360"/>
            <a:ext cx="3600360" cy="2820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ana7e"/>
          <p:cNvPicPr/>
          <p:nvPr/>
        </p:nvPicPr>
        <p:blipFill>
          <a:blip r:embed="rId1"/>
          <a:srcRect l="0" t="0" r="0" b="11933"/>
          <a:stretch/>
        </p:blipFill>
        <p:spPr>
          <a:xfrm>
            <a:off x="5343480" y="2349360"/>
            <a:ext cx="3800520" cy="3024360"/>
          </a:xfrm>
          <a:prstGeom prst="rect">
            <a:avLst/>
          </a:prstGeom>
          <a:ln w="0">
            <a:noFill/>
          </a:ln>
        </p:spPr>
      </p:pic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78520" cy="12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336699"/>
                </a:solidFill>
                <a:latin typeface="Tahoma"/>
              </a:rPr>
              <a:t>Цель урока: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58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5ffff"/>
                </a:solidFill>
                <a:latin typeface="Times New Roman"/>
              </a:rPr>
              <a:t>Овладеть умением исследовать функции с помощью производной по заданному алгоритм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10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66"/>
                </a:solidFill>
                <a:latin typeface="Verdana"/>
              </a:rPr>
              <a:t>Диктан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Object 3"/>
              <p:cNvSpPr txBox="1"/>
              <p:nvPr/>
            </p:nvSpPr>
            <p:spPr>
              <a:xfrm>
                <a:off x="755640" y="4005360"/>
                <a:ext cx="174780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Object 4"/>
              <p:cNvSpPr txBox="1"/>
              <p:nvPr/>
            </p:nvSpPr>
            <p:spPr>
              <a:xfrm>
                <a:off x="5057640" y="5159520"/>
                <a:ext cx="27543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Object 5"/>
              <p:cNvSpPr txBox="1"/>
              <p:nvPr/>
            </p:nvSpPr>
            <p:spPr>
              <a:xfrm>
                <a:off x="977760" y="1798560"/>
                <a:ext cx="15066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С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Object 6"/>
              <p:cNvSpPr txBox="1"/>
              <p:nvPr/>
            </p:nvSpPr>
            <p:spPr>
              <a:xfrm>
                <a:off x="5303880" y="1916280"/>
                <a:ext cx="20048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p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Object 7"/>
              <p:cNvSpPr txBox="1"/>
              <p:nvPr/>
            </p:nvSpPr>
            <p:spPr>
              <a:xfrm>
                <a:off x="5502240" y="2867040"/>
                <a:ext cx="11527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х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Object 8"/>
              <p:cNvSpPr txBox="1"/>
              <p:nvPr/>
            </p:nvSpPr>
            <p:spPr>
              <a:xfrm>
                <a:off x="5435640" y="4221000"/>
                <a:ext cx="16574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х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Object 9"/>
              <p:cNvSpPr txBox="1"/>
              <p:nvPr/>
            </p:nvSpPr>
            <p:spPr>
              <a:xfrm>
                <a:off x="900000" y="2852640"/>
                <a:ext cx="160200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Object 10"/>
              <p:cNvSpPr txBox="1"/>
              <p:nvPr/>
            </p:nvSpPr>
            <p:spPr>
              <a:xfrm>
                <a:off x="385920" y="5180040"/>
                <a:ext cx="246852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4" name="Picture 4" descr="1fcb3c7df050"/>
          <p:cNvPicPr/>
          <p:nvPr/>
        </p:nvPicPr>
        <p:blipFill>
          <a:blip r:embed="rId1"/>
          <a:stretch/>
        </p:blipFill>
        <p:spPr>
          <a:xfrm>
            <a:off x="971640" y="907920"/>
            <a:ext cx="3887640" cy="37465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5" descr="8b8aabc094e4"/>
          <p:cNvPicPr/>
          <p:nvPr/>
        </p:nvPicPr>
        <p:blipFill>
          <a:blip r:embed="rId2"/>
          <a:stretch/>
        </p:blipFill>
        <p:spPr>
          <a:xfrm>
            <a:off x="4427640" y="4724280"/>
            <a:ext cx="3240000" cy="959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00"/>
                </a:solidFill>
                <a:latin typeface="Verdana"/>
              </a:rPr>
              <a:t>Ответы на диктант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Object 3"/>
              <p:cNvSpPr txBox="1"/>
              <p:nvPr/>
            </p:nvSpPr>
            <p:spPr>
              <a:xfrm>
                <a:off x="539640" y="4005360"/>
                <a:ext cx="25034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Object 4"/>
              <p:cNvSpPr txBox="1"/>
              <p:nvPr/>
            </p:nvSpPr>
            <p:spPr>
              <a:xfrm>
                <a:off x="4067280" y="5214960"/>
                <a:ext cx="50767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Object 5"/>
              <p:cNvSpPr txBox="1"/>
              <p:nvPr/>
            </p:nvSpPr>
            <p:spPr>
              <a:xfrm>
                <a:off x="777960" y="2049480"/>
                <a:ext cx="17780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С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Object 6"/>
              <p:cNvSpPr txBox="1"/>
              <p:nvPr/>
            </p:nvSpPr>
            <p:spPr>
              <a:xfrm>
                <a:off x="4500720" y="1916280"/>
                <a:ext cx="381636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p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Object 7"/>
              <p:cNvSpPr txBox="1"/>
              <p:nvPr/>
            </p:nvSpPr>
            <p:spPr>
              <a:xfrm>
                <a:off x="4716360" y="2924280"/>
                <a:ext cx="216216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х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Object 8"/>
              <p:cNvSpPr txBox="1"/>
              <p:nvPr/>
            </p:nvSpPr>
            <p:spPr>
              <a:xfrm>
                <a:off x="4932360" y="4076640"/>
                <a:ext cx="26640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х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Object 9"/>
              <p:cNvSpPr txBox="1"/>
              <p:nvPr/>
            </p:nvSpPr>
            <p:spPr>
              <a:xfrm>
                <a:off x="611280" y="2924280"/>
                <a:ext cx="172872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Object 10"/>
              <p:cNvSpPr txBox="1"/>
              <p:nvPr/>
            </p:nvSpPr>
            <p:spPr>
              <a:xfrm>
                <a:off x="203040" y="5037120"/>
                <a:ext cx="35769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умай и отве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8675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Сформулировать достаточные условия возрастания(убывания)</a:t>
            </a:r>
            <a:r>
              <a:rPr b="0" i="1" lang="ru-RU" sz="5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 функци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умай и отве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99"/>
                </a:solidFill>
                <a:latin typeface="Times New Roman"/>
              </a:rPr>
              <a:t>Какие точки называются критическими 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умай и отве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66"/>
                </a:solidFill>
                <a:latin typeface="Times New Roman"/>
              </a:rPr>
              <a:t>Сформулировать достаточный и необходимый признаки существования   максимума(минимума) функ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  </a:t>
            </a: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«Спорьте, заблуждайтесь,                            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  ошибайтесь, но, ради Бога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 размышляйте, и, хотя криво 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 – да сами , ». 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               </a:t>
            </a:r>
            <a:r>
              <a:rPr b="1" i="1" lang="ru-RU" sz="4000" spc="-1" strike="noStrike">
                <a:solidFill>
                  <a:srgbClr val="006666"/>
                </a:solidFill>
                <a:latin typeface="Verdana"/>
              </a:rPr>
              <a:t>Г. Лессинг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6" name="Picture 3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9598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4" descr="parus"/>
          <p:cNvPicPr/>
          <p:nvPr/>
        </p:nvPicPr>
        <p:blipFill>
          <a:blip r:embed="rId2"/>
          <a:stretch/>
        </p:blipFill>
        <p:spPr>
          <a:xfrm>
            <a:off x="7236000" y="476280"/>
            <a:ext cx="1726920" cy="1727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Line 2"/>
          <p:cNvSpPr/>
          <p:nvPr/>
        </p:nvSpPr>
        <p:spPr>
          <a:xfrm flipV="1">
            <a:off x="4495680" y="1295280"/>
            <a:ext cx="0" cy="5181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Line 3"/>
          <p:cNvSpPr/>
          <p:nvPr/>
        </p:nvSpPr>
        <p:spPr>
          <a:xfrm>
            <a:off x="1116000" y="3429000"/>
            <a:ext cx="6934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4495680" y="12193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Text Box 5"/>
          <p:cNvSpPr/>
          <p:nvPr/>
        </p:nvSpPr>
        <p:spPr>
          <a:xfrm>
            <a:off x="7848720" y="35053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Text Box 6"/>
          <p:cNvSpPr/>
          <p:nvPr/>
        </p:nvSpPr>
        <p:spPr>
          <a:xfrm>
            <a:off x="5715000" y="33526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Text Box 7"/>
          <p:cNvSpPr/>
          <p:nvPr/>
        </p:nvSpPr>
        <p:spPr>
          <a:xfrm>
            <a:off x="4648320" y="335268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Text Box 8"/>
          <p:cNvSpPr/>
          <p:nvPr/>
        </p:nvSpPr>
        <p:spPr>
          <a:xfrm>
            <a:off x="3276720" y="33526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Text Box 9"/>
          <p:cNvSpPr/>
          <p:nvPr/>
        </p:nvSpPr>
        <p:spPr>
          <a:xfrm>
            <a:off x="2666880" y="33526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10"/>
          <p:cNvSpPr/>
          <p:nvPr/>
        </p:nvSpPr>
        <p:spPr>
          <a:xfrm>
            <a:off x="6324480" y="33526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Freeform 11"/>
          <p:cNvSpPr/>
          <p:nvPr/>
        </p:nvSpPr>
        <p:spPr>
          <a:xfrm>
            <a:off x="2700360" y="907920"/>
            <a:ext cx="3759120" cy="5727960"/>
          </a:xfrm>
          <a:custGeom>
            <a:avLst/>
            <a:gdLst/>
            <a:ahLst/>
            <a:rect l="l" t="t" r="r" b="b"/>
            <a:pathLst>
              <a:path w="2368" h="3608">
                <a:moveTo>
                  <a:pt x="0" y="1056"/>
                </a:moveTo>
                <a:cubicBezTo>
                  <a:pt x="76" y="1980"/>
                  <a:pt x="152" y="2904"/>
                  <a:pt x="480" y="2736"/>
                </a:cubicBezTo>
                <a:cubicBezTo>
                  <a:pt x="808" y="2568"/>
                  <a:pt x="1664" y="0"/>
                  <a:pt x="1968" y="48"/>
                </a:cubicBezTo>
                <a:cubicBezTo>
                  <a:pt x="2272" y="96"/>
                  <a:pt x="2240" y="2440"/>
                  <a:pt x="2304" y="3024"/>
                </a:cubicBezTo>
                <a:cubicBezTo>
                  <a:pt x="2368" y="3608"/>
                  <a:pt x="2360" y="3580"/>
                  <a:pt x="2352" y="355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Text Box 12"/>
          <p:cNvSpPr/>
          <p:nvPr/>
        </p:nvSpPr>
        <p:spPr>
          <a:xfrm>
            <a:off x="4284720" y="31417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13"/>
          <p:cNvSpPr/>
          <p:nvPr/>
        </p:nvSpPr>
        <p:spPr>
          <a:xfrm>
            <a:off x="304920" y="152280"/>
            <a:ext cx="883908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дите промежутки монотонности функции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 = f(X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ли изображен график её производно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0" name="Picture 15" descr="0024"/>
          <p:cNvPicPr/>
          <p:nvPr/>
        </p:nvPicPr>
        <p:blipFill>
          <a:blip r:embed="rId1"/>
          <a:stretch/>
        </p:blipFill>
        <p:spPr>
          <a:xfrm>
            <a:off x="7315200" y="838080"/>
            <a:ext cx="137484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Подумай и отве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2" name="Picture 4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550360" cy="351144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6" descr="J0286674"/>
          <p:cNvPicPr/>
          <p:nvPr/>
        </p:nvPicPr>
        <p:blipFill>
          <a:blip r:embed="rId2"/>
          <a:stretch/>
        </p:blipFill>
        <p:spPr>
          <a:xfrm>
            <a:off x="324000" y="4653000"/>
            <a:ext cx="1676160" cy="198108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7"/>
          <p:cNvSpPr/>
          <p:nvPr/>
        </p:nvSpPr>
        <p:spPr>
          <a:xfrm>
            <a:off x="2638800" y="4724280"/>
            <a:ext cx="5731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яя критические точки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ник указ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x = –6; x = –3; x = –1; x = 2; x = 4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в ли он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36604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ff"/>
                </a:solidFill>
                <a:latin typeface="Verdana"/>
              </a:rPr>
              <a:t>Схема исследования функци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53272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-4852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айти область определения функци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485280" indent="-4852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Определить четность и нечетность, периодичность функци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485280" indent="-4852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айти точки пересечения графика функции с осями координа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485280" indent="-4852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Определить промежутки знакопостоянства функци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485280" indent="-4852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Определить промежутки возрастания, убывания, найти экстремум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485280" indent="-4852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а основании исследования построить график функци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48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Схема исследования функции с помощью  её производ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675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ти область определения функ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ить четность и нечетность, периодичность функ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ти точки пересечения графика функции с осями координ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ить промежутки знакопостоянства функ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cc0000"/>
                </a:solidFill>
                <a:latin typeface="Verdana"/>
              </a:rPr>
              <a:t>«Дорогу осилит идущий, а математику – мыслящий»</a:t>
            </a:r>
            <a:r>
              <a:rPr b="0" lang="ru-RU" sz="5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1553760" y="189000"/>
            <a:ext cx="580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ш сегодняшний урок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йдет под девизо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9" name="Picture 7" descr="2n"/>
          <p:cNvPicPr/>
          <p:nvPr/>
        </p:nvPicPr>
        <p:blipFill>
          <a:blip r:embed="rId1"/>
          <a:stretch/>
        </p:blipFill>
        <p:spPr>
          <a:xfrm>
            <a:off x="6300720" y="2637000"/>
            <a:ext cx="248292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8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Найти производную функц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х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критические точки - решить уравнени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х)=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) Найти промежутки возрастания, убывания функции - решить  неравенств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х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х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0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пределить экстремумы функ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На основании исследования построить график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ff"/>
                </a:solidFill>
                <a:latin typeface="Times New Roman"/>
              </a:rPr>
              <a:t>Скажи мне, я забуду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ff"/>
                </a:solidFill>
                <a:latin typeface="Times New Roman"/>
              </a:rPr>
              <a:t>Покажи мне, и, может быть, я буду помнить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ff"/>
                </a:solidFill>
                <a:latin typeface="Times New Roman"/>
              </a:rPr>
              <a:t>Позволь мне сделать это, и это станет моим навсегда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ff"/>
                </a:solidFill>
                <a:latin typeface="Times New Roman"/>
              </a:rPr>
              <a:t>(Китайская пословица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0">
    <p:zoom dir="ou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Какой из графиков наиболее точно отражает описанную ситуацию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02" name="Picture 11" descr=""/>
          <p:cNvPicPr/>
          <p:nvPr/>
        </p:nvPicPr>
        <p:blipFill>
          <a:blip r:embed="rId1"/>
          <a:stretch/>
        </p:blipFill>
        <p:spPr>
          <a:xfrm>
            <a:off x="2273400" y="1851120"/>
            <a:ext cx="6114960" cy="4886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24720" cy="15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0" lang="ru-RU" sz="3000" spc="-1" strike="noStrike">
                <a:solidFill>
                  <a:srgbClr val="000000"/>
                </a:solidFill>
                <a:latin typeface="Arial Black"/>
              </a:rPr>
              <a:t>Опишите динамику производительности труда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 Black"/>
              </a:rPr>
              <a:t>рабочего, пользуясь ее графиком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Rectangle 5"/>
          <p:cNvSpPr/>
          <p:nvPr/>
        </p:nvSpPr>
        <p:spPr>
          <a:xfrm>
            <a:off x="8389800" y="4075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5" name="Picture 6" descr=""/>
          <p:cNvPicPr/>
          <p:nvPr/>
        </p:nvPicPr>
        <p:blipFill>
          <a:blip r:embed="rId1"/>
          <a:stretch/>
        </p:blipFill>
        <p:spPr>
          <a:xfrm>
            <a:off x="468360" y="1822320"/>
            <a:ext cx="8675640" cy="3397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еклам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Verdana"/>
              </a:rPr>
              <a:t>Изучение производных поможет Вам быстро и правильно принимать решения в различных ситуациях, так как Вы уже учитесь думать, преодолевать трудности и рассуждать, а это всё ведет к приобретению мудрости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3" dur="20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«Ситуации в жизни бывают такие: либо сложные, либо простые…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9" name="Picture 4" descr=""/>
          <p:cNvPicPr/>
          <p:nvPr/>
        </p:nvPicPr>
        <p:blipFill>
          <a:blip r:embed="rId1"/>
          <a:stretch/>
        </p:blipFill>
        <p:spPr>
          <a:xfrm>
            <a:off x="0" y="2289240"/>
            <a:ext cx="8964720" cy="313380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5" descr="3"/>
          <p:cNvPicPr/>
          <p:nvPr/>
        </p:nvPicPr>
        <p:blipFill>
          <a:blip r:embed="rId2"/>
          <a:stretch/>
        </p:blipFill>
        <p:spPr>
          <a:xfrm>
            <a:off x="539640" y="494172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318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10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66"/>
                </a:solidFill>
                <a:latin typeface="Verdana"/>
              </a:rPr>
              <a:t>Исследовать функцию и построить гафик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4100" spc="-1" strike="noStrike">
                <a:solidFill>
                  <a:srgbClr val="000066"/>
                </a:solidFill>
                <a:latin typeface="Verdana"/>
              </a:rPr>
              <a:t>f(x)=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100" spc="-1" strike="noStrike">
                <a:solidFill>
                  <a:srgbClr val="000066"/>
                </a:solidFill>
                <a:latin typeface="Verdana"/>
              </a:rPr>
              <a:t>2x²+5x+2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4311360" y="3245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ывод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540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66"/>
                </a:solidFill>
                <a:latin typeface="Verdana"/>
              </a:rPr>
              <a:t>Аппарат производной можно использовать при решении геометрических задач, задач из естественных  и гуманитарных наук, экономических задач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400" spc="-1" strike="noStrike">
                <a:solidFill>
                  <a:srgbClr val="003366"/>
                </a:solidFill>
                <a:latin typeface="Verdana"/>
              </a:rPr>
              <a:t>И, конечно, не обойтись без производной при исследовании функции и построении графиков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8" name="Picture 4" descr=""/>
          <p:cNvPicPr/>
          <p:nvPr/>
        </p:nvPicPr>
        <p:blipFill>
          <a:blip r:embed="rId1"/>
          <a:stretch/>
        </p:blipFill>
        <p:spPr>
          <a:xfrm>
            <a:off x="324000" y="-3240"/>
            <a:ext cx="849600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WordArt 4"/>
          <p:cNvSpPr txBox="1"/>
          <p:nvPr/>
        </p:nvSpPr>
        <p:spPr>
          <a:xfrm>
            <a:off x="1187280" y="2349360"/>
            <a:ext cx="684072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11"/>
          <p:cNvSpPr/>
          <p:nvPr/>
        </p:nvSpPr>
        <p:spPr>
          <a:xfrm>
            <a:off x="5869440" y="1181160"/>
            <a:ext cx="29026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0" spc="-1" strike="noStrike">
                <a:solidFill>
                  <a:srgbClr val="6600ff"/>
                </a:solidFill>
                <a:latin typeface="Arial"/>
              </a:rPr>
              <a:t>ная</a:t>
            </a:r>
            <a:endParaRPr b="0" lang="en-US" sz="1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700" spc="-1" strike="noStrike">
                <a:solidFill>
                  <a:srgbClr val="000000"/>
                </a:solidFill>
                <a:latin typeface="Verdana"/>
              </a:rPr>
              <a:t>Отгадай ребус</a:t>
            </a:r>
            <a:endParaRPr b="0" lang="en-US" sz="6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25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9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0" lang="ru-RU" sz="10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3" name="Picture 5" descr=""/>
          <p:cNvPicPr/>
          <p:nvPr/>
        </p:nvPicPr>
        <p:blipFill>
          <a:blip r:embed="rId1"/>
          <a:stretch/>
        </p:blipFill>
        <p:spPr>
          <a:xfrm>
            <a:off x="2268360" y="2349360"/>
            <a:ext cx="2140200" cy="204336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8"/>
          <p:cNvSpPr/>
          <p:nvPr/>
        </p:nvSpPr>
        <p:spPr>
          <a:xfrm>
            <a:off x="4284720" y="1124640"/>
            <a:ext cx="1224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0" spc="-1" strike="noStrike">
                <a:solidFill>
                  <a:srgbClr val="000000"/>
                </a:solidFill>
                <a:latin typeface="Arial"/>
              </a:rPr>
              <a:t>,, </a:t>
            </a:r>
            <a:endParaRPr b="0" lang="en-US" sz="1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5" name="Picture 9" descr=""/>
          <p:cNvPicPr/>
          <p:nvPr/>
        </p:nvPicPr>
        <p:blipFill>
          <a:blip r:embed="rId2"/>
          <a:stretch/>
        </p:blipFill>
        <p:spPr>
          <a:xfrm>
            <a:off x="4511520" y="3284640"/>
            <a:ext cx="4632480" cy="3371760"/>
          </a:xfrm>
          <a:prstGeom prst="rect">
            <a:avLst/>
          </a:prstGeom>
          <a:ln w="0">
            <a:noFill/>
          </a:ln>
        </p:spPr>
      </p:pic>
      <p:sp>
        <p:nvSpPr>
          <p:cNvPr id="706" name="Rectangle 10"/>
          <p:cNvSpPr/>
          <p:nvPr/>
        </p:nvSpPr>
        <p:spPr>
          <a:xfrm>
            <a:off x="8501040" y="1413000"/>
            <a:ext cx="6778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" dur="20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2"/>
          <p:cNvSpPr/>
          <p:nvPr/>
        </p:nvSpPr>
        <p:spPr>
          <a:xfrm>
            <a:off x="762120" y="1600200"/>
            <a:ext cx="8001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61760" y="404280"/>
            <a:ext cx="792468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оссвор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838080" y="1752480"/>
          <a:ext cx="7693200" cy="4754520"/>
        </p:xfrm>
        <a:graphic>
          <a:graphicData uri="http://schemas.openxmlformats.org/drawingml/2006/table">
            <a:tbl>
              <a:tblPr/>
              <a:tblGrid>
                <a:gridCol w="1043280"/>
                <a:gridCol w="1109520"/>
                <a:gridCol w="1109520"/>
                <a:gridCol w="1219320"/>
                <a:gridCol w="1058760"/>
                <a:gridCol w="1059120"/>
                <a:gridCol w="10936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762120" y="1600200"/>
            <a:ext cx="8001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61760" y="404280"/>
            <a:ext cx="792468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оссвор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838080" y="1752480"/>
          <a:ext cx="7693200" cy="4754520"/>
        </p:xfrm>
        <a:graphic>
          <a:graphicData uri="http://schemas.openxmlformats.org/drawingml/2006/table">
            <a:tbl>
              <a:tblPr/>
              <a:tblGrid>
                <a:gridCol w="1043280"/>
                <a:gridCol w="1109520"/>
                <a:gridCol w="1109520"/>
                <a:gridCol w="1219320"/>
                <a:gridCol w="1058760"/>
                <a:gridCol w="1059120"/>
                <a:gridCol w="10936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/>
          <p:cNvSpPr/>
          <p:nvPr/>
        </p:nvSpPr>
        <p:spPr>
          <a:xfrm>
            <a:off x="762120" y="1600200"/>
            <a:ext cx="8001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61760" y="404280"/>
            <a:ext cx="792468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оссвор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838080" y="1752480"/>
          <a:ext cx="7693200" cy="4754520"/>
        </p:xfrm>
        <a:graphic>
          <a:graphicData uri="http://schemas.openxmlformats.org/drawingml/2006/table">
            <a:tbl>
              <a:tblPr/>
              <a:tblGrid>
                <a:gridCol w="1043280"/>
                <a:gridCol w="1109520"/>
                <a:gridCol w="1109520"/>
                <a:gridCol w="1219320"/>
                <a:gridCol w="1058760"/>
                <a:gridCol w="1059120"/>
                <a:gridCol w="10936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/>
          <p:cNvSpPr/>
          <p:nvPr/>
        </p:nvSpPr>
        <p:spPr>
          <a:xfrm>
            <a:off x="762120" y="1600200"/>
            <a:ext cx="8001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1760" y="404280"/>
            <a:ext cx="792468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оссвор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838080" y="1752480"/>
          <a:ext cx="7693200" cy="4754520"/>
        </p:xfrm>
        <a:graphic>
          <a:graphicData uri="http://schemas.openxmlformats.org/drawingml/2006/table">
            <a:tbl>
              <a:tblPr/>
              <a:tblGrid>
                <a:gridCol w="1043280"/>
                <a:gridCol w="1109520"/>
                <a:gridCol w="1109520"/>
                <a:gridCol w="1219320"/>
                <a:gridCol w="1058760"/>
                <a:gridCol w="1059120"/>
                <a:gridCol w="10936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 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2"/>
          <p:cNvSpPr/>
          <p:nvPr/>
        </p:nvSpPr>
        <p:spPr>
          <a:xfrm>
            <a:off x="762120" y="1600200"/>
            <a:ext cx="8001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61760" y="404280"/>
            <a:ext cx="792468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оссвор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838080" y="1752480"/>
          <a:ext cx="7693200" cy="4754520"/>
        </p:xfrm>
        <a:graphic>
          <a:graphicData uri="http://schemas.openxmlformats.org/drawingml/2006/table">
            <a:tbl>
              <a:tblPr/>
              <a:tblGrid>
                <a:gridCol w="1043280"/>
                <a:gridCol w="1109520"/>
                <a:gridCol w="1109520"/>
                <a:gridCol w="1219320"/>
                <a:gridCol w="1058760"/>
                <a:gridCol w="1059120"/>
                <a:gridCol w="10936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 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5:03:42Z</dcterms:created>
  <dc:creator>student</dc:creator>
  <dc:description/>
  <dc:language>en-US</dc:language>
  <cp:lastModifiedBy>Валентина</cp:lastModifiedBy>
  <dcterms:modified xsi:type="dcterms:W3CDTF">2015-02-05T13:29:42Z</dcterms:modified>
  <cp:revision>66</cp:revision>
  <dc:subject/>
  <dc:title>Применение производной к исследованию функции</dc:title>
</cp:coreProperties>
</file>