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4CE-DD28-416E-A02C-0C7AB7C2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82A-46D6-429B-B942-E87C51DB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82B-63C2-4FA5-BD8A-7F5789BB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E97-584D-4FCA-A290-2925DEA4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069A-DDF1-4FA6-8B8B-FE0FF325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A205-8816-4205-AD54-806478C9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35A3-10B1-43AA-B49F-7A1F9952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8091-9458-4742-AB96-B11348F5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761E-7A40-4952-BDD8-D7742F5E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7BA5-DB90-4392-8616-DE07614E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2CC0-6285-4DC4-8903-C668CCB0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C78-EA90-40EA-A37D-47DC3167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5956-A463-47C6-8B65-DD7C5FD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36C4-AE70-4CE5-8F23-59FEEF46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4AEB-F726-4C93-834E-126FE6E0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4243-662B-4B0E-9635-CCDAF834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FFC7-3CC6-42DF-B652-975FC2D8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5E24A-2D69-42EB-B64B-4938AD95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B36CC-F678-44D3-9DD2-3C7E8D84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EA71B-049C-4FA1-B7D0-620EE033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B8365-50CD-40B9-A86F-44E3760A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45B4E-B274-43B7-B55E-C52319FC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16F-A3FF-4008-BD8C-49E0EA5F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B7919-A4E4-41F1-BBCF-A9D38E1F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94ED2-4960-4E25-8AEE-11CCAF01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E7A80-7F92-4753-A10E-44576DF2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6977B-E79D-41C9-BD4B-71824395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B773E-D5C6-4C48-9E35-7CDA3B82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3CD08-34BF-4BFE-BF1A-887306BD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EB79D-28D9-4615-9640-F0E0294A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E4931-C084-44A1-BF9E-82EB6680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EA3F0-C1B8-4DD5-A925-63D02361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D447-017B-4B5A-B924-C883524C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F4D-5F18-41F0-800B-D6F11CA9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B5594-CA7E-4910-A7D9-33A6B810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34A40-B99E-4E19-9566-8FE42528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BD5FD-1864-431D-B41F-0CEF73E1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AC800-7C1C-42A4-9C05-402BC5B9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3909E-FC7E-45F0-943A-5119D10A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2CD8-5133-42BF-ACB5-788E98DA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40E82-0AC1-4C3B-B02C-ADE6508A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05502-000B-48F8-A93B-E1765BCB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05D10-319B-4352-A5B9-4E6FF6EA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0CC74-43A8-4080-9B23-83A2F45E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3A5-2B24-45EF-A1FA-F02AF89B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469CE-0C05-40A3-BFFD-EEB2A31E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76341-F6BD-4DC8-92C6-A3E5A66B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A13C7-7FF8-4049-8998-B7F8B95B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1B72E-B409-4AE5-B19C-A2D21605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480AD-AC30-4AFA-9230-57071CDD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5DB75-0100-445B-93F7-7DEA7674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D0830-1495-49C0-98A1-428B6BF6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885B6-8DFD-4409-BF6D-D88B4F28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481A1-3342-4820-88B9-9D0996BA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BE9BE-E46C-426A-ADC8-B303DBF2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42E-B42D-467B-BF08-7B716D2B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490C4-D3BB-4761-B0B5-4AD17413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F798C-6255-4C62-AC0D-25C87228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BDC0A-1FA4-404A-B5F6-AAE13D21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3EBC0D-BCE6-42BD-AC36-7EBCD487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61C89-E828-49D2-B874-FE1F55E1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9D99F-630C-4902-BF30-4815C899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AC0BE-EFC3-4EE8-BE99-EB851BCE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14768-8701-4106-9F1F-70AB38C0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957AF-46A1-4158-9900-C6F2495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40902-2AB4-43E5-ADE1-2B199116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369-2722-4314-9824-03ACD2BF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1C945-40A8-4CFD-A336-0EABDED2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08BEE-7DF5-4913-99CF-E2FCFBFF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9CC44-6855-4C47-BD9C-13F52A43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03496-6C56-4641-9196-2FD013B0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2CFAD-CB99-46D3-BF89-D2766248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2BE6D-BFFA-4DF9-9101-C976139B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F381E-8E4E-40E3-BC7F-2EB35CFA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F7219-5EDD-4E9F-BEDC-3E8ADE60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14761D-17EC-4BA4-9A37-AF7B1762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DD72E-8F72-4D59-B68F-5602921E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8DC-DBC2-4F39-8EC4-5575A06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6B7D7-A42A-4E18-8EE7-C9510A7A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BF3DA-D2A1-403F-AE5B-0F3BDEAB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4E13C-7142-49BF-B661-7C2502AE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AE46D-FBE8-45BF-A02D-210084C1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FB081-B82C-4A52-8189-F29D44CA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B9F-4683-4A20-9E61-852510B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F1AD-4755-4057-A62F-B061AB005E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3312-FE3A-4999-84EF-295E554A57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E4A2-518C-4EB1-A843-8CB5D011A3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62D0-7200-404C-9F9C-0DC27DDA38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AA88-69D1-4047-A009-752B06F8579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6C13-7343-46B8-BB48-AC37AD2CA58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2571-3C00-46AD-ACB9-7C2EC6F2E49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ath-on-line.com/olympiada-math/logic-problems.html" TargetMode="External"/><Relationship Id="rId2" Type="http://schemas.openxmlformats.org/officeDocument/2006/relationships/hyperlink" Target="http://www.math-on-line.com/olympiada-edu/kenguru-math-56-geometria.html" TargetMode="External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28520" y="4996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ДАЧИ ПРАКТИЧЕСКОГО СОДЕРЖ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571480" y="47149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идалова Лариса Леонидовна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ОУ ЦО №47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. Иркутс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1" descr=""/>
          <p:cNvPicPr/>
          <p:nvPr/>
        </p:nvPicPr>
        <p:blipFill>
          <a:blip r:embed="rId1"/>
          <a:stretch/>
        </p:blipFill>
        <p:spPr>
          <a:xfrm>
            <a:off x="2143080" y="2357280"/>
            <a:ext cx="32148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71320" y="357120"/>
            <a:ext cx="7467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Металлический гараж в форме прямоугольного параллелепипеда  требуется окрасить снаружи краской. Расход краски 120 г на 1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Стоимость 1 банки краски 240 руб. Каковы затраты на приобретение краски для окраски гаража, если длина его 5,5 м, ширина 4,2 м; высота – 2 м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4214880" y="2307960"/>
            <a:ext cx="43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,2 · 5,5 = 23,1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тол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5,5 · 2 · 2 + 4,2 · 2 · 2  = 22 + 16,8 = 38,8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3,1 + 38,8 = 61,9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щая площадь для по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61,9 · 0,12 = 7,428 (кг) – масса 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7,428 : 2 = 3,714 (банок), т.е. 4 бан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 · 240 = 960 (руб.) – затраты на крас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96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428760" y="2643120"/>
            <a:ext cx="3500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642600" y="285840"/>
            <a:ext cx="746748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8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Сколько рулонов обоев (0,5 х 10 м) потребуется для оклейки стен детской комнаты, размеры которой 4 х 2,5 м. Высота комнаты 2,5 м. Дверь имеет размеры: ширина 0,8 м, высота 1,9 м. Окно: высота 1,4 м; ширина 1,55 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3857760" y="2090520"/>
            <a:ext cx="421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8 · 1,9 = 1,5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,4 · 1,55 = 2,17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ок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,52 + 2,17 = 4,34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 и ок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4+2,5) · 2 · 2,5  = 6,5 · 5 = 32,5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2,5 – 4,34 = 28,1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ля оклеи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5 · 10 = 5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1-го рул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8,16 : 5 = 5,632 ≈ 6 рул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6 рулонов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2146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71320" y="357120"/>
            <a:ext cx="7467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9.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ешено стены, пол, потолок обложить плиткой по цене 600 руб. за 1 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 Дверь имеет размеры 0,8 х 2 м. Сколько будет стоить вся плитка, если ее надо купить с запасом в 10%. Длина комнаты 1,8 м, ширина 2 м, высота 2,5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3929040" y="2161080"/>
            <a:ext cx="4214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,8 · 2 · 2 = 7,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ла и потол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1,8 + 2) · 2 · 2,5 = 3,8 · 5 = 19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8 · 2 = 1,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7,2 + 19 – 1,6 = 24,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ля укладки пл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4,6 · 0,1 = 2,4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запа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4,6 + 2,46 = 27,0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щая площадь пли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7,06 · 600 = 16236 (руб.) – стоимость всей пли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16236 рублей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2476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71320" y="428400"/>
            <a:ext cx="74674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0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ина спортзала 10 м, ширина 20 м, высота 5 м. Сколько кг кислорода содержится в этом зале, если 1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оздуха весит 1,3 кг, а вес кислорода составляет 0,21 веса воздух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4929120" y="286740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0 · 20 · 5 = 1000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ъем з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000 · 1,3 = 1300 (кг) – вес возду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300 · 0,21 = 273 (кг) – вес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273 кг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3703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71320" y="42876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11.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ченику необходимо сделать из проволоки модель прямоугольного параллелепипеда. Длина 8 см, ширина на 2 см меньше чем длина, а высота в 2 раза больше, чем ширина. Сколько сантиметров проволоки понадобится для изготовления модели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4214880" y="3083400"/>
            <a:ext cx="392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8-2 = 6 (см) – ширина параллелепип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6 · 2 – 12 (см) – высота параллелепип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 · 8 + 6 · 4 + 12 · 4 = 32 + 24+ 48 = 104 (см) – сумма длин всех ребер параллелепип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104 см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2971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42600" y="500040"/>
            <a:ext cx="7467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спользуемая 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олягин Ю.М. и Пикан В.В. О прикладной и практической направленности обучения математике // Математика в школе. 1985. © 6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Тихонов А.Н., Костомаров Д.П. Рассказы о прикладной математике. М.: Наука, 1974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Шапиро И. М. Использование задач с практическим содержанием в обучении математике. М.: Просвещение, 199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math-on-line.com/olympiada-math/logic-problems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math-on-line.com/olympiada-edu/kenguru-math-56-geometria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642760" y="1213920"/>
            <a:ext cx="37861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Решайте задачи практического содержания с удовольствием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6572160" y="285840"/>
            <a:ext cx="1986120" cy="2928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642960" y="4500720"/>
            <a:ext cx="2254320" cy="15001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5357880" y="3643200"/>
            <a:ext cx="2824200" cy="2500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4"/>
          <a:stretch/>
        </p:blipFill>
        <p:spPr>
          <a:xfrm>
            <a:off x="500040" y="785880"/>
            <a:ext cx="1728720" cy="2214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5"/>
          <a:stretch/>
        </p:blipFill>
        <p:spPr>
          <a:xfrm>
            <a:off x="3500280" y="3357720"/>
            <a:ext cx="17337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71320" y="356760"/>
            <a:ext cx="746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Решение задач практического содержания — один из способов повышения мотивации к изучению математи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Прямоугольник 3"/>
          <p:cNvSpPr/>
          <p:nvPr/>
        </p:nvSpPr>
        <p:spPr>
          <a:xfrm>
            <a:off x="642960" y="3214800"/>
            <a:ext cx="292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ажное значение в процессе обучения математике имеет понимание школьниками практической значимости учебного материала, перспективы его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4"/>
          <p:cNvSpPr/>
          <p:nvPr/>
        </p:nvSpPr>
        <p:spPr>
          <a:xfrm>
            <a:off x="3929040" y="31431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ля привития интереса к предмету необходимо, чтобы каждое новое понятие или положение находило применение в задачах практического характера, в реальной жизни. Именно это убеждает школьников в том, что математика наука полезная, необходимая во всех видах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7429680" y="785880"/>
            <a:ext cx="1357200" cy="1995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14288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00040" y="428760"/>
            <a:ext cx="768672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д задачей с практическим содержанием понимается математическая задача, которая раскрывает приложения математики в окружающей нас действительности, в смежных дисциплинах, знакомит с ее использованием в организации, технологии и экономике современного производства, в сфере обслуживания, в быту, при выполнении трудовых операц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2428920" y="3084480"/>
            <a:ext cx="614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Задачи с практическим содержанием целесообразно использовать в процессе обучения для раскрытия многообразия применений математики в жизни, своеобразия отражения ею реального мира и достижения таких дидактических целей ка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отивация введения новых математических понятий и мет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иллюстрация учеб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закрепление и углубление знаний по предмет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формирование практических умений и навыков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214200" y="3929040"/>
            <a:ext cx="2022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71320" y="428400"/>
            <a:ext cx="771516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детском оздоровительном центре делают бассейн цилиндрической формы. Длина окружности его основания равна 36 м, высота – 1,2 м. Стены бассейна выкладывают плиткой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колько кг клея нужно приобрести, если на 1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расходуется 2 кг клея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4643280" y="2496240"/>
            <a:ext cx="371484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Развертка боковой поверхности цилиндра представляет прямоугольник со сторонами 36 м и 1,2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6 · 1,2 = 43,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боковой поверхности бассе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3,2 · 2 = 46,4 (кг) – масса к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46,4 кг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71680" y="2571840"/>
            <a:ext cx="3836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320" y="285480"/>
            <a:ext cx="74674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Решено стены учебной комнаты покрасить краской. Высота комнаты – 2,5 м, длина 8 м, ширина 6 м. Дверь имеет размеры: высота – 2 м, ширина – 0,9м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Найти стоимость работ, если действует сезонная скидка 10%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оимость приведена в таблиц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14240" y="1714680"/>
          <a:ext cx="3635640" cy="928440"/>
        </p:xfrm>
        <a:graphic>
          <a:graphicData uri="http://schemas.openxmlformats.org/drawingml/2006/table">
            <a:tbl>
              <a:tblPr/>
              <a:tblGrid>
                <a:gridCol w="766800"/>
                <a:gridCol w="860400"/>
                <a:gridCol w="1239840"/>
                <a:gridCol w="768600"/>
              </a:tblGrid>
              <a:tr h="3092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в руб. за 1м</a:t>
                      </a:r>
                      <a:r>
                        <a:rPr b="0" i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 д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 д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д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Rectangle 2"/>
          <p:cNvSpPr/>
          <p:nvPr/>
        </p:nvSpPr>
        <p:spPr>
          <a:xfrm>
            <a:off x="4572000" y="1864440"/>
            <a:ext cx="41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6 · 2,5 = 18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боковой сте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8 · 2,5 = 20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задней сте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428760" y="3143160"/>
            <a:ext cx="3214440" cy="238464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3"/>
          <p:cNvSpPr/>
          <p:nvPr/>
        </p:nvSpPr>
        <p:spPr>
          <a:xfrm>
            <a:off x="4500720" y="3300480"/>
            <a:ext cx="4214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52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8 · 2 + 20 · 2 = 36 + 40 = 7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всех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· 0,9 = 1,8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76 – 1,8 = 74,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ля по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74,2 · 55 = 4081 руб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081 : 100 · 10 = 4081 · 0,1 = 408,1 (руб.) – скид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081 – 408,1 = 3672,9 (руб.) – стоимость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3672,9 руб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71320" y="428760"/>
            <a:ext cx="746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дне аквариума прямоугольной формы лежит куб с ребром 15 см. При  этом уровень воды в аквариуме 32,25 см. Каким будет уровень воды в аквариуме после того, как куб вынули? Длина аквариума 50 см, ширина 30с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1" descr=""/>
          <p:cNvPicPr/>
          <p:nvPr/>
        </p:nvPicPr>
        <p:blipFill>
          <a:blip r:embed="rId1"/>
          <a:stretch/>
        </p:blipFill>
        <p:spPr>
          <a:xfrm>
            <a:off x="214200" y="20718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3714840" y="2581560"/>
            <a:ext cx="492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5 · 15 · 15 = 3375 (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ъем куб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50 · 30 · 32,25 = 48375 (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воды в аквариу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8375 – 3375 = 45000 (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объем без куб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т.к.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V = a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, 45000 = 15 · 30 · с,   с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0 см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2"/>
          <a:stretch/>
        </p:blipFill>
        <p:spPr>
          <a:xfrm>
            <a:off x="2143080" y="4929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71320" y="356760"/>
            <a:ext cx="778644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Хозяйка квартиры решила покрасить стены чулана на высоту 1,5 м от пола. Какое количество краски (кг) нужно приобрести, если на 1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расходуется 300 граммов краски (дверь 0,8 м на 2 м не красится). Длина чулана 3 м, ширина 2 м, высота 2,5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1" descr=""/>
          <p:cNvPicPr/>
          <p:nvPr/>
        </p:nvPicPr>
        <p:blipFill>
          <a:blip r:embed="rId1"/>
          <a:stretch/>
        </p:blipFill>
        <p:spPr>
          <a:xfrm>
            <a:off x="428760" y="3286080"/>
            <a:ext cx="3133440" cy="23576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643200" y="2795760"/>
            <a:ext cx="478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· (2+3) · 1,5 = 2· 5· 1,5 = 15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боковой поверх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8 · 1,5 = 1,2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5 – 1,2 – 13,8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д покрас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3,8 · 0,3 = 4,14 (кг) – масса 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4,14 (кг)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42600" y="285480"/>
            <a:ext cx="746748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Стены и потолок ванной комнаты решили выложить кафельной плиткой.  Какое количество клея нужно приобрести, если на 1 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расходуется 1,4 кг клея. Размеры комнаты: длина 3 м, ширина 2 м, высота 2,5 м. Дверь 0,8 м на 2 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4143240" y="2797560"/>
            <a:ext cx="4214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· 3 = 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тол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 · 0,8 = 1,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 · 2 · 2,5 + 2 · 2,5 · 2  = 15 + 10 = 25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5 + 6 – 1,6 = 31 – 1,6 = 29,4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д покрас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9,4 · 1,4 = 41,16 (кг) – масса кл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41,16 (кг)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500040" y="2643120"/>
            <a:ext cx="33433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99680" y="2142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В детской школе искусств для класса хореографии оклеивают стены обоями, зал имеет форму прямоугольного параллелепипеда. С целью гигиены, обои начинают клеить на расстоянии 1,2 м  от пола. Длина зала 15 м, высота 3,4 м, ширина 7,5 м. Сколько рулонов обоев шириной 1 м, длиной 10 м, нужно купить, если дверь шириной 0,8 м, высотой 2 м не оклеивают? На подбор рисунка берут обои с 15% запасом от необходимого количеств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14200" y="3429000"/>
            <a:ext cx="3706920" cy="20718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000680" y="2449800"/>
            <a:ext cx="442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15 + 7,5) · 2 · 2,2  = 99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боковых ст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0,8 · 0,5 = 0,40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дв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99 – 0,4 = 98,6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под заклей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 · 10 = 10 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 – площадь 1-го рул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98,6 : 10 = 9,86 (рулон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9,86 · 1,15 = 11,339 рулонов ≈ 12 рулон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12 рулонов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1:17:18Z</dcterms:created>
  <dc:creator>лариса</dc:creator>
  <dc:description/>
  <dc:language>en-US</dc:language>
  <cp:lastModifiedBy>User</cp:lastModifiedBy>
  <dcterms:modified xsi:type="dcterms:W3CDTF">2015-01-19T08:09:49Z</dcterms:modified>
  <cp:revision>22</cp:revision>
  <dc:subject/>
  <dc:title>Задачи практического содержания</dc:title>
</cp:coreProperties>
</file>