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747-07FE-42C0-A324-3870869F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956-E39B-4A8F-BBE1-E3DCC562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838-9ABB-47BE-BC51-F9AC930E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C93-CE08-480D-9A60-928D72D0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E029-AF3A-4D8B-A63F-C952A38D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A6EA-9F78-4966-9143-CCA2F4E8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271E-2C48-4F64-A0CB-053407CE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CF92-7527-49AA-9F8B-7BE85DD2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2845-8047-4EBA-A062-39E64735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BE0F-FCDF-4F29-AD94-C05A8AE9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36AF-FF65-48E0-BBDD-8EC13BAC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852-FA58-4B25-8731-EAA173CD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DA09-C8DF-4792-90A3-88DA14F8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1847-F007-44E7-8E17-BD66CECC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250-2451-4A79-9506-8F2A5206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E2D5-3A2A-46C0-9415-F89D47E7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8D43-EBAC-4FD1-98BE-B4885721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455FE-6CBF-4FF1-BA8A-B32F628E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4327E-709F-44D4-840A-3CA89DFA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E1D7C-5E2F-449F-8D14-6A8F86E5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5EA1C-99E5-4D01-98A5-1DCE63C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00E76-F25A-4D89-A521-DD03CBD4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6D9-3EDB-4D59-AB65-11F7E94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C7CBD-D51E-4C11-A964-FAB7EA75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014E9-91B7-4ED6-95B0-CB7C672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85664-9781-4E64-B763-9C1776C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84E80-A4AC-42F9-A741-2D581BF3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193D5-4A6B-405A-9621-95BA6762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3FBEA-4512-4033-9D13-FC015F4A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84DB6-6732-4352-A9B9-D852BD8C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C49D-1260-4DF5-B58B-AE8DD685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0334-46C7-4F6E-8604-DD29964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5B05-F915-408A-815D-E583F6D2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1EE-225A-489B-94DA-AE865541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91E0-FA58-45DA-AE97-CBAEFBBD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E03B-8883-4667-84F8-5699B7F6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7F4B-A84D-4BAF-97CE-13ECA6B6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FF9DB-433C-41DD-AEA9-3C9B3979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6E3A5-A1F2-4E6C-935C-89969FE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D54C-F6DD-47A5-B476-AEB20C28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4244-BDBA-4251-946A-B41C5F7B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DE5E-C9F5-48DA-8DC7-449BBA6D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D214-1CE7-4D97-8077-DFFF362C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9E0D5-437E-444E-8D63-11537B4A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D15-BFF4-44F8-9BE5-965BC5C3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B50D2-F467-450A-B859-A8F615F3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D7BC1-A4E5-4355-BFD5-7A5A9E74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ACB4C-6B20-437D-BF91-D20CE127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722DE-1042-4591-B537-2E4DD3D2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3F36A-A74C-4F97-ABF1-5EAC1AD9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F57AE-7C84-41E7-A159-352AA992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CD4EB-1525-4566-9598-7DAA401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DA57C-52AD-44B9-BE5B-7647EEB5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5E06B-D335-4937-A924-2295E306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EFD01-526D-4D11-ACBC-7F30B5B5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17B-4A9A-45C2-8CF7-4DF6D92D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1B7E3-6DE9-4DE1-AE99-80108241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B2A8F-209F-45AE-BBB4-E853127A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35E3F-D4B9-4CFF-9A98-EB35B20B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D0BAD-2478-4928-87C4-42035685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1537A-C77C-41D0-AA56-51CF32DA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861D2-7EA6-4064-B565-CCB17654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47434-7101-419F-A859-4B1C62D1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C9C9D-1D70-4FC0-8349-2555F70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CB0C2-D8AD-4062-B30B-CBD9E8F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D7B6B-E6E0-48BB-853A-924D903A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5BF-F7CB-4C6D-95E5-04CB49C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DA015-4B8F-4063-BC57-CA0282C6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01B4B-E688-4BA7-AF86-478FB6B7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E7960-8767-4DC8-924F-BBFD1438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63838-AF77-45B2-A5DE-50757212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A1470-F44F-4F85-9A74-7ED1BC5B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B1E28-582E-4EB8-B737-12FF299D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8DDFE-835B-4ACE-B617-6B04CC64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70678-344D-453B-9BB7-9120121A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8D022-3679-4EA1-B223-4DD7C18F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6AFEC-DAA1-46C8-B735-BEBD428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5B8-8E41-4D25-BE89-1AAF739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9E31A-3C26-4284-8E73-1ADA4B53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01461-3CA0-4316-A5F1-F0180733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5914D-14F7-4A78-BAC0-31DD8F8F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BE9ED-6A26-4375-891B-9F4D7BF7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E776D-BE7C-4D49-A932-44C846DF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ACE-DCFF-43EF-BB04-44293770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32ED-9EFA-442E-B1DE-DB60A8D69D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CACE-BE2B-4B62-A488-FABFE7DB26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DFF8-7A53-4260-8F0A-3569F8507C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4518-D32F-4DA8-AC36-2ECFBFBD23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1C87-FDCB-434C-B5DB-213586BD9B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9424-91BD-4EB1-BFA9-5821A94F04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259-6DC6-412F-B663-FFB5202A14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ath-on-line.com/olympiada-math/logic-problems.html" TargetMode="External"/><Relationship Id="rId2" Type="http://schemas.openxmlformats.org/officeDocument/2006/relationships/hyperlink" Target="http://www.math-on-line.com/olympiada-edu/kenguru-math-56-geometria.html" TargetMode="External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28520" y="4996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И ПРАКТИЧЕСКОГО СОДЕРЖ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71480" y="471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идалова Лариса Леонидовна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ОУ ЦО №47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. Иркутс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" descr=""/>
          <p:cNvPicPr/>
          <p:nvPr/>
        </p:nvPicPr>
        <p:blipFill>
          <a:blip r:embed="rId1"/>
          <a:stretch/>
        </p:blipFill>
        <p:spPr>
          <a:xfrm>
            <a:off x="2143080" y="2357280"/>
            <a:ext cx="32148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71320" y="357120"/>
            <a:ext cx="7467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еталлический гараж в форме прямоугольного параллелепипеда  требуется окрасить снаружи краской. Расход краски 120 г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Стоимость 1 банки краски 240 руб. Каковы затраты на приобретение краски для окраски гаража, если длина его 5,5 м, ширина 4,2 м; высота – 2 м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4214880" y="2307960"/>
            <a:ext cx="43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,2 · 5,5 = 23,1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тол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5,5 · 2 · 2 + 4,2 · 2 · 2  = 22 + 16,8 = 38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3,1 + 38,8 = 61,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щая площадь для по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1,9 · 0,12 = 7,428 (кг) – масса 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,428 : 2 = 3,714 (банок), т.е. 4 ба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 · 240 = 960 (руб.) – затраты на кра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96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3500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42600" y="285840"/>
            <a:ext cx="746748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8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Сколько рулонов обоев (0,5 х 10 м) потребуется для оклейки стен детской комнаты, размеры которой 4 х 2,5 м. Высота комнаты 2,5 м. Дверь имеет размеры: ширина 0,8 м, высота 1,9 м. Окно: высота 1,4 м; ширина 1,55 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3857760" y="2090520"/>
            <a:ext cx="42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1,9 = 1,5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4 · 1,55 = 2,17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ок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52 + 2,17 = 4,34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 и ок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4+2,5) · 2 · 2,5  = 6,5 · 5 = 32,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2,5 – 4,34 = 28,1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окле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5 · 10 = 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1-го рул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8,16 : 5 = 5,632 ≈ 6 рул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6 рулоно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2146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71320" y="357120"/>
            <a:ext cx="7467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9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шено стены, пол, потолок обложить плиткой по цене 600 руб. за 1 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 Дверь имеет размеры 0,8 х 2 м. Сколько будет стоить вся плитка, если ее надо купить с запасом в 10%. Длина комнаты 1,8 м, ширина 2 м, высота 2,5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3929040" y="2161080"/>
            <a:ext cx="4214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8 · 2 · 2 = 7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ла и потол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1,8 + 2) · 2 · 2,5 = 3,8 · 5 = 1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2 = 1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,2 + 19 – 1,6 = 24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укладки пл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4,6 · 0,1 = 2,4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зап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4,6 + 2,46 = 27,0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щая площадь пли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7,06 · 600 = 16236 (руб.) – стоимость всей пли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6236 рублей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2476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71320" y="428400"/>
            <a:ext cx="74674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ина спортзала 10 м, ширина 20 м, высота 5 м. Сколько кг кислорода содержится в этом зале, если 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оздуха весит 1,3 кг, а вес кислорода составляет 0,21 веса воздух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4929120" y="286740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0 · 20 · 5 = 100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з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000 · 1,3 = 1300 (кг) – вес возду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300 · 0,21 = 273 (кг) – вес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273 кг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3703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71320" y="42876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11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ченику необходимо сделать из проволоки модель прямоугольного параллелепипеда. Длина 8 см, ширина на 2 см меньше чем длина, а высота в 2 раза больше, чем ширина. Сколько сантиметров проволоки понадобится для изготовления модели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4214880" y="3083400"/>
            <a:ext cx="392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8-2 = 6 (см) – ширина параллелепип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 · 2 – 12 (см) – высота параллелепип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 · 8 + 6 · 4 + 12 · 4 = 32 + 24+ 48 = 104 (см) – сумма длин всех ребер параллелепи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04 см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2971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42600" y="500040"/>
            <a:ext cx="7467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олягин Ю.М. и Пикан В.В. О прикладной и практической направленности обучения математике // Математика в школе. 1985. © 6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Тихонов А.Н., Костомаров Д.П. Рассказы о прикладной математике. М.: Наука, 1974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Шапиро И. М. Использование задач с практическим содержанием в обучении математике. М.: Просвещение, 199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math-on-line.com/olympiada-math/logic-problems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math-on-line.com/olympiada-edu/kenguru-math-56-geometria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642760" y="1213920"/>
            <a:ext cx="3786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Решайте задачи практического содержания с удовольствием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6572160" y="285840"/>
            <a:ext cx="1986120" cy="2928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642960" y="4500720"/>
            <a:ext cx="2254320" cy="1500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5357880" y="3643200"/>
            <a:ext cx="2824200" cy="2500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4"/>
          <a:stretch/>
        </p:blipFill>
        <p:spPr>
          <a:xfrm>
            <a:off x="500040" y="785880"/>
            <a:ext cx="1728720" cy="2214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5"/>
          <a:stretch/>
        </p:blipFill>
        <p:spPr>
          <a:xfrm>
            <a:off x="3500280" y="3357720"/>
            <a:ext cx="17337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71320" y="356760"/>
            <a:ext cx="746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ешение задач практического содержания — один из способов повышения мотивации к изучению матема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оугольник 3"/>
          <p:cNvSpPr/>
          <p:nvPr/>
        </p:nvSpPr>
        <p:spPr>
          <a:xfrm>
            <a:off x="642960" y="321480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ажное значение в процессе обучения математике имеет понимание школьниками практической значимости учебного материала, перспективы е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3929040" y="31431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я привития интереса к предмету необходимо, чтобы каждое новое понятие или положение находило применение в задачах практического характера, в реальной жизни. Именно это убеждает школьников в том, что математика наука полезная, необходимая во всех вида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7429680" y="785880"/>
            <a:ext cx="1357200" cy="1995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1428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00040" y="428760"/>
            <a:ext cx="768672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д задачей с практическим содержанием понимается математическая задача, которая раскрывает приложения математики в окружающей нас действительности, в смежных дисциплинах, знакомит с ее использованием в организации, технологии и экономике современного производства, в сфере обслуживания, в быту, при выполнении трудовых операц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2428920" y="3084480"/>
            <a:ext cx="614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дачи с практическим содержанием целесообразно использовать в процессе обучения для раскрытия многообразия применений математики в жизни, своеобразия отражения ею реального мира и достижения таких дидактических целей к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отивация введения новых математических понятий и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иллюстрация учеб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крепление и углубление знаний по предмет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формирование практических умений и навыков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14200" y="3929040"/>
            <a:ext cx="2022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71320" y="428400"/>
            <a:ext cx="771516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детском оздоровительном центре делают бассейн цилиндрической формы. Длина окружности его основания равна 36 м, высота – 1,2 м. Стены бассейна выкладывают плиткой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колько кг клея нужно приобрести, если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асходуется 2 кг клея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4643280" y="2496240"/>
            <a:ext cx="371484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Развертка боковой поверхности цилиндра представляет прямоугольник со сторонами 36 м и 1,2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6 · 1,2 = 43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поверхности бассе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3,2 · 2 = 46,4 (кг) – масса к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6,4 кг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71680" y="2571840"/>
            <a:ext cx="3836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320" y="285480"/>
            <a:ext cx="74674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ешено стены учебной комнаты покрасить краской. Высота комнаты – 2,5 м, длина 8 м, ширина 6 м. Дверь имеет размеры: высота – 2 м, ширина – 0,9м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йти стоимость работ, если действует сезонная скидка 10%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оимость приведена в таблиц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14240" y="1714680"/>
          <a:ext cx="3635640" cy="928440"/>
        </p:xfrm>
        <a:graphic>
          <a:graphicData uri="http://schemas.openxmlformats.org/drawingml/2006/table">
            <a:tbl>
              <a:tblPr/>
              <a:tblGrid>
                <a:gridCol w="766800"/>
                <a:gridCol w="860400"/>
                <a:gridCol w="1239840"/>
                <a:gridCol w="768600"/>
              </a:tblGrid>
              <a:tr h="3092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в руб. за 1м</a:t>
                      </a:r>
                      <a:r>
                        <a:rPr b="0" i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Rectangle 2"/>
          <p:cNvSpPr/>
          <p:nvPr/>
        </p:nvSpPr>
        <p:spPr>
          <a:xfrm>
            <a:off x="4572000" y="1864440"/>
            <a:ext cx="41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 · 2,5 = 1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ст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8 · 2,5 = 2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задней ст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428760" y="3143160"/>
            <a:ext cx="3214440" cy="23846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3"/>
          <p:cNvSpPr/>
          <p:nvPr/>
        </p:nvSpPr>
        <p:spPr>
          <a:xfrm>
            <a:off x="4500720" y="3300480"/>
            <a:ext cx="4214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52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8 · 2 + 20 · 2 = 36 + 40 = 7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всех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0,9 = 1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6 – 1,8 = 74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по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4,2 · 55 = 4081 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081 : 100 · 10 = 4081 · 0,1 = 408,1 (руб.) – скид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081 – 408,1 = 3672,9 (руб.) – стоимость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3672,9 руб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320" y="428760"/>
            <a:ext cx="746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дне аквариума прямоугольной формы лежит куб с ребром 15 см. При  этом уровень воды в аквариуме 32,25 см. Каким будет уровень воды в аквариуме после того, как куб вынули? Длина аквариума 50 см, ширина 30с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214200" y="20718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3714840" y="25815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5 · 15 · 15 = 3375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ку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50 · 30 · 32,25 = 48375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воды в аквариу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8375 – 3375 = 45000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без ку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т.к.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V = a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, 45000 = 15 · 30 · с,   с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0 см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2143080" y="4929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71320" y="356760"/>
            <a:ext cx="778644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Хозяйка квартиры решила покрасить стены чулана на высоту 1,5 м от пола. Какое количество краски (кг) нужно приобрести, если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асходуется 300 граммов краски (дверь 0,8 м на 2 м не красится). Длина чулана 3 м, ширина 2 м, высота 2,5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428760" y="3286080"/>
            <a:ext cx="3133440" cy="23576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643200" y="279576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(2+3) · 1,5 = 2· 5· 1,5 = 1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поверх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1,5 = 1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5 – 1,2 – 13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покрас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3,8 · 0,3 = 4,14 (кг) – масса 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,14 (кг)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42600" y="285480"/>
            <a:ext cx="746748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Стены и потолок ванной комнаты решили выложить кафельной плиткой.  Какое количество клея нужно приобрести, если на 1 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расходуется 1,4 кг клея. Размеры комнаты: длина 3 м, ширина 2 м, высота 2,5 м. Дверь 0,8 м на 2 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4143240" y="2797560"/>
            <a:ext cx="4214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3 = 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тол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0,8 = 1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 · 2 · 2,5 + 2 · 2,5 · 2  = 15 + 10 = 2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5 + 6 – 1,6 = 31 – 1,6 = 29,4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покрас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9,4 · 1,4 = 41,16 (кг) – масса кл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1,16 (кг)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00040" y="2643120"/>
            <a:ext cx="33433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99680" y="2142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 детской школе искусств для класса хореографии оклеивают стены обоями, зал имеет форму прямоугольного параллелепипеда. С целью гигиены, обои начинают клеить на расстоянии 1,2 м  от пола. Длина зала 15 м, высота 3,4 м, ширина 7,5 м. Сколько рулонов обоев шириной 1 м, длиной 10 м, нужно купить, если дверь шириной 0,8 м, высотой 2 м не оклеивают? На подбор рисунка берут обои с 15% запасом от необходимого количест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14200" y="3429000"/>
            <a:ext cx="3706920" cy="20718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000680" y="2449800"/>
            <a:ext cx="442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15 + 7,5) · 2 · 2,2  = 9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ых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0,5 = 0,4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9 – 0,4 = 98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заклей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 · 10 = 1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1-го рул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8,6 : 10 = 9,86 (рулон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,86 · 1,15 = 11,339 рулонов ≈ 12 рулон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2 рулоно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1:17:18Z</dcterms:created>
  <dc:creator>лариса</dc:creator>
  <dc:description/>
  <dc:language>en-US</dc:language>
  <cp:lastModifiedBy>User</cp:lastModifiedBy>
  <dcterms:modified xsi:type="dcterms:W3CDTF">2015-01-19T08:09:49Z</dcterms:modified>
  <cp:revision>22</cp:revision>
  <dc:subject/>
  <dc:title>Задачи практического содержания</dc:title>
</cp:coreProperties>
</file>