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36B-B988-4B65-B195-B992DBD0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59F-BED3-4EA0-BE74-7CC0C307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084-1F29-4CC3-B146-3FD8DC45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359-FA7D-44CD-A309-1BDB9D77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DBA2-E458-487B-A295-8136CC05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BD97-2076-4E84-AF37-606505F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0DAB-1BFE-47D3-9CBB-71B8A346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7FD1-444D-4C31-9188-E8237359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D5F-685A-42C2-A6E6-FF7D4B91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B0F3-BF3A-478D-AE65-3DF4488F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3C8D-6935-4E6F-BCAF-E70ED884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9D5-C55A-4BC2-874A-C9A4E831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E539-783E-439D-9749-8C002592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53A3-5A5B-4398-ADFD-4223A3C1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F4D6-A258-4B63-9B69-D2C7731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67F8-9FC0-4657-9D61-1CA950A4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EAB2-E567-46BB-B773-6A052CFC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EF916-34A5-45DC-B06C-B438A610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6B30D-2278-4F05-BA54-31CF5C0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A5A9D-2E76-416C-B6D0-B0331C85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7BF2E-6704-4F96-A698-0FADF9EC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26648-C5A6-45F5-81DD-0373BE40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A4D-8EB8-4F5C-9DAB-C4E05E8B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B1DCC-A064-4120-B4C1-64B912A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F878A-6958-49B2-AE9E-C31D832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68F68-DB63-4ADF-B7BD-CEA1F60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15F53-A030-4E42-B4B8-94839AC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67B0E-D0FA-4A35-B223-DB7DBBFA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7C7CF-6C95-4C49-A4A1-4970732C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58DAF-AC41-4AFC-AB36-543980F4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3839-10E6-491A-93E5-0DF5B73E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CEA6-B5B5-44A3-A564-EFEA792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B387-0C94-4B1C-A942-4261F1C5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38F-0DA8-4693-9D60-3EDB2913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2C03-CD88-40DB-8F82-46C7734A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8AE5-42AE-4653-A37F-48B71932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DCB6-6FD8-4C83-9BE0-958696A0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C4D5-ACC8-4E8D-8D9F-C2E77935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E774-D141-4B17-81B7-C7561681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7558-B3FE-45D4-AE0F-FDB89CA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7BF5-8167-4B66-A31C-A4DEABBA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B403-9E80-4C76-A977-EE771462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8699-B94B-4DB8-8EA0-99C8BAFB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7D735-2399-4165-B4A3-B4A56881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591-AEDF-4E59-81A4-8992EA63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E7345-E03A-416B-928B-BE684869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A7731-CFD7-4FE9-92D2-4DBD1B8B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BDA43-F5CE-4386-B175-E593A5A5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7489D-1AB9-45C8-878E-CB29C0C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8A0E8-37D6-4172-BC2A-1BE449F8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8E129-E7F2-437F-A405-0E041E4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6DD66-5BB8-4ADB-8AE3-45EB75A9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F1FE7-B0EE-4CDC-AF0D-9E1EBA2B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39CBF-0A1A-4E1C-A096-AF76C8E5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A2582-7557-4DE9-A63E-FF4682F7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76B-5FFE-4213-8ABD-B0B93A71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03392-AD20-4BF7-A249-87DF1C26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8D5AE-4B2D-464B-BDD4-1D99A426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FCFCA-742B-4199-A618-223F9EB7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AF153-A0FF-467D-A9F7-48B3098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06AEC-73CB-4C7A-9333-FB048DF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19B7B-4A70-408B-A4AA-FEC8B5A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CF200-59B1-4370-B577-A5C4F91D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72400-73A1-4DE0-9F93-C8FCC64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094E5-81F1-4DE1-B4CE-F1DA52F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B06C6-8D18-4E05-ABF7-4DEA7926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D35-2768-400C-AFFA-781783B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F6C02-CF8B-422B-A758-3604AF99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2C31B-B272-4410-9F87-7B128DDC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90F59-E226-4AC0-87F1-1829FDC0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B1CDB-BDCB-4BD4-BB49-78E44165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EFBE1-0103-455D-A156-50838F70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9105A-AFD8-4539-BB7A-D3E9A993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3E28D-DB6E-4ECF-B4B2-FF9D6ED9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9970A-A296-4893-9BD4-06D6BC5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63E32-20C1-4FB8-BF85-BE789A5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977E3-90DB-406A-98FC-25535E8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542-6AEC-4B11-BC97-32437F2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D2B334-6D5A-4622-A432-834B0614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BA9A4-1856-4BE7-83F1-24DC1355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F776B-80F2-4AC6-BA49-6FFA3EC1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66084-3D87-43AF-A04D-BCF25765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00BA7-4E85-4EED-83FB-916A457E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785-9B2C-4030-B710-208D9B68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025B-31CC-4B1C-ABDF-7089C53CD7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2199-B6ED-4343-BA71-E2F3F547FB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CA7C-451C-42F6-A079-7F4D02C2E4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5962-BC07-4932-ADF8-B13E35C9C8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8583-055B-4466-84B2-024BB37B549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F1E3-14DC-431B-8387-0C654194C2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D489-C607-4F3A-8447-B5000FAEB7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ath-on-line.com/olympiada-math/logic-problems.html" TargetMode="External"/><Relationship Id="rId2" Type="http://schemas.openxmlformats.org/officeDocument/2006/relationships/hyperlink" Target="http://www.math-on-line.com/olympiada-edu/kenguru-math-56-geometria.html" TargetMode="External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28520" y="4996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ПРАКТИЧЕСКОГО СОДЕРЖ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71480" y="471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идалова Лариса Леонидовна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ОУ ЦО №47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. Иркутс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2143080" y="2357280"/>
            <a:ext cx="3214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71320" y="35712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еталлический гараж в форме прямоугольного параллелепипеда  требуется окрасить снаружи краской. Расход краски 120 г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Стоимость 1 банки краски 240 руб. Каковы затраты на приобретение краски для окраски гаража, если длина его 5,5 м, ширина 4,2 м; высота – 2 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4214880" y="2307960"/>
            <a:ext cx="43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,2 · 5,5 = 23,1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тол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5,5 · 2 · 2 + 4,2 · 2 · 2  = 22 + 16,8 = 38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3,1 + 38,8 = 61,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щая площадь для по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1,9 · 0,12 = 7,428 (кг) – масса 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,428 : 2 = 3,714 (банок), т.е. 4 ба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 · 240 = 960 (руб.) – затраты на кра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96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3500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42600" y="285840"/>
            <a:ext cx="746748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Сколько рулонов обоев (0,5 х 10 м) потребуется для оклейки стен детской комнаты, размеры которой 4 х 2,5 м. Высота комнаты 2,5 м. Дверь имеет размеры: ширина 0,8 м, высота 1,9 м. Окно: высота 1,4 м; ширина 1,55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857760" y="2090520"/>
            <a:ext cx="42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1,9 = 1,5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4 · 1,55 = 2,17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ок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52 + 2,17 = 4,34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 и ок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4+2,5) · 2 · 2,5  = 6,5 · 5 = 32,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2,5 – 4,34 = 28,1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окле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5 · 10 = 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1-го ру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8,16 : 5 = 5,632 ≈ 6 рул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6 рулоно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2146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71320" y="35712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шено стены, пол, потолок обложить плиткой по цене 600 руб. з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 Дверь имеет размеры 0,8 х 2 м. Сколько будет стоить вся плитка, если ее надо купить с запасом в 10%. Длина комнаты 1,8 м, ширина 2 м, высота 2,5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3929040" y="2161080"/>
            <a:ext cx="4214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8 · 2 · 2 = 7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ла и потол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1,8 + 2) · 2 · 2,5 = 3,8 · 5 = 1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2 = 1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,2 + 19 – 1,6 = 24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укладки пл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4,6 · 0,1 = 2,4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зап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4,6 + 2,46 = 27,0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щая площадь пли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7,06 · 600 = 16236 (руб.) – стоимость всей пли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6236 рублей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2476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71320" y="428400"/>
            <a:ext cx="74674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ина спортзала 10 м, ширина 20 м, высота 5 м. Сколько кг кислорода содержится в этом зале, если 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оздуха весит 1,3 кг, а вес кислорода составляет 0,21 веса воздух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4929120" y="286740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0 · 20 · 5 = 100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з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000 · 1,3 = 1300 (кг) – вес возду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300 · 0,21 = 273 (кг) – вес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273 кг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3703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71320" y="42876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11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ченику необходимо сделать из проволоки модель прямоугольного параллелепипеда. Длина 8 см, ширина на 2 см меньше чем длина, а высота в 2 раза больше, чем ширина. Сколько сантиметров проволоки понадобится для изготовления модели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4214880" y="3083400"/>
            <a:ext cx="392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8-2 = 6 (см) – ширина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 · 2 – 12 (см) – высота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 · 8 + 6 · 4 + 12 · 4 = 32 + 24+ 48 = 104 (см) – сумма длин всех ребер параллелепи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04 см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2971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42600" y="500040"/>
            <a:ext cx="7467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олягин Ю.М. и Пикан В.В. О прикладной и практической направленности обучения математике // Математика в школе. 1985. © 6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Тихонов А.Н., Костомаров Д.П. Рассказы о прикладной математике. М.: Наука, 1974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Шапиро И. М. Использование задач с практическим содержанием в обучении математике. М.: Просвещение, 199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math-on-line.com/olympiada-math/logic-problems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math-on-line.com/olympiada-edu/kenguru-math-56-geometria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642760" y="1213920"/>
            <a:ext cx="3786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Решайте задачи практического содержания с удовольствием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6572160" y="285840"/>
            <a:ext cx="1986120" cy="2928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642960" y="4500720"/>
            <a:ext cx="2254320" cy="1500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5357880" y="3643200"/>
            <a:ext cx="2824200" cy="2500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4"/>
          <a:stretch/>
        </p:blipFill>
        <p:spPr>
          <a:xfrm>
            <a:off x="500040" y="785880"/>
            <a:ext cx="1728720" cy="2214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5"/>
          <a:stretch/>
        </p:blipFill>
        <p:spPr>
          <a:xfrm>
            <a:off x="3500280" y="3357720"/>
            <a:ext cx="17337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71320" y="356760"/>
            <a:ext cx="746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ешение задач практического содержания — один из способов повышения мотивации к изучению матема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оугольник 3"/>
          <p:cNvSpPr/>
          <p:nvPr/>
        </p:nvSpPr>
        <p:spPr>
          <a:xfrm>
            <a:off x="642960" y="321480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ажное значение в процессе обучения математике имеет понимание школьниками практической значимости учебного материала, перспективы е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3929040" y="31431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я привития интереса к предмету необходимо, чтобы каждое новое понятие или положение находило применение в задачах практического характера, в реальной жизни. Именно это убеждает школьников в том, что математика наука полезная, необходимая во все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7429680" y="785880"/>
            <a:ext cx="1357200" cy="1995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1428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00040" y="428760"/>
            <a:ext cx="768672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д задачей с практическим содержанием понимается математическая задача, которая раскрывает приложения математики в окружающей нас действительности, в смежных дисциплинах, знакомит с ее использованием в организации, технологии и экономике современного производства, в сфере обслуживания, в быту, при выполнении трудовых операц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2428920" y="3084480"/>
            <a:ext cx="614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дачи с практическим содержанием целесообразно использовать в процессе обучения для раскрытия многообразия применений математики в жизни, своеобразия отражения ею реального мира и достижения таких дидактических целей к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отивация введения новых математических понятий и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иллюстрация учеб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крепление и углубление знаний по предмет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формирование практических умений и навыков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14200" y="3929040"/>
            <a:ext cx="2022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71320" y="428400"/>
            <a:ext cx="771516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детском оздоровительном центре делают бассейн цилиндрической формы. Длина окружности его основания равна 36 м, высота – 1,2 м. Стены бассейна выкладывают плиткой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колько кг клея нужно приобрести, если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асходуется 2 кг клея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4643280" y="2496240"/>
            <a:ext cx="37148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Развертка боковой поверхности цилиндра представляет прямоугольник со сторонами 36 м и 1,2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6 · 1,2 = 43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поверхности бассе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3,2 · 2 = 46,4 (кг) – масса к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6,4 кг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71680" y="2571840"/>
            <a:ext cx="3836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320" y="285480"/>
            <a:ext cx="74674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ешено стены учебной комнаты покрасить краской. Высота комнаты – 2,5 м, длина 8 м, ширина 6 м. Дверь имеет размеры: высота – 2 м, ширина – 0,9м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йти стоимость работ, если действует сезонная скидка 10%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оимость приведена в таблиц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14240" y="1714680"/>
          <a:ext cx="3635640" cy="928440"/>
        </p:xfrm>
        <a:graphic>
          <a:graphicData uri="http://schemas.openxmlformats.org/drawingml/2006/table">
            <a:tbl>
              <a:tblPr/>
              <a:tblGrid>
                <a:gridCol w="766800"/>
                <a:gridCol w="860400"/>
                <a:gridCol w="1239840"/>
                <a:gridCol w="768600"/>
              </a:tblGrid>
              <a:tr h="3092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в руб. за 1м</a:t>
                      </a:r>
                      <a:r>
                        <a:rPr b="0" i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Rectangle 2"/>
          <p:cNvSpPr/>
          <p:nvPr/>
        </p:nvSpPr>
        <p:spPr>
          <a:xfrm>
            <a:off x="4572000" y="186444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 · 2,5 = 1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ст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8 · 2,5 = 2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задней ст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3214440" cy="23846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3"/>
          <p:cNvSpPr/>
          <p:nvPr/>
        </p:nvSpPr>
        <p:spPr>
          <a:xfrm>
            <a:off x="4500720" y="3300480"/>
            <a:ext cx="4214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52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8 · 2 + 20 · 2 = 36 + 40 = 7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всех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0,9 = 1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6 – 1,8 = 74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по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4,2 · 55 = 4081 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081 : 100 · 10 = 4081 · 0,1 = 408,1 (руб.) – скид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081 – 408,1 = 3672,9 (руб.) – стоимость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3672,9 руб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320" y="428760"/>
            <a:ext cx="746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дне аквариума прямоугольной формы лежит куб с ребром 15 см. При  этом уровень воды в аквариуме 32,25 см. Каким будет уровень воды в аквариуме после того, как куб вынули? Длина аквариума 50 см, ширина 30с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214200" y="20718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3714840" y="25815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5 · 15 · 15 = 3375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ку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50 · 30 · 32,25 = 48375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воды в аквариу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8375 – 3375 = 45000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без ку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т.к.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V = a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, 45000 = 15 · 30 · с,   с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0 см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2143080" y="4929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71320" y="356760"/>
            <a:ext cx="778644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Хозяйка квартиры решила покрасить стены чулана на высоту 1,5 м от пола. Какое количество краски (кг) нужно приобрести, если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асходуется 300 граммов краски (дверь 0,8 м на 2 м не красится). Длина чулана 3 м, ширина 2 м, высота 2,5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428760" y="3286080"/>
            <a:ext cx="3133440" cy="23576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643200" y="279576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(2+3) · 1,5 = 2· 5· 1,5 = 1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поверх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1,5 = 1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5 – 1,2 – 13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покра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3,8 · 0,3 = 4,14 (кг) – масса 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,14 (кг)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42600" y="285480"/>
            <a:ext cx="746748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Стены и потолок ванной комнаты решили выложить кафельной плиткой.  Какое количество клея нужно приобрести, если н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расходуется 1,4 кг клея. Размеры комнаты: длина 3 м, ширина 2 м, высота 2,5 м. Дверь 0,8 м на 2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4143240" y="2797560"/>
            <a:ext cx="4214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3 = 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тол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0,8 = 1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 · 2 · 2,5 + 2 · 2,5 · 2  = 15 + 10 = 2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5 + 6 – 1,6 = 31 – 1,6 = 29,4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покра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9,4 · 1,4 = 41,16 (кг) – масса кл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1,16 (кг)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00040" y="2643120"/>
            <a:ext cx="33433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99680" y="2142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 детской школе искусств для класса хореографии оклеивают стены обоями, зал имеет форму прямоугольного параллелепипеда. С целью гигиены, обои начинают клеить на расстоянии 1,2 м  от пола. Длина зала 15 м, высота 3,4 м, ширина 7,5 м. Сколько рулонов обоев шириной 1 м, длиной 10 м, нужно купить, если дверь шириной 0,8 м, высотой 2 м не оклеивают? На подбор рисунка берут обои с 15% запасом от необходимого количест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14200" y="3429000"/>
            <a:ext cx="3706920" cy="20718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000680" y="2449800"/>
            <a:ext cx="442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15 + 7,5) · 2 · 2,2  = 9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ых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0,5 = 0,4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9 – 0,4 = 98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заклей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 · 10 = 1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1-го ру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8,6 : 10 = 9,86 (рулон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,86 · 1,15 = 11,339 рулонов ≈ 12 рулон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2 рулоно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1:17:18Z</dcterms:created>
  <dc:creator>лариса</dc:creator>
  <dc:description/>
  <dc:language>en-US</dc:language>
  <cp:lastModifiedBy>User</cp:lastModifiedBy>
  <dcterms:modified xsi:type="dcterms:W3CDTF">2015-01-19T08:09:49Z</dcterms:modified>
  <cp:revision>22</cp:revision>
  <dc:subject/>
  <dc:title>Задачи практического содержания</dc:title>
</cp:coreProperties>
</file>