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980C-378E-4057-9E24-73105CA9C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660B-4754-47E6-901F-FDACEE4AB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CD8D-255C-467D-91A8-8EB172D9D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F262-BAAE-4EC3-BC06-636589A07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D6FA9-9FA5-4290-8FEE-CB7663087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B17DD-C897-4359-BC65-2A15B13A0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5B817-D297-4190-9172-C71700B06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55974-1179-418C-A6B5-E3A25CA91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54DC8-8F88-40B0-8A3B-821625387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0AF7E-FD7F-453F-853D-896FF5462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3F563-8A65-4FDB-963B-0CA3708E8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77E9-B902-4B5C-BF88-4328CA1A1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E4CE8-FB1A-40B8-A8AF-9FA9F6C4A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51B40-5379-4016-9400-39DBD32C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D9502-301D-4700-B360-FA551BA61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4445D-0435-4566-9953-E84C7B775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F2A2E-6031-48DD-9592-250DCA6E4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F0177-BD0F-4617-A6F2-71CFC6B83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344C4-BC34-466C-AFF7-BED9637A3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46C30-8E81-4335-A823-1FE4D6D96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8CB94-77F7-473D-932A-C27D6659C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46685-3FEE-4664-9A55-FC8C0F0D5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3C95-0F14-4873-A327-01531A0C1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5416F-D938-4C60-BB0A-4B0F0BAD8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C1973-19FA-4DFE-95AB-91BCA8386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9CA62-89D5-4663-81B0-7D4140010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B14A0-2196-4040-8F35-6E4F4B954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35832-D36F-4D18-9773-B394245F9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43078-294E-4C07-8235-6FB38F20E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97819-0B20-4947-BA7B-178FAD067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5BA2D-B407-4AB7-982B-55CEC655E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5C43C-F5AB-4A35-AE5D-CB5667B19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AF726-98FE-4C10-AF22-5611A2C74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2551-FAEE-4428-A45D-A070C51F8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495C0-655B-428D-975C-14D2278E1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50503-6256-4588-8651-E3D4AC83A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4663F-67D1-4CCE-9A3E-0731621F8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05051-FA4F-4C13-B59B-D7ED9EE5A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06137-411E-4388-968D-A73A7149C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707B2-D30E-4C2C-A872-1B024138C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BA1AE-1F54-4A5E-A58D-736CFDCAC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E328D-7290-4D44-B2BA-54971E401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4B799-9126-490D-9E7F-97698A70A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38A475-0BA8-4797-9E1D-05855E057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4117-488D-46C3-8523-89E05A9F8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678AE4-896B-4F8A-A903-55B5C2C6B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062384-4B2E-436B-8AF1-69B64D569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0B71C-0FC6-49D5-98F6-80A4363AE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5029E9-84A3-4F25-81B5-615E464D2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C32B0-199B-4669-AC1B-FF0E1B2D7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A2572B-F2C6-4006-8299-13F80AED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B2AABE-13DE-4895-A6A2-6995661D7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F9424-D7E7-42A9-A7C1-960A93025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09CB35-9A03-4502-AB59-80E875A13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0860FD-C47A-4749-96C2-7393564A2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E015-F793-41EA-8EE3-34E1E395D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A95C9-F001-40A9-820C-7BD252865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95A8ED-0615-4BF5-98E2-D0CA6DF70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60A91-8EB0-4C0E-BE84-29D17897B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61A7DD-C5E5-4E45-8E6C-F0779B894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B173A6-D69C-4DB6-8E09-D2881C02E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DDFC71-C9B2-4FD4-B336-3E7DB34EA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B124F6-DEBB-44A2-99A8-F5C08D8AC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D3EBD-2E29-4B63-A9AF-DF022755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929E2C-833B-4FB9-9BB3-0705D9B2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63A650-D6FA-402A-81A9-873B40118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31DF-9509-4A5C-BF8A-DF3A38FF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1243DB-675E-4607-A2BF-E33259D2F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ED8B25-2EDD-456A-8444-E0437CA50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5594E3-97AE-489A-8E52-AB71AF1B3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E05C-4983-40C0-A7CE-A4C33F07B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5071-9321-4C12-9419-2C2F83C57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597C5-F8AE-4BAD-9884-DB1AEF2747DF}" type="slidenum"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2c61"/>
            </a:gs>
            <a:gs pos="100000">
              <a:srgbClr val="627bb1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90712-5965-49B7-8B2D-BB8C4EA997EA}" type="slidenum"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2c61"/>
            </a:gs>
            <a:gs pos="100000">
              <a:srgbClr val="627bb1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00166-1CE0-41D2-BAB8-785CF94EA5BC}" type="slidenum"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30743-9C4C-42CB-877C-6C4A75412E00}" type="slidenum"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C4BA0-DAD9-4B98-8D98-A688678814D7}" type="slidenum"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CDA69-0EE7-4361-91F5-2DEDF7398579}" type="slidenum"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1" descr=""/>
          <p:cNvPicPr/>
          <p:nvPr/>
        </p:nvPicPr>
        <p:blipFill>
          <a:blip r:embed="rId1"/>
          <a:stretch/>
        </p:blipFill>
        <p:spPr>
          <a:xfrm>
            <a:off x="566640" y="2371680"/>
            <a:ext cx="7864560" cy="117648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1071360" y="642600"/>
            <a:ext cx="7854840" cy="9666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«Ни один ветер не будет попутным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если ты не знаешь куда плыть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ЕНЕ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Цель классного час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9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Доказать необходимость наличия целей и жизненных и профессиональных планов как залога успешности челове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499680" y="42876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Franklin Gothic Book"/>
              </a:rPr>
              <a:t>Жизненный пла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687560" y="43308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Franklin Gothic Book"/>
              </a:rPr>
              <a:t>Профессиональ</a:t>
            </a: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-</a:t>
            </a:r>
            <a:r>
              <a:rPr b="1" lang="ru-RU" sz="3600" spc="-1" strike="noStrike">
                <a:solidFill>
                  <a:srgbClr val="ffffff"/>
                </a:solidFill>
                <a:latin typeface="Franklin Gothic Book"/>
              </a:rPr>
              <a:t>ный пла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99680" y="1500120"/>
            <a:ext cx="4040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это представление человека о желаемом образе жизни (социальное положение, профессия, семья…) и путях его достиж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687560" y="1500120"/>
            <a:ext cx="404172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это обоснованное представление об избираемой области трудовой деятельности, о способах овладения будущей профессией и перспективах профессионального рос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214200" y="1143000"/>
          <a:ext cx="8643960" cy="5504040"/>
        </p:xfrm>
        <a:graphic>
          <a:graphicData uri="http://schemas.openxmlformats.org/drawingml/2006/table">
            <a:tbl>
              <a:tblPr/>
              <a:tblGrid>
                <a:gridCol w="6429600"/>
                <a:gridCol w="2214360"/>
              </a:tblGrid>
              <a:tr h="991080">
                <a:tc>
                  <a:txBody>
                    <a:bodyPr lIns="29160" rIns="291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100080"/>
                          <a:tab algn="l" pos="200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Какова ваша главная цель (каким хочешь быть, чего достичь, кем хочешь стать, где будешь жить)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29160" rIns="291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100080"/>
                          <a:tab algn="l" pos="200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Каковы ваши ближайшие жизненные планы  (где будешь учиться? Первая работа)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29160" rIns="291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100080"/>
                          <a:tab algn="l" pos="200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Каковы ваши дальнейшие перспективы (профессиональный рост)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2280">
                <a:tc>
                  <a:txBody>
                    <a:bodyPr lIns="29160" rIns="291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100080"/>
                          <a:tab algn="l" pos="200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Какие существуют пути средства достижения поставленной цели (какие шаги нужно предпринять для осуществления цели)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29160" rIns="291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100080"/>
                          <a:tab algn="l" pos="200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Какие существуют возможные внешние препятствия для достижения цели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3400">
                <a:tc>
                  <a:txBody>
                    <a:bodyPr lIns="29160" rIns="291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100080"/>
                          <a:tab algn="l" pos="200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Какие у вас есть возможности, чтобы достичь цели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29160" rIns="291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100080"/>
                          <a:tab algn="l" pos="200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Каковы ваши запасные профессиональные варианты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3" name="Rectangle 1"/>
          <p:cNvSpPr/>
          <p:nvPr/>
        </p:nvSpPr>
        <p:spPr>
          <a:xfrm>
            <a:off x="500040" y="329760"/>
            <a:ext cx="8072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01520"/>
                <a:tab algn="l" pos="201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ИЧНЫЙ ПРОФЕССИОНАЛЬНЫЙ ПЛА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01520"/>
                <a:tab algn="l" pos="201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ЛИЧНЫЙ ПРОФЕССИОНАЛЬНЫЙ ПЛАН   СЕРГЕЯ</a:t>
            </a:r>
            <a:r>
              <a:rPr b="1" lang="en-US" sz="32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Б. 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476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Я буду работать главным архитектором в большом городе, мне нравится проектировать дома, микрорайоны, парки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76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Нужно закончить школу; поступить в ВУЗ на факультет архитектуры; участвовать в конкурсах, возможно, выиграть грант на учебу в Москве; работать по специальности, набираться опыта  в солидной организации, в перспективе – организовать собственное дело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76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Изучать литературу по архитектуре, беседовать со специалистами, пройти дополнительную подготовку по черчению и рисунку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76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В ВУЗе, возможно, платное обучение – помогут ли родители? К тому же родители категорически против - ВУЗ далеко от дома (Новосибирск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76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У меня отличное здоровье, я хорошо учусь, настойчив, люблю рисовать, чертить – это мои ресурсы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76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Если я не поступлю в этот ВУЗ, я буду поступать на ту же специальность в другое учебное заведение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76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ЛИЧНЫЙ ПРОФЕССИОНАЛЬНЫЙ ПЛАН   ВИКТОРА П.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Я стану банкиром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Закончу школу, поступлю в колледж, потом пойду работать в банк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осмотрю информацию о профессии в интернет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 финансовый колледж большой конкурс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У меня хорошее здоровье, математические способност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Не поступлю  в колледж – попробую поступить на ту же специальность в другой колледж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457200" y="499680"/>
            <a:ext cx="8229600" cy="60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КОМАНДА«А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Задание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одобрать три аргумента, показывающих </a:t>
            </a:r>
            <a:r>
              <a:rPr b="1" lang="ru-RU" sz="3000" spc="-1" strike="noStrike" u="sng">
                <a:solidFill>
                  <a:srgbClr val="ffffff"/>
                </a:solidFill>
                <a:uFillTx/>
                <a:latin typeface="Arial"/>
              </a:rPr>
              <a:t>значимость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личного профессионального плана и </a:t>
            </a:r>
            <a:r>
              <a:rPr b="1" lang="ru-RU" sz="3000" spc="-1" strike="noStrike" u="sng">
                <a:solidFill>
                  <a:srgbClr val="ffffff"/>
                </a:solidFill>
                <a:uFillTx/>
                <a:latin typeface="Arial"/>
              </a:rPr>
              <a:t>необходимость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его составлени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КОМАНДА«Б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Задание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ридумать три аргумента, доказывающих </a:t>
            </a:r>
            <a:r>
              <a:rPr b="1" lang="ru-RU" sz="3000" spc="-1" strike="noStrike" u="sng">
                <a:solidFill>
                  <a:srgbClr val="ffffff"/>
                </a:solidFill>
                <a:uFillTx/>
                <a:latin typeface="Arial"/>
              </a:rPr>
              <a:t>неэффективность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3000" spc="-1" strike="noStrike" u="sng">
                <a:solidFill>
                  <a:srgbClr val="ffffff"/>
                </a:solidFill>
                <a:uFillTx/>
                <a:latin typeface="Arial"/>
              </a:rPr>
              <a:t>нецелесообразность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составления личного профессионального план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457200" y="928800"/>
            <a:ext cx="8229600" cy="53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9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82% людей не имеют четкого полного плана, прописанных целе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9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9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15% знают свои цели, но не записывают и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9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9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3% четко знают, что у них запланировано на завтра, на неделю, месяцы, год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457200" y="1071360"/>
            <a:ext cx="8229600" cy="52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Я ЭТО ЗНАЮ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Я УЗНАЛ ОБ ЭТОМ СЕЙЧА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ХОЧУ ЗНАТЬ ОБ ЭТОМ БОЛЬШ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1" name="Стрелка вправо 3"/>
          <p:cNvGrpSpPr/>
          <p:nvPr/>
        </p:nvGrpSpPr>
        <p:grpSpPr>
          <a:xfrm>
            <a:off x="7272360" y="1481040"/>
            <a:ext cx="1670040" cy="897120"/>
            <a:chOff x="7272360" y="1481040"/>
            <a:chExt cx="1670040" cy="897120"/>
          </a:xfrm>
        </p:grpSpPr>
        <p:pic>
          <p:nvPicPr>
            <p:cNvPr id="272" name="Стрелка вправо 3" descr=""/>
            <p:cNvPicPr/>
            <p:nvPr/>
          </p:nvPicPr>
          <p:blipFill>
            <a:blip r:embed="rId1"/>
            <a:stretch/>
          </p:blipFill>
          <p:spPr>
            <a:xfrm>
              <a:off x="7272360" y="1481040"/>
              <a:ext cx="167004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7358040" y="1749600"/>
              <a:ext cx="13222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4" name="Стрелка вправо 4"/>
          <p:cNvGrpSpPr/>
          <p:nvPr/>
        </p:nvGrpSpPr>
        <p:grpSpPr>
          <a:xfrm>
            <a:off x="7199280" y="3054240"/>
            <a:ext cx="1670040" cy="895320"/>
            <a:chOff x="7199280" y="3054240"/>
            <a:chExt cx="1670040" cy="895320"/>
          </a:xfrm>
        </p:grpSpPr>
        <p:pic>
          <p:nvPicPr>
            <p:cNvPr id="275" name="Стрелка вправо 4" descr=""/>
            <p:cNvPicPr/>
            <p:nvPr/>
          </p:nvPicPr>
          <p:blipFill>
            <a:blip r:embed="rId2"/>
            <a:stretch/>
          </p:blipFill>
          <p:spPr>
            <a:xfrm>
              <a:off x="7199280" y="3054240"/>
              <a:ext cx="167004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7286760" y="3321000"/>
              <a:ext cx="13222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7" name="Стрелка вправо 5"/>
          <p:cNvGrpSpPr/>
          <p:nvPr/>
        </p:nvGrpSpPr>
        <p:grpSpPr>
          <a:xfrm>
            <a:off x="7199280" y="4767120"/>
            <a:ext cx="1670040" cy="895320"/>
            <a:chOff x="7199280" y="4767120"/>
            <a:chExt cx="1670040" cy="895320"/>
          </a:xfrm>
        </p:grpSpPr>
        <p:pic>
          <p:nvPicPr>
            <p:cNvPr id="278" name="Стрелка вправо 5" descr=""/>
            <p:cNvPicPr/>
            <p:nvPr/>
          </p:nvPicPr>
          <p:blipFill>
            <a:blip r:embed="rId3"/>
            <a:stretch/>
          </p:blipFill>
          <p:spPr>
            <a:xfrm>
              <a:off x="7199280" y="4767120"/>
              <a:ext cx="167004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7286760" y="5037120"/>
              <a:ext cx="13222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3-12T12:57:22Z</dcterms:modified>
  <cp:revision>13</cp:revision>
  <dc:subject/>
  <dc:title>Я ЧЕРЕЗ 15 ЛЕТ</dc:title>
</cp:coreProperties>
</file>