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8138-15B5-4280-8CA3-1CB6DA63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FE4-AA02-4BCB-97C4-0D9E4106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3B92-CEB6-45BE-AEE2-FC911904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C855-A1DE-4BA6-92D7-F2DC55B4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EAA5-135C-4BC0-9075-C23862CF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4086-BE2A-4F04-B45C-C7D8634D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B6AD-FD07-4527-A31C-E39FC5AA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47B2-B387-40FD-AD8C-6586E6EA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FA94-1D0D-407C-8C52-2CC56173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B6F8-9D8B-4B30-A7E9-2795FB10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99E5-10A0-4273-A2DA-AC95D7A0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78A-F748-4BF2-865F-F9EE3FA3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26DA-D266-4846-AC3D-B9996891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C3B9-F040-4F21-AB17-D7E88D38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2118-6323-44FA-A1A9-84EC5514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6A8F-A1F2-4739-B0B6-DEE6E376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7E51-371A-4108-829F-F52C3CFF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0ACED-D18C-46BA-8ED2-E1C21537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7A794-AD6B-4F28-8FD8-FECD1156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A6CF9-A5B9-4D30-B2BC-A843B49C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0C0ED-9C96-402B-8A45-E25024A8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9614A-5A8E-4EAA-AAA4-37E96C31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6DC-2EEA-4E37-9BFB-4195567A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1903B-CE23-4402-BA50-020F1C8D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61EAA-1774-461F-A98B-07AF368D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7B6B8-3968-4B45-9DCA-EA3198E0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23B94-B59B-437F-A001-A8230DC2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F10BC-4A4F-4BD5-B12C-BDB487AC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B9C52-E78D-4A48-97AC-34D75965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F57EF-4A04-457B-BEE8-4CD262C7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0FA4B-B607-4ABE-9480-4C236DF6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FF17E-DFF8-4669-BA56-6114522C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99B65-3ACB-4291-8278-2164AAF1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C78C-E355-44E7-9B90-EBE8ECBF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9A8EA-2B1B-4817-980B-049DB9C0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E6550-CF3A-42EE-86BA-8B55557D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50CBA-68F1-4F8B-8DEB-389EC86D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6B2C0-171E-46F7-974F-074903AE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617BB-629A-4DC9-81F9-1794322B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E276F-2089-4B92-AA11-0E7449C3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1A342-0938-4AF0-9BF2-9AED86FC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AE21E-97DE-48FD-B445-633E6AF6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407F9-7760-405C-98F6-C15865B1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4144D-D069-410D-A914-2B9493A7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A460-3FF3-459E-B516-4017940A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492A9-B6E0-4BAA-A6B6-EF5897CF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F6ED2-23DA-42F6-A6AA-5D49EDF6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09D0F-3F3C-43FA-A556-35043D28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522C2-1588-4617-B79B-9C9D91A0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88B58-5E47-4BBD-A90E-CE8151FA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EAF68-6BF0-42E6-8855-3464D060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DA99B-C580-48F1-A6A2-F6BF80A0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3F58A-EC6E-4F4C-88C1-7E3DFE10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EFA99-D613-429B-BF66-5D1B322B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FF4B1-B6FA-440B-A3F5-B12D6FB3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4E1-5F70-4BF2-8849-C044630C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F006F-5068-48BB-9DFD-CCD80184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29FFC-1CF0-4289-967D-E604F62D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0E114-C755-46E3-9EBA-CC63D573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8AEDE-CECE-4F63-B674-43D05FB9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6A475-8C2C-467F-9EE7-412348D6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71505-F317-48F4-933D-5DFB7854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A66B3-B2FA-41B9-9FB1-D67F408C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F859D-AAF8-4E35-918B-4F85F399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1B7B8-2A52-4A53-8629-20C4523A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EF533-36D2-4B49-A3DF-9512C006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417-9F7F-4D1E-B881-CF7E2DDB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8EB16-D045-4BC9-A925-D38A556A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331A1-DE7B-4A5E-BBBA-9474970F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DE30B-61CE-490D-9F2B-B75336A3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8A4-FCD2-49BE-82C4-D892970E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74C-6A78-4CD3-8469-64BD9E3B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2CD2-CFE3-48D4-91D7-E87F034E734A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DBC4-4AE0-4306-A132-F6FB8DC5BE03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E3D2-A068-425D-BADA-970AC67BFBBA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50F6-83A6-465B-8D9D-24BF94F419F3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F2F0-7C6D-422A-B0CB-D7609E59F3DB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C02E-173A-4813-97A1-C57225921C72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566640" y="2371680"/>
            <a:ext cx="7864560" cy="11764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071360" y="642600"/>
            <a:ext cx="785484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Ни один ветер не будет попутным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ты не знаешь куда плыть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НЕ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Цель классного час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оказать необходимость наличия целей и жизненных и профессиональных планов как залога успешности чело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99680" y="42876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Жизненный пл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7560" y="43308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Профессиональ</a:t>
            </a: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ный пл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99680" y="1500120"/>
            <a:ext cx="4040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это представление человека о желаемом образе жизни (социальное положение, профессия, семья…) и путях его дости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87560" y="1500120"/>
            <a:ext cx="40417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это обоснованное представление об избираемой области трудовой деятельности, о способах овладения будущей профессией и перспективах профессионального ро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214200" y="1143000"/>
          <a:ext cx="8643960" cy="5504040"/>
        </p:xfrm>
        <a:graphic>
          <a:graphicData uri="http://schemas.openxmlformats.org/drawingml/2006/table">
            <a:tbl>
              <a:tblPr/>
              <a:tblGrid>
                <a:gridCol w="6429600"/>
                <a:gridCol w="2214360"/>
              </a:tblGrid>
              <a:tr h="991080">
                <a:tc>
                  <a:txBody>
                    <a:bodyPr lIns="29160" rIns="29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08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Какова ваша главная цель (каким хочешь быть, чего достичь, кем хочешь стать, где будешь жить)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29160" rIns="29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08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Каковы ваши ближайшие жизненные планы  (где будешь учиться? Первая работа)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29160" rIns="29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08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Каковы ваши дальнейшие перспективы (профессиональный рост)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29160" rIns="29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08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Какие существуют пути средства достижения поставленной цели (какие шаги нужно предпринять для осуществления цели)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29160" rIns="29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08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Какие существуют возможные внешние препятствия для достижения цели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29160" rIns="29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08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Какие у вас есть возможности, чтобы достичь цели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29160" rIns="29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08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Каковы ваши запасные профессиональные варианты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Rectangle 1"/>
          <p:cNvSpPr/>
          <p:nvPr/>
        </p:nvSpPr>
        <p:spPr>
          <a:xfrm>
            <a:off x="500040" y="329760"/>
            <a:ext cx="807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1520"/>
                <a:tab algn="l" pos="201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ЧНЫЙ ПРОФЕССИОНАЛЬНЫЙ ПЛ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1520"/>
                <a:tab algn="l" pos="201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ЛИЧНЫЙ ПРОФЕССИОНАЛЬНЫЙ ПЛАН   СЕРГЕЯ</a:t>
            </a:r>
            <a:r>
              <a:rPr b="1" lang="en-US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Б.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Я буду работать главным архитектором в большом городе, мне нравится проектировать дома, микрорайоны, парк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Нужно закончить школу; поступить в ВУЗ на факультет архитектуры; участвовать в конкурсах, возможно, выиграть грант на учебу в Москве; работать по специальности, набираться опыта  в солидной организации, в перспективе – организовать собственное дело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Изучать литературу по архитектуре, беседовать со специалистами, пройти дополнительную подготовку по черчению и рисунку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 ВУЗе, возможно, платное обучение – помогут ли родители? К тому же родители категорически против - ВУЗ далеко от дома (Новосибирск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У меня отличное здоровье, я хорошо учусь, настойчив, люблю рисовать, чертить – это мои ресурсы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Если я не поступлю в этот ВУЗ, я буду поступать на ту же специальность в другое учебное заведени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ЛИЧНЫЙ ПРОФЕССИОНАЛЬНЫЙ ПЛАН   ВИКТОРА П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Я стану банкиро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Закончу школу, поступлю в колледж, потом пойду работать в бан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смотрю информацию о профессии в интернет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финансовый колледж большой конкур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 меня хорошее здоровье, математические способно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е поступлю  в колледж – попробую поступить на ту же специальность в другой колледж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4996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ОМАНДА«А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ание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обрать три аргумента, показывающих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значимость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личного профессионального плана и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необходимость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его составл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ОМАНДА«Б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ание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идумать три аргумента, доказывающих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неэффективность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нецелесообразность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составления личного профессионального пла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82% людей не имеют четкого полного плана, прописанных цел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5% знают свои цели, но не записывают 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% четко знают, что у них запланировано на завтра, на неделю, месяцы, го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Я ЭТО ЗНА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Я УЗНАЛ ОБ ЭТОМ СЕЙЧА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ХОЧУ ЗНАТЬ ОБ ЭТОМ БОЛЬШ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Стрелка вправо 3"/>
          <p:cNvGrpSpPr/>
          <p:nvPr/>
        </p:nvGrpSpPr>
        <p:grpSpPr>
          <a:xfrm>
            <a:off x="7272360" y="1481040"/>
            <a:ext cx="1670040" cy="897120"/>
            <a:chOff x="7272360" y="1481040"/>
            <a:chExt cx="1670040" cy="897120"/>
          </a:xfrm>
        </p:grpSpPr>
        <p:pic>
          <p:nvPicPr>
            <p:cNvPr id="272" name="Стрелка вправо 3" descr=""/>
            <p:cNvPicPr/>
            <p:nvPr/>
          </p:nvPicPr>
          <p:blipFill>
            <a:blip r:embed="rId1"/>
            <a:stretch/>
          </p:blipFill>
          <p:spPr>
            <a:xfrm>
              <a:off x="7272360" y="1481040"/>
              <a:ext cx="1670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358040" y="1749600"/>
              <a:ext cx="13222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Стрелка вправо 4"/>
          <p:cNvGrpSpPr/>
          <p:nvPr/>
        </p:nvGrpSpPr>
        <p:grpSpPr>
          <a:xfrm>
            <a:off x="7199280" y="3054240"/>
            <a:ext cx="1670040" cy="895320"/>
            <a:chOff x="7199280" y="3054240"/>
            <a:chExt cx="1670040" cy="895320"/>
          </a:xfrm>
        </p:grpSpPr>
        <p:pic>
          <p:nvPicPr>
            <p:cNvPr id="275" name="Стрелка вправо 4" descr=""/>
            <p:cNvPicPr/>
            <p:nvPr/>
          </p:nvPicPr>
          <p:blipFill>
            <a:blip r:embed="rId2"/>
            <a:stretch/>
          </p:blipFill>
          <p:spPr>
            <a:xfrm>
              <a:off x="7199280" y="3054240"/>
              <a:ext cx="1670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286760" y="3321000"/>
              <a:ext cx="1322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Стрелка вправо 5"/>
          <p:cNvGrpSpPr/>
          <p:nvPr/>
        </p:nvGrpSpPr>
        <p:grpSpPr>
          <a:xfrm>
            <a:off x="7199280" y="4767120"/>
            <a:ext cx="1670040" cy="895320"/>
            <a:chOff x="7199280" y="4767120"/>
            <a:chExt cx="1670040" cy="895320"/>
          </a:xfrm>
        </p:grpSpPr>
        <p:pic>
          <p:nvPicPr>
            <p:cNvPr id="278" name="Стрелка вправо 5" descr=""/>
            <p:cNvPicPr/>
            <p:nvPr/>
          </p:nvPicPr>
          <p:blipFill>
            <a:blip r:embed="rId3"/>
            <a:stretch/>
          </p:blipFill>
          <p:spPr>
            <a:xfrm>
              <a:off x="7199280" y="4767120"/>
              <a:ext cx="1670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286760" y="5037120"/>
              <a:ext cx="13222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12T12:57:22Z</dcterms:modified>
  <cp:revision>13</cp:revision>
  <dc:subject/>
  <dc:title>Я ЧЕРЕЗ 15 ЛЕТ</dc:title>
</cp:coreProperties>
</file>