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0CC8-83B3-4802-8C5D-0A8EB6527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D7D9-FA00-49C1-874B-52A6364D4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95A4-4A49-471F-8290-C98F4AC43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FB77-2B2A-4751-8FFA-6790A2821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2841C-3387-48A2-B93A-FF8292234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615B9-AF9E-4B8E-BB38-FBC5E05A3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507DB-67C0-4A5A-B845-74C39B25E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E87CC-F2B6-429D-B491-E48960386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0C6AB-C133-47A6-BADB-C57D21E15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7411E-4942-4703-A6E0-707E542C8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BD7FE-683C-48FB-A253-877AAA76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C9A1-D294-4EC1-A509-8C90CD794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222BB-DBA5-4AF1-9E5C-92E02C1F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95E44-68FC-4F8C-9EE6-971D2B67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8B0CD-963C-4635-84D6-4371D537F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35D6E-5D61-460C-ADC5-425650701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876C6-4405-4551-B529-48010D4CF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29ECF-A499-46D0-8155-9EEA56C45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68E83-F6BA-4962-819D-729C223DA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23D30-F0BC-4B7E-8677-DE7D060F0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1DDF7-85A0-45E1-81FC-15E72D859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9AF05-DD3D-4C9A-AEFB-852A53954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6C0E-2B96-4049-BC05-5C03787C0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8E4DE-F933-4038-9359-BD74E4758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19BC4-E413-4057-987A-70005D78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B114B-30CD-421E-BE42-59CCB16D5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ED7A3-1826-4382-9A60-CACFC4D2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BE85A-D1FA-499E-BA22-5628CECF2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09965-82F0-4C9C-B5FB-96136F57B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670A9-34BA-4577-9F0C-FF8F5E5D7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85BAF-E2E3-4EE5-93FF-EA575366A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63FD2-7B18-49C6-A871-9A74A4B04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B325D-62DF-4B0B-BE16-C1BE1979C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C7E7-2E62-4BB8-A7FE-76CBA8652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A3983-0817-4109-803A-18FBF365D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8A17B-C0CF-4FE2-941E-8E02EBA05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3EC9F-2B10-4B31-9C7F-4F76E3E59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EDB0F-7545-4555-819E-9114DFEC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9BBA8-ADFC-4319-AFEA-1156DCE3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9F89C-BE03-4402-80D8-A5AE2EB9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9294B-41F4-4AD3-B671-64B3C062C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CE31E-B014-41E8-BA36-D64D3762F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40279-38A3-4E21-A4BA-E0A325758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8B1932-297F-42C8-9DEC-AE3EF2994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E1A5-0D2D-462C-91F7-B0A75DCE2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1E0821-3D4A-4611-91F1-C09AEC8AE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FFE11-8CD6-4344-981E-85DB47B35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4D5234-1C76-4291-B9D6-3E8E5DF7B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9499E-C907-4A77-83BB-4A9FA48BE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0E372-BA83-465C-AF1B-77D415B87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437952-71E0-445B-BC2E-AC52BA9E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068A8-FB07-4FC2-A848-15BD8A30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C69EF-AA00-4F07-8EAA-62C45D924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EC970F-DE78-4F7F-AD1F-0675E8D44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185E34-6306-4CAB-B22B-835BE4C9C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0294-8135-41D8-911D-5F56F6AAB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A0785B-E1DE-4714-BB16-3F57A9406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CA6ED4-A137-4037-9529-3A019393F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E047A2-AAA4-4696-9533-4CA976183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9C69DA-7201-4561-A9A6-0B1EC6CF6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01B380-CB01-4E4B-A8CF-210DA94D6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BB16BC-B9C5-49F5-84CC-B44011E3E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90F307-2A1C-407A-897F-0D2D42ACE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E4324E-DC89-4EFB-AC71-2C98FAC59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99280D-B0BF-43BF-8A85-C93A6A7BC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C87B03-B7AD-4760-B77D-0EBBB2109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BE1C-6A07-4E18-ACEC-05B174D4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30E30C-7014-4B0E-BA6B-7EA66EDD0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40E166-2BB0-4DF7-91E1-5DD515688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381B63-4BBF-46EC-B744-7969FDC49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245C-7927-45CC-8DAC-3CA985F5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4DD1-8993-482C-8059-68FC68976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EFEE7-3955-4870-802C-326F9CF2C62E}" type="slidenum"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2c61"/>
            </a:gs>
            <a:gs pos="100000">
              <a:srgbClr val="627bb1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E9191-20B0-4F91-B724-E84EDB99A049}" type="slidenum"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2c61"/>
            </a:gs>
            <a:gs pos="100000">
              <a:srgbClr val="627bb1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6CA7F-44ED-4886-B824-CEFF28B15BB4}" type="slidenum"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835DC-1ADB-415C-B938-BFEC01F46B1F}" type="slidenum"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B76F8-D482-4953-886A-61FED25FB4C1}" type="slidenum"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A3895-5070-47E5-A17C-9E1EA0ED70E7}" type="slidenum"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1" descr=""/>
          <p:cNvPicPr/>
          <p:nvPr/>
        </p:nvPicPr>
        <p:blipFill>
          <a:blip r:embed="rId1"/>
          <a:stretch/>
        </p:blipFill>
        <p:spPr>
          <a:xfrm>
            <a:off x="566640" y="2371680"/>
            <a:ext cx="7864560" cy="117648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1071360" y="642600"/>
            <a:ext cx="7854840" cy="9666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«Ни один ветер не будет попутным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если ты не знаешь куда плыть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ЕНЕ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Цель классного час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9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Доказать необходимость наличия целей и жизненных и профессиональных планов как залога успешности челове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499680" y="42876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Franklin Gothic Book"/>
              </a:rPr>
              <a:t>Жизненный пла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687560" y="43308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Franklin Gothic Book"/>
              </a:rPr>
              <a:t>Профессиональ</a:t>
            </a: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-</a:t>
            </a:r>
            <a:r>
              <a:rPr b="1" lang="ru-RU" sz="3600" spc="-1" strike="noStrike">
                <a:solidFill>
                  <a:srgbClr val="ffffff"/>
                </a:solidFill>
                <a:latin typeface="Franklin Gothic Book"/>
              </a:rPr>
              <a:t>ный пла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99680" y="1500120"/>
            <a:ext cx="4040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это представление человека о желаемом образе жизни (социальное положение, профессия, семья…) и путях его достиж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687560" y="1500120"/>
            <a:ext cx="404172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это обоснованное представление об избираемой области трудовой деятельности, о способах овладения будущей профессией и перспективах профессионального рос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214200" y="1143000"/>
          <a:ext cx="8643960" cy="5504040"/>
        </p:xfrm>
        <a:graphic>
          <a:graphicData uri="http://schemas.openxmlformats.org/drawingml/2006/table">
            <a:tbl>
              <a:tblPr/>
              <a:tblGrid>
                <a:gridCol w="6429600"/>
                <a:gridCol w="2214360"/>
              </a:tblGrid>
              <a:tr h="991080">
                <a:tc>
                  <a:txBody>
                    <a:bodyPr lIns="29160" rIns="291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100080"/>
                          <a:tab algn="l" pos="200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Какова ваша главная цель (каким хочешь быть, чего достичь, кем хочешь стать, где будешь жить)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29160" rIns="291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100080"/>
                          <a:tab algn="l" pos="200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Каковы ваши ближайшие жизненные планы  (где будешь учиться? Первая работа)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29160" rIns="291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100080"/>
                          <a:tab algn="l" pos="200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Каковы ваши дальнейшие перспективы (профессиональный рост)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2280">
                <a:tc>
                  <a:txBody>
                    <a:bodyPr lIns="29160" rIns="291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100080"/>
                          <a:tab algn="l" pos="200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Какие существуют пути средства достижения поставленной цели (какие шаги нужно предпринять для осуществления цели)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29160" rIns="291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100080"/>
                          <a:tab algn="l" pos="200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Какие существуют возможные внешние препятствия для достижения цели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3400">
                <a:tc>
                  <a:txBody>
                    <a:bodyPr lIns="29160" rIns="291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100080"/>
                          <a:tab algn="l" pos="200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Какие у вас есть возможности, чтобы достичь цели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29160" rIns="291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100080"/>
                          <a:tab algn="l" pos="200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Каковы ваши запасные профессиональные варианты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3" name="Rectangle 1"/>
          <p:cNvSpPr/>
          <p:nvPr/>
        </p:nvSpPr>
        <p:spPr>
          <a:xfrm>
            <a:off x="500040" y="329760"/>
            <a:ext cx="8072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01520"/>
                <a:tab algn="l" pos="201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ИЧНЫЙ ПРОФЕССИОНАЛЬНЫЙ ПЛА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01520"/>
                <a:tab algn="l" pos="201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ЛИЧНЫЙ ПРОФЕССИОНАЛЬНЫЙ ПЛАН   СЕРГЕЯ</a:t>
            </a:r>
            <a:r>
              <a:rPr b="1" lang="en-US" sz="32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Б. 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476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Я буду работать главным архитектором в большом городе, мне нравится проектировать дома, микрорайоны, парки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76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Нужно закончить школу; поступить в ВУЗ на факультет архитектуры; участвовать в конкурсах, возможно, выиграть грант на учебу в Москве; работать по специальности, набираться опыта  в солидной организации, в перспективе – организовать собственное дело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76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Изучать литературу по архитектуре, беседовать со специалистами, пройти дополнительную подготовку по черчению и рисунку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76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В ВУЗе, возможно, платное обучение – помогут ли родители? К тому же родители категорически против - ВУЗ далеко от дома (Новосибирск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76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У меня отличное здоровье, я хорошо учусь, настойчив, люблю рисовать, чертить – это мои ресурсы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76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Если я не поступлю в этот ВУЗ, я буду поступать на ту же специальность в другое учебное заведение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76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ЛИЧНЫЙ ПРОФЕССИОНАЛЬНЫЙ ПЛАН   ВИКТОРА П.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Я стану банкиром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Закончу школу, поступлю в колледж, потом пойду работать в банк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осмотрю информацию о профессии в интернет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 финансовый колледж большой конкурс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У меня хорошее здоровье, математические способност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Не поступлю  в колледж – попробую поступить на ту же специальность в другой колледж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457200" y="499680"/>
            <a:ext cx="8229600" cy="60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КОМАНДА«А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Задание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одобрать три аргумента, показывающих </a:t>
            </a:r>
            <a:r>
              <a:rPr b="1" lang="ru-RU" sz="3000" spc="-1" strike="noStrike" u="sng">
                <a:solidFill>
                  <a:srgbClr val="ffffff"/>
                </a:solidFill>
                <a:uFillTx/>
                <a:latin typeface="Arial"/>
              </a:rPr>
              <a:t>значимость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личного профессионального плана и </a:t>
            </a:r>
            <a:r>
              <a:rPr b="1" lang="ru-RU" sz="3000" spc="-1" strike="noStrike" u="sng">
                <a:solidFill>
                  <a:srgbClr val="ffffff"/>
                </a:solidFill>
                <a:uFillTx/>
                <a:latin typeface="Arial"/>
              </a:rPr>
              <a:t>необходимость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его составлени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КОМАНДА«Б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Задание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ридумать три аргумента, доказывающих </a:t>
            </a:r>
            <a:r>
              <a:rPr b="1" lang="ru-RU" sz="3000" spc="-1" strike="noStrike" u="sng">
                <a:solidFill>
                  <a:srgbClr val="ffffff"/>
                </a:solidFill>
                <a:uFillTx/>
                <a:latin typeface="Arial"/>
              </a:rPr>
              <a:t>неэффективность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3000" spc="-1" strike="noStrike" u="sng">
                <a:solidFill>
                  <a:srgbClr val="ffffff"/>
                </a:solidFill>
                <a:uFillTx/>
                <a:latin typeface="Arial"/>
              </a:rPr>
              <a:t>нецелесообразность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составления личного профессионального план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457200" y="928800"/>
            <a:ext cx="8229600" cy="53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9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82% людей не имеют четкого полного плана, прописанных целе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9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9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15% знают свои цели, но не записывают и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9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9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3% четко знают, что у них запланировано на завтра, на неделю, месяцы, год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457200" y="1071360"/>
            <a:ext cx="8229600" cy="52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Я ЭТО ЗНАЮ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Я УЗНАЛ ОБ ЭТОМ СЕЙЧА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ХОЧУ ЗНАТЬ ОБ ЭТОМ БОЛЬШ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1" name="Стрелка вправо 3"/>
          <p:cNvGrpSpPr/>
          <p:nvPr/>
        </p:nvGrpSpPr>
        <p:grpSpPr>
          <a:xfrm>
            <a:off x="7272360" y="1481040"/>
            <a:ext cx="1670040" cy="897120"/>
            <a:chOff x="7272360" y="1481040"/>
            <a:chExt cx="1670040" cy="897120"/>
          </a:xfrm>
        </p:grpSpPr>
        <p:pic>
          <p:nvPicPr>
            <p:cNvPr id="272" name="Стрелка вправо 3" descr=""/>
            <p:cNvPicPr/>
            <p:nvPr/>
          </p:nvPicPr>
          <p:blipFill>
            <a:blip r:embed="rId1"/>
            <a:stretch/>
          </p:blipFill>
          <p:spPr>
            <a:xfrm>
              <a:off x="7272360" y="1481040"/>
              <a:ext cx="167004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7358040" y="1749600"/>
              <a:ext cx="13222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4" name="Стрелка вправо 4"/>
          <p:cNvGrpSpPr/>
          <p:nvPr/>
        </p:nvGrpSpPr>
        <p:grpSpPr>
          <a:xfrm>
            <a:off x="7199280" y="3054240"/>
            <a:ext cx="1670040" cy="895320"/>
            <a:chOff x="7199280" y="3054240"/>
            <a:chExt cx="1670040" cy="895320"/>
          </a:xfrm>
        </p:grpSpPr>
        <p:pic>
          <p:nvPicPr>
            <p:cNvPr id="275" name="Стрелка вправо 4" descr=""/>
            <p:cNvPicPr/>
            <p:nvPr/>
          </p:nvPicPr>
          <p:blipFill>
            <a:blip r:embed="rId2"/>
            <a:stretch/>
          </p:blipFill>
          <p:spPr>
            <a:xfrm>
              <a:off x="7199280" y="3054240"/>
              <a:ext cx="167004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7286760" y="3321000"/>
              <a:ext cx="13222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7" name="Стрелка вправо 5"/>
          <p:cNvGrpSpPr/>
          <p:nvPr/>
        </p:nvGrpSpPr>
        <p:grpSpPr>
          <a:xfrm>
            <a:off x="7199280" y="4767120"/>
            <a:ext cx="1670040" cy="895320"/>
            <a:chOff x="7199280" y="4767120"/>
            <a:chExt cx="1670040" cy="895320"/>
          </a:xfrm>
        </p:grpSpPr>
        <p:pic>
          <p:nvPicPr>
            <p:cNvPr id="278" name="Стрелка вправо 5" descr=""/>
            <p:cNvPicPr/>
            <p:nvPr/>
          </p:nvPicPr>
          <p:blipFill>
            <a:blip r:embed="rId3"/>
            <a:stretch/>
          </p:blipFill>
          <p:spPr>
            <a:xfrm>
              <a:off x="7199280" y="4767120"/>
              <a:ext cx="167004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7286760" y="5037120"/>
              <a:ext cx="13222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3-12T12:57:22Z</dcterms:modified>
  <cp:revision>13</cp:revision>
  <dc:subject/>
  <dc:title>Я ЧЕРЕЗ 15 ЛЕТ</dc:title>
</cp:coreProperties>
</file>