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FBA-E177-44E9-AD78-1FB1E2A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708-03E6-476E-85FB-60AD267A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FFD-2934-41A8-BCFD-AE325A8D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76E-C381-4BBB-8A8E-724424E2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88DA-C58B-4C8E-B156-28F866E4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656A-15A2-464C-8A3D-73F9F27E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1B14-0821-4972-A7F0-F3A9222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6265-BE46-40F7-9DF2-76C658C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966-CE22-45C7-8FBE-094DDFD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D904-68A5-405E-94A4-8C7EFF51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AC1-D349-4001-B624-4E7C04F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89F-4E4C-46F6-BFAF-0CECAE16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E032-0989-4677-A6C8-B2D1DAD0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DAC-2235-4688-8997-EB79923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AF96-351E-4954-A9B4-209B241B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BADF-BD6C-4F17-960B-AC06E74B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D1A9-22D0-4D2D-AE00-8409F254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220-61EF-4F24-9133-09EED0D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15E-B15F-4C8D-8754-290AE49B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1AD-04A4-4E05-AC27-7943F1A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5BA-CC0B-4754-868F-0B73223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DDD-4A53-4D33-B430-75743F8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7D6-4BEE-4ECE-9895-CF2134D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2C0-66F2-45B0-A4F8-FBA0FC0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E610-0F13-466C-886D-D71D40E3DA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14F-31CF-4B54-8517-480BBA65FBE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254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униципальное дошкольное образовательное учреждение 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Детский сад комбинированного вида №77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1640" y="2133360"/>
            <a:ext cx="567540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ВЗАИМОДЕЙСТВИЕ С СЕМЬЕЙ В УСЛОВИЯХ ВВЕДЕНИЯ ФГ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Гусева И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IMG_3415_2"/>
          <p:cNvPicPr/>
          <p:nvPr/>
        </p:nvPicPr>
        <p:blipFill>
          <a:blip r:embed="rId1"/>
          <a:stretch/>
        </p:blipFill>
        <p:spPr>
          <a:xfrm>
            <a:off x="0" y="3789360"/>
            <a:ext cx="2060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23 ноября 2009 г. Приказом Министерства образования и науки РФ № 655 были утверждены федеральные государственные требования к структуре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4436640"/>
            <a:ext cx="7386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емья - важнейший институт социализации ребенка, субъект образовательного простран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аимодействие с семьей- отдельное направление по реализации ООП Д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одители – активные участники образовательного процесс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1619280" y="2133720"/>
            <a:ext cx="4319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«Семья – это та самая среда, в которой человек учится, и сам творит добро. Тонкость ощущения человека, эмоциональная восприимчивость, впечатлительность, чуткость, сопереживание, проникновение в духовный мир другого человека - все это постигается прежде всего в семье»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Содержимое 3" descr="obschaya.gif"/>
          <p:cNvPicPr/>
          <p:nvPr/>
        </p:nvPicPr>
        <p:blipFill>
          <a:blip r:embed="rId1"/>
          <a:stretch/>
        </p:blipFill>
        <p:spPr>
          <a:xfrm>
            <a:off x="1763640" y="3357720"/>
            <a:ext cx="48261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ПРИНЦИПЫ РАБОТЫ С РОДИТЕЛЯ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партнерского взаимодейств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согласова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информационной насыщен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терпимости и настойчивост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мотивации различными способ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целенаправленности, систематичности, планов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открытость детского сада для семьи (каждому родителю обеспечивается возможность знать и видеть, как живет и развивается его ребенок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нцип дифференцированного подхода к работе с родителями с учётом специфики каждой семь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ОСНОВНАЯ ЦЕЛ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– 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РОДИТЕЛЯМ В ИСПОЛНЕНИИ ФУНКЦИИ ВОСПИТАТЕЛЕЙ СОБСТВЕННЫХ ДЕТЕ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413000"/>
            <a:ext cx="4740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вышение педагогической культуры родител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общение родителей к участию в жизни детского са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семьи и установление контактов с ее членами для согласования воспитательных взаимодействий на ребен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учение и обобщение лучшего семейного опы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76720" y="1598760"/>
            <a:ext cx="257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6"/>
          <a:stretch/>
        </p:blipFill>
        <p:spPr>
          <a:xfrm>
            <a:off x="5148360" y="1700280"/>
            <a:ext cx="244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052640"/>
            <a:ext cx="72612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73864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формировать у детей интерес к своей семье,  сохранению семейных традиций и обычаев, воспитать уважение к членам семь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Формировать и развивать у детей навыки исследовательской и творческой работы совместно с воспитателями и родителя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здать эмоционально благополучную атмосферу дома и в детском саду, где взаимоотношения между взрослыми и детьми построены на основе доброжелательности и взаимоуважении, где ребенок будет чувствовать себя желанным и защищенны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буждать детей к выполнению общественно значимых заданий, к добрым делам для семьи, родного дома, детского са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пражнять детей в проявлении сострадания, заботливости, внимательности к родным и близким, друзьям и сверстникам, к тем, кто о них заботитс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2000" y="1598760"/>
            <a:ext cx="36176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7"/>
          <a:stretch/>
        </p:blipFill>
        <p:spPr>
          <a:xfrm>
            <a:off x="2124000" y="4221000"/>
            <a:ext cx="3672000" cy="25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аправления взаимодействия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Овал 3"/>
          <p:cNvSpPr/>
          <p:nvPr/>
        </p:nvSpPr>
        <p:spPr>
          <a:xfrm>
            <a:off x="2700360" y="1596960"/>
            <a:ext cx="2354400" cy="914400"/>
          </a:xfrm>
          <a:prstGeom prst="ellipse">
            <a:avLst/>
          </a:prstGeom>
          <a:solidFill>
            <a:srgbClr val="d5b781"/>
          </a:solidFill>
          <a:ln w="25560">
            <a:solidFill>
              <a:srgbClr val="5078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Совместн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Овал 4"/>
          <p:cNvSpPr/>
          <p:nvPr/>
        </p:nvSpPr>
        <p:spPr>
          <a:xfrm>
            <a:off x="276120" y="2587680"/>
            <a:ext cx="2138400" cy="1058760"/>
          </a:xfrm>
          <a:prstGeom prst="ellipse">
            <a:avLst/>
          </a:pr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 +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Стрелка вниз 7"/>
          <p:cNvSpPr/>
          <p:nvPr/>
        </p:nvSpPr>
        <p:spPr>
          <a:xfrm rot="3034800">
            <a:off x="2172240" y="1899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322960" y="2625840"/>
            <a:ext cx="2163600" cy="1085760"/>
          </a:xfrm>
          <a:prstGeom prst="rect">
            <a:avLst/>
          </a:prstGeom>
          <a:ln w="0">
            <a:noFill/>
          </a:ln>
        </p:spPr>
      </p:pic>
      <p:sp>
        <p:nvSpPr>
          <p:cNvPr id="216" name="Стрелка вниз 8"/>
          <p:cNvSpPr/>
          <p:nvPr/>
        </p:nvSpPr>
        <p:spPr>
          <a:xfrm rot="18356400">
            <a:off x="5082840" y="1855440"/>
            <a:ext cx="486000" cy="97812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Стрелка вниз 9"/>
          <p:cNvSpPr/>
          <p:nvPr/>
        </p:nvSpPr>
        <p:spPr>
          <a:xfrm>
            <a:off x="3635280" y="2370240"/>
            <a:ext cx="484200" cy="4903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795760" y="2859120"/>
            <a:ext cx="2163600" cy="108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2"/>
          <p:cNvSpPr/>
          <p:nvPr/>
        </p:nvSpPr>
        <p:spPr>
          <a:xfrm>
            <a:off x="2946240" y="3027240"/>
            <a:ext cx="200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Педагог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5865480" y="28591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ебенок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5037"/>
                </a:solidFill>
                <a:latin typeface="Arial"/>
              </a:rPr>
              <a:t>Родител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Стрелка вниз 14"/>
          <p:cNvSpPr/>
          <p:nvPr/>
        </p:nvSpPr>
        <p:spPr>
          <a:xfrm>
            <a:off x="1103400" y="364644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Стрелка вниз 15"/>
          <p:cNvSpPr/>
          <p:nvPr/>
        </p:nvSpPr>
        <p:spPr>
          <a:xfrm>
            <a:off x="3706920" y="3936960"/>
            <a:ext cx="484200" cy="35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Стрелка вниз 16"/>
          <p:cNvSpPr/>
          <p:nvPr/>
        </p:nvSpPr>
        <p:spPr>
          <a:xfrm>
            <a:off x="6202440" y="3718080"/>
            <a:ext cx="484200" cy="4888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Скругленный прямоугольник 17"/>
          <p:cNvSpPr/>
          <p:nvPr/>
        </p:nvSpPr>
        <p:spPr>
          <a:xfrm>
            <a:off x="165240" y="4135320"/>
            <a:ext cx="2235240" cy="2722680"/>
          </a:xfrm>
          <a:custGeom>
            <a:avLst/>
            <a:gdLst>
              <a:gd name="textAreaLeft" fmla="*/ 109080 w 2235240"/>
              <a:gd name="textAreaRight" fmla="*/ 2126160 w 2235240"/>
              <a:gd name="textAreaTop" fmla="*/ 109080 h 2722680"/>
              <a:gd name="textAreaBottom" fmla="*/ 2613600 h 2722680"/>
            </a:gdLst>
            <a:ahLst/>
            <a:rect l="textAreaLeft" t="textAreaTop" r="textAreaRight" b="textAreaBottom"/>
            <a:pathLst>
              <a:path w="21600" h="26310">
                <a:moveTo>
                  <a:pt x="3600" y="0"/>
                </a:moveTo>
                <a:arcTo wR="3600" hR="3600" stAng="16200000" swAng="-5400000"/>
                <a:lnTo>
                  <a:pt x="0" y="22710"/>
                </a:lnTo>
                <a:arcTo wR="3600" hR="3600" stAng="10800000" swAng="-5400000"/>
                <a:lnTo>
                  <a:pt x="18000" y="26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анкетирование, опро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индивидуальные беседы, консультаци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организация встреч и консультаций со специалистами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собрания, «Круглые столы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актические семинар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родительские гостиные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айт ДО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Скругленный прямоугольник 21"/>
          <p:cNvSpPr/>
          <p:nvPr/>
        </p:nvSpPr>
        <p:spPr>
          <a:xfrm>
            <a:off x="2556000" y="4292640"/>
            <a:ext cx="2879640" cy="2531880"/>
          </a:xfrm>
          <a:prstGeom prst="roundRect">
            <a:avLst>
              <a:gd name="adj" fmla="val 15139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роведение совместных мастер классов (коррекционно-образовательных и творческих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открытых двер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Подготовка и проведение семейных  календарных праздников и фестивал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портивные праздники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ни добрых дел (трудовой десант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едение портфолио ребенк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Скругленный прямоугольник 22"/>
          <p:cNvSpPr/>
          <p:nvPr/>
        </p:nvSpPr>
        <p:spPr>
          <a:xfrm>
            <a:off x="5580000" y="4189320"/>
            <a:ext cx="2160720" cy="26352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635200"/>
              <a:gd name="textAreaBottom" fmla="*/ 2529720 h 2635200"/>
            </a:gdLst>
            <a:ahLst/>
            <a:rect l="textAreaLeft" t="textAreaTop" r="textAreaRight" b="textAreaBottom"/>
            <a:pathLst>
              <a:path w="21600" h="26342">
                <a:moveTo>
                  <a:pt x="3600" y="0"/>
                </a:moveTo>
                <a:arcTo wR="3600" hR="3600" stAng="16200000" swAng="-5400000"/>
                <a:lnTo>
                  <a:pt x="0" y="22742"/>
                </a:lnTo>
                <a:arcTo wR="3600" hR="3600" stAng="10800000" swAng="-5400000"/>
                <a:lnTo>
                  <a:pt x="18000" y="26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Творческие, тематические выставки, конкур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ыпуск фотоколлаже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71360" indent="-17136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-31680" y="-750960"/>
            <a:ext cx="72676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рганизационно - диагностический этап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ниторинговые,  диагностические исследова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перспекти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лен перспективного плана мероприят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готовка к проведению мероприят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Воспитательница"/>
          <p:cNvPicPr/>
          <p:nvPr/>
        </p:nvPicPr>
        <p:blipFill>
          <a:blip r:embed="rId5"/>
          <a:stretch/>
        </p:blipFill>
        <p:spPr>
          <a:xfrm>
            <a:off x="5580000" y="4262400"/>
            <a:ext cx="2290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63160" y="333000"/>
            <a:ext cx="36162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с деть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520" y="3500280"/>
            <a:ext cx="45957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детей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32000" y="3284280"/>
            <a:ext cx="361764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та педагога и роди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70200" cy="201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DSC03718"/>
          <p:cNvPicPr/>
          <p:nvPr/>
        </p:nvPicPr>
        <p:blipFill>
          <a:blip r:embed="rId2"/>
          <a:stretch/>
        </p:blipFill>
        <p:spPr>
          <a:xfrm>
            <a:off x="52560" y="4205160"/>
            <a:ext cx="4578120" cy="2652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G_3394"/>
          <p:cNvPicPr/>
          <p:nvPr/>
        </p:nvPicPr>
        <p:blipFill>
          <a:blip r:embed="rId3"/>
          <a:stretch/>
        </p:blipFill>
        <p:spPr>
          <a:xfrm>
            <a:off x="3780000" y="333360"/>
            <a:ext cx="39020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"/>
          <p:cNvPicPr/>
          <p:nvPr/>
        </p:nvPicPr>
        <p:blipFill>
          <a:blip r:embed="rId4"/>
          <a:stretch/>
        </p:blipFill>
        <p:spPr>
          <a:xfrm>
            <a:off x="4884840" y="4365720"/>
            <a:ext cx="2711520" cy="1873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4516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ормирующий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этап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24:50Z</dcterms:created>
  <dc:creator>юра</dc:creator>
  <dc:description/>
  <dc:language>en-US</dc:language>
  <cp:lastModifiedBy>777</cp:lastModifiedBy>
  <dcterms:modified xsi:type="dcterms:W3CDTF">2013-04-06T14:41:45Z</dcterms:modified>
  <cp:revision>64</cp:revision>
  <dc:subject/>
  <dc:title>Проект «Семья»</dc:title>
</cp:coreProperties>
</file>