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30D-B834-454D-9273-BD271944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D30-1AEA-4C81-81FD-05F6680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C9D-8A64-4A60-BDCB-39826AE6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228-3A76-4E73-93D1-C144098A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B540-E64B-4501-B5C1-5031C16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8AB-4C04-4F90-B09C-3D3321CE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90C-F1DE-4AB9-BAA8-8DB788C2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7A5-9D22-4387-B9DD-6587276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69B1-599F-464A-9EE4-9307FB12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A15-BECB-4B5C-B273-6925CC2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D76C-F838-49CA-994C-E5F0655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D8F-5B1A-495B-8609-0F35896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35C3-5459-4B5A-B198-D0481B0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E6A-14B6-49BC-87B6-29B12B7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969-09CB-43DB-92A0-43B349F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BAE6-8D43-4F3C-821E-CFB1DA45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962E-1263-435C-A72E-FBBC3DC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9CF-284A-4616-8428-2D7CCCBA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FD7-98F5-4210-9702-9616A9B2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107-4DD9-4CFF-9D7E-98111E7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3F5-5350-4ADF-A8C0-3320649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B1C-2B31-47A9-8915-AC3D6BB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E1D-92FB-4934-A009-3EA455C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3A7-3214-491A-A754-1BDA433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2674-2565-43C4-8BFD-9634FCB9CE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BF4-DBD9-4E56-8258-68C031755CD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254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униципальное дошкольное образовательное учреждение 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Детский сад комбинированного вида №77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1640" y="2133360"/>
            <a:ext cx="567540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ВЗАИМОДЕЙСТВИЕ С СЕМЬЕЙ В УСЛОВИЯХ ВВЕДЕНИЯ ФГ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Гусева И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IMG_3415_2"/>
          <p:cNvPicPr/>
          <p:nvPr/>
        </p:nvPicPr>
        <p:blipFill>
          <a:blip r:embed="rId1"/>
          <a:stretch/>
        </p:blipFill>
        <p:spPr>
          <a:xfrm>
            <a:off x="0" y="3789360"/>
            <a:ext cx="2060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23 ноября 2009 г. Приказом Министерства образования и науки РФ № 655 были утверждены федеральные государственные требования к структуре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4436640"/>
            <a:ext cx="7386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ья - важнейший институт социализации ребенка, субъект образовательного простран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аимодействие с семьей- отдельное направление по реализации ООП Д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одители – активные участники образовательного процесс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1619280" y="2133720"/>
            <a:ext cx="4319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«Семья – это та самая среда, в которой человек учится, и сам творит добро. Тонкость ощущения человека, эмоциональная восприимчивость, впечатлительность, чуткость, сопереживание, проникновение в духовный мир другого человека - все это постигается прежде всего в семье»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Содержимое 3" descr="obschaya.gif"/>
          <p:cNvPicPr/>
          <p:nvPr/>
        </p:nvPicPr>
        <p:blipFill>
          <a:blip r:embed="rId1"/>
          <a:stretch/>
        </p:blipFill>
        <p:spPr>
          <a:xfrm>
            <a:off x="1763640" y="3357720"/>
            <a:ext cx="48261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ИНЦИПЫ РАБОТЫ С РОДИТЕЛЯ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партнерского взаимодейств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согласова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информационной насыще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терпимости и настойчив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мотивации различными способ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целенаправленности, систематичности, планов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открытость детского сада для семьи (каждому родителю обеспечивается возможность знать и видеть, как живет и развивается его ребенок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дифференцированного подхода к работе с родителями с учётом специфики каждой семь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НОВНАЯ ЦЕЛ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–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РОДИТЕЛЯМ В ИСПОЛНЕНИИ ФУНКЦИИ ВОСПИТАТЕЛЕЙ СОБСТВЕННЫХ ДЕТЕ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413000"/>
            <a:ext cx="4740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вышение педагогической культуры родител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общение родителей к участию в жизни детского са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семьи и установление контактов с ее членами для согласования воспитательных взаимодействий на ребен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и обобщение лучшего семейного опы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76720" y="1598760"/>
            <a:ext cx="257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6"/>
          <a:stretch/>
        </p:blipFill>
        <p:spPr>
          <a:xfrm>
            <a:off x="5148360" y="1700280"/>
            <a:ext cx="244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052640"/>
            <a:ext cx="72612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73864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формировать у детей интерес к своей семье,  сохранению семейных традиций и обычаев, воспитать уважение к членам семь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ть и развивать у детей навыки исследовательской и творческой работы совместно с воспитателями и родителя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здать эмоционально благополучную атмосферу дома и в детском саду, где взаимоотношения между взрослыми и детьми построены на основе доброжелательности и взаимоуважении, где ребенок будет чувствовать себя желанным и защищенны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буждать детей к выполнению общественно значимых заданий, к добрым делам для семьи, родного дома, детского са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пражнять детей в проявлении сострадания, заботливости, внимательности к родным и близким, друзьям и сверстникам, к тем, кто о них заботитс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7"/>
          <a:stretch/>
        </p:blipFill>
        <p:spPr>
          <a:xfrm>
            <a:off x="2124000" y="4221000"/>
            <a:ext cx="3672000" cy="25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аправления взаимодейств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Овал 3"/>
          <p:cNvSpPr/>
          <p:nvPr/>
        </p:nvSpPr>
        <p:spPr>
          <a:xfrm>
            <a:off x="2700360" y="1596960"/>
            <a:ext cx="2354400" cy="914400"/>
          </a:xfrm>
          <a:prstGeom prst="ellipse">
            <a:avLst/>
          </a:prstGeom>
          <a:solidFill>
            <a:srgbClr val="d5b781"/>
          </a:solidFill>
          <a:ln w="25560">
            <a:solidFill>
              <a:srgbClr val="507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Совместн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Овал 4"/>
          <p:cNvSpPr/>
          <p:nvPr/>
        </p:nvSpPr>
        <p:spPr>
          <a:xfrm>
            <a:off x="276120" y="2587680"/>
            <a:ext cx="2138400" cy="1058760"/>
          </a:xfrm>
          <a:prstGeom prst="ellipse">
            <a:avLst/>
          </a:pr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 +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Стрелка вниз 7"/>
          <p:cNvSpPr/>
          <p:nvPr/>
        </p:nvSpPr>
        <p:spPr>
          <a:xfrm rot="3034800">
            <a:off x="2172240" y="1899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322960" y="2625840"/>
            <a:ext cx="2163600" cy="1085760"/>
          </a:xfrm>
          <a:prstGeom prst="rect">
            <a:avLst/>
          </a:prstGeom>
          <a:ln w="0">
            <a:noFill/>
          </a:ln>
        </p:spPr>
      </p:pic>
      <p:sp>
        <p:nvSpPr>
          <p:cNvPr id="216" name="Стрелка вниз 8"/>
          <p:cNvSpPr/>
          <p:nvPr/>
        </p:nvSpPr>
        <p:spPr>
          <a:xfrm rot="18356400">
            <a:off x="5082840" y="1855440"/>
            <a:ext cx="486000" cy="97812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Стрелка вниз 9"/>
          <p:cNvSpPr/>
          <p:nvPr/>
        </p:nvSpPr>
        <p:spPr>
          <a:xfrm>
            <a:off x="3635280" y="2370240"/>
            <a:ext cx="484200" cy="4903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795760" y="2859120"/>
            <a:ext cx="2163600" cy="108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2"/>
          <p:cNvSpPr/>
          <p:nvPr/>
        </p:nvSpPr>
        <p:spPr>
          <a:xfrm>
            <a:off x="2946240" y="3027240"/>
            <a:ext cx="200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5865480" y="28591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Стрелка вниз 14"/>
          <p:cNvSpPr/>
          <p:nvPr/>
        </p:nvSpPr>
        <p:spPr>
          <a:xfrm>
            <a:off x="1103400" y="364644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Стрелка вниз 15"/>
          <p:cNvSpPr/>
          <p:nvPr/>
        </p:nvSpPr>
        <p:spPr>
          <a:xfrm>
            <a:off x="3706920" y="3936960"/>
            <a:ext cx="484200" cy="35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Стрелка вниз 16"/>
          <p:cNvSpPr/>
          <p:nvPr/>
        </p:nvSpPr>
        <p:spPr>
          <a:xfrm>
            <a:off x="6202440" y="371808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Скругленный прямоугольник 17"/>
          <p:cNvSpPr/>
          <p:nvPr/>
        </p:nvSpPr>
        <p:spPr>
          <a:xfrm>
            <a:off x="165240" y="4135320"/>
            <a:ext cx="2235240" cy="2722680"/>
          </a:xfrm>
          <a:custGeom>
            <a:avLst/>
            <a:gdLst>
              <a:gd name="textAreaLeft" fmla="*/ 109080 w 2235240"/>
              <a:gd name="textAreaRight" fmla="*/ 2126160 w 2235240"/>
              <a:gd name="textAreaTop" fmla="*/ 109080 h 2722680"/>
              <a:gd name="textAreaBottom" fmla="*/ 2613600 h 2722680"/>
            </a:gdLst>
            <a:ahLst/>
            <a:rect l="textAreaLeft" t="textAreaTop" r="textAreaRight" b="textAreaBottom"/>
            <a:pathLst>
              <a:path w="21600" h="26310">
                <a:moveTo>
                  <a:pt x="3600" y="0"/>
                </a:moveTo>
                <a:arcTo wR="3600" hR="3600" stAng="16200000" swAng="-5400000"/>
                <a:lnTo>
                  <a:pt x="0" y="22710"/>
                </a:lnTo>
                <a:arcTo wR="3600" hR="3600" stAng="10800000" swAng="-5400000"/>
                <a:lnTo>
                  <a:pt x="18000" y="26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анкетирование, опро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ндивидуальные беседы, консультаци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рганизация встреч и консультаций со специалистами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собрания, «Круглые столы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актические семинар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гостиные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айт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Скругленный прямоугольник 21"/>
          <p:cNvSpPr/>
          <p:nvPr/>
        </p:nvSpPr>
        <p:spPr>
          <a:xfrm>
            <a:off x="2556000" y="4292640"/>
            <a:ext cx="2879640" cy="2531880"/>
          </a:xfrm>
          <a:prstGeom prst="roundRect">
            <a:avLst>
              <a:gd name="adj" fmla="val 1513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оведение совместных мастер классов (коррекционно-образовательных и творческих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открытых двер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одготовка и проведение семейных  календарных праздников и фестивал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портивные праздник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добрых дел (трудовой десант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едение портфолио ребенк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Скругленный прямоугольник 22"/>
          <p:cNvSpPr/>
          <p:nvPr/>
        </p:nvSpPr>
        <p:spPr>
          <a:xfrm>
            <a:off x="5580000" y="4189320"/>
            <a:ext cx="2160720" cy="26352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635200"/>
              <a:gd name="textAreaBottom" fmla="*/ 2529720 h 2635200"/>
            </a:gdLst>
            <a:ahLst/>
            <a:rect l="textAreaLeft" t="textAreaTop" r="textAreaRight" b="textAreaBottom"/>
            <a:pathLst>
              <a:path w="21600" h="26342">
                <a:moveTo>
                  <a:pt x="3600" y="0"/>
                </a:moveTo>
                <a:arcTo wR="3600" hR="3600" stAng="16200000" swAng="-5400000"/>
                <a:lnTo>
                  <a:pt x="0" y="22742"/>
                </a:lnTo>
                <a:arcTo wR="3600" hR="3600" stAng="10800000" swAng="-5400000"/>
                <a:lnTo>
                  <a:pt x="18000" y="26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Творческие, тематические выставки, конкур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ыпуск фотоколлаж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-31680" y="-750960"/>
            <a:ext cx="72676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рганизационно - диагностический этап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ниторинговые,  диагностические исследова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перспекти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лен перспективного плана мероприят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готовка к проведению мероприят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Воспитательница"/>
          <p:cNvPicPr/>
          <p:nvPr/>
        </p:nvPicPr>
        <p:blipFill>
          <a:blip r:embed="rId5"/>
          <a:stretch/>
        </p:blipFill>
        <p:spPr>
          <a:xfrm>
            <a:off x="5580000" y="4262400"/>
            <a:ext cx="2290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63160" y="333000"/>
            <a:ext cx="36162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с деть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520" y="3500280"/>
            <a:ext cx="45957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детей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32000" y="3284280"/>
            <a:ext cx="361764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70200" cy="201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DSC03718"/>
          <p:cNvPicPr/>
          <p:nvPr/>
        </p:nvPicPr>
        <p:blipFill>
          <a:blip r:embed="rId2"/>
          <a:stretch/>
        </p:blipFill>
        <p:spPr>
          <a:xfrm>
            <a:off x="52560" y="4205160"/>
            <a:ext cx="4578120" cy="2652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G_3394"/>
          <p:cNvPicPr/>
          <p:nvPr/>
        </p:nvPicPr>
        <p:blipFill>
          <a:blip r:embed="rId3"/>
          <a:stretch/>
        </p:blipFill>
        <p:spPr>
          <a:xfrm>
            <a:off x="3780000" y="333360"/>
            <a:ext cx="39020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4"/>
          <a:stretch/>
        </p:blipFill>
        <p:spPr>
          <a:xfrm>
            <a:off x="4884840" y="4365720"/>
            <a:ext cx="2711520" cy="1873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4516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ормирующий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этап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24:50Z</dcterms:created>
  <dc:creator>юра</dc:creator>
  <dc:description/>
  <dc:language>en-US</dc:language>
  <cp:lastModifiedBy>777</cp:lastModifiedBy>
  <dcterms:modified xsi:type="dcterms:W3CDTF">2013-04-06T14:41:45Z</dcterms:modified>
  <cp:revision>64</cp:revision>
  <dc:subject/>
  <dc:title>Проект «Семья»</dc:title>
</cp:coreProperties>
</file>