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wmf" ContentType="image/x-wmf"/>
  <Override PartName="/ppt/media/image4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4793-6334-4703-AC0E-B129C7FB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EA53-6993-471A-88FE-7AD168FB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ECB0-8768-47BB-9A25-E8815B09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16D1-C174-412C-A25A-E6D34077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37DE-D01D-4FE7-9A30-C396DEB3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28A7-DC6D-4728-9BB7-D331C4EC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C07D-A0B1-4A1B-8FB7-961C53EB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C781-7EBA-40E7-A73B-425ED26A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6F9D-FB37-4F14-975F-BCD8533E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6E73-12EB-4C35-AC74-9E84E041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099D-02C4-4F2A-ABFD-53BE3D42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5D17-B727-47ED-B782-A2CEC92D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CA30-6B3B-441F-A5E8-FEE4315E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2E20-3ED9-4E12-A38D-BBDF3FE7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422A-EE7B-4A44-8CDE-C0E7F8C4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ED2A-2D70-4A60-AB70-DED78AFA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B4B7-036E-49E9-9B3F-3B544FE1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E587-6DA1-49E9-8850-40B9DF06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E063-097B-4C67-B57D-0224E993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730C-26AA-4E5B-B1B4-404C2352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4494-50FE-46AE-AB8B-DFF8EBCD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0554-4ABB-4E72-B690-2D827D53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05D7-06D0-429B-B528-B03562EF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B22C-D5A4-4CD5-829F-10A15DF0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8C4C-BAD4-40A5-811F-3A0140D2346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133A-32F9-4798-99A3-280027610E0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Garamond"/>
              </a:rPr>
              <a:t>Государственное дошкольное образовательное учреждение детский сад комбинированного вида № 55</a:t>
            </a:r>
            <a:br>
              <a:rPr sz="2000"/>
            </a:br>
            <a:r>
              <a:rPr b="1" lang="en-US" sz="2000" spc="-1" strike="noStrike">
                <a:solidFill>
                  <a:srgbClr val="99cc00"/>
                </a:solidFill>
                <a:latin typeface="Garamond"/>
              </a:rPr>
              <a:t>Колпинского района Санкт-Петербурга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6600"/>
                </a:solidFill>
                <a:latin typeface="Verdana"/>
              </a:rPr>
              <a:t>Технолог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66600"/>
                </a:solidFill>
                <a:latin typeface="Verdana"/>
              </a:rPr>
              <a:t>«Введение дошкольника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66600"/>
                </a:solidFill>
                <a:latin typeface="Verdana"/>
              </a:rPr>
              <a:t>в мир искусства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999900"/>
                </a:solidFill>
                <a:latin typeface="Verdana"/>
              </a:rPr>
              <a:t>Воспитатель высшей квалификационной категории</a:t>
            </a:r>
            <a:r>
              <a:rPr b="1" lang="ru-RU" sz="1700" spc="-1" strike="noStrike">
                <a:solidFill>
                  <a:srgbClr val="999900"/>
                </a:solidFill>
                <a:latin typeface="Verdana"/>
              </a:rPr>
              <a:t> Куликова Елена Николаевн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Verdana"/>
              </a:rPr>
              <a:t>Данная технология создана на основе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Verdana"/>
              </a:rPr>
              <a:t>музейно-педагогической программ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Verdana"/>
              </a:rPr>
              <a:t>«Здравствуй музей!»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Verdana"/>
              </a:rPr>
              <a:t>Масловой С.Г., Соколовой Н.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Verdana"/>
              </a:rPr>
              <a:t>СПб, апрель 20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Garamond"/>
              </a:rPr>
              <a:t>Результативность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362320" y="1676520"/>
          <a:ext cx="6416640" cy="16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676520"/>
                    <a:ext cx="6416640" cy="16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Замысе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Воплощ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Восприят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предме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искус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438280" y="3429000"/>
          <a:ext cx="6189840" cy="16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429000"/>
                    <a:ext cx="61898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2209680" y="5113440"/>
          <a:ext cx="6553440" cy="174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5113440"/>
                    <a:ext cx="6553440" cy="17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Garamond"/>
              </a:rPr>
              <a:t>Выво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95040"/>
            <a:ext cx="82296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Внедрение в образовательный процесс данной технологии способствует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Verdana"/>
              </a:rPr>
              <a:t>интеллектуально-личностному развитию ребёнка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Verdana"/>
              </a:rPr>
              <a:t>раскрытию его творческого потенциал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Verdana"/>
              </a:rPr>
              <a:t>воспитанию нравственных качеств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Verdana"/>
              </a:rPr>
              <a:t>развитию эмоционально-волевой сферы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Verdana"/>
              </a:rPr>
              <a:t>формированию изобразительных навыков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Verdana"/>
              </a:rPr>
              <a:t>помогает формированию понятия «история» через приобщение к музейной среде и побуждает к изучению отечественной истор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Цель использования технологи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Интеллектуально-личностное развитие ребён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Раскрытие творческого потенциала де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Формирование изобразительных навы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2" descr="C:\Users\Любовь\Pictures\ВСЕ МОИ ФОТО\дети интернет\m_2321_0108[1].jpg"/>
          <p:cNvPicPr/>
          <p:nvPr/>
        </p:nvPicPr>
        <p:blipFill>
          <a:blip r:embed="rId1"/>
          <a:stretch/>
        </p:blipFill>
        <p:spPr>
          <a:xfrm>
            <a:off x="5486400" y="1981080"/>
            <a:ext cx="2717640" cy="853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Реализуемые группы задач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00240" y="167616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Развитие эмоционально-личностной сферы ребёнка в процессе восприятия произведений искусст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Развитие познавательных функций: память, внимание, мышление. Реч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Сенсорное развит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Приобщение детей к миру искусства через знакомство с предметами изобразительного искусства в рамках программы «Здравствуй, музей!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Использование предметов изобразительного искусства как стимулятора изобразительной деятельности дет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344680"/>
            <a:ext cx="4038480" cy="30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9328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Задачи музейной педагогик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Развитие визуальной грамотности: формирование навыков смотрения, детального рассмотрения, выделение главного в изображении, обобщение увиденног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Знакомство с некоторыми элементами языка изобразительного искусства, с видами и жанр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Приобщение к музейной среде, воспитание бережного отношения к памятник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Развитие творческих способност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Формирование навыков взаимного общения по поводу искусст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175360" y="1644480"/>
            <a:ext cx="2985840" cy="2327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05520" y="4191120"/>
            <a:ext cx="3124080" cy="23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Задачи музейной педагогик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1936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Воспитание нравственных качеств личности: доброты, отзывчивости, способности к сопереживанию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Развитие психофизических качеств: наблюдательности, умения сосредоточиваться, формирование произвольного внимания, умение ориентироваться в пространстве и временных понятиях, развитие воображения, эмоциональной отзывчивости, сенсорных способностей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Знакомство с бытованием некоторых народных промыслов, формирование понятия «история» через произведения искусства, побуждение к изучению отечественной истор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62120" y="4248000"/>
            <a:ext cx="3047760" cy="22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Этапы развития технологи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9621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I </a:t>
            </a:r>
            <a:r>
              <a:rPr b="1" lang="ru-RU" sz="1400" spc="-1" strike="noStrike">
                <a:solidFill>
                  <a:srgbClr val="666600"/>
                </a:solidFill>
                <a:latin typeface="Verdana"/>
              </a:rPr>
              <a:t>этап: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Внедрение музейно-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          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педагогической программы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          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«Здравствуй, музей!»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           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Масловой С.Г. и Соколовой Н.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0600" y="1599840"/>
            <a:ext cx="3733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II </a:t>
            </a:r>
            <a:r>
              <a:rPr b="1" lang="ru-RU" sz="1400" spc="-1" strike="noStrike">
                <a:solidFill>
                  <a:srgbClr val="666600"/>
                </a:solidFill>
                <a:latin typeface="Verdana"/>
              </a:rPr>
              <a:t>этап: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  Развитие технологии за  счет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Расширения сферы влияния учебного материала на все стороны развития ребён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Разработки системы планирования воспитательно-образовательной работы, касающейся не только восприятия предметов искусства, но и собственно изобразительной деятельно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Наблюдение за динамикой развития детей и коррекция в построении работ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Анализ результативности на основе разработанных критериев усвоения программного материал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Введение родителей в образовательное пространств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3124080"/>
            <a:ext cx="1828800" cy="1376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295280" y="480060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743200" y="3124080"/>
            <a:ext cx="1752480" cy="13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Предметно-развивающая среда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73528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057400"/>
            <a:ext cx="198108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Материал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форм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о предм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2057400"/>
            <a:ext cx="2362320" cy="1752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Материал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познавате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сферы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сенсор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2057400"/>
            <a:ext cx="2133360" cy="1523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Материал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изобразите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85640" y="1447920"/>
            <a:ext cx="19810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1447920"/>
            <a:ext cx="22100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1523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4495680"/>
            <a:ext cx="2590920" cy="1600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Репродукции, слайд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скульптуры мал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форм, керамик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ТС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800600"/>
            <a:ext cx="2514600" cy="1828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Дидактические игр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 упражне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ллюстрации, детск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 специальная литера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4724280"/>
            <a:ext cx="2514600" cy="1295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зобразите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материал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нструме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676160" y="37339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67480" y="365760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Структура построения работы с использованием технологи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495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Привлечение внимания ребёнка к предмету искусства (объект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Подготовка сенсорного аппарата для восприятия особенностей объек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Подготовка эмоциональной сфер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Выбор приемов для активизации речевой активности детей в процессе восприят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Создание проблемной ситуации или поисковой задач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Организация выставок в группа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Рассматривание объекта с выделением средств художественной выразительно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Выбор вариантов погружения в объект (живопись, графика), действия с предмет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048120" cy="2297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34120" y="41911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Структура построения работы с использованием технологи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4114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Варианты использования музыкального и литературного материала, работа по развитию ассоциативного мышл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Поездка в музей (старший возраст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Организация деятельности по отражению впечатлений об увиденном: рассказы детей, записанные с помощью родителей; изобразительная деятельно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Организация выставок детских рабо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Промежуточные наблюдения за проявлением детей на каждом этапе с целью коррекции педагогического процесс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Ежегодный анализ динамики развития дет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2895480" cy="217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2971800" cy="22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сения</cp:lastModifiedBy>
  <dcterms:modified xsi:type="dcterms:W3CDTF">2011-12-14T08:57:0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