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081-BE2A-4915-AC52-9692F40B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B32-3E08-42C5-8D2A-26DAA8E1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786-A102-4C61-8B6A-4C9D3CB2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CDE-127E-4CE7-AF4B-1C0F0983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621C-A889-4ED1-B4CB-D86C44E6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2DD2-2D14-451C-86EB-0F201234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DC41-5983-486A-8106-BA48B581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E5E8-ED8B-47A7-9495-4E8DE94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A4AE-0BEB-4EA3-A96D-C13687F5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1A4B-10A6-4118-8D7B-6D306363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185D-3185-4433-8D77-734F93B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F91-97AF-47F5-8F2E-09C2DDBE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28C6-5E10-48DE-B411-E6540568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6B9F-C38D-44EE-A8DF-B4D90C7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CEE0-21BD-4F82-95B8-8CC359F8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7668-7C72-4293-94A3-5493E7DE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4837-2A3B-4C18-AF85-07F12014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3D4-4293-4AB8-A9C7-C36FFD41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498-96C6-44A4-B0A0-962B2858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1CB-FE9C-4E6B-8721-88B83B63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228-F80A-4910-B1AF-6030B681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57F-2607-4DEE-A350-713A72D6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0AB-3D2A-4DE1-966F-F3C6F71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2F7-2073-47EE-A10C-89A45D5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1C3D-16E2-40CF-84A3-E14DB88E9AE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A5AA-C33F-4791-86A8-E17940C369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Garamond"/>
              </a:rPr>
              <a:t>Государственное дошкольное образовательное учреждение детский сад комбинированного вида № 55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Garamond"/>
              </a:rPr>
              <a:t>Колпинского района Санкт-Петербурга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6600"/>
                </a:solidFill>
                <a:latin typeface="Verdana"/>
              </a:rPr>
              <a:t>Технолог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6600"/>
                </a:solidFill>
                <a:latin typeface="Verdana"/>
              </a:rPr>
              <a:t>«Введение дошкольни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6600"/>
                </a:solidFill>
                <a:latin typeface="Verdana"/>
              </a:rPr>
              <a:t>в мир искусства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9900"/>
                </a:solidFill>
                <a:latin typeface="Verdana"/>
              </a:rPr>
              <a:t>Воспитатель высшей квалификационной категории</a:t>
            </a:r>
            <a:r>
              <a:rPr b="1" lang="ru-RU" sz="1700" spc="-1" strike="noStrike">
                <a:solidFill>
                  <a:srgbClr val="999900"/>
                </a:solidFill>
                <a:latin typeface="Verdana"/>
              </a:rPr>
              <a:t> Куликова Елена Николаевн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Данная технология создана на основ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музейно-педагогической програм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«Здравствуй музей!»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Масловой С.Г., Соколовой Н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СПб, апрель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Garamond"/>
              </a:rPr>
              <a:t>Результатив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62320" y="1676520"/>
          <a:ext cx="641664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641664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Замысе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Воплощ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Восприят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предм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искус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438280" y="3429000"/>
          <a:ext cx="6189840" cy="16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429000"/>
                    <a:ext cx="6189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209680" y="5113440"/>
          <a:ext cx="6553440" cy="17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5113440"/>
                    <a:ext cx="655344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Garamond"/>
              </a:rPr>
              <a:t>Выво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9504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Внедрение в образовательный процесс данной технологии способству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интеллектуально-личностному развитию ребёнк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раскрытию его творческого потенциал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воспитанию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развитию эмоционально-волевой сферы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формированию изобразительных навык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помогает формированию понятия «история» через приобщение к музейной среде и побуждает к изучению отечественной истор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Цель использования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Интеллектуально-личностное развитие ребё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Раскрытие творческого потенциала де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Формирование изобразительных навы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2" descr="C:\Users\Любовь\Pictures\ВСЕ МОИ ФОТО\дети интернет\m_2321_0108[1].jpg"/>
          <p:cNvPicPr/>
          <p:nvPr/>
        </p:nvPicPr>
        <p:blipFill>
          <a:blip r:embed="rId1"/>
          <a:stretch/>
        </p:blipFill>
        <p:spPr>
          <a:xfrm>
            <a:off x="5486400" y="1981080"/>
            <a:ext cx="2717640" cy="853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Реализуемые группы задач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6761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эмоционально-личностной сферы ребёнка в процессе восприятия произведений искус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познавательных функций: память, внимание, мышление. Реч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Сенсорное развит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Приобщение детей к миру искусства через знакомство с предметами изобразительного искусства в рамках программы «Здравствуй, музей!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Использование предметов изобразительного искусства как стимулятора изобразительной деятельности де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403848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932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Задачи музейной педагоги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визуальной грамотности: формирование навыков смотрения, детального рассмотрения, выделение главного в изображении, обобщение увиден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Знакомство с некоторыми элементами языка изобразительного искусства, с видами и жанр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Приобщение к музейной среде, воспитание бережного отношения к памятни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творческих способнос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Формирование навыков взаимного общения по поводу искус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75360" y="1644480"/>
            <a:ext cx="2985840" cy="232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12408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Задачи музейной педагоги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1936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Воспитание нравственных качеств личности: доброты, отзывчивости, способности к сопереживан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психофизических качеств: наблюдательности, умения сосредоточиваться, формирование произвольного внимания, умение ориентироваться в пространстве и временных понятиях, развитие воображения, эмоциональной отзывчивости, сенсорных способностей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Знакомство с бытованием некоторых народных промыслов, формирование понятия «история» через произведения искусства, побуждение к изучению отечественной истор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4248000"/>
            <a:ext cx="3047760" cy="22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Этапы развития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62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I </a:t>
            </a:r>
            <a:r>
              <a:rPr b="1" lang="ru-RU" sz="1400" spc="-1" strike="noStrike">
                <a:solidFill>
                  <a:srgbClr val="666600"/>
                </a:solidFill>
                <a:latin typeface="Verdana"/>
              </a:rPr>
              <a:t>этап: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Внедрение музейно-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педагогической программ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«Здравствуй, музей!»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Масловой С.Г. и Соколовой Н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0600" y="15998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II </a:t>
            </a:r>
            <a:r>
              <a:rPr b="1" lang="ru-RU" sz="1400" spc="-1" strike="noStrike">
                <a:solidFill>
                  <a:srgbClr val="666600"/>
                </a:solidFill>
                <a:latin typeface="Verdana"/>
              </a:rPr>
              <a:t>этап: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Развитие технологии за  сче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Расширения сферы влияния учебного материала на все стороны развития ребё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Разработки системы планирования воспитательно-образовательной работы, касающейся не только восприятия предметов искусства, но и собственно изобрази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Наблюдение за динамикой развития детей и коррекция в построении работ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Анализ результативности на основе разработанных критериев усвоения программного матери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Введение родителей в образовательное простран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1828800" cy="13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743200" y="3124080"/>
            <a:ext cx="1752480" cy="13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Предметно-развивающая сред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73528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198108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о предм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057400"/>
            <a:ext cx="2362320" cy="1752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ознав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фер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енсо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057400"/>
            <a:ext cx="213336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зобрази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85640" y="1447920"/>
            <a:ext cx="1981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1447920"/>
            <a:ext cx="2210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495680"/>
            <a:ext cx="2590920" cy="1600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Репродукции, слай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скульптуры мал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форм, керами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ТС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800600"/>
            <a:ext cx="2514600" cy="1828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Дидактические иг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 упражн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ллюстрации, дет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 специальная 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4724280"/>
            <a:ext cx="2514600" cy="129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зобраз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материа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нстр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76160" y="3733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6576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Структура построения работы с использованием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ривлечение внимания ребёнка к предмету искусства (объект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дготовка сенсорного аппарата для восприятия особенностей объек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дготовка эмоциональной сфе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ыбор приемов для активизации речевой активности детей в процессе восприят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Создание проблемной ситуации или поисковой задач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выставок в групп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Рассматривание объекта с выделением средств художественной выразитель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ыбор вариантов погружения в объект (живопись, графика), действия с предмет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048120" cy="2297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Структура построения работы с использованием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арианты использования музыкального и литературного материала, работа по развитию ассоциативного мыш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ездка в музей (старший возраст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деятельности по отражению впечатлений об увиденном: рассказы детей, записанные с помощью родителей; изобразительная дея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выставок детских раб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ромежуточные наблюдения за проявлением детей на каждом этапе с целью коррекции педагогического процесс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Ежегодный анализ динамики развития дет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29718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сения</cp:lastModifiedBy>
  <dcterms:modified xsi:type="dcterms:W3CDTF">2011-12-14T08:57:0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