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2463-2B0F-4CF6-A7B9-F89B502D35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A6A6-608D-46EA-AB90-C3AFE92DC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702-D518-43FE-81C7-A8FFEF59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5A2-4BCA-468A-9A4B-B73D5142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3B0-C8EB-4CF3-A7C0-BFA46046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1FC-562F-4D84-B557-67FB556B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6339-5539-468F-9A4D-13942021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E1AF-CE3E-4D65-9BE3-E60FA2FD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E65D-B9D6-46F2-850A-446B1BB8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A541-A738-495B-BE39-44806CDF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4702-31BB-4C17-83CF-4BB6F752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4673-D139-4AC7-946F-932FC3B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C1BE-E882-40E5-A688-6EFEF25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2F0-0D05-44A1-867E-8D451B0D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D9B6-D202-4161-A7C2-3D9C816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E829-392A-423E-9A76-8264E39D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36DD-2F63-411D-802A-5E24073A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878E-B5C7-4BFB-9DBE-77F46B86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A8E4-CA62-44E3-AA58-05BD0A05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31EA-BEB0-4594-93CF-0E55B85E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8152-A3F3-478A-8BB6-DCD155BE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FEA0-D739-4C24-BE42-290D1AB8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24E9-DDF2-465D-B243-7FFB1658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26B1-C741-4998-83AF-DA9DF069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018-B0DF-4F29-AA2C-88265696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6B9B-8718-47DE-BE86-4100FF85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49D5-4E11-45EE-8CEF-154CF90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AEE8-E14C-4749-BF3E-4963D05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DACE-4B6E-467A-8DCB-65E36C5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141E-6D9D-40D2-904C-B0686062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29E1-6711-4288-B9BE-9D037F1A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138B-5E9C-473C-8A52-7A85604A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2EE41-CFBE-4CE9-A70D-A329D690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3C3BB-FE72-4A68-80D2-4BF35232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45777-FB07-485C-9A62-7B15C18F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EA2-DB4D-411C-91D8-B57CA4C1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5554-D656-4F6C-BA70-E53678E3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D43A-0421-4A75-B7B7-05F79526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A77E-2DF8-468F-AE82-BBD3D738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79A1-2E9C-450E-BEEB-40219CEF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4F8F-5779-4887-863A-1C2B3194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C2C6-2148-496F-A7D9-C64A4EC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5DE5C-8E14-4D77-8997-69BE6157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FDE5-06EC-436F-BF50-84C1113A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DE54-FF8C-441C-B7F3-56319744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4EF0B-46A4-43DC-9C0C-C3E902F2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12A-67D1-4CF3-9866-3A34F10D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76D8C-B9B8-4C78-8773-B941D708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71C7-34B4-46DB-ACFE-E19AB346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264E-0FC9-4F87-9358-CEFAE0E9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6F991-4834-4529-9BB4-732E31A1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F870A-5C64-4F72-B276-1D6C6CBF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6FBF-EB08-4FBA-B393-1C51E27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EFCC-7EDA-4643-AD1D-C47A4B2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85B6-22EA-4063-BB9C-E05795A5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2CC9-F556-4D06-A06A-5EB1466D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DC75C-C826-4D9C-88E0-A80292EA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F75-B2C1-4381-95E2-BC96C8C4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A877-8AF0-4BCD-9F05-4028ED13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B9E9-C2AA-450A-8F93-A3FAD166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F9F6-F346-48A4-90B0-54BBD88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1D8EB-CA7C-4843-90BF-AF79D96F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F825F-7D11-47C9-9C99-B0F01FF3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33228-A489-464F-9177-8E1B9E2D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5831-7976-4817-81FA-0DC7B11F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A690-3F77-49CB-AA02-53E807DE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2EA29-BC06-4C1A-8286-D2B0C439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FFB2B-4F14-4149-9BF4-A4DBB3FF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963-7CDA-4A9F-A74D-EAD4F6C7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2092-4975-4741-B5DF-F4BE4389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781C-4024-483E-9804-706EA13D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C553B-01A4-46A8-8023-40E2F8B6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C27D-2EA6-4BB6-B87A-869FA270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D93A1-8CA3-4288-BB6D-DCE89FEB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CCE84-770A-46D7-AADE-05C78630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758CB-3283-4BE5-A4C2-9B528811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D59E-BCA5-4A70-8F23-5B3D973F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E19CC-CC3D-436D-8CE5-B3B1B4FA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661D0-86D2-4222-87FB-8F709F9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20B-5C09-4712-BCEF-15AA52A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96E31-D532-4E04-86F4-E4DDF23D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FB71-B983-47D3-A967-29C84DE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83013-60E8-40A9-B5E7-12050886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FC078-5A09-4B76-8467-591B4956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FDDB2-4D34-4707-AEF2-59ACBD40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71E-9B96-4454-90C4-F7B3C782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1E0-2198-459A-8CD1-9F0FF10A40F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F3EE-8749-4DD9-8080-0256853CBC9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270E-1C6B-4EA1-9911-26B8A84825C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8FB3-454F-4AAC-8173-99AEAFB0485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40C7-3401-4ED6-9D6F-E3504763A5F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1228-48DC-48CB-BC50-32008AEC6FF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C605-1A92-4918-B60B-43D26429E0A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2005-12.photosight.ru/11/117366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elenograd.ru/img/news/2008-08/2007-08-23_34_news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-volgograd.ru/attachments/deti-v-sadik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03.olx.ru/ui/1/05/05/10830005_1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/src/1393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чало в части №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4"/>
          <p:cNvSpPr/>
          <p:nvPr/>
        </p:nvSpPr>
        <p:spPr>
          <a:xfrm>
            <a:off x="2500560" y="115920"/>
            <a:ext cx="48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Игра (игровая деятельность</a:t>
            </a:r>
            <a:r>
              <a:rPr b="1" i="1" lang="ru-RU" sz="1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332000" y="69912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вободной творческой игре,  развиваются произвольность и межличност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усматривается  совместная игра взрослого с детьми, в процессе которой ребенок овладевает азами игровой деятельности, а затем и более сложными и разнообразными ее формами (сюжетной игрой, игрой по правил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Рисунок 4" descr=" "/>
          <p:cNvPicPr/>
          <p:nvPr/>
        </p:nvPicPr>
        <p:blipFill>
          <a:blip r:embed="rId1"/>
          <a:stretch/>
        </p:blipFill>
        <p:spPr>
          <a:xfrm>
            <a:off x="2556000" y="4724280"/>
            <a:ext cx="3027240" cy="19447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http://www.cooperation.ru/_data/pages/0000022/02-b.jpg"/>
          <p:cNvPicPr/>
          <p:nvPr/>
        </p:nvPicPr>
        <p:blipFill>
          <a:blip r:embed="rId2"/>
          <a:stretch/>
        </p:blipFill>
        <p:spPr>
          <a:xfrm>
            <a:off x="5940360" y="4724280"/>
            <a:ext cx="2808360" cy="20178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332000" y="2421000"/>
            <a:ext cx="58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нова психического развития и творчеств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вободной творческой игре,  развиваются произвольность и межличност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усматривается  совместная игра взрослого с детьми, в процессе которой ребенок овладевает азами игровой деятельности, а затем и более сложными и разнообразными ее формами (сюжетной игрой, игрой по правил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i-main-pic" descr="Картинка 220 из 64000"/>
          <p:cNvPicPr/>
          <p:nvPr/>
        </p:nvPicPr>
        <p:blipFill>
          <a:blip r:embed="rId3"/>
          <a:stretch/>
        </p:blipFill>
        <p:spPr>
          <a:xfrm rot="309000">
            <a:off x="6800400" y="2160720"/>
            <a:ext cx="21654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1332000" y="55368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посвящены игре по сценарию, разыгрыванию сюже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опровождать действия словом и выражать голосом действия персонажа,  переходя в театрализованную деятельность, и показ кукольных спектаклей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6"/>
          <p:cNvSpPr/>
          <p:nvPr/>
        </p:nvSpPr>
        <p:spPr>
          <a:xfrm>
            <a:off x="2917080" y="0"/>
            <a:ext cx="33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Режиссерская иг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-main-pic" descr="Картинка 173 из 64000">
            <a:hlinkClick r:id="rId1"/>
          </p:cNvPr>
          <p:cNvPicPr/>
          <p:nvPr/>
        </p:nvPicPr>
        <p:blipFill>
          <a:blip r:embed="rId2"/>
          <a:stretch/>
        </p:blipFill>
        <p:spPr>
          <a:xfrm rot="374400">
            <a:off x="5362560" y="2604960"/>
            <a:ext cx="3527280" cy="28083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1258920" y="17002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а психического развития и творчества. Развивается личностное каче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ициативность, общие способы познавательной действительност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-main-pic" descr="Картинка 53 из 12176"/>
          <p:cNvPicPr/>
          <p:nvPr/>
        </p:nvPicPr>
        <p:blipFill>
          <a:blip r:embed="rId3"/>
          <a:stretch/>
        </p:blipFill>
        <p:spPr>
          <a:xfrm>
            <a:off x="3780000" y="5057640"/>
            <a:ext cx="3240000" cy="1800360"/>
          </a:xfrm>
          <a:prstGeom prst="rect">
            <a:avLst/>
          </a:prstGeom>
          <a:ln w="0">
            <a:noFill/>
          </a:ln>
        </p:spPr>
      </p:pic>
      <p:pic>
        <p:nvPicPr>
          <p:cNvPr id="385" name="i-main-pic" descr="Картинка 56 из 64000"/>
          <p:cNvPicPr/>
          <p:nvPr/>
        </p:nvPicPr>
        <p:blipFill>
          <a:blip r:embed="rId4"/>
          <a:stretch/>
        </p:blipFill>
        <p:spPr>
          <a:xfrm rot="21211200">
            <a:off x="1185480" y="2598480"/>
            <a:ext cx="33130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535640" y="498960"/>
            <a:ext cx="460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передавать язык жестов и мимику, выразительных движений, пластики, пантомимики, с помощью которых передаются осознано или нет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ющие игровые задания, близкие к театрализации развивают способность к эмоционально-пластическому самовыражению, перевоплощению в игрово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играть театральные спектакли и самостоятельно придумывать и показывать сюжетные сцен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3361680" y="115920"/>
            <a:ext cx="44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6d7d"/>
                </a:solidFill>
                <a:latin typeface="Times New Roman"/>
                <a:ea typeface="Calibri"/>
              </a:rPr>
              <a:t>Выразительное дви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8" descr="Image"/>
          <p:cNvPicPr/>
          <p:nvPr/>
        </p:nvPicPr>
        <p:blipFill>
          <a:blip r:embed="rId1"/>
          <a:stretch/>
        </p:blipFill>
        <p:spPr>
          <a:xfrm>
            <a:off x="3419640" y="4005360"/>
            <a:ext cx="2232000" cy="158436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0"/>
          <p:cNvSpPr/>
          <p:nvPr/>
        </p:nvSpPr>
        <p:spPr>
          <a:xfrm>
            <a:off x="1187280" y="5516640"/>
            <a:ext cx="42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детей развиваются творческие способности и продуктивное воображение, что способствует  общению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i-main-pic" descr="Картинка 480 из 12176"/>
          <p:cNvPicPr/>
          <p:nvPr/>
        </p:nvPicPr>
        <p:blipFill>
          <a:blip r:embed="rId2"/>
          <a:stretch/>
        </p:blipFill>
        <p:spPr>
          <a:xfrm>
            <a:off x="5796000" y="400536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391" name="i-main-pic" descr="Картинка 1053 из 12176"/>
          <p:cNvPicPr/>
          <p:nvPr/>
        </p:nvPicPr>
        <p:blipFill>
          <a:blip r:embed="rId3"/>
          <a:stretch/>
        </p:blipFill>
        <p:spPr>
          <a:xfrm>
            <a:off x="1116000" y="62064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i-main-pic" descr="Картинка 83 из 7828"/>
          <p:cNvPicPr/>
          <p:nvPr/>
        </p:nvPicPr>
        <p:blipFill>
          <a:blip r:embed="rId1"/>
          <a:stretch/>
        </p:blipFill>
        <p:spPr>
          <a:xfrm>
            <a:off x="1258920" y="836640"/>
            <a:ext cx="3313080" cy="2879640"/>
          </a:xfrm>
          <a:prstGeom prst="rect">
            <a:avLst/>
          </a:prstGeom>
          <a:ln w="0">
            <a:noFill/>
          </a:ln>
        </p:spPr>
      </p:pic>
      <p:pic>
        <p:nvPicPr>
          <p:cNvPr id="393" name="i-main-pic" descr="Картинка 85 из 64000"/>
          <p:cNvPicPr/>
          <p:nvPr/>
        </p:nvPicPr>
        <p:blipFill>
          <a:blip r:embed="rId2"/>
          <a:stretch/>
        </p:blipFill>
        <p:spPr>
          <a:xfrm rot="20733600">
            <a:off x="2026800" y="4011120"/>
            <a:ext cx="2576520" cy="2430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i?id=179302634-02"/>
          <p:cNvPicPr/>
          <p:nvPr/>
        </p:nvPicPr>
        <p:blipFill>
          <a:blip r:embed="rId3"/>
          <a:stretch/>
        </p:blipFill>
        <p:spPr>
          <a:xfrm rot="1009800">
            <a:off x="5258880" y="4017960"/>
            <a:ext cx="2332080" cy="24112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4643280" y="693360"/>
            <a:ext cx="45007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и программы закладывают общий фундамент развития ребенка и готовят его к любой школьной программе, обеспечивают успешность обучения, не устанавливая тесных рамок. Инновационные направления в образовании ребенка имеют перспективное и приоритетное значение для начального этапа в школьном обучении  по любой развивающей и образовательной программ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258920" y="50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 к школе по программе «Развит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i-main-pic" descr="Картинка 14 из 142"/>
          <p:cNvPicPr/>
          <p:nvPr/>
        </p:nvPicPr>
        <p:blipFill>
          <a:blip r:embed="rId1"/>
          <a:stretch/>
        </p:blipFill>
        <p:spPr>
          <a:xfrm rot="951600">
            <a:off x="7358040" y="47196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9" descr="http://www.psyparents.ru/files/knigi/Igri_i_upr_1998.jpg"/>
          <p:cNvPicPr/>
          <p:nvPr/>
        </p:nvPicPr>
        <p:blipFill>
          <a:blip r:embed="rId2"/>
          <a:stretch/>
        </p:blipFill>
        <p:spPr>
          <a:xfrm rot="20824200">
            <a:off x="2678040" y="4758840"/>
            <a:ext cx="1224000" cy="18766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22" descr="http://covers.cnt.itdelo.com/o/om/ome/omega2617520big.jpg"/>
          <p:cNvPicPr/>
          <p:nvPr/>
        </p:nvPicPr>
        <p:blipFill>
          <a:blip r:embed="rId3"/>
          <a:stretch/>
        </p:blipFill>
        <p:spPr>
          <a:xfrm>
            <a:off x="4140360" y="472428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4" descr="http://www.kartinki.ws/images/370.jpg"/>
          <p:cNvPicPr/>
          <p:nvPr/>
        </p:nvPicPr>
        <p:blipFill>
          <a:blip r:embed="rId4"/>
          <a:stretch/>
        </p:blipFill>
        <p:spPr>
          <a:xfrm rot="1046400">
            <a:off x="5832000" y="4684680"/>
            <a:ext cx="1387440" cy="19623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5" descr="http://www.char.ru/books/p1574960.jpg"/>
          <p:cNvPicPr/>
          <p:nvPr/>
        </p:nvPicPr>
        <p:blipFill>
          <a:blip r:embed="rId5"/>
          <a:stretch/>
        </p:blipFill>
        <p:spPr>
          <a:xfrm rot="20679000">
            <a:off x="1284120" y="4735440"/>
            <a:ext cx="1273320" cy="19893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31" descr="http://www.libex.ru/dimg/3f69.gif"/>
          <p:cNvPicPr/>
          <p:nvPr/>
        </p:nvPicPr>
        <p:blipFill>
          <a:blip r:embed="rId6"/>
          <a:stretch/>
        </p:blipFill>
        <p:spPr>
          <a:xfrm rot="21152400">
            <a:off x="2715840" y="2626920"/>
            <a:ext cx="1368360" cy="2089080"/>
          </a:xfrm>
          <a:prstGeom prst="rect">
            <a:avLst/>
          </a:prstGeom>
          <a:ln w="0">
            <a:noFill/>
          </a:ln>
        </p:spPr>
      </p:pic>
      <p:pic>
        <p:nvPicPr>
          <p:cNvPr id="403" name="i-main-pic" descr="Картинка 73 из 142"/>
          <p:cNvPicPr/>
          <p:nvPr/>
        </p:nvPicPr>
        <p:blipFill>
          <a:blip r:embed="rId7"/>
          <a:stretch/>
        </p:blipFill>
        <p:spPr>
          <a:xfrm>
            <a:off x="7734240" y="195120"/>
            <a:ext cx="1273320" cy="2052720"/>
          </a:xfrm>
          <a:prstGeom prst="rect">
            <a:avLst/>
          </a:prstGeom>
          <a:ln w="0">
            <a:noFill/>
          </a:ln>
        </p:spPr>
      </p:pic>
      <p:pic>
        <p:nvPicPr>
          <p:cNvPr id="404" name="i-main-pic" descr="Картинка 83 из 142"/>
          <p:cNvPicPr/>
          <p:nvPr/>
        </p:nvPicPr>
        <p:blipFill>
          <a:blip r:embed="rId8"/>
          <a:stretch/>
        </p:blipFill>
        <p:spPr>
          <a:xfrm>
            <a:off x="4284720" y="2637000"/>
            <a:ext cx="1319040" cy="194436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8" descr="http://www.mgpu.ru/artimg/art311-08.jpg"/>
          <p:cNvPicPr/>
          <p:nvPr/>
        </p:nvPicPr>
        <p:blipFill>
          <a:blip r:embed="rId9"/>
          <a:stretch/>
        </p:blipFill>
        <p:spPr>
          <a:xfrm rot="849000">
            <a:off x="5922720" y="2518920"/>
            <a:ext cx="1439640" cy="20163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1" descr="http://www.mgpu.ru/artimg/art311-07.jpg"/>
          <p:cNvPicPr/>
          <p:nvPr/>
        </p:nvPicPr>
        <p:blipFill>
          <a:blip r:embed="rId10"/>
          <a:stretch/>
        </p:blipFill>
        <p:spPr>
          <a:xfrm rot="993000">
            <a:off x="7503840" y="2627280"/>
            <a:ext cx="1392120" cy="1940040"/>
          </a:xfrm>
          <a:prstGeom prst="rect">
            <a:avLst/>
          </a:prstGeom>
          <a:ln w="0">
            <a:noFill/>
          </a:ln>
        </p:spPr>
      </p:pic>
      <p:pic>
        <p:nvPicPr>
          <p:cNvPr id="407" name="i-main-pic" descr="Картинка 129 из 142"/>
          <p:cNvPicPr/>
          <p:nvPr/>
        </p:nvPicPr>
        <p:blipFill>
          <a:blip r:embed="rId11"/>
          <a:stretch/>
        </p:blipFill>
        <p:spPr>
          <a:xfrm rot="21003000">
            <a:off x="1223640" y="2258640"/>
            <a:ext cx="1403280" cy="24210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C:\Users\Павлозавр\Pictures\2010-09-26\10004.JPG"/>
          <p:cNvPicPr/>
          <p:nvPr/>
        </p:nvPicPr>
        <p:blipFill>
          <a:blip r:embed="rId12"/>
          <a:stretch/>
        </p:blipFill>
        <p:spPr>
          <a:xfrm>
            <a:off x="1187280" y="115920"/>
            <a:ext cx="1346400" cy="20876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4"/>
          <p:cNvSpPr/>
          <p:nvPr/>
        </p:nvSpPr>
        <p:spPr>
          <a:xfrm>
            <a:off x="2700360" y="0"/>
            <a:ext cx="457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ое обесп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4"/>
          <p:cNvSpPr/>
          <p:nvPr/>
        </p:nvSpPr>
        <p:spPr>
          <a:xfrm>
            <a:off x="2700360" y="981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и дает возможность обучить и определить продвижение детей в освоении программы как отдельными детьми, так и группы в цел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1"/>
          <p:cNvSpPr/>
          <p:nvPr/>
        </p:nvSpPr>
        <p:spPr>
          <a:xfrm>
            <a:off x="1547640" y="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экологических представ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C:\Users\Павлозавр\Desktop\Хератень для Юлии\фото группы\Новая папка\уголок природы\DSC00473.JPG"/>
          <p:cNvPicPr/>
          <p:nvPr/>
        </p:nvPicPr>
        <p:blipFill>
          <a:blip r:embed="rId1"/>
          <a:stretch/>
        </p:blipFill>
        <p:spPr>
          <a:xfrm>
            <a:off x="1187280" y="3645000"/>
            <a:ext cx="3600720" cy="3097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4"/>
          <p:cNvSpPr/>
          <p:nvPr/>
        </p:nvSpPr>
        <p:spPr>
          <a:xfrm>
            <a:off x="1187280" y="53640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ятся с живой и неживой природой,  с особенностями растений и живо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ют осознавать первые простые закономерности (смена времен года, изменения в природе в зависимости от наступившего сезон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ятся с природой ближнего окружения , с различными природными зонами, экосистемами и эволюцией жизни на Зем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2"/>
          <p:cNvSpPr/>
          <p:nvPr/>
        </p:nvSpPr>
        <p:spPr>
          <a:xfrm>
            <a:off x="4788000" y="5084640"/>
            <a:ext cx="41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ладываются основы экологической культуры, усваиваются   основы последующего успешного освоения школьных программ (география, биология,  природоведение, экология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7" descr=" "/>
          <p:cNvPicPr/>
          <p:nvPr/>
        </p:nvPicPr>
        <p:blipFill>
          <a:blip r:embed="rId2"/>
          <a:stretch/>
        </p:blipFill>
        <p:spPr>
          <a:xfrm rot="648000">
            <a:off x="7162920" y="2709720"/>
            <a:ext cx="1776240" cy="2355840"/>
          </a:xfrm>
          <a:prstGeom prst="rect">
            <a:avLst/>
          </a:prstGeom>
          <a:ln w="0">
            <a:noFill/>
          </a:ln>
        </p:spPr>
      </p:pic>
      <p:pic>
        <p:nvPicPr>
          <p:cNvPr id="331" name="i-main-pic" descr="Картинка 1082 из 12176"/>
          <p:cNvPicPr/>
          <p:nvPr/>
        </p:nvPicPr>
        <p:blipFill>
          <a:blip r:embed="rId3"/>
          <a:srcRect l="0" t="-3690" r="0" b="0"/>
          <a:stretch/>
        </p:blipFill>
        <p:spPr>
          <a:xfrm>
            <a:off x="5148360" y="2852640"/>
            <a:ext cx="1944720" cy="20829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83" descr="http://ww.fotodeti.ru/images/foto_b/351_0012.jpg"/>
          <p:cNvPicPr/>
          <p:nvPr/>
        </p:nvPicPr>
        <p:blipFill>
          <a:blip r:embed="rId4"/>
          <a:stretch/>
        </p:blipFill>
        <p:spPr>
          <a:xfrm rot="20930400">
            <a:off x="5273640" y="525240"/>
            <a:ext cx="1468440" cy="2190600"/>
          </a:xfrm>
          <a:prstGeom prst="rect">
            <a:avLst/>
          </a:prstGeom>
          <a:ln w="0">
            <a:noFill/>
          </a:ln>
        </p:spPr>
      </p:pic>
      <p:pic>
        <p:nvPicPr>
          <p:cNvPr id="333" name="i-main-pic" descr="Картинка 117 из 12176"/>
          <p:cNvPicPr/>
          <p:nvPr/>
        </p:nvPicPr>
        <p:blipFill>
          <a:blip r:embed="rId5"/>
          <a:stretch/>
        </p:blipFill>
        <p:spPr>
          <a:xfrm rot="348000">
            <a:off x="7027560" y="573120"/>
            <a:ext cx="2016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6"/>
          <p:cNvSpPr/>
          <p:nvPr/>
        </p:nvSpPr>
        <p:spPr>
          <a:xfrm>
            <a:off x="1042920" y="0"/>
            <a:ext cx="12096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азвитие элементарных математ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едстав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356000" y="995760"/>
            <a:ext cx="62643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ют с понимания матема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й (больше, меньше, поровн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игают количествен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внивают предметы по величине (дл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рина, высота) , составляя две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ов сначала непосредственно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ом опосредованно, с помощью нагля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ей, позволяющие дать ребенку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конкретные, но и обобщенные 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-main-pic" descr="Картинка 135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3386160" cy="31687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13"/>
          <p:cNvSpPr/>
          <p:nvPr/>
        </p:nvSpPr>
        <p:spPr>
          <a:xfrm>
            <a:off x="1116000" y="4797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 детей мыслить, логически рассуждать, находить скрытые для непосредственного восприятия математические взаимосвязи и взаимозависимости и т.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-main-pic" descr="Картинка 2 из 1120"/>
          <p:cNvPicPr/>
          <p:nvPr/>
        </p:nvPicPr>
        <p:blipFill>
          <a:blip r:embed="rId3"/>
          <a:stretch/>
        </p:blipFill>
        <p:spPr>
          <a:xfrm>
            <a:off x="4932360" y="3860640"/>
            <a:ext cx="40543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7"/>
          <p:cNvSpPr/>
          <p:nvPr/>
        </p:nvSpPr>
        <p:spPr>
          <a:xfrm>
            <a:off x="118728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Развитие элементов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535640" y="581076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которые  необходимы для успешного перехода к дошкольному обу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i-main-pic" descr="Картинка 36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3500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342" name="i-main-pic" descr="Картинка 383 из 64000">
            <a:hlinkClick r:id="rId3"/>
          </p:cNvPr>
          <p:cNvPicPr/>
          <p:nvPr/>
        </p:nvPicPr>
        <p:blipFill>
          <a:blip r:embed="rId4"/>
          <a:stretch/>
        </p:blipFill>
        <p:spPr>
          <a:xfrm rot="21099000">
            <a:off x="5173200" y="606600"/>
            <a:ext cx="2976840" cy="25524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1"/>
          <p:cNvSpPr/>
          <p:nvPr/>
        </p:nvSpPr>
        <p:spPr>
          <a:xfrm>
            <a:off x="971640" y="765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выявляют и учитыв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щественные, скрытые от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предметов и явлений, связ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последовательно рассужда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ть выводы,  анализ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истематиз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-main-pic" descr="Картинка 159 из 12176"/>
          <p:cNvPicPr/>
          <p:nvPr/>
        </p:nvPicPr>
        <p:blipFill>
          <a:blip r:embed="rId5"/>
          <a:stretch/>
        </p:blipFill>
        <p:spPr>
          <a:xfrm rot="715200">
            <a:off x="6225840" y="3102120"/>
            <a:ext cx="2682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5"/>
          <p:cNvSpPr/>
          <p:nvPr/>
        </p:nvSpPr>
        <p:spPr>
          <a:xfrm>
            <a:off x="1116000" y="0"/>
            <a:ext cx="9360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комление с художественной литерату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азвитие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1258920" y="9129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е направ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звитие творческих способностей, знакомство с литерату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троить свой собственный рассказ, рассказывать по пла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фантазировать, сочинять необычные продолжения известных сказок, пересказывать при помощи условных заместителей (круг, квадрат ит.д.)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Rectangle 14" descr=""/>
          <p:cNvPicPr/>
          <p:nvPr/>
        </p:nvPicPr>
        <p:blipFill>
          <a:blip r:embed="rId1"/>
          <a:stretch/>
        </p:blipFill>
        <p:spPr>
          <a:xfrm>
            <a:off x="3492360" y="-347760"/>
            <a:ext cx="3962520" cy="695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C:\Users\Павлозавр\Desktop\Хератень для Юлии\фото группы\2010-08-16\1 (2).JPG"/>
          <p:cNvPicPr/>
          <p:nvPr/>
        </p:nvPicPr>
        <p:blipFill>
          <a:blip r:embed="rId2"/>
          <a:stretch/>
        </p:blipFill>
        <p:spPr>
          <a:xfrm rot="21234600">
            <a:off x="1130400" y="2658960"/>
            <a:ext cx="3016080" cy="2824200"/>
          </a:xfrm>
          <a:prstGeom prst="rect">
            <a:avLst/>
          </a:prstGeom>
          <a:ln w="0">
            <a:noFill/>
          </a:ln>
        </p:spPr>
      </p:pic>
      <p:pic>
        <p:nvPicPr>
          <p:cNvPr id="349" name="i-main-pic" descr="Картинка 27 из 64000"/>
          <p:cNvPicPr/>
          <p:nvPr/>
        </p:nvPicPr>
        <p:blipFill>
          <a:blip r:embed="rId3"/>
          <a:stretch/>
        </p:blipFill>
        <p:spPr>
          <a:xfrm rot="648000">
            <a:off x="5959080" y="2744280"/>
            <a:ext cx="2951280" cy="2768760"/>
          </a:xfrm>
          <a:prstGeom prst="rect">
            <a:avLst/>
          </a:prstGeom>
          <a:ln w="0">
            <a:noFill/>
          </a:ln>
        </p:spPr>
      </p:pic>
      <p:pic>
        <p:nvPicPr>
          <p:cNvPr id="350" name="i-main-pic" descr="Картинка 1919 из 12176"/>
          <p:cNvPicPr/>
          <p:nvPr/>
        </p:nvPicPr>
        <p:blipFill>
          <a:blip r:embed="rId4"/>
          <a:stretch/>
        </p:blipFill>
        <p:spPr>
          <a:xfrm>
            <a:off x="3780000" y="4581360"/>
            <a:ext cx="2808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5"/>
          <p:cNvSpPr/>
          <p:nvPr/>
        </p:nvSpPr>
        <p:spPr>
          <a:xfrm>
            <a:off x="1187280" y="0"/>
            <a:ext cx="10369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владение основами первонач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рам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042920" y="786240"/>
            <a:ext cx="47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ают  звуковой анализ слова, умение правильно ставить ударение, занимаются звуковой стороной речи и знаковая систем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бласти обучения ребенка письму педагоги сознательно ограничиваются подготовкой руки к письму (произвольные упражнениями  рук и пальцев, воспроизводение в рабочей строке различные предметные образы,  приближенных к конфигурации букв, и написанию печатны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9" descr=" "/>
          <p:cNvPicPr/>
          <p:nvPr/>
        </p:nvPicPr>
        <p:blipFill>
          <a:blip r:embed="rId1"/>
          <a:stretch/>
        </p:blipFill>
        <p:spPr>
          <a:xfrm>
            <a:off x="5724360" y="1197000"/>
            <a:ext cx="3311640" cy="3168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0"/>
          <p:cNvSpPr/>
          <p:nvPr/>
        </p:nvSpPr>
        <p:spPr>
          <a:xfrm>
            <a:off x="5435640" y="465300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уется  весь комплекс готовности ребенка к письму: сочетание темпа и ритма речи с движением глаз и рук. Обучение проходит в игровой форме и образном контексте понятных ребенку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-main-pic" descr="Картинка 331 из 12176"/>
          <p:cNvPicPr/>
          <p:nvPr/>
        </p:nvPicPr>
        <p:blipFill>
          <a:blip r:embed="rId2"/>
          <a:srcRect l="0" t="-1642" r="0" b="0"/>
          <a:stretch/>
        </p:blipFill>
        <p:spPr>
          <a:xfrm>
            <a:off x="1116000" y="393372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5"/>
          <p:cNvSpPr/>
          <p:nvPr/>
        </p:nvSpPr>
        <p:spPr>
          <a:xfrm>
            <a:off x="3218040" y="18900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бразительное искус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284720" y="70740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обучаются композиции, рисунку, умению выражать свое отношение  к предмету  в графических  образах.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  понимать  язык изобразительного искусства, выразительными средствами   и использовать их для создания компози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ся соединять предметный рисунок с цветовой организацией листа, при этом технические задачи  обязательно включаются в творческую задачу, требующую  передачи эмоционального состояния и построения художественно-выразительного об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9" descr="http://www.rostov-gorod.ru/imagebase/img_4429_10.jpg"/>
          <p:cNvPicPr/>
          <p:nvPr/>
        </p:nvPicPr>
        <p:blipFill>
          <a:blip r:embed="rId1"/>
          <a:stretch/>
        </p:blipFill>
        <p:spPr>
          <a:xfrm rot="21234600">
            <a:off x="3901680" y="4133520"/>
            <a:ext cx="2476440" cy="260028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0"/>
          <p:cNvSpPr/>
          <p:nvPr/>
        </p:nvSpPr>
        <p:spPr>
          <a:xfrm>
            <a:off x="1042920" y="4076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способствуют развитию и позволяет ребенку создавать сложные многофигурные композиции, передавать в них свои  эмоцию, настроение и впечат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i-main-pic" descr="Картинка 14 из 12176"/>
          <p:cNvPicPr/>
          <p:nvPr/>
        </p:nvPicPr>
        <p:blipFill>
          <a:blip r:embed="rId2"/>
          <a:stretch/>
        </p:blipFill>
        <p:spPr>
          <a:xfrm>
            <a:off x="1116000" y="907920"/>
            <a:ext cx="3095640" cy="2737080"/>
          </a:xfrm>
          <a:prstGeom prst="rect">
            <a:avLst/>
          </a:prstGeom>
          <a:ln w="0">
            <a:noFill/>
          </a:ln>
        </p:spPr>
      </p:pic>
      <p:pic>
        <p:nvPicPr>
          <p:cNvPr id="361" name="i-main-pic" descr="Картинка 1304 из 12176"/>
          <p:cNvPicPr/>
          <p:nvPr/>
        </p:nvPicPr>
        <p:blipFill>
          <a:blip r:embed="rId3"/>
          <a:stretch/>
        </p:blipFill>
        <p:spPr>
          <a:xfrm rot="595200">
            <a:off x="6727320" y="4201920"/>
            <a:ext cx="2028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1116000" y="91764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кладывать кубики, создавая устойчивые и ровные постройки, учитывая форму различных элементов строитель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тать пл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сначала в одной плоскости, а затем в тр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кладывать и  конструировать по схеме и по собственному замысл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3419640" y="11592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2223"/>
                </a:solidFill>
                <a:latin typeface="Times New Roman"/>
                <a:ea typeface="Calibri"/>
              </a:rPr>
              <a:t>Констру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http://detsad69.narod.ru/Foto/P1010019sm1.jpg"/>
          <p:cNvPicPr/>
          <p:nvPr/>
        </p:nvPicPr>
        <p:blipFill>
          <a:blip r:embed="rId1"/>
          <a:stretch/>
        </p:blipFill>
        <p:spPr>
          <a:xfrm>
            <a:off x="5435640" y="692280"/>
            <a:ext cx="3384360" cy="3528720"/>
          </a:xfrm>
          <a:prstGeom prst="rect">
            <a:avLst/>
          </a:prstGeom>
          <a:ln w="0">
            <a:noFill/>
          </a:ln>
        </p:spPr>
      </p:pic>
      <p:pic>
        <p:nvPicPr>
          <p:cNvPr id="365" name="i-main-pic" descr="Картинка 199 из 64000"/>
          <p:cNvPicPr/>
          <p:nvPr/>
        </p:nvPicPr>
        <p:blipFill>
          <a:blip r:embed="rId2"/>
          <a:stretch/>
        </p:blipFill>
        <p:spPr>
          <a:xfrm>
            <a:off x="2843280" y="3284640"/>
            <a:ext cx="3025800" cy="302400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6"/>
          <p:cNvSpPr/>
          <p:nvPr/>
        </p:nvSpPr>
        <p:spPr>
          <a:xfrm>
            <a:off x="5940360" y="486900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способствуют развитию пространственных представлений, необходимых в дальнейшем  для освоения математики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8" descr="http://im8-tub.yandex.net/i?id=127193768-01"/>
          <p:cNvPicPr/>
          <p:nvPr/>
        </p:nvPicPr>
        <p:blipFill>
          <a:blip r:embed="rId3"/>
          <a:stretch/>
        </p:blipFill>
        <p:spPr>
          <a:xfrm>
            <a:off x="1116000" y="4797360"/>
            <a:ext cx="2016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1042920" y="562680"/>
            <a:ext cx="40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ь схожа с сюжетной игрой, рисованием, аппликацией, но не приравнивается к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воляет не только освоить основные изобразительные и выразительные средства, но и решать изобразительные и выразительные задач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троить композиции на разные темы, обучаясь при этом использовать сенсорные этал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1844640" y="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Times New Roman"/>
                <a:ea typeface="Calibri"/>
              </a:rPr>
              <a:t>Художественн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i-main-pic" descr="Картинка 33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620640"/>
            <a:ext cx="3133800" cy="2448000"/>
          </a:xfrm>
          <a:prstGeom prst="rect">
            <a:avLst/>
          </a:prstGeom>
          <a:ln w="0">
            <a:noFill/>
          </a:ln>
        </p:spPr>
      </p:pic>
      <p:pic>
        <p:nvPicPr>
          <p:cNvPr id="371" name="i-main-pic" descr="Картинка 261 из 64000"/>
          <p:cNvPicPr/>
          <p:nvPr/>
        </p:nvPicPr>
        <p:blipFill>
          <a:blip r:embed="rId3"/>
          <a:stretch/>
        </p:blipFill>
        <p:spPr>
          <a:xfrm>
            <a:off x="1332000" y="3860640"/>
            <a:ext cx="3311280" cy="28083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0"/>
          <p:cNvSpPr/>
          <p:nvPr/>
        </p:nvSpPr>
        <p:spPr>
          <a:xfrm>
            <a:off x="4967280" y="482616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развивают познавательные, творческие, художественные и конструктивные способности детей; необходимое в ходе занятий преобразование объектов развивает мышление дете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137" descr="http://im6-tub.yandex.net/i?id=105531528-15"/>
          <p:cNvPicPr/>
          <p:nvPr/>
        </p:nvPicPr>
        <p:blipFill>
          <a:blip r:embed="rId4"/>
          <a:stretch/>
        </p:blipFill>
        <p:spPr>
          <a:xfrm>
            <a:off x="4427640" y="3068640"/>
            <a:ext cx="2592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3:50:41Z</dcterms:created>
  <dc:creator>name</dc:creator>
  <dc:description/>
  <dc:language>en-US</dc:language>
  <cp:lastModifiedBy>Павлозавр</cp:lastModifiedBy>
  <dcterms:modified xsi:type="dcterms:W3CDTF">2012-04-14T21:59:51Z</dcterms:modified>
  <cp:revision>258</cp:revision>
  <dc:subject/>
  <dc:title>Слайд 1</dc:title>
</cp:coreProperties>
</file>