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BAD-96CA-437B-B75D-CE88249B3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762C-617A-4EC5-A673-7C09DE497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F5E-C70B-40D3-A71D-5D3F7C02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F42-55B4-4108-B160-9E87C576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E99-72E2-4E16-B824-43A5B46B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A99-9B0C-448E-AD8C-0E601422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A253-E4E3-4389-835A-7652DE91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0535-2F4B-4112-8E56-6E08551C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10E2-32C6-4FBC-B59F-B4088681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7520-CFED-4D4A-B9FF-B486094A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BDF-1B4C-4065-8653-B79B57B9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44C6-30EA-43FD-B0CA-85EE563E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0981-6262-42E6-B80A-0893C34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807-0B62-48C3-8580-7F24BF44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BDA3-8830-4084-A6C5-8858B9E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CC5-7F2A-466D-A1A7-CC3B717A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28A2-D360-430B-ADE7-E22436C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294B-49BE-40E2-A78E-EA78FD42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A416-A9E5-4EC1-BEE7-C0A50877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784A-A778-4942-9651-C1B64F73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C4C3-9311-4DB3-9609-AAE61902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E304-A68A-4C13-A2C9-C77BB874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D55B-042D-4D06-8483-47763379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628D-03B8-4A2E-8039-F0FD7932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ECF-BB36-45BC-BDED-8B9A2B9C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A894-AD1E-4395-8B09-6E1E0CD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72E4-2529-40E7-A5A9-3D1DD51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F4F2-BBAC-41FD-9D19-76E832A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8EE8-C00A-4FE1-82FA-8AEE3676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408B-88FB-4A1F-9A3F-06DFD34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E7F5-4D4F-4022-85F6-4D5EF6D6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157A-37D7-41A9-BA9E-12A1522E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B7D4-9D03-4881-93C3-DD476A76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9D22-D4E1-445D-AF67-39FF8CB1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A4E7-17A0-404A-9291-E1E76B63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288-06E0-4F99-86E2-6432A3E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F749-93E5-4183-A0A6-A8AA2B16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0189-134C-4572-861A-3CDE4DCA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F1A5-C76F-4A91-902C-591D60EC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66CC-1F8F-44DC-B3F8-B3C24D8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21CA-28F0-4EFA-AF52-1654E68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3469E-1146-4C3B-94B4-95961BD0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7691-A45B-448E-BB29-911EEE9E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68CB-6D9C-47E3-B2A0-F3CD6C34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74C9-4B19-4270-BE88-2F42AC70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1C446-F83F-4FBC-8ABD-3692850D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271-704A-4DF2-BC4A-59DB7BBD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4A8BE-4FFE-49FC-99EF-3BF51539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BF2E-4438-47AA-85D7-4F43DA85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00CA-F4C6-4413-9C9D-B16FD44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8DCA-29CB-4A10-97BE-162B0711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322E1-6463-4048-A9F8-E8E73BB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4DD2-6FEF-42C5-BADC-7333CB93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A01E-AB48-431A-969F-F4D5523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FA6E-04FE-4A83-9435-7CB6B25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E433-B0E9-4334-AC15-17D72424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1B13-AC06-4C4D-A0F0-28F37DBB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B23-4632-4AD9-BB5F-8D40CC6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6F6D7-7F66-4880-A80D-8A4CE327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0A9F-72A6-4C42-902F-ACBFC447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C214-34DB-4311-8EDC-643FA98D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9B037-944F-466D-8590-CA451BA3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411C-659A-41E5-8098-1C0A9054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C6EB0-88AC-481D-84F0-37E30805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ACF6B-370E-4D5C-BC09-B1865EC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CAE7-8460-49BD-A108-BE685824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3F84-15A7-482F-B720-B9D24F4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0BF4-0B92-443A-B623-AD926B0F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139-E1D3-4CB9-8E91-B81AA38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C5015-E55E-44EF-8009-40FC1B66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C27E4-C05E-48F0-8A57-A5D9DCAC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010B-D4DC-4F57-A2AF-CE575183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F6F5-61D9-4E7B-9DB7-A679522D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8EB7-2B70-41E5-9964-FEB3EDCE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30837-D9CC-42E7-AFC9-362680C4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1416-3953-4550-A114-0EE6FCF1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6422-D42E-4857-9248-3192495D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B00B1-375E-40EC-858E-1493923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37E34-B35E-40AD-8454-34F89F4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2BB-4A06-440E-8E7B-5490B303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BB260-E257-4318-B938-28E10947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E032A-2B9E-43BA-94EC-2B67AF4A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42F1-9EB0-4DC7-B88A-E8E1C37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79D47-A198-4C6D-920E-378EE11E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6FEA-FF4D-4515-AC7E-ACB20F8C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F91-DA73-4F2F-BB08-1392EEC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43B4-871C-4748-BECC-61E0C3BCE6B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F716-D66E-407D-8553-776958B57B5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A41E-9B36-4E21-B071-8478253D152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7977-16CE-4AFF-AB88-1E7A7E98774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BBB8-09E5-4F4A-9F80-8808B9D7CA9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55E-0537-468D-9E07-78D45DBD593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BC2F-C944-4706-9445-7AF77859886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2005-12.photosight.ru/11/117366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elenograd.ru/img/news/2008-08/2007-08-23_34_news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-volgograd.ru/attachments/deti-v-sadik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03.olx.ru/ui/1/05/05/10830005_1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/src/1393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чало в части №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4"/>
          <p:cNvSpPr/>
          <p:nvPr/>
        </p:nvSpPr>
        <p:spPr>
          <a:xfrm>
            <a:off x="2500560" y="115920"/>
            <a:ext cx="48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Игра (игровая деятельность</a:t>
            </a:r>
            <a:r>
              <a:rPr b="1" i="1" lang="ru-RU" sz="1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332000" y="69912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ободной творческой игре,  развиваются произвольность и межличност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усматривается  совместная игра взрослого с детьми, в процессе которой ребенок овладевает азами игровой деятельности, а затем и более сложными и разнообразными ее формами (сюжетной игрой, игрой по правил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Рисунок 4" descr=" "/>
          <p:cNvPicPr/>
          <p:nvPr/>
        </p:nvPicPr>
        <p:blipFill>
          <a:blip r:embed="rId1"/>
          <a:stretch/>
        </p:blipFill>
        <p:spPr>
          <a:xfrm>
            <a:off x="2556000" y="4724280"/>
            <a:ext cx="3027240" cy="19447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http://www.cooperation.ru/_data/pages/0000022/02-b.jpg"/>
          <p:cNvPicPr/>
          <p:nvPr/>
        </p:nvPicPr>
        <p:blipFill>
          <a:blip r:embed="rId2"/>
          <a:stretch/>
        </p:blipFill>
        <p:spPr>
          <a:xfrm>
            <a:off x="5940360" y="4724280"/>
            <a:ext cx="2808360" cy="20178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332000" y="2421000"/>
            <a:ext cx="58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нова психического развития и творчеств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ободной творческой игре,  развиваются произвольность и межличност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усматривается  совместная игра взрослого с детьми, в процессе которой ребенок овладевает азами игровой деятельности, а затем и более сложными и разнообразными ее формами (сюжетной игрой, игрой по правил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i-main-pic" descr="Картинка 220 из 64000"/>
          <p:cNvPicPr/>
          <p:nvPr/>
        </p:nvPicPr>
        <p:blipFill>
          <a:blip r:embed="rId3"/>
          <a:stretch/>
        </p:blipFill>
        <p:spPr>
          <a:xfrm rot="309000">
            <a:off x="6800400" y="2160720"/>
            <a:ext cx="21654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1332000" y="55368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посвящены игре по сценарию, разыгрыванию сюж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опровождать действия словом и выражать голосом действия персонажа,  переходя в театрализованную деятельность, и показ кукольных спектаклей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2917080" y="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Режиссерская иг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-main-pic" descr="Картинка 173 из 64000">
            <a:hlinkClick r:id="rId1"/>
          </p:cNvPr>
          <p:cNvPicPr/>
          <p:nvPr/>
        </p:nvPicPr>
        <p:blipFill>
          <a:blip r:embed="rId2"/>
          <a:stretch/>
        </p:blipFill>
        <p:spPr>
          <a:xfrm rot="374400">
            <a:off x="5362560" y="2604960"/>
            <a:ext cx="3527280" cy="28083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1258920" y="1700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 психического развития и творчества. Развивается личностное каче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ициативность, общие способы познавательной действительност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-main-pic" descr="Картинка 53 из 12176"/>
          <p:cNvPicPr/>
          <p:nvPr/>
        </p:nvPicPr>
        <p:blipFill>
          <a:blip r:embed="rId3"/>
          <a:stretch/>
        </p:blipFill>
        <p:spPr>
          <a:xfrm>
            <a:off x="3780000" y="505764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385" name="i-main-pic" descr="Картинка 56 из 64000"/>
          <p:cNvPicPr/>
          <p:nvPr/>
        </p:nvPicPr>
        <p:blipFill>
          <a:blip r:embed="rId4"/>
          <a:stretch/>
        </p:blipFill>
        <p:spPr>
          <a:xfrm rot="21211200">
            <a:off x="1185480" y="2598480"/>
            <a:ext cx="33130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535640" y="498960"/>
            <a:ext cx="460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передавать язык жестов и мимику, выразительных движений, пластики, пантомимики, с помощью которых передаются осознано или нет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ющие игровые задания, близкие к театрализации развивают способность к эмоционально-пластическому самовыражению, перевоплощению в игрово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играть театральные спектакли и самостоятельно придумывать и показывать сюжетные сцен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3361680" y="115920"/>
            <a:ext cx="44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6d7d"/>
                </a:solidFill>
                <a:latin typeface="Times New Roman"/>
                <a:ea typeface="Calibri"/>
              </a:rPr>
              <a:t>Выразительное дв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8" descr="Image"/>
          <p:cNvPicPr/>
          <p:nvPr/>
        </p:nvPicPr>
        <p:blipFill>
          <a:blip r:embed="rId1"/>
          <a:stretch/>
        </p:blipFill>
        <p:spPr>
          <a:xfrm>
            <a:off x="3419640" y="4005360"/>
            <a:ext cx="2232000" cy="158436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0"/>
          <p:cNvSpPr/>
          <p:nvPr/>
        </p:nvSpPr>
        <p:spPr>
          <a:xfrm>
            <a:off x="1187280" y="5516640"/>
            <a:ext cx="42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детей развиваются творческие способности и продуктивное воображение, что способствует  общению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i-main-pic" descr="Картинка 480 из 12176"/>
          <p:cNvPicPr/>
          <p:nvPr/>
        </p:nvPicPr>
        <p:blipFill>
          <a:blip r:embed="rId2"/>
          <a:stretch/>
        </p:blipFill>
        <p:spPr>
          <a:xfrm>
            <a:off x="5796000" y="400536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91" name="i-main-pic" descr="Картинка 1053 из 12176"/>
          <p:cNvPicPr/>
          <p:nvPr/>
        </p:nvPicPr>
        <p:blipFill>
          <a:blip r:embed="rId3"/>
          <a:stretch/>
        </p:blipFill>
        <p:spPr>
          <a:xfrm>
            <a:off x="1116000" y="62064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i-main-pic" descr="Картинка 83 из 7828"/>
          <p:cNvPicPr/>
          <p:nvPr/>
        </p:nvPicPr>
        <p:blipFill>
          <a:blip r:embed="rId1"/>
          <a:stretch/>
        </p:blipFill>
        <p:spPr>
          <a:xfrm>
            <a:off x="1258920" y="836640"/>
            <a:ext cx="3313080" cy="2879640"/>
          </a:xfrm>
          <a:prstGeom prst="rect">
            <a:avLst/>
          </a:prstGeom>
          <a:ln w="0">
            <a:noFill/>
          </a:ln>
        </p:spPr>
      </p:pic>
      <p:pic>
        <p:nvPicPr>
          <p:cNvPr id="393" name="i-main-pic" descr="Картинка 85 из 64000"/>
          <p:cNvPicPr/>
          <p:nvPr/>
        </p:nvPicPr>
        <p:blipFill>
          <a:blip r:embed="rId2"/>
          <a:stretch/>
        </p:blipFill>
        <p:spPr>
          <a:xfrm rot="20733600">
            <a:off x="2026800" y="4011120"/>
            <a:ext cx="2576520" cy="2430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i?id=179302634-02"/>
          <p:cNvPicPr/>
          <p:nvPr/>
        </p:nvPicPr>
        <p:blipFill>
          <a:blip r:embed="rId3"/>
          <a:stretch/>
        </p:blipFill>
        <p:spPr>
          <a:xfrm rot="1009800">
            <a:off x="5258880" y="4017960"/>
            <a:ext cx="2332080" cy="24112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4643280" y="693360"/>
            <a:ext cx="4500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и программы закладывают общий фундамент развития ребенка и готовят его к любой школьной программе, обеспечивают успешность обучения, не устанавливая тесных рамок. Инновационные направления в образовании ребенка имеют перспективное и приоритетное значение для начального этапа в школьном обучении  по любой развивающей и образовательной программ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258920" y="50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 к школе по программе «Развит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i-main-pic" descr="Картинка 14 из 142"/>
          <p:cNvPicPr/>
          <p:nvPr/>
        </p:nvPicPr>
        <p:blipFill>
          <a:blip r:embed="rId1"/>
          <a:stretch/>
        </p:blipFill>
        <p:spPr>
          <a:xfrm rot="951600">
            <a:off x="7358040" y="47196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9" descr="http://www.psyparents.ru/files/knigi/Igri_i_upr_1998.jpg"/>
          <p:cNvPicPr/>
          <p:nvPr/>
        </p:nvPicPr>
        <p:blipFill>
          <a:blip r:embed="rId2"/>
          <a:stretch/>
        </p:blipFill>
        <p:spPr>
          <a:xfrm rot="20824200">
            <a:off x="2678040" y="4758840"/>
            <a:ext cx="1224000" cy="18766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22" descr="http://covers.cnt.itdelo.com/o/om/ome/omega2617520big.jpg"/>
          <p:cNvPicPr/>
          <p:nvPr/>
        </p:nvPicPr>
        <p:blipFill>
          <a:blip r:embed="rId3"/>
          <a:stretch/>
        </p:blipFill>
        <p:spPr>
          <a:xfrm>
            <a:off x="4140360" y="472428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4" descr="http://www.kartinki.ws/images/370.jpg"/>
          <p:cNvPicPr/>
          <p:nvPr/>
        </p:nvPicPr>
        <p:blipFill>
          <a:blip r:embed="rId4"/>
          <a:stretch/>
        </p:blipFill>
        <p:spPr>
          <a:xfrm rot="1046400">
            <a:off x="5832000" y="4684680"/>
            <a:ext cx="1387440" cy="19623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5" descr="http://www.char.ru/books/p1574960.jpg"/>
          <p:cNvPicPr/>
          <p:nvPr/>
        </p:nvPicPr>
        <p:blipFill>
          <a:blip r:embed="rId5"/>
          <a:stretch/>
        </p:blipFill>
        <p:spPr>
          <a:xfrm rot="20679000">
            <a:off x="1284120" y="4735440"/>
            <a:ext cx="1273320" cy="19893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31" descr="http://www.libex.ru/dimg/3f69.gif"/>
          <p:cNvPicPr/>
          <p:nvPr/>
        </p:nvPicPr>
        <p:blipFill>
          <a:blip r:embed="rId6"/>
          <a:stretch/>
        </p:blipFill>
        <p:spPr>
          <a:xfrm rot="21152400">
            <a:off x="2715840" y="2626920"/>
            <a:ext cx="1368360" cy="2089080"/>
          </a:xfrm>
          <a:prstGeom prst="rect">
            <a:avLst/>
          </a:prstGeom>
          <a:ln w="0">
            <a:noFill/>
          </a:ln>
        </p:spPr>
      </p:pic>
      <p:pic>
        <p:nvPicPr>
          <p:cNvPr id="403" name="i-main-pic" descr="Картинка 73 из 142"/>
          <p:cNvPicPr/>
          <p:nvPr/>
        </p:nvPicPr>
        <p:blipFill>
          <a:blip r:embed="rId7"/>
          <a:stretch/>
        </p:blipFill>
        <p:spPr>
          <a:xfrm>
            <a:off x="7734240" y="195120"/>
            <a:ext cx="1273320" cy="2052720"/>
          </a:xfrm>
          <a:prstGeom prst="rect">
            <a:avLst/>
          </a:prstGeom>
          <a:ln w="0">
            <a:noFill/>
          </a:ln>
        </p:spPr>
      </p:pic>
      <p:pic>
        <p:nvPicPr>
          <p:cNvPr id="404" name="i-main-pic" descr="Картинка 83 из 142"/>
          <p:cNvPicPr/>
          <p:nvPr/>
        </p:nvPicPr>
        <p:blipFill>
          <a:blip r:embed="rId8"/>
          <a:stretch/>
        </p:blipFill>
        <p:spPr>
          <a:xfrm>
            <a:off x="4284720" y="2637000"/>
            <a:ext cx="1319040" cy="19443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8" descr="http://www.mgpu.ru/artimg/art311-08.jpg"/>
          <p:cNvPicPr/>
          <p:nvPr/>
        </p:nvPicPr>
        <p:blipFill>
          <a:blip r:embed="rId9"/>
          <a:stretch/>
        </p:blipFill>
        <p:spPr>
          <a:xfrm rot="849000">
            <a:off x="5922720" y="2518920"/>
            <a:ext cx="1439640" cy="20163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1" descr="http://www.mgpu.ru/artimg/art311-07.jpg"/>
          <p:cNvPicPr/>
          <p:nvPr/>
        </p:nvPicPr>
        <p:blipFill>
          <a:blip r:embed="rId10"/>
          <a:stretch/>
        </p:blipFill>
        <p:spPr>
          <a:xfrm rot="993000">
            <a:off x="7503840" y="2627280"/>
            <a:ext cx="1392120" cy="1940040"/>
          </a:xfrm>
          <a:prstGeom prst="rect">
            <a:avLst/>
          </a:prstGeom>
          <a:ln w="0">
            <a:noFill/>
          </a:ln>
        </p:spPr>
      </p:pic>
      <p:pic>
        <p:nvPicPr>
          <p:cNvPr id="407" name="i-main-pic" descr="Картинка 129 из 142"/>
          <p:cNvPicPr/>
          <p:nvPr/>
        </p:nvPicPr>
        <p:blipFill>
          <a:blip r:embed="rId11"/>
          <a:stretch/>
        </p:blipFill>
        <p:spPr>
          <a:xfrm rot="21003000">
            <a:off x="1223640" y="2258640"/>
            <a:ext cx="1403280" cy="24210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C:\Users\Павлозавр\Pictures\2010-09-26\10004.JPG"/>
          <p:cNvPicPr/>
          <p:nvPr/>
        </p:nvPicPr>
        <p:blipFill>
          <a:blip r:embed="rId12"/>
          <a:stretch/>
        </p:blipFill>
        <p:spPr>
          <a:xfrm>
            <a:off x="1187280" y="115920"/>
            <a:ext cx="1346400" cy="20876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4"/>
          <p:cNvSpPr/>
          <p:nvPr/>
        </p:nvSpPr>
        <p:spPr>
          <a:xfrm>
            <a:off x="2700360" y="0"/>
            <a:ext cx="457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ое обесп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4"/>
          <p:cNvSpPr/>
          <p:nvPr/>
        </p:nvSpPr>
        <p:spPr>
          <a:xfrm>
            <a:off x="2700360" y="981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и дает возможность обучить и определить продвижение детей в освоении программы как отдельными детьми, так и группы в цел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1"/>
          <p:cNvSpPr/>
          <p:nvPr/>
        </p:nvSpPr>
        <p:spPr>
          <a:xfrm>
            <a:off x="1547640" y="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экологических представ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C:\Users\Павлозавр\Desktop\Хератень для Юлии\фото группы\Новая папка\уголок природы\DSC00473.JPG"/>
          <p:cNvPicPr/>
          <p:nvPr/>
        </p:nvPicPr>
        <p:blipFill>
          <a:blip r:embed="rId1"/>
          <a:stretch/>
        </p:blipFill>
        <p:spPr>
          <a:xfrm>
            <a:off x="1187280" y="364500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4"/>
          <p:cNvSpPr/>
          <p:nvPr/>
        </p:nvSpPr>
        <p:spPr>
          <a:xfrm>
            <a:off x="1187280" y="5364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ятся с живой и неживой природой,  с особенностями растений и живо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ют осознавать первые простые закономерности (смена времен года, изменения в природе в зависимости от наступившего сезо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ятся с природой ближнего окружения , с различными природными зонами, экосистемами и эволюцией жизни на Зем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4788000" y="5084640"/>
            <a:ext cx="41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ладываются основы экологической культуры, усваиваются   основы последующего успешного освоения школьных программ (география, биология,  природоведение, экология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7" descr=" "/>
          <p:cNvPicPr/>
          <p:nvPr/>
        </p:nvPicPr>
        <p:blipFill>
          <a:blip r:embed="rId2"/>
          <a:stretch/>
        </p:blipFill>
        <p:spPr>
          <a:xfrm rot="648000">
            <a:off x="7162920" y="2709720"/>
            <a:ext cx="1776240" cy="2355840"/>
          </a:xfrm>
          <a:prstGeom prst="rect">
            <a:avLst/>
          </a:prstGeom>
          <a:ln w="0">
            <a:noFill/>
          </a:ln>
        </p:spPr>
      </p:pic>
      <p:pic>
        <p:nvPicPr>
          <p:cNvPr id="331" name="i-main-pic" descr="Картинка 1082 из 12176"/>
          <p:cNvPicPr/>
          <p:nvPr/>
        </p:nvPicPr>
        <p:blipFill>
          <a:blip r:embed="rId3"/>
          <a:srcRect l="0" t="-3690" r="0" b="0"/>
          <a:stretch/>
        </p:blipFill>
        <p:spPr>
          <a:xfrm>
            <a:off x="5148360" y="2852640"/>
            <a:ext cx="1944720" cy="20829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83" descr="http://ww.fotodeti.ru/images/foto_b/351_0012.jpg"/>
          <p:cNvPicPr/>
          <p:nvPr/>
        </p:nvPicPr>
        <p:blipFill>
          <a:blip r:embed="rId4"/>
          <a:stretch/>
        </p:blipFill>
        <p:spPr>
          <a:xfrm rot="20930400">
            <a:off x="5273640" y="525240"/>
            <a:ext cx="1468440" cy="2190600"/>
          </a:xfrm>
          <a:prstGeom prst="rect">
            <a:avLst/>
          </a:prstGeom>
          <a:ln w="0">
            <a:noFill/>
          </a:ln>
        </p:spPr>
      </p:pic>
      <p:pic>
        <p:nvPicPr>
          <p:cNvPr id="333" name="i-main-pic" descr="Картинка 117 из 12176"/>
          <p:cNvPicPr/>
          <p:nvPr/>
        </p:nvPicPr>
        <p:blipFill>
          <a:blip r:embed="rId5"/>
          <a:stretch/>
        </p:blipFill>
        <p:spPr>
          <a:xfrm rot="348000">
            <a:off x="7027560" y="573120"/>
            <a:ext cx="2016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6"/>
          <p:cNvSpPr/>
          <p:nvPr/>
        </p:nvSpPr>
        <p:spPr>
          <a:xfrm>
            <a:off x="1042920" y="0"/>
            <a:ext cx="12096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азвитие элементарных математ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едстав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356000" y="995760"/>
            <a:ext cx="62643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ют с понимания матема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(больше, меньше, поровн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игают количествен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вают предметы по величине (дл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рина, высота) , составляя две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ов сначала непосредственно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ом опосредованно, с помощью нагля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ей, позволяющие дать ребенку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конкретные, но и обобщенные 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-main-pic" descr="Картинка 135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3386160" cy="31687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13"/>
          <p:cNvSpPr/>
          <p:nvPr/>
        </p:nvSpPr>
        <p:spPr>
          <a:xfrm>
            <a:off x="1116000" y="4797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 детей мыслить, логически рассуждать, находить скрытые для непосредственного восприятия математические взаимосвязи и взаимозависимости и т.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-main-pic" descr="Картинка 2 из 1120"/>
          <p:cNvPicPr/>
          <p:nvPr/>
        </p:nvPicPr>
        <p:blipFill>
          <a:blip r:embed="rId3"/>
          <a:stretch/>
        </p:blipFill>
        <p:spPr>
          <a:xfrm>
            <a:off x="4932360" y="3860640"/>
            <a:ext cx="40543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7"/>
          <p:cNvSpPr/>
          <p:nvPr/>
        </p:nvSpPr>
        <p:spPr>
          <a:xfrm>
            <a:off x="118728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Развитие элементов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535640" y="581076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которые  необходимы для успешного перехода к дошкольному обу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-main-pic" descr="Картинка 36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342" name="i-main-pic" descr="Картинка 383 из 64000">
            <a:hlinkClick r:id="rId3"/>
          </p:cNvPr>
          <p:cNvPicPr/>
          <p:nvPr/>
        </p:nvPicPr>
        <p:blipFill>
          <a:blip r:embed="rId4"/>
          <a:stretch/>
        </p:blipFill>
        <p:spPr>
          <a:xfrm rot="21099000">
            <a:off x="5173200" y="606600"/>
            <a:ext cx="2976840" cy="25524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1"/>
          <p:cNvSpPr/>
          <p:nvPr/>
        </p:nvSpPr>
        <p:spPr>
          <a:xfrm>
            <a:off x="971640" y="765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выявляют и учитыв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щественные, скрытые от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предметов и явлений, связ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последовательно рассужда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ть выводы,  анализ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истематиз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-main-pic" descr="Картинка 159 из 12176"/>
          <p:cNvPicPr/>
          <p:nvPr/>
        </p:nvPicPr>
        <p:blipFill>
          <a:blip r:embed="rId5"/>
          <a:stretch/>
        </p:blipFill>
        <p:spPr>
          <a:xfrm rot="715200">
            <a:off x="6225840" y="3102120"/>
            <a:ext cx="2682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5"/>
          <p:cNvSpPr/>
          <p:nvPr/>
        </p:nvSpPr>
        <p:spPr>
          <a:xfrm>
            <a:off x="1116000" y="0"/>
            <a:ext cx="9360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комление с художественной литерату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азвитие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1258920" y="9129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е направ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звитие творческих способностей, знакомство с литерату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троить свой собственный рассказ, рассказывать по пла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фантазировать, сочинять необычные продолжения известных сказок, пересказывать при помощи условных заместителей (круг, квадрат ит.д.)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Rectangle 14" descr=""/>
          <p:cNvPicPr/>
          <p:nvPr/>
        </p:nvPicPr>
        <p:blipFill>
          <a:blip r:embed="rId1"/>
          <a:stretch/>
        </p:blipFill>
        <p:spPr>
          <a:xfrm>
            <a:off x="3492360" y="-347760"/>
            <a:ext cx="3962520" cy="695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C:\Users\Павлозавр\Desktop\Хератень для Юлии\фото группы\2010-08-16\1 (2).JPG"/>
          <p:cNvPicPr/>
          <p:nvPr/>
        </p:nvPicPr>
        <p:blipFill>
          <a:blip r:embed="rId2"/>
          <a:stretch/>
        </p:blipFill>
        <p:spPr>
          <a:xfrm rot="21234600">
            <a:off x="1130400" y="2658960"/>
            <a:ext cx="3016080" cy="2824200"/>
          </a:xfrm>
          <a:prstGeom prst="rect">
            <a:avLst/>
          </a:prstGeom>
          <a:ln w="0">
            <a:noFill/>
          </a:ln>
        </p:spPr>
      </p:pic>
      <p:pic>
        <p:nvPicPr>
          <p:cNvPr id="349" name="i-main-pic" descr="Картинка 27 из 64000"/>
          <p:cNvPicPr/>
          <p:nvPr/>
        </p:nvPicPr>
        <p:blipFill>
          <a:blip r:embed="rId3"/>
          <a:stretch/>
        </p:blipFill>
        <p:spPr>
          <a:xfrm rot="648000">
            <a:off x="5959080" y="2744280"/>
            <a:ext cx="2951280" cy="2768760"/>
          </a:xfrm>
          <a:prstGeom prst="rect">
            <a:avLst/>
          </a:prstGeom>
          <a:ln w="0">
            <a:noFill/>
          </a:ln>
        </p:spPr>
      </p:pic>
      <p:pic>
        <p:nvPicPr>
          <p:cNvPr id="350" name="i-main-pic" descr="Картинка 1919 из 12176"/>
          <p:cNvPicPr/>
          <p:nvPr/>
        </p:nvPicPr>
        <p:blipFill>
          <a:blip r:embed="rId4"/>
          <a:stretch/>
        </p:blipFill>
        <p:spPr>
          <a:xfrm>
            <a:off x="3780000" y="4581360"/>
            <a:ext cx="2808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5"/>
          <p:cNvSpPr/>
          <p:nvPr/>
        </p:nvSpPr>
        <p:spPr>
          <a:xfrm>
            <a:off x="1187280" y="0"/>
            <a:ext cx="10369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владение основами первонач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ам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042920" y="786240"/>
            <a:ext cx="47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ают  звуковой анализ слова, умение правильно ставить ударение, занимаются звуковой стороной речи и знаковая систем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ласти обучения ребенка письму педагоги сознательно ограничиваются подготовкой руки к письму (произвольные упражнениями  рук и пальцев, воспроизводение в рабочей строке различные предметные образы,  приближенных к конфигурации букв, и написанию печатны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9" descr=" "/>
          <p:cNvPicPr/>
          <p:nvPr/>
        </p:nvPicPr>
        <p:blipFill>
          <a:blip r:embed="rId1"/>
          <a:stretch/>
        </p:blipFill>
        <p:spPr>
          <a:xfrm>
            <a:off x="5724360" y="1197000"/>
            <a:ext cx="3311640" cy="3168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0"/>
          <p:cNvSpPr/>
          <p:nvPr/>
        </p:nvSpPr>
        <p:spPr>
          <a:xfrm>
            <a:off x="5435640" y="465300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уется  весь комплекс готовности ребенка к письму: сочетание темпа и ритма речи с движением глаз и рук. Обучение проходит в игровой форме и образном контексте понятных ребенку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-main-pic" descr="Картинка 331 из 12176"/>
          <p:cNvPicPr/>
          <p:nvPr/>
        </p:nvPicPr>
        <p:blipFill>
          <a:blip r:embed="rId2"/>
          <a:srcRect l="0" t="-1642" r="0" b="0"/>
          <a:stretch/>
        </p:blipFill>
        <p:spPr>
          <a:xfrm>
            <a:off x="1116000" y="393372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5"/>
          <p:cNvSpPr/>
          <p:nvPr/>
        </p:nvSpPr>
        <p:spPr>
          <a:xfrm>
            <a:off x="3218040" y="18900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бразительное искус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284720" y="70740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обучаются композиции, рисунку, умению выражать свое отношение  к предмету  в графических  образах.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  понимать  язык изобразительного искусства, выразительными средствами   и использовать их для создания компози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ся соединять предметный рисунок с цветовой организацией листа, при этом технические задачи  обязательно включаются в творческую задачу, требующую  передачи эмоционального состояния и построения художественно-выразительного об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9" descr="http://www.rostov-gorod.ru/imagebase/img_4429_10.jpg"/>
          <p:cNvPicPr/>
          <p:nvPr/>
        </p:nvPicPr>
        <p:blipFill>
          <a:blip r:embed="rId1"/>
          <a:stretch/>
        </p:blipFill>
        <p:spPr>
          <a:xfrm rot="21234600">
            <a:off x="3901680" y="4133520"/>
            <a:ext cx="2476440" cy="260028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0"/>
          <p:cNvSpPr/>
          <p:nvPr/>
        </p:nvSpPr>
        <p:spPr>
          <a:xfrm>
            <a:off x="1042920" y="4076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способствуют развитию и позволяет ребенку создавать сложные многофигурные композиции, передавать в них свои  эмоцию, настроение и впечат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i-main-pic" descr="Картинка 14 из 12176"/>
          <p:cNvPicPr/>
          <p:nvPr/>
        </p:nvPicPr>
        <p:blipFill>
          <a:blip r:embed="rId2"/>
          <a:stretch/>
        </p:blipFill>
        <p:spPr>
          <a:xfrm>
            <a:off x="1116000" y="907920"/>
            <a:ext cx="3095640" cy="2737080"/>
          </a:xfrm>
          <a:prstGeom prst="rect">
            <a:avLst/>
          </a:prstGeom>
          <a:ln w="0">
            <a:noFill/>
          </a:ln>
        </p:spPr>
      </p:pic>
      <p:pic>
        <p:nvPicPr>
          <p:cNvPr id="361" name="i-main-pic" descr="Картинка 1304 из 12176"/>
          <p:cNvPicPr/>
          <p:nvPr/>
        </p:nvPicPr>
        <p:blipFill>
          <a:blip r:embed="rId3"/>
          <a:stretch/>
        </p:blipFill>
        <p:spPr>
          <a:xfrm rot="595200">
            <a:off x="6727320" y="4201920"/>
            <a:ext cx="2028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1116000" y="91764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кладывать кубики, создавая устойчивые и ровные постройки, учитывая форму различных элементов строитель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тать пл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сначала в одной плоскости, а затем в тр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кладывать и  конструировать по схеме и по собственному замысл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3419640" y="11592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2223"/>
                </a:solidFill>
                <a:latin typeface="Times New Roman"/>
                <a:ea typeface="Calibri"/>
              </a:rPr>
              <a:t>Констру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http://detsad69.narod.ru/Foto/P1010019sm1.jpg"/>
          <p:cNvPicPr/>
          <p:nvPr/>
        </p:nvPicPr>
        <p:blipFill>
          <a:blip r:embed="rId1"/>
          <a:stretch/>
        </p:blipFill>
        <p:spPr>
          <a:xfrm>
            <a:off x="5435640" y="692280"/>
            <a:ext cx="3384360" cy="3528720"/>
          </a:xfrm>
          <a:prstGeom prst="rect">
            <a:avLst/>
          </a:prstGeom>
          <a:ln w="0">
            <a:noFill/>
          </a:ln>
        </p:spPr>
      </p:pic>
      <p:pic>
        <p:nvPicPr>
          <p:cNvPr id="365" name="i-main-pic" descr="Картинка 199 из 64000"/>
          <p:cNvPicPr/>
          <p:nvPr/>
        </p:nvPicPr>
        <p:blipFill>
          <a:blip r:embed="rId2"/>
          <a:stretch/>
        </p:blipFill>
        <p:spPr>
          <a:xfrm>
            <a:off x="2843280" y="3284640"/>
            <a:ext cx="3025800" cy="302400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6"/>
          <p:cNvSpPr/>
          <p:nvPr/>
        </p:nvSpPr>
        <p:spPr>
          <a:xfrm>
            <a:off x="5940360" y="486900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способствуют развитию пространственных представлений, необходимых в дальнейшем  для освоения математики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8" descr="http://im8-tub.yandex.net/i?id=127193768-01"/>
          <p:cNvPicPr/>
          <p:nvPr/>
        </p:nvPicPr>
        <p:blipFill>
          <a:blip r:embed="rId3"/>
          <a:stretch/>
        </p:blipFill>
        <p:spPr>
          <a:xfrm>
            <a:off x="1116000" y="4797360"/>
            <a:ext cx="2016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1042920" y="562680"/>
            <a:ext cx="40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ь схожа с сюжетной игрой, рисованием, аппликацией, но не приравнивается к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воляет не только освоить основные изобразительные и выразительные средства, но и решать изобразительные и выразительные задач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троить композиции на разные темы, обучаясь при этом использовать сенсорные этал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1844640" y="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Times New Roman"/>
                <a:ea typeface="Calibri"/>
              </a:rPr>
              <a:t>Художественн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i-main-pic" descr="Картинка 3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620640"/>
            <a:ext cx="3133800" cy="2448000"/>
          </a:xfrm>
          <a:prstGeom prst="rect">
            <a:avLst/>
          </a:prstGeom>
          <a:ln w="0">
            <a:noFill/>
          </a:ln>
        </p:spPr>
      </p:pic>
      <p:pic>
        <p:nvPicPr>
          <p:cNvPr id="371" name="i-main-pic" descr="Картинка 261 из 64000"/>
          <p:cNvPicPr/>
          <p:nvPr/>
        </p:nvPicPr>
        <p:blipFill>
          <a:blip r:embed="rId3"/>
          <a:stretch/>
        </p:blipFill>
        <p:spPr>
          <a:xfrm>
            <a:off x="1332000" y="3860640"/>
            <a:ext cx="3311280" cy="28083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0"/>
          <p:cNvSpPr/>
          <p:nvPr/>
        </p:nvSpPr>
        <p:spPr>
          <a:xfrm>
            <a:off x="4967280" y="482616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развивают познавательные, творческие, художественные и конструктивные способности детей; необходимое в ходе занятий преобразование объектов развивает мышление дете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37" descr="http://im6-tub.yandex.net/i?id=105531528-15"/>
          <p:cNvPicPr/>
          <p:nvPr/>
        </p:nvPicPr>
        <p:blipFill>
          <a:blip r:embed="rId4"/>
          <a:stretch/>
        </p:blipFill>
        <p:spPr>
          <a:xfrm>
            <a:off x="4427640" y="3068640"/>
            <a:ext cx="2592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3:50:41Z</dcterms:created>
  <dc:creator>name</dc:creator>
  <dc:description/>
  <dc:language>en-US</dc:language>
  <cp:lastModifiedBy>Павлозавр</cp:lastModifiedBy>
  <dcterms:modified xsi:type="dcterms:W3CDTF">2012-04-14T21:59:51Z</dcterms:modified>
  <cp:revision>258</cp:revision>
  <dc:subject/>
  <dc:title>Слайд 1</dc:title>
</cp:coreProperties>
</file>