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57A1-0BDD-4CD9-B422-304D8D89B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E7F-9930-4977-BDA7-6B6613DD1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C74-7108-432B-B983-9C6C4F31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2EC-6875-48B0-BF4D-5C2412AF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CAA-951A-4617-BD07-9F185D2B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060-4B3C-43C7-8C7E-B6EE9323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2FA4-611E-49C3-B701-1CA2F68A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41FA-16D2-4CF5-A5EB-EA271B94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014B-44EC-4F2F-8A27-C26C050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F388-1046-4BC2-8548-EFAFC492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530B-AD26-4781-AE2F-A0ADD75B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790D-A74E-4CE7-A41A-410B90AE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F361-E6B5-4AFE-9856-E9447892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683-83C2-4F84-849E-F0C9FD72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816C-803E-44FC-9B6A-B266D93D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80F7-61C4-4243-B119-97D95889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F535-41A6-48FC-931B-D1FC7CE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C7B0-14AF-4026-92ED-39066F23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E582-E50E-43FA-B4D7-DDFE829A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3C77-EBE4-4277-B04A-80C34B02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D78F-D921-4664-8B5C-AE11374B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7C8C-E557-43DA-8829-F0F8138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0176-FDE0-4E91-8024-13BAAB20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10F0-57E0-4554-80A0-2B1CC0CC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A04-55CB-423F-B1BF-18273F5A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8E99-89AF-44B0-ADCD-536289C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14CD-99D2-469E-8D35-92D61111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50CA-5B51-43F7-ADB6-514297A7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A8D8-4D3F-46A1-8C50-2E19A1E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3BE3-335B-4332-A00F-BC6F29A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F27F-8E8A-4D25-8E91-7E310516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871F-9A5A-4F4B-9437-0B89C15C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678B-8A99-4E37-9054-5D879995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3E9FC-AD4E-430E-8604-A142F588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4490-45CA-4B6D-8676-EDFDADDD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4D9-14E7-44C2-BCB3-021C486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0971-474E-4AA7-92CC-18D22709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427C-598C-40BD-89F2-884271ED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BCCE-478A-4D28-914B-59ABF8CE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7B25-2684-49DA-B89B-DA801A4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4131-8933-4377-B468-913DB57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AD408-DECA-469A-BE3F-AAC991E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B140-ABBF-452D-93D4-69492EF9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BE2F-E6C9-4862-80A5-6EC1CD8F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380D-2FC4-4067-A8E7-15A1B2F8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27C8-9014-4A77-BFAC-A7F69C80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904-729A-4EC9-B55D-E5E77225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25CD-2442-48E8-A18E-3BE7844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5ED7-EEF7-431E-8A14-372F148D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8282-5F72-4A7B-B889-E7FE8985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792B5-C1F4-4A6D-BD9F-76EE6E72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FDD30-85D3-4489-977C-1C550D46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080E-049E-4FE6-AFB4-6342D36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DA25-136A-4375-9009-98C23C4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EF8D0-C77A-464A-8C78-38C578E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D503-C329-4DA4-93E5-2C306043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DCB1-ECF9-45B6-A671-9ED8F699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AE1-FC12-45FE-B2A4-E76A7BE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377B-A194-43DB-ABB0-F37F97B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C396-30DA-44EA-83E7-997F5215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6393B-ED49-4977-9AAB-F11C631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8540C-A9A9-4EE1-8AE6-DE103533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9633-8A10-4251-978C-A719037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A2944-CE5D-43BE-B6B7-A7CFC2F9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E0184-BF2A-49E0-8EC3-33BAD703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602C-E847-4467-834E-4A1B321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ABF7-54DF-425E-98E2-8FB269D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E878-F301-40D7-A4B5-8580D55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539-1BCC-4DC4-8CEE-01090FB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016C-5074-4100-9807-733338AF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3034-69BB-4785-8424-2E2864E6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5E8A-4579-4A4E-AC17-A35CFDBE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88D30-FEF7-4179-A71B-58930E0B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4DEA-1DC9-4888-A02E-6FD6D8E2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6FFF7-C97A-4238-8855-53C6C8F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F40B-5FB3-4B78-AA61-296F65BD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81F63-25DD-4E63-9847-BAD9DD8D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1376D-DAEC-41AA-A5F9-4316C77F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2E38-62AB-436D-BFC7-AC22804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156-29BF-4A58-BF71-540BF6BE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E9F3C-0EE3-4510-A5F5-6DFAFAE5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A994E-8802-485B-B620-0EF04D5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364AE-B68B-4067-A3D9-DF93038A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4CADD-0EDD-444E-9E39-65D5BB6F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363A8-75FF-4F78-A018-E18236B9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0A4-1A2A-4CC6-B5A8-B531F8C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6DE0-1272-4784-B2F3-80EF991B5A7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A931-B16A-4819-93AA-91D460E1A7D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14D7-E126-46BD-BE33-905379AD980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C3F-9F2C-4537-9F9B-22D11FB8CFC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CB92-A920-42FE-9779-E43F9B45D3D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AEF-360D-4EE1-88DB-EEC11F48548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AD32-1BB2-4168-AF39-07CA5B12AA5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2005-12.photosight.ru/11/1173664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elenograd.ru/img/news/2008-08/2007-08-23_34_news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-volgograd.ru/attachments/deti-v-sadik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03.olx.ru/ui/1/05/05/10830005_1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/src/1393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чало в части №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4"/>
          <p:cNvSpPr/>
          <p:nvPr/>
        </p:nvSpPr>
        <p:spPr>
          <a:xfrm>
            <a:off x="2500560" y="115920"/>
            <a:ext cx="48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Игра (игровая деятельность</a:t>
            </a:r>
            <a:r>
              <a:rPr b="1" i="1" lang="ru-RU" sz="1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332000" y="69912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ободной творческой игре,  развиваются произвольность и межличност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усматривается  совместная игра взрослого с детьми, в процессе которой ребенок овладевает азами игровой деятельности, а затем и более сложными и разнообразными ее формами (сюжетной игрой, игрой по правил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Рисунок 4" descr=" "/>
          <p:cNvPicPr/>
          <p:nvPr/>
        </p:nvPicPr>
        <p:blipFill>
          <a:blip r:embed="rId1"/>
          <a:stretch/>
        </p:blipFill>
        <p:spPr>
          <a:xfrm>
            <a:off x="2556000" y="4724280"/>
            <a:ext cx="3027240" cy="19447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http://www.cooperation.ru/_data/pages/0000022/02-b.jpg"/>
          <p:cNvPicPr/>
          <p:nvPr/>
        </p:nvPicPr>
        <p:blipFill>
          <a:blip r:embed="rId2"/>
          <a:stretch/>
        </p:blipFill>
        <p:spPr>
          <a:xfrm>
            <a:off x="5940360" y="4724280"/>
            <a:ext cx="2808360" cy="20178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332000" y="2421000"/>
            <a:ext cx="58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нова психического развития и творчеств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вободной творческой игре,  развиваются произвольность и межличност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усматривается  совместная игра взрослого с детьми, в процессе которой ребенок овладевает азами игровой деятельности, а затем и более сложными и разнообразными ее формами (сюжетной игрой, игрой по правил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i-main-pic" descr="Картинка 220 из 64000"/>
          <p:cNvPicPr/>
          <p:nvPr/>
        </p:nvPicPr>
        <p:blipFill>
          <a:blip r:embed="rId3"/>
          <a:stretch/>
        </p:blipFill>
        <p:spPr>
          <a:xfrm rot="309000">
            <a:off x="6800400" y="2160720"/>
            <a:ext cx="21654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1332000" y="55368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посвящены игре по сценарию, разыгрыванию сюж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опровождать действия словом и выражать голосом действия персонажа,  переходя в театрализованную деятельность, и показ кукольных спектаклей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2917080" y="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Режиссерская иг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-main-pic" descr="Картинка 173 из 64000">
            <a:hlinkClick r:id="rId1"/>
          </p:cNvPr>
          <p:cNvPicPr/>
          <p:nvPr/>
        </p:nvPicPr>
        <p:blipFill>
          <a:blip r:embed="rId2"/>
          <a:stretch/>
        </p:blipFill>
        <p:spPr>
          <a:xfrm rot="374400">
            <a:off x="5362560" y="2604960"/>
            <a:ext cx="3527280" cy="28083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1258920" y="1700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 психического развития и творчества. Развивается личностное каче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ициативность, общие способы познавательной действительност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-main-pic" descr="Картинка 53 из 12176"/>
          <p:cNvPicPr/>
          <p:nvPr/>
        </p:nvPicPr>
        <p:blipFill>
          <a:blip r:embed="rId3"/>
          <a:stretch/>
        </p:blipFill>
        <p:spPr>
          <a:xfrm>
            <a:off x="3780000" y="505764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385" name="i-main-pic" descr="Картинка 56 из 64000"/>
          <p:cNvPicPr/>
          <p:nvPr/>
        </p:nvPicPr>
        <p:blipFill>
          <a:blip r:embed="rId4"/>
          <a:stretch/>
        </p:blipFill>
        <p:spPr>
          <a:xfrm rot="21211200">
            <a:off x="1185480" y="2598480"/>
            <a:ext cx="33130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535640" y="498960"/>
            <a:ext cx="460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передавать язык жестов и мимику, выразительных движений, пластики, пантомимики, с помощью которых передаются осознано или нет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ющие игровые задания, близкие к театрализации развивают способность к эмоционально-пластическому самовыражению, перевоплощению в игрово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играть театральные спектакли и самостоятельно придумывать и показывать сюжетные сцен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3361680" y="115920"/>
            <a:ext cx="44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a6d7d"/>
                </a:solidFill>
                <a:latin typeface="Times New Roman"/>
                <a:ea typeface="Calibri"/>
              </a:rPr>
              <a:t>Выразительное дв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8" descr="Image"/>
          <p:cNvPicPr/>
          <p:nvPr/>
        </p:nvPicPr>
        <p:blipFill>
          <a:blip r:embed="rId1"/>
          <a:stretch/>
        </p:blipFill>
        <p:spPr>
          <a:xfrm>
            <a:off x="3419640" y="4005360"/>
            <a:ext cx="2232000" cy="158436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0"/>
          <p:cNvSpPr/>
          <p:nvPr/>
        </p:nvSpPr>
        <p:spPr>
          <a:xfrm>
            <a:off x="1187280" y="5516640"/>
            <a:ext cx="42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детей развиваются творческие способности и продуктивное воображение, что способствует  общению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i-main-pic" descr="Картинка 480 из 12176"/>
          <p:cNvPicPr/>
          <p:nvPr/>
        </p:nvPicPr>
        <p:blipFill>
          <a:blip r:embed="rId2"/>
          <a:stretch/>
        </p:blipFill>
        <p:spPr>
          <a:xfrm>
            <a:off x="5796000" y="400536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91" name="i-main-pic" descr="Картинка 1053 из 12176"/>
          <p:cNvPicPr/>
          <p:nvPr/>
        </p:nvPicPr>
        <p:blipFill>
          <a:blip r:embed="rId3"/>
          <a:stretch/>
        </p:blipFill>
        <p:spPr>
          <a:xfrm>
            <a:off x="1116000" y="62064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i-main-pic" descr="Картинка 83 из 7828"/>
          <p:cNvPicPr/>
          <p:nvPr/>
        </p:nvPicPr>
        <p:blipFill>
          <a:blip r:embed="rId1"/>
          <a:stretch/>
        </p:blipFill>
        <p:spPr>
          <a:xfrm>
            <a:off x="1258920" y="836640"/>
            <a:ext cx="3313080" cy="2879640"/>
          </a:xfrm>
          <a:prstGeom prst="rect">
            <a:avLst/>
          </a:prstGeom>
          <a:ln w="0">
            <a:noFill/>
          </a:ln>
        </p:spPr>
      </p:pic>
      <p:pic>
        <p:nvPicPr>
          <p:cNvPr id="393" name="i-main-pic" descr="Картинка 85 из 64000"/>
          <p:cNvPicPr/>
          <p:nvPr/>
        </p:nvPicPr>
        <p:blipFill>
          <a:blip r:embed="rId2"/>
          <a:stretch/>
        </p:blipFill>
        <p:spPr>
          <a:xfrm rot="20733600">
            <a:off x="2026800" y="4011120"/>
            <a:ext cx="2576520" cy="2430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i?id=179302634-02"/>
          <p:cNvPicPr/>
          <p:nvPr/>
        </p:nvPicPr>
        <p:blipFill>
          <a:blip r:embed="rId3"/>
          <a:stretch/>
        </p:blipFill>
        <p:spPr>
          <a:xfrm rot="1009800">
            <a:off x="5258880" y="4017960"/>
            <a:ext cx="2332080" cy="24112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4643280" y="693360"/>
            <a:ext cx="4500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и программы закладывают общий фундамент развития ребенка и готовят его к любой школьной программе, обеспечивают успешность обучения, не устанавливая тесных рамок. Инновационные направления в образовании ребенка имеют перспективное и приоритетное значение для начального этапа в школьном обучении  по любой развивающей и образовательной программ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258920" y="50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 к школе по программе «Развит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i-main-pic" descr="Картинка 14 из 142"/>
          <p:cNvPicPr/>
          <p:nvPr/>
        </p:nvPicPr>
        <p:blipFill>
          <a:blip r:embed="rId1"/>
          <a:stretch/>
        </p:blipFill>
        <p:spPr>
          <a:xfrm rot="951600">
            <a:off x="7358040" y="47196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9" descr="http://www.psyparents.ru/files/knigi/Igri_i_upr_1998.jpg"/>
          <p:cNvPicPr/>
          <p:nvPr/>
        </p:nvPicPr>
        <p:blipFill>
          <a:blip r:embed="rId2"/>
          <a:stretch/>
        </p:blipFill>
        <p:spPr>
          <a:xfrm rot="20824200">
            <a:off x="2678040" y="4758840"/>
            <a:ext cx="1224000" cy="18766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22" descr="http://covers.cnt.itdelo.com/o/om/ome/omega2617520big.jpg"/>
          <p:cNvPicPr/>
          <p:nvPr/>
        </p:nvPicPr>
        <p:blipFill>
          <a:blip r:embed="rId3"/>
          <a:stretch/>
        </p:blipFill>
        <p:spPr>
          <a:xfrm>
            <a:off x="4140360" y="472428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4" descr="http://www.kartinki.ws/images/370.jpg"/>
          <p:cNvPicPr/>
          <p:nvPr/>
        </p:nvPicPr>
        <p:blipFill>
          <a:blip r:embed="rId4"/>
          <a:stretch/>
        </p:blipFill>
        <p:spPr>
          <a:xfrm rot="1046400">
            <a:off x="5832000" y="4684680"/>
            <a:ext cx="1387440" cy="19623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5" descr="http://www.char.ru/books/p1574960.jpg"/>
          <p:cNvPicPr/>
          <p:nvPr/>
        </p:nvPicPr>
        <p:blipFill>
          <a:blip r:embed="rId5"/>
          <a:stretch/>
        </p:blipFill>
        <p:spPr>
          <a:xfrm rot="20679000">
            <a:off x="1284120" y="4735440"/>
            <a:ext cx="1273320" cy="19893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31" descr="http://www.libex.ru/dimg/3f69.gif"/>
          <p:cNvPicPr/>
          <p:nvPr/>
        </p:nvPicPr>
        <p:blipFill>
          <a:blip r:embed="rId6"/>
          <a:stretch/>
        </p:blipFill>
        <p:spPr>
          <a:xfrm rot="21152400">
            <a:off x="2715840" y="2626920"/>
            <a:ext cx="1368360" cy="2089080"/>
          </a:xfrm>
          <a:prstGeom prst="rect">
            <a:avLst/>
          </a:prstGeom>
          <a:ln w="0">
            <a:noFill/>
          </a:ln>
        </p:spPr>
      </p:pic>
      <p:pic>
        <p:nvPicPr>
          <p:cNvPr id="403" name="i-main-pic" descr="Картинка 73 из 142"/>
          <p:cNvPicPr/>
          <p:nvPr/>
        </p:nvPicPr>
        <p:blipFill>
          <a:blip r:embed="rId7"/>
          <a:stretch/>
        </p:blipFill>
        <p:spPr>
          <a:xfrm>
            <a:off x="7734240" y="195120"/>
            <a:ext cx="1273320" cy="2052720"/>
          </a:xfrm>
          <a:prstGeom prst="rect">
            <a:avLst/>
          </a:prstGeom>
          <a:ln w="0">
            <a:noFill/>
          </a:ln>
        </p:spPr>
      </p:pic>
      <p:pic>
        <p:nvPicPr>
          <p:cNvPr id="404" name="i-main-pic" descr="Картинка 83 из 142"/>
          <p:cNvPicPr/>
          <p:nvPr/>
        </p:nvPicPr>
        <p:blipFill>
          <a:blip r:embed="rId8"/>
          <a:stretch/>
        </p:blipFill>
        <p:spPr>
          <a:xfrm>
            <a:off x="4284720" y="2637000"/>
            <a:ext cx="1319040" cy="19443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8" descr="http://www.mgpu.ru/artimg/art311-08.jpg"/>
          <p:cNvPicPr/>
          <p:nvPr/>
        </p:nvPicPr>
        <p:blipFill>
          <a:blip r:embed="rId9"/>
          <a:stretch/>
        </p:blipFill>
        <p:spPr>
          <a:xfrm rot="849000">
            <a:off x="5922720" y="2518920"/>
            <a:ext cx="1439640" cy="20163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1" descr="http://www.mgpu.ru/artimg/art311-07.jpg"/>
          <p:cNvPicPr/>
          <p:nvPr/>
        </p:nvPicPr>
        <p:blipFill>
          <a:blip r:embed="rId10"/>
          <a:stretch/>
        </p:blipFill>
        <p:spPr>
          <a:xfrm rot="993000">
            <a:off x="7503840" y="2627280"/>
            <a:ext cx="1392120" cy="1940040"/>
          </a:xfrm>
          <a:prstGeom prst="rect">
            <a:avLst/>
          </a:prstGeom>
          <a:ln w="0">
            <a:noFill/>
          </a:ln>
        </p:spPr>
      </p:pic>
      <p:pic>
        <p:nvPicPr>
          <p:cNvPr id="407" name="i-main-pic" descr="Картинка 129 из 142"/>
          <p:cNvPicPr/>
          <p:nvPr/>
        </p:nvPicPr>
        <p:blipFill>
          <a:blip r:embed="rId11"/>
          <a:stretch/>
        </p:blipFill>
        <p:spPr>
          <a:xfrm rot="21003000">
            <a:off x="1223640" y="2258640"/>
            <a:ext cx="1403280" cy="24210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C:\Users\Павлозавр\Pictures\2010-09-26\10004.JPG"/>
          <p:cNvPicPr/>
          <p:nvPr/>
        </p:nvPicPr>
        <p:blipFill>
          <a:blip r:embed="rId12"/>
          <a:stretch/>
        </p:blipFill>
        <p:spPr>
          <a:xfrm>
            <a:off x="1187280" y="115920"/>
            <a:ext cx="1346400" cy="20876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4"/>
          <p:cNvSpPr/>
          <p:nvPr/>
        </p:nvSpPr>
        <p:spPr>
          <a:xfrm>
            <a:off x="2700360" y="0"/>
            <a:ext cx="457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ое обесп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4"/>
          <p:cNvSpPr/>
          <p:nvPr/>
        </p:nvSpPr>
        <p:spPr>
          <a:xfrm>
            <a:off x="2700360" y="981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и дает возможность обучить и определить продвижение детей в освоении программы как отдельными детьми, так и группы в цел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1"/>
          <p:cNvSpPr/>
          <p:nvPr/>
        </p:nvSpPr>
        <p:spPr>
          <a:xfrm>
            <a:off x="1547640" y="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экологических представ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C:\Users\Павлозавр\Desktop\Хератень для Юлии\фото группы\Новая папка\уголок природы\DSC00473.JPG"/>
          <p:cNvPicPr/>
          <p:nvPr/>
        </p:nvPicPr>
        <p:blipFill>
          <a:blip r:embed="rId1"/>
          <a:stretch/>
        </p:blipFill>
        <p:spPr>
          <a:xfrm>
            <a:off x="1187280" y="364500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4"/>
          <p:cNvSpPr/>
          <p:nvPr/>
        </p:nvSpPr>
        <p:spPr>
          <a:xfrm>
            <a:off x="1187280" y="5364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ятся с живой и неживой природой,  с особенностями растений и живо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ют осознавать первые простые закономерности (смена времен года, изменения в природе в зависимости от наступившего сезо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ятся с природой ближнего окружения , с различными природными зонами, экосистемами и эволюцией жизни на Зем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4788000" y="5084640"/>
            <a:ext cx="41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ладываются основы экологической культуры, усваиваются   основы последующего успешного освоения школьных программ (география, биология,  природоведение, экология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7" descr=" "/>
          <p:cNvPicPr/>
          <p:nvPr/>
        </p:nvPicPr>
        <p:blipFill>
          <a:blip r:embed="rId2"/>
          <a:stretch/>
        </p:blipFill>
        <p:spPr>
          <a:xfrm rot="648000">
            <a:off x="7162920" y="2709720"/>
            <a:ext cx="1776240" cy="2355840"/>
          </a:xfrm>
          <a:prstGeom prst="rect">
            <a:avLst/>
          </a:prstGeom>
          <a:ln w="0">
            <a:noFill/>
          </a:ln>
        </p:spPr>
      </p:pic>
      <p:pic>
        <p:nvPicPr>
          <p:cNvPr id="331" name="i-main-pic" descr="Картинка 1082 из 12176"/>
          <p:cNvPicPr/>
          <p:nvPr/>
        </p:nvPicPr>
        <p:blipFill>
          <a:blip r:embed="rId3"/>
          <a:srcRect l="0" t="-3690" r="0" b="0"/>
          <a:stretch/>
        </p:blipFill>
        <p:spPr>
          <a:xfrm>
            <a:off x="5148360" y="2852640"/>
            <a:ext cx="1944720" cy="20829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83" descr="http://ww.fotodeti.ru/images/foto_b/351_0012.jpg"/>
          <p:cNvPicPr/>
          <p:nvPr/>
        </p:nvPicPr>
        <p:blipFill>
          <a:blip r:embed="rId4"/>
          <a:stretch/>
        </p:blipFill>
        <p:spPr>
          <a:xfrm rot="20930400">
            <a:off x="5273640" y="525240"/>
            <a:ext cx="1468440" cy="2190600"/>
          </a:xfrm>
          <a:prstGeom prst="rect">
            <a:avLst/>
          </a:prstGeom>
          <a:ln w="0">
            <a:noFill/>
          </a:ln>
        </p:spPr>
      </p:pic>
      <p:pic>
        <p:nvPicPr>
          <p:cNvPr id="333" name="i-main-pic" descr="Картинка 117 из 12176"/>
          <p:cNvPicPr/>
          <p:nvPr/>
        </p:nvPicPr>
        <p:blipFill>
          <a:blip r:embed="rId5"/>
          <a:stretch/>
        </p:blipFill>
        <p:spPr>
          <a:xfrm rot="348000">
            <a:off x="7027560" y="573120"/>
            <a:ext cx="2016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6"/>
          <p:cNvSpPr/>
          <p:nvPr/>
        </p:nvSpPr>
        <p:spPr>
          <a:xfrm>
            <a:off x="1042920" y="0"/>
            <a:ext cx="12096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азвитие элементарных математ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едстав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356000" y="995760"/>
            <a:ext cx="62643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ют с понимания матема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(больше, меньше, поровн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игают количественные отнош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вают предметы по величине (дл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рина, высота) , составляя две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ов сначала непосредственно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ом опосредованно, с помощью нагля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ей, позволяющие дать ребенку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конкретные, но и обобщенные 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-main-pic" descr="Картинка 135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3386160" cy="31687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13"/>
          <p:cNvSpPr/>
          <p:nvPr/>
        </p:nvSpPr>
        <p:spPr>
          <a:xfrm>
            <a:off x="1116000" y="4797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 детей мыслить, логически рассуждать, находить скрытые для непосредственного восприятия математические взаимосвязи и взаимозависимости и т.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-main-pic" descr="Картинка 2 из 1120"/>
          <p:cNvPicPr/>
          <p:nvPr/>
        </p:nvPicPr>
        <p:blipFill>
          <a:blip r:embed="rId3"/>
          <a:stretch/>
        </p:blipFill>
        <p:spPr>
          <a:xfrm>
            <a:off x="4932360" y="3860640"/>
            <a:ext cx="40543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7"/>
          <p:cNvSpPr/>
          <p:nvPr/>
        </p:nvSpPr>
        <p:spPr>
          <a:xfrm>
            <a:off x="118728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Развитие элементов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535640" y="581076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которые  необходимы для успешного перехода к дошкольному обу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-main-pic" descr="Картинка 36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342" name="i-main-pic" descr="Картинка 383 из 64000">
            <a:hlinkClick r:id="rId3"/>
          </p:cNvPr>
          <p:cNvPicPr/>
          <p:nvPr/>
        </p:nvPicPr>
        <p:blipFill>
          <a:blip r:embed="rId4"/>
          <a:stretch/>
        </p:blipFill>
        <p:spPr>
          <a:xfrm rot="21099000">
            <a:off x="5173200" y="606600"/>
            <a:ext cx="2976840" cy="25524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1"/>
          <p:cNvSpPr/>
          <p:nvPr/>
        </p:nvSpPr>
        <p:spPr>
          <a:xfrm>
            <a:off x="971640" y="765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выявляют и учитыв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щественные, скрытые от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предметов и явлений, связ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последовательно рассужда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ть выводы,  анализ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истематиз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-main-pic" descr="Картинка 159 из 12176"/>
          <p:cNvPicPr/>
          <p:nvPr/>
        </p:nvPicPr>
        <p:blipFill>
          <a:blip r:embed="rId5"/>
          <a:stretch/>
        </p:blipFill>
        <p:spPr>
          <a:xfrm rot="715200">
            <a:off x="6225840" y="3102120"/>
            <a:ext cx="2682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5"/>
          <p:cNvSpPr/>
          <p:nvPr/>
        </p:nvSpPr>
        <p:spPr>
          <a:xfrm>
            <a:off x="1116000" y="0"/>
            <a:ext cx="9360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комление с художественной литерату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азвитие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1258920" y="9129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е направ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звитие творческих способностей, знакомство с литерату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троить свой собственный рассказ, рассказывать по пла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фантазировать, сочинять необычные продолжения известных сказок, пересказывать при помощи условных заместителей (круг, квадрат ит.д.)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Rectangle 14" descr=""/>
          <p:cNvPicPr/>
          <p:nvPr/>
        </p:nvPicPr>
        <p:blipFill>
          <a:blip r:embed="rId1"/>
          <a:stretch/>
        </p:blipFill>
        <p:spPr>
          <a:xfrm>
            <a:off x="3492360" y="-347760"/>
            <a:ext cx="3962520" cy="695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C:\Users\Павлозавр\Desktop\Хератень для Юлии\фото группы\2010-08-16\1 (2).JPG"/>
          <p:cNvPicPr/>
          <p:nvPr/>
        </p:nvPicPr>
        <p:blipFill>
          <a:blip r:embed="rId2"/>
          <a:stretch/>
        </p:blipFill>
        <p:spPr>
          <a:xfrm rot="21234600">
            <a:off x="1130400" y="2658960"/>
            <a:ext cx="3016080" cy="2824200"/>
          </a:xfrm>
          <a:prstGeom prst="rect">
            <a:avLst/>
          </a:prstGeom>
          <a:ln w="0">
            <a:noFill/>
          </a:ln>
        </p:spPr>
      </p:pic>
      <p:pic>
        <p:nvPicPr>
          <p:cNvPr id="349" name="i-main-pic" descr="Картинка 27 из 64000"/>
          <p:cNvPicPr/>
          <p:nvPr/>
        </p:nvPicPr>
        <p:blipFill>
          <a:blip r:embed="rId3"/>
          <a:stretch/>
        </p:blipFill>
        <p:spPr>
          <a:xfrm rot="648000">
            <a:off x="5959080" y="2744280"/>
            <a:ext cx="2951280" cy="2768760"/>
          </a:xfrm>
          <a:prstGeom prst="rect">
            <a:avLst/>
          </a:prstGeom>
          <a:ln w="0">
            <a:noFill/>
          </a:ln>
        </p:spPr>
      </p:pic>
      <p:pic>
        <p:nvPicPr>
          <p:cNvPr id="350" name="i-main-pic" descr="Картинка 1919 из 12176"/>
          <p:cNvPicPr/>
          <p:nvPr/>
        </p:nvPicPr>
        <p:blipFill>
          <a:blip r:embed="rId4"/>
          <a:stretch/>
        </p:blipFill>
        <p:spPr>
          <a:xfrm>
            <a:off x="3780000" y="4581360"/>
            <a:ext cx="2808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5"/>
          <p:cNvSpPr/>
          <p:nvPr/>
        </p:nvSpPr>
        <p:spPr>
          <a:xfrm>
            <a:off x="1187280" y="0"/>
            <a:ext cx="10369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владение основами первонач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ам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042920" y="786240"/>
            <a:ext cx="47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ают  звуковой анализ слова, умение правильно ставить ударение, занимаются звуковой стороной речи и знаковая систем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ласти обучения ребенка письму педагоги сознательно ограничиваются подготовкой руки к письму (произвольные упражнениями  рук и пальцев, воспроизводение в рабочей строке различные предметные образы,  приближенных к конфигурации букв, и написанию печатны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9" descr=" "/>
          <p:cNvPicPr/>
          <p:nvPr/>
        </p:nvPicPr>
        <p:blipFill>
          <a:blip r:embed="rId1"/>
          <a:stretch/>
        </p:blipFill>
        <p:spPr>
          <a:xfrm>
            <a:off x="5724360" y="1197000"/>
            <a:ext cx="3311640" cy="3168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0"/>
          <p:cNvSpPr/>
          <p:nvPr/>
        </p:nvSpPr>
        <p:spPr>
          <a:xfrm>
            <a:off x="5435640" y="465300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уется  весь комплекс готовности ребенка к письму: сочетание темпа и ритма речи с движением глаз и рук. Обучение проходит в игровой форме и образном контексте понятных ребенку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-main-pic" descr="Картинка 331 из 12176"/>
          <p:cNvPicPr/>
          <p:nvPr/>
        </p:nvPicPr>
        <p:blipFill>
          <a:blip r:embed="rId2"/>
          <a:srcRect l="0" t="-1642" r="0" b="0"/>
          <a:stretch/>
        </p:blipFill>
        <p:spPr>
          <a:xfrm>
            <a:off x="1116000" y="393372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5"/>
          <p:cNvSpPr/>
          <p:nvPr/>
        </p:nvSpPr>
        <p:spPr>
          <a:xfrm>
            <a:off x="3218040" y="18900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бразительное искус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284720" y="70740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обучаются композиции, рисунку, умению выражать свое отношение  к предмету  в графических  образах.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  понимать  язык изобразительного искусства, выразительными средствами   и использовать их для создания компози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ся соединять предметный рисунок с цветовой организацией листа, при этом технические задачи  обязательно включаются в творческую задачу, требующую  передачи эмоционального состояния и построения художественно-выразительного об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9" descr="http://www.rostov-gorod.ru/imagebase/img_4429_10.jpg"/>
          <p:cNvPicPr/>
          <p:nvPr/>
        </p:nvPicPr>
        <p:blipFill>
          <a:blip r:embed="rId1"/>
          <a:stretch/>
        </p:blipFill>
        <p:spPr>
          <a:xfrm rot="21234600">
            <a:off x="3901680" y="4133520"/>
            <a:ext cx="2476440" cy="260028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0"/>
          <p:cNvSpPr/>
          <p:nvPr/>
        </p:nvSpPr>
        <p:spPr>
          <a:xfrm>
            <a:off x="1042920" y="4076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способствуют развитию и позволяет ребенку создавать сложные многофигурные композиции, передавать в них свои  эмоцию, настроение и впечат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i-main-pic" descr="Картинка 14 из 12176"/>
          <p:cNvPicPr/>
          <p:nvPr/>
        </p:nvPicPr>
        <p:blipFill>
          <a:blip r:embed="rId2"/>
          <a:stretch/>
        </p:blipFill>
        <p:spPr>
          <a:xfrm>
            <a:off x="1116000" y="907920"/>
            <a:ext cx="3095640" cy="2737080"/>
          </a:xfrm>
          <a:prstGeom prst="rect">
            <a:avLst/>
          </a:prstGeom>
          <a:ln w="0">
            <a:noFill/>
          </a:ln>
        </p:spPr>
      </p:pic>
      <p:pic>
        <p:nvPicPr>
          <p:cNvPr id="361" name="i-main-pic" descr="Картинка 1304 из 12176"/>
          <p:cNvPicPr/>
          <p:nvPr/>
        </p:nvPicPr>
        <p:blipFill>
          <a:blip r:embed="rId3"/>
          <a:stretch/>
        </p:blipFill>
        <p:spPr>
          <a:xfrm rot="595200">
            <a:off x="6727320" y="4201920"/>
            <a:ext cx="2028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1116000" y="91764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кладывать кубики, создавая устойчивые и ровные постройки, учитывая форму различных элементов строитель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тать пл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сначала в одной плоскости, а затем в тр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тся складывать и  конструировать по схеме и по собственному замысл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3419640" y="11592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2223"/>
                </a:solidFill>
                <a:latin typeface="Times New Roman"/>
                <a:ea typeface="Calibri"/>
              </a:rPr>
              <a:t>Констру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http://detsad69.narod.ru/Foto/P1010019sm1.jpg"/>
          <p:cNvPicPr/>
          <p:nvPr/>
        </p:nvPicPr>
        <p:blipFill>
          <a:blip r:embed="rId1"/>
          <a:stretch/>
        </p:blipFill>
        <p:spPr>
          <a:xfrm>
            <a:off x="5435640" y="692280"/>
            <a:ext cx="3384360" cy="3528720"/>
          </a:xfrm>
          <a:prstGeom prst="rect">
            <a:avLst/>
          </a:prstGeom>
          <a:ln w="0">
            <a:noFill/>
          </a:ln>
        </p:spPr>
      </p:pic>
      <p:pic>
        <p:nvPicPr>
          <p:cNvPr id="365" name="i-main-pic" descr="Картинка 199 из 64000"/>
          <p:cNvPicPr/>
          <p:nvPr/>
        </p:nvPicPr>
        <p:blipFill>
          <a:blip r:embed="rId2"/>
          <a:stretch/>
        </p:blipFill>
        <p:spPr>
          <a:xfrm>
            <a:off x="2843280" y="3284640"/>
            <a:ext cx="3025800" cy="302400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6"/>
          <p:cNvSpPr/>
          <p:nvPr/>
        </p:nvSpPr>
        <p:spPr>
          <a:xfrm>
            <a:off x="5940360" y="486900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ретенный опыт и знания   способствуют развитию пространственных представлений, необходимых в дальнейшем  для освоения математики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8" descr="http://im8-tub.yandex.net/i?id=127193768-01"/>
          <p:cNvPicPr/>
          <p:nvPr/>
        </p:nvPicPr>
        <p:blipFill>
          <a:blip r:embed="rId3"/>
          <a:stretch/>
        </p:blipFill>
        <p:spPr>
          <a:xfrm>
            <a:off x="1116000" y="4797360"/>
            <a:ext cx="2016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1042920" y="562680"/>
            <a:ext cx="40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ь схожа с сюжетной игрой, рисованием, аппликацией, но не приравнивается к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воляет не только освоить основные изобразительные и выразительные средства, но и решать изобразительные и выразительные задач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учатся строить композиции на разные темы, обучаясь при этом использовать сенсорные этал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1844640" y="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436a"/>
                </a:solidFill>
                <a:latin typeface="Times New Roman"/>
                <a:ea typeface="Calibri"/>
              </a:rPr>
              <a:t>Художественн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i-main-pic" descr="Картинка 3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620640"/>
            <a:ext cx="3133800" cy="2448000"/>
          </a:xfrm>
          <a:prstGeom prst="rect">
            <a:avLst/>
          </a:prstGeom>
          <a:ln w="0">
            <a:noFill/>
          </a:ln>
        </p:spPr>
      </p:pic>
      <p:pic>
        <p:nvPicPr>
          <p:cNvPr id="371" name="i-main-pic" descr="Картинка 261 из 64000"/>
          <p:cNvPicPr/>
          <p:nvPr/>
        </p:nvPicPr>
        <p:blipFill>
          <a:blip r:embed="rId3"/>
          <a:stretch/>
        </p:blipFill>
        <p:spPr>
          <a:xfrm>
            <a:off x="1332000" y="3860640"/>
            <a:ext cx="3311280" cy="28083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0"/>
          <p:cNvSpPr/>
          <p:nvPr/>
        </p:nvSpPr>
        <p:spPr>
          <a:xfrm>
            <a:off x="4967280" y="482616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развивают познавательные, творческие, художественные и конструктивные способности детей; необходимое в ходе занятий преобразование объектов развивает мышление дете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37" descr="http://im6-tub.yandex.net/i?id=105531528-15"/>
          <p:cNvPicPr/>
          <p:nvPr/>
        </p:nvPicPr>
        <p:blipFill>
          <a:blip r:embed="rId4"/>
          <a:stretch/>
        </p:blipFill>
        <p:spPr>
          <a:xfrm>
            <a:off x="4427640" y="3068640"/>
            <a:ext cx="2592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3:50:41Z</dcterms:created>
  <dc:creator>name</dc:creator>
  <dc:description/>
  <dc:language>en-US</dc:language>
  <cp:lastModifiedBy>Павлозавр</cp:lastModifiedBy>
  <dcterms:modified xsi:type="dcterms:W3CDTF">2012-04-14T21:59:51Z</dcterms:modified>
  <cp:revision>258</cp:revision>
  <dc:subject/>
  <dc:title>Слайд 1</dc:title>
</cp:coreProperties>
</file>