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133-2AF5-4BD7-8EAD-64075BF0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E6F-E1EE-4314-A6F7-7FC0010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66D-65A6-4400-B12B-BE5137FD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5A2-BB95-4168-8EA6-57C83958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435-B6FB-4A3D-BB57-EB813C16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9D2-C44D-4BE5-9882-56EE59F8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0FA-CFDD-4C71-8485-55290EC4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876-7539-4744-9ACF-1CE6387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6D4-CEA5-4754-AB61-9AE54B4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7AF-9499-48CA-9BA3-EC82A91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287-7756-4A8E-8D7D-C93F2E9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6C9-1986-4381-8AC4-609BD68E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84EE-D460-49EB-892A-94B3CCFAF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питательные традиции в системе дополните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орин Константи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лков Дмитрий Алекс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с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авайте познакомим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 в месяц – День игры (для каждого направ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 с интересны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эта т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олнительное образование строится на личной заинтересованности ребенка (соответствие потребностей и ожид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ом работы можно считать формирование отношений ребенка к объектам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деятельности педагога носит эмоциона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работы педагога направлены на индивидуальное выражение ребенка в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ую роль играет связь поколений и работа разновозрастного 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ици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, 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ваемые из поколения в поколения знания, формы деятельности и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стереотипов, обеспечивающих воспроизведение в деятельности педагога социокультурных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уда берутся тради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1484280"/>
          <a:ext cx="8282160" cy="4525920"/>
        </p:xfrm>
        <a:graphic>
          <a:graphicData uri="http://schemas.openxmlformats.org/drawingml/2006/table">
            <a:tbl>
              <a:tblPr/>
              <a:tblGrid>
                <a:gridCol w="2281320"/>
                <a:gridCol w="2841480"/>
                <a:gridCol w="31593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о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бытное 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 инициации, жертвоприношен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владельческий 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и каст, сословий, групп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авторитета, статуса в 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ые трад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послушания и управляемости на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е трад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единства на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воспитательной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– главн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– материальный и духов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 традиционной деятельности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 традиции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– отношения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тради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групп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терея сюрпризов (для педаг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сбор, чаепитие по окончании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пп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тствие: пожелания на сегодняшни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 знакомства (для формирования груп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Ангел-хранитель» (приятные сюрпризы анонимно своему подопечному, от А.Х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Татьяны. День влюбл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шебный сундучок (подарки для поздравл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ие в …(по направлению деятель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ыгрыш (на Первое апр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6:35:16Z</dcterms:created>
  <dc:creator>Dmitry</dc:creator>
  <dc:description/>
  <dc:language>en-US</dc:language>
  <cp:lastModifiedBy>user</cp:lastModifiedBy>
  <dcterms:modified xsi:type="dcterms:W3CDTF">2006-10-23T07:04:51Z</dcterms:modified>
  <cp:revision>5</cp:revision>
  <dc:subject/>
  <dc:title>Воспитательные традиции в системе дополнительного образования</dc:title>
</cp:coreProperties>
</file>