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DBF-FE89-4373-8D99-B6E813A0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E53-AD0F-4EAD-951A-C314657B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ABE-0EEB-4D0D-983B-42B957AA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AE4-05A7-47F1-8935-D657A197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B77-E52D-488E-9107-87550F8D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A0C-3ACB-480D-B331-38AC49EB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E0C-C4D4-4B7E-8723-53DCC7C9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4B6-9179-471B-BB21-B60CF3C3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B5C-4BED-4553-9D4E-14F30512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87E-74F1-4339-A8A8-D526DFB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2C9-C2B9-41A6-9871-9EDE93A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540-F5E3-4637-941E-831B4B0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171C-68C1-45E7-B88C-6FF37172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питательные традиции в системе дополнитель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орин Константин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лков Дмитрий Алекс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ссов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авайте познакомим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 в месяц – День игры (для каждого направ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 с интересными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эта те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полнительное образование строится на личной заинтересованности ребенка (соответствие потребностей и ожид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ом работы можно считать формирование отношений ребенка к объектам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деятельности педагога носит эмоциона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ы работы педагога направлены на индивидуальное выражение ребенка в коллек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ую роль играет связь поколений и работа разновозрастного колл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диция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, пове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ваемые из поколения в поколения знания, формы деятельности и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стереотипов, обеспечивающих воспроизведение в деятельности педагога социокультурных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куда берутся традиц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9640" y="1484280"/>
          <a:ext cx="8282160" cy="4525920"/>
        </p:xfrm>
        <a:graphic>
          <a:graphicData uri="http://schemas.openxmlformats.org/drawingml/2006/table">
            <a:tbl>
              <a:tblPr/>
              <a:tblGrid>
                <a:gridCol w="2281320"/>
                <a:gridCol w="2841480"/>
                <a:gridCol w="315936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о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бытное об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 инициации, жертвоприношен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владельческий ст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и каст, сословий, групп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авторитета, статуса в обще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озные трад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послушания и управляемости на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е трад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единства на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воспитательной трад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– главная 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а – материальный и духов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ъект традиционной деятельности -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 традиции -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– отношения и 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тради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груп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группов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терея сюрпризов (для педагог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й сбор, чаепитие по окончании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уппов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тствие: пожелания на сегодняшни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 знакомства (для формирования групп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Ангел-хранитель» (приятные сюрпризы анонимно своему подопечному, от А.Х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Татьяны. День влюбл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шебный сундучок (подарки для поздравл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вящение в …(по направлению деятель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ыгрыш (на Первое апр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6:35:16Z</dcterms:created>
  <dc:creator>Dmitry</dc:creator>
  <dc:description/>
  <dc:language>en-US</dc:language>
  <cp:lastModifiedBy>user</cp:lastModifiedBy>
  <dcterms:modified xsi:type="dcterms:W3CDTF">2006-10-23T07:04:51Z</dcterms:modified>
  <cp:revision>5</cp:revision>
  <dc:subject/>
  <dc:title>Воспитательные традиции в системе дополнительного образования</dc:title>
</cp:coreProperties>
</file>