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88C-88A4-4175-A17B-A50E2119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669-EAE3-44D7-8A46-5D7B8E3D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3EA-D46B-4E92-832B-D83DEA04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862-DBB1-4841-95FB-20970A17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2A7-F682-4A85-83EE-83C880F1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8BB-0F1D-4330-93A3-102A574D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993-6B21-448C-AA5E-7978D109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ECE-4B03-4A39-88F5-EFF92FE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14C-B350-46A5-8197-F60BB46B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23A-B608-44F2-86D1-7A7F581C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7D9-524E-4AFF-BE2A-2377E225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332-2D9A-4BD1-A271-D3816945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BA90-BD7A-46E9-AE31-F2C670FF5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Математика  5 класс</a:t>
            </a:r>
            <a:br>
              <a:rPr sz="4400"/>
            </a:b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Урок- смотр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Обобщение знаний по теме: «Десятичные дроб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755640" y="2492280"/>
            <a:ext cx="784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нания имей отлич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 теме "Дроби десятичные"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Расшифруйте название самого крупного в мире острова. Для этого выполните вы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4537080" cy="45259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57 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,9 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,23 ∙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38 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21 ∙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∙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,8 ∙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625 ∙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0045 ∙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08 ∙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1e5e43c38f2a"/>
          <p:cNvPicPr/>
          <p:nvPr/>
        </p:nvPicPr>
        <p:blipFill>
          <a:blip r:embed="rId1"/>
          <a:stretch/>
        </p:blipFill>
        <p:spPr>
          <a:xfrm>
            <a:off x="6156360" y="1844640"/>
            <a:ext cx="211752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14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,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,5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ш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ba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3600360" cy="33829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енла́ндия- крупнейший остров на Земле, между Сев. Ледовитым и Атлантическим океанами, у сев.-вост. берегов Сев. Америки. Длина 2600 км, ширина 1200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числите площадь острова Гренланд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e5e43c38f2a"/>
          <p:cNvPicPr/>
          <p:nvPr/>
        </p:nvPicPr>
        <p:blipFill>
          <a:blip r:embed="rId1"/>
          <a:stretch/>
        </p:blipFill>
        <p:spPr>
          <a:xfrm>
            <a:off x="5724360" y="620640"/>
            <a:ext cx="3075120" cy="568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11280" y="5084640"/>
            <a:ext cx="4321080" cy="7855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расчетная – 3120000 кв.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ьная площадь – 2100000 кв.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городов А и В, расстояние между которыми 525 км, навстречу друг другу выехали два автомобиля со скоростью 79,3 км/ч и 70,7 км/ч. Через сколько часов они встретя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7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Успехов в изучении математики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51958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979640" y="1268280"/>
            <a:ext cx="129708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2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348000" y="1268280"/>
            <a:ext cx="11509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32,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,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1,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427640" y="1268280"/>
            <a:ext cx="108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41,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0,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8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33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,04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651640" y="1197000"/>
            <a:ext cx="115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2,3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,041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7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1908000" y="3860640"/>
            <a:ext cx="790920" cy="43200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995640" y="4653000"/>
            <a:ext cx="647640" cy="4316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4572000" y="3716280"/>
            <a:ext cx="647640" cy="43200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2411280" y="4797360"/>
            <a:ext cx="792360" cy="432000"/>
          </a:xfrm>
          <a:prstGeom prst="triangle">
            <a:avLst>
              <a:gd name="adj" fmla="val 50000"/>
            </a:avLst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5292720" y="4653000"/>
            <a:ext cx="792000" cy="4316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3203640" y="3860640"/>
            <a:ext cx="863640" cy="432000"/>
          </a:xfrm>
          <a:prstGeom prst="triangle">
            <a:avLst>
              <a:gd name="adj" fmla="val 50000"/>
            </a:avLst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5724360" y="3789360"/>
            <a:ext cx="863640" cy="4316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427640" y="765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Экспресс-экзамен</a:t>
            </a:r>
            <a:br>
              <a:rPr sz="4000"/>
            </a:b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«Вытяни билет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50920" y="1628640"/>
            <a:ext cx="2663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авило умн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на 10,100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59280" y="1628640"/>
            <a:ext cx="2808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равило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на 10, 100,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227640" y="1628640"/>
            <a:ext cx="273708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авило с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и вы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187280" y="3789360"/>
            <a:ext cx="29530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авило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572000" y="3789360"/>
            <a:ext cx="2736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авило 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"/>
          <p:cNvSpPr/>
          <p:nvPr/>
        </p:nvSpPr>
        <p:spPr>
          <a:xfrm>
            <a:off x="250920" y="1628640"/>
            <a:ext cx="2592360" cy="172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3132000" y="1700280"/>
            <a:ext cx="259236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6300720" y="1628640"/>
            <a:ext cx="2592360" cy="172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1332000" y="3789360"/>
            <a:ext cx="259236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4643280" y="3789360"/>
            <a:ext cx="259272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"/>
              </a:rPr>
              <a:t>1, 2, 3, 4, 0, «,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Составьте из всех предложенных знаков наибол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Составьте из всех предложенных знаков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Увеличьте последнее число в 10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Увеличьте последнее число в 100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Составьте из всех предложенных знаков цело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24000" y="1557360"/>
            <a:ext cx="8424720" cy="1008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95280" y="2637000"/>
            <a:ext cx="8424720" cy="792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395280" y="3500280"/>
            <a:ext cx="8424720" cy="433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395280" y="4076640"/>
            <a:ext cx="8424720" cy="504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395280" y="4653000"/>
            <a:ext cx="8424720" cy="1008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«Думай и соображ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5575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Какой знак постав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между 7 и 8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чтобы получившееся число было больше 7, но меньше 8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80"/>
                </a:solidFill>
                <a:latin typeface="Arial"/>
              </a:rPr>
              <a:t>Знаки на выбор: +, -, *, :, «,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«Думай и соображ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В примере потерялись знаки действ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Расставьте знаки, чтобы пример был вер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Arial"/>
              </a:rPr>
              <a:t>0,3…7,7 …0,125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80"/>
                </a:solidFill>
                <a:latin typeface="Arial"/>
              </a:rPr>
              <a:t>Знаки на выбор: +, -, *, :, «(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«Думай и соображ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5575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Найдите быстр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сумму чисе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2,18 + 4,36 + 7,82 + 5,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«Думай и соображ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5575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Вычислите рациона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Arial"/>
              </a:rPr>
              <a:t>3,71 </a:t>
            </a:r>
            <a:r>
              <a:rPr b="1" i="1" lang="ru-RU" sz="4800" spc="-1" strike="noStrike">
                <a:solidFill>
                  <a:srgbClr val="336600"/>
                </a:solidFill>
                <a:latin typeface="Arial"/>
                <a:ea typeface="Arial"/>
              </a:rPr>
              <a:t>∙ 42 + 3,71 ∙ 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Округлите десятичные дроби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 до едини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672000" cy="45259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3,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00,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0,3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,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,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076720" y="1628640"/>
            <a:ext cx="3672000" cy="4525920"/>
          </a:xfrm>
          <a:prstGeom prst="rect">
            <a:avLst/>
          </a:prstGeom>
          <a:solidFill>
            <a:srgbClr val="fb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3:37:08Z</dcterms:created>
  <dc:creator>User</dc:creator>
  <dc:description/>
  <dc:language>en-US</dc:language>
  <cp:lastModifiedBy>Натали</cp:lastModifiedBy>
  <dcterms:modified xsi:type="dcterms:W3CDTF">2014-10-15T16:57:18Z</dcterms:modified>
  <cp:revision>6</cp:revision>
  <dc:subject/>
  <dc:title>Урок- смотр знаний</dc:title>
</cp:coreProperties>
</file>