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BC3-8D68-435B-8B54-F48A639F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53A-677F-40F7-B03D-460379F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C9A-04E5-45DA-AF2E-C10E4662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FAA-8A0B-4EFC-8E4C-D3639839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D66-D7F0-4A7B-B4AB-2F95F7AD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345-BAA3-4899-A913-5E7AA04C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010-201F-43B0-8655-74B68CA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30A-2984-4C74-8966-F0DA3D0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658-EFE7-48EC-8963-970C990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8BC-0FC5-4EFB-A4C6-4542A20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776-8CF8-4735-A350-15F70A8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248-5C7D-420A-9461-CDE1782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6CA-0B13-4449-A0F7-7455D9EB5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Математика  5 класс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Урок- смотр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бобщение знаний по теме: «Десятичные дроб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249228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ния имей отл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теме "Дроби десятичные"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Расшифруйте название самого крупного в мире острова. Для этого выполните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53708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7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,9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,23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38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21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,8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625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045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8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e5e43c38f2a"/>
          <p:cNvPicPr/>
          <p:nvPr/>
        </p:nvPicPr>
        <p:blipFill>
          <a:blip r:embed="rId1"/>
          <a:stretch/>
        </p:blipFill>
        <p:spPr>
          <a:xfrm>
            <a:off x="6156360" y="1844640"/>
            <a:ext cx="21175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14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ш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600360" cy="3382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нла́ндия- крупнейший остров на Земле, между Сев. Ледовитым и Атлантическим океанами, у сев.-вост. берегов Сев. Америки. Длина 2600 км, ширина 1200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е площадь острова Гренланд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e5e43c38f2a"/>
          <p:cNvPicPr/>
          <p:nvPr/>
        </p:nvPicPr>
        <p:blipFill>
          <a:blip r:embed="rId1"/>
          <a:stretch/>
        </p:blipFill>
        <p:spPr>
          <a:xfrm>
            <a:off x="5724360" y="620640"/>
            <a:ext cx="307512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5084640"/>
            <a:ext cx="4321080" cy="785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расчетная – 312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ая площадь – 210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городов А и В, расстояние между которыми 525 км, навстречу друг другу выехали два автомобиля со скоростью 79,3 км/ч и 70,7 км/ч. Через сколько часов они встрет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7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Успехов в изучении математик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979640" y="1268280"/>
            <a:ext cx="1297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2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348000" y="1268280"/>
            <a:ext cx="1150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32,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,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27640" y="1268280"/>
            <a:ext cx="108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,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8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33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,04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651640" y="1197000"/>
            <a:ext cx="11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2,3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,04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908000" y="3860640"/>
            <a:ext cx="79092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995640" y="465300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572000" y="3716280"/>
            <a:ext cx="64764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2411280" y="4797360"/>
            <a:ext cx="79236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5292720" y="4653000"/>
            <a:ext cx="79200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3203640" y="3860640"/>
            <a:ext cx="86364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724360" y="3789360"/>
            <a:ext cx="863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27640" y="76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Экспресс-экзамен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«Вытяни бил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50920" y="1628640"/>
            <a:ext cx="2663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на 10,100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59280" y="1628640"/>
            <a:ext cx="2808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10, 100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227640" y="1628640"/>
            <a:ext cx="2737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с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и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187280" y="3789360"/>
            <a:ext cx="2953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572000" y="3789360"/>
            <a:ext cx="2736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509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132000" y="1700280"/>
            <a:ext cx="259236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63007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1332000" y="3789360"/>
            <a:ext cx="259236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4643280" y="3789360"/>
            <a:ext cx="259272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1, 2, 3, 4, 0, «,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цел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4000" y="155736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5280" y="2637000"/>
            <a:ext cx="8424720" cy="792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5280" y="3500280"/>
            <a:ext cx="8424720" cy="433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5280" y="4076640"/>
            <a:ext cx="8424720" cy="504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95280" y="465300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Какой знак п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между 7 и 8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чтобы получившееся число было больше 7, но меньше 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</a:rPr>
              <a:t>Знаки на выбор: +, -, *, :, «,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В примере потерялись знаки дейст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Расставьте знаки, чтобы пример был вер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0,3…7,7 …0,125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Знаки на выбор: +, -, *, :, «(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Найдите быст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сумму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2,18 + 4,36 + 7,82 + 5,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Вычислите рациона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Arial"/>
              </a:rPr>
              <a:t>3,71 </a:t>
            </a:r>
            <a:r>
              <a:rPr b="1" i="1" lang="ru-RU" sz="4800" spc="-1" strike="noStrike">
                <a:solidFill>
                  <a:srgbClr val="336600"/>
                </a:solidFill>
                <a:latin typeface="Arial"/>
                <a:ea typeface="Arial"/>
              </a:rPr>
              <a:t>∙ 42 + 3,71 ∙ 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Округлите десятичные дроби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 до едини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3,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,3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076720" y="162864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3:37:08Z</dcterms:created>
  <dc:creator>User</dc:creator>
  <dc:description/>
  <dc:language>en-US</dc:language>
  <cp:lastModifiedBy>Натали</cp:lastModifiedBy>
  <dcterms:modified xsi:type="dcterms:W3CDTF">2014-10-15T16:57:18Z</dcterms:modified>
  <cp:revision>6</cp:revision>
  <dc:subject/>
  <dc:title>Урок- смотр знаний</dc:title>
</cp:coreProperties>
</file>