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4590-23C9-4305-9BF6-1A3E1643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41E8-AB6C-4B47-A142-683E9BDC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6293-CAD6-4F03-9203-53C5140E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5E84-348D-49FD-8F02-F860B1920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2067-A503-489C-A484-1499BDBC1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7045-7215-43DD-B9C5-0C8B7CCA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2659-E22F-4DFF-B49F-23A1D9C1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802F-B273-4B76-AF70-37097BE8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B649-3FA3-4AF2-9140-E7FBAB83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9EAA-FE16-4B19-A467-36D84C50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EF09-3E55-48A9-8C97-44A1A5FB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CB3D-E1CA-4B86-96E1-AB32D6C9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8809-EA8E-41D4-8AD2-A18D19D6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311E-540F-4253-AB2B-21FC0D5F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B006-ABF7-4D25-BB0B-C3B8EE7F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F3B0-7241-4BE9-8BF5-6C8175FE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DBC7-878D-4C36-9758-7597A8D46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1023-9524-4246-B07B-775C0925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8180-567E-46B1-9A14-F775C8A3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43C9-09D1-4CA3-B63F-1147D70A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4D32-16D9-4ECA-A355-705C9CD8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A215-0249-4309-AF70-2ED90945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2302-5EC1-4E0E-8A18-9C04BD6E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B4BA-594B-4A33-82B0-9CF3595B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20C4-75CA-440B-88A6-1B094952C45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8A44-2840-4AEE-9001-962805C28DB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Урок математики в 3 класс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ема урока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Умножение и деление на однозначное число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оверка тес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. 30+1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. 6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. =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. в 5 раз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5. 9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6. 8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7. 2 и 2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8. Х=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9. 24 куст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. (16-8)*6=86-3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ПАСИБО 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5100" spc="-1" strike="noStrike">
                <a:solidFill>
                  <a:srgbClr val="000000"/>
                </a:solidFill>
                <a:latin typeface="Verdana"/>
              </a:rPr>
              <a:t>МО-ЛОД-ЦЫ !</a:t>
            </a: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Цели урока 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овершенствование вычислительных навыков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Развитие внимания, памяти, логического мышления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оспитание самостоятельности в работе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ыработка каллиграфических навык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98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98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98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98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ЕСЁЛАЯ ЗАДАЧ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 трём зайчатам в час обед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искакали три сосед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 огороде зайцы сел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 по семь морковок съел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то считать, ребята, ловок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колько съедено морковок 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Устный сче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одолжи ряд чисел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7 ,14 ,21 ,…,…,… 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7 ,14 , 28 , …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5 ,40 ,35 ,30 ,… ,… ,… 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 ,  9 ,27 ,… 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овер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7 ,14 ,21 ,28 ,35 ,42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7 ,14 ,28 , 56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5 ,40 ,35 ,30 ,25 ,20 ,15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 ,9 , 27 ,54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9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98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98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98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98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Задача на смекалку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ервый отрезок на 8 см длиннее второго, а третий- на 4 см короче второго. На сколько сантиметров первый отрезок длиннее третьего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овер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________________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____________      на 12 с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ычисли с устным объяснением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6 * 2=               18 * 3 =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5 * 4=               24 * 4 =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80+16):4=         (11+13):6=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8: 4=                86:2=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0: 2=                96:4=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ФИЗМИНУТ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уратино потянулся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з- нагнулся, два- нагнулс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уки в стороны развёл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идно ключик не нашёл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Чтобы ключик нам достать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 носочки надо встать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тянулись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3:15:02Z</dcterms:created>
  <dc:creator>VIP</dc:creator>
  <dc:description/>
  <dc:language>en-US</dc:language>
  <cp:lastModifiedBy>VIP</cp:lastModifiedBy>
  <dcterms:modified xsi:type="dcterms:W3CDTF">2009-01-30T14:18:57Z</dcterms:modified>
  <cp:revision>8</cp:revision>
  <dc:subject/>
  <dc:title>Урок математики в 3 классе</dc:title>
</cp:coreProperties>
</file>