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8D3-6E27-4ABC-B8FB-F772FDB2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B8D-F223-45C3-B0FC-D1C59A9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4E1-DCA4-475E-8378-8B133094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84F-E77B-403D-9E36-D0F11B04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2E91-17ED-41EB-A4E4-3487DF2B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2CF8-E511-444B-AB28-5968373A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44A-0872-4870-9925-FDF2873E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681-C250-4FBF-9D00-B834329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8A2B-8259-4E59-85AA-F01A6A9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559-B850-4DA8-AB85-47B5B570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EBE-89F2-442F-BE4F-2EBAF6B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95A-3E6C-4620-9A6F-B71A135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28C8-8E46-41C7-B8FC-EF71A0C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CEC-5223-430C-9029-C43891F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B6C-78A3-404A-B0BE-391FADDD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3C7-2C9E-44FD-A2C5-814AFC4C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F35-52FA-4420-A8DD-9E25B023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00B-160B-4142-9698-4912951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C47-236D-4D57-9FA9-9D946C2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565-2492-448C-9F16-A7C8217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81E-4FB9-49A6-AF0C-3C9851B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8D6-C898-4BE6-9F1A-0C23420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A5B-4377-444E-A1C8-4778691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29A-1621-42BB-9A5C-0865475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CB1-F3FD-4C27-9780-4C87A9C6D4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A0C8-682B-42B2-B4FA-F04D225BE3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математики в 3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Умножение и деление на однозначное числ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 те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30+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6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 в 5 ра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 9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. 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. 2 и 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 Х=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. 24 ку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. (16-8)*6=86-3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БО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МО-ЛОД-ЦЫ !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ели урока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вершенствование вычислительных навык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тие внимания, памяти, логического мышлен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 в работ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работка каллиграфических навы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ЕСЁЛ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 трём зайчатам в час обе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скакали три со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огороде зайцы с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по семь морковок съе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то считать, ребята, ловок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колько съедено морковок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стный сче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должи ряд чисел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…,…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 28 , …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… ,…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  9 ,27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28 ,35 ,42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8 , 56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25 ,20 ,15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9 , 27 ,54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на смекал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вый отрезок на 8 см длиннее второго, а третий- на 4 см короче второго. На сколько сантиметров первый отрезок длиннее третьег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      на 12 с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числи с устным объяснение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6 * 2=               18 * 3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5 * 4=               24 * 4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80+16):4=         (11+13):6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8: 4=                86:2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: 2=                96:4=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уратино потянулс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- нагнулся, два- нагнулс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и в стороны развёл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но ключик не нашё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бы ключик нам достат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носочки надо вста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тянулис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3:15:02Z</dcterms:created>
  <dc:creator>VIP</dc:creator>
  <dc:description/>
  <dc:language>en-US</dc:language>
  <cp:lastModifiedBy>VIP</cp:lastModifiedBy>
  <dcterms:modified xsi:type="dcterms:W3CDTF">2009-01-30T14:18:57Z</dcterms:modified>
  <cp:revision>8</cp:revision>
  <dc:subject/>
  <dc:title>Урок математики в 3 классе</dc:title>
</cp:coreProperties>
</file>