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E8D-A06C-4C47-B2A3-828FCB5F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843-4B14-4380-8CC3-E0065372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98B-C0A3-4863-8B48-B453F41F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472-8B54-47BE-95A3-9BE1C6EB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1B5A-523B-45EB-8E22-1FB977A8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A2F9-6D1B-4D2B-8C5E-558CFCC3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6867-1F5D-4C37-A111-379815F8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929A-B265-43B2-BEBA-E33D4040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7A77-A75C-4D8C-BB7F-815EA8BD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2A32-02A7-4FC3-9C00-E7F14BD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B97D-7314-4D49-A707-3DCCD75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98A-2B33-4E30-9972-E9B84946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23C6-1821-4655-92DA-DA08E661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1765-AE69-4AD6-A8D2-C748D42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1630-F6ED-4989-9A5E-72415AC5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9170-1105-4C26-9A61-ABE3C4FB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0D9D-D7B1-4776-A8E5-15AD5A89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03E-9964-490B-9E3F-4EE754EE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F22-CBF5-417F-93DE-E978F07D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776-0579-45CE-858C-EBA9B5BA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241-E32A-4FD0-AE73-A84B4815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019-9E72-4DBD-AFE7-34E1097B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C07-CB35-4425-A2E1-FA4F5CB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E86-5FC9-45FB-B47F-D8B45D51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F449-74DA-40B7-B0AF-0FB8B3730E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7D1C-FC92-4682-92CD-DC38E4B542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Урок математики в 3 класс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ма урок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Умножение и деление на однозначное числ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ка те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 30+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 6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. =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 в 5 ра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 9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. 8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. 2 и 2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. Х=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. 24 ку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. (16-8)*6=86-3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ПАСИБО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5100" spc="-1" strike="noStrike">
                <a:solidFill>
                  <a:srgbClr val="000000"/>
                </a:solidFill>
                <a:latin typeface="Verdana"/>
              </a:rPr>
              <a:t>МО-ЛОД-ЦЫ !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Цели урока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вершенствование вычислительных навык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звитие внимания, памяти, логического мышлен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 в работ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работка каллиграфических навы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ЕСЁЛАЯ ЗАДАЧ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 трём зайчатам в час обед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скакали три со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огороде зайцы се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по семь морковок съе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то считать, ребята, ловок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колько съедено морковок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Устный сче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одолжи ряд чисел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21 ,…,…,…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 28 , …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5 ,40 ,35 ,30 ,… ,… ,…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,  9 ,27 ,…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21 ,28 ,35 ,42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28 , 56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5 ,40 ,35 ,30 ,25 ,20 ,15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,9 , 27 ,54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дача на смекал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ервый отрезок на 8 см длиннее второго, а третий- на 4 см короче второго. На сколько сантиметров первый отрезок длиннее третьего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______________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___________      на 12 с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ычисли с устным объяснение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6 * 2=               18 * 3 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5 * 4=               24 * 4 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80+16):4=         (11+13):6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8: 4=                86:2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: 2=                96:4=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ФИЗМИНУТ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уратино потянулся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- нагнулся, два- нагнулс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и в стороны развёл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но ключик не нашё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бы ключик нам достать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носочки надо встат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тянулис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3:15:02Z</dcterms:created>
  <dc:creator>VIP</dc:creator>
  <dc:description/>
  <dc:language>en-US</dc:language>
  <cp:lastModifiedBy>VIP</cp:lastModifiedBy>
  <dcterms:modified xsi:type="dcterms:W3CDTF">2009-01-30T14:18:57Z</dcterms:modified>
  <cp:revision>8</cp:revision>
  <dc:subject/>
  <dc:title>Урок математики в 3 классе</dc:title>
</cp:coreProperties>
</file>