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43F-DB7F-444C-9DF1-48B71310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EFA-F508-475F-BC6D-ACA1B935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326-423E-4450-9153-2AC270F7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E9C-779C-4736-BF6F-45BB9751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CBC-BA1B-4CDF-9473-F0AED4A3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C49-E27B-4C74-BBEA-3D661B52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73E-43F3-4C7F-8DF3-45882D3D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B32-8D37-4A31-8FCE-DDDF048C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233-C12B-40D4-B851-C6710371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16D-7A2D-4BC8-9958-EAF520C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490-9BAB-4C07-8B57-F34FB03E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47B-2000-42FA-9C99-BE8536A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BDFD-13A7-4CC8-BE77-0F7EB7A25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Элективный кур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923920"/>
            <a:ext cx="64008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Учимся правильному расчету проце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0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дл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икольский, С. Н., Потапов, М. К., Решетников, Н. Н. Алгебра в 7 классе: методические материалы. – М.: Просвещение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арабанов, О. О. Задачи на проценты как проблемы словоупотребления // Математика в школе. – 2003. – № 5. – С. 50–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ашарин, Г. П. Начала финансовой математики. – М.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ашарин, Г. П. Элементы финансовой математики. – М.: Математика (приложение к газете «Первое сентября»). – № 27. –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игдорчик, Е., Нежданова, Т. Элементарная математика в экономике и бизнесе. – М.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одинчар, М. И., Лайкова, Г. А., Рябова, Ю. К. Решение задач на смеси, растворы и сплавы методом уравнений // Математика в школе. – 2001. – №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Глейзер, Г. И. История математики в школе (4–6 кл.): пособие для учителей. – М.: Просвещение, 198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дл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иленкин, Н. Л. За страницами учебника математики. – М.: Просвещение, 1989. – С. 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иленкнн, Н. Л., Жохов, В. И., Чесноков, А. С., Шварцбурд, С. И. Математика 6. – М.: Дрофа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енищева, Л. О., Бойченко, Е. М., Глазков, Ю. А. и др. Го-товимся к единому государственному экзамену. Математика. – М.: Дрофа, 2003. – 12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герев, В. К. и др. Сборник задач по математике для поступающих во втузы / под ред. М. И. Сканави. – М.: Высшая школа, 198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итцман, Е. Великаны и карлики в мире чисел. – М., 19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Математика: Алгебра. Функции. Анализ данных. 8 класс: учеб. для общеобраз. учеб. заведений / под ред. Г. В. Дорофеева. – 2-е изд., стереотипное. – М.: Дрофа, 2000. – 30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Математика: Алгебра. Функции. Анализ данных. 9 кл: учебник для общеобраз. учеб. заведений / под ред. Г. В. Дорофеева. – М.: Дрофа, 2000. – Глава 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является обучающей и содерж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ую запис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кур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кур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тическое план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умениям и навы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но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раммы данного курса обусловлена непродолжительным изучением темы «Проценты» на первом этапе основной школы, когда учащиеся в силу возрастных особенностей еще не могут получить полноценные представления о процентах, об их роли в повседневной жизни. На последующих этапах обучения повторного обращения к этой теме не предусматривается. Во многих школьных учебниках можно встретить задачи на проценты, однако в них отсутствует компактное и четкое изложение соответствующей теории вопроса. Текстовые задачи включены в материалы итоговой аттестации за курс основной школы, в КИМы и ЕГЭ, в конкурсные экзамены. Однако практика показывает, что задачи на проценты вызывают затруднения у учащихся и очень многие окончившие школу не имеют прочных навыков обращения с процентами в повседнев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онимание необходимости знаний процентных вычислений для решения большого круга задач, показав широту применения процентных расчетов в реальной жизн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овать интеллектуальному развитию учащихся, формированию качеств мышления, характерных для математической деятельности и необходимых человеку для жизни в современном обществе, для общей социальной ориентации и решения практических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умения производить процентные вычисления, необходимые для применения в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ать основные задачи на проценты, применять формулу сложных проц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ть учащимся основы экономической грамот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ученику оценить свой потенциал с точки зрения образовательной перспект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центы. Основные задачи на проце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ается история появления процентов; устраняются пробелы в знаниях по решению основных задач на проценты: а) нахождение процента от числа (величины); б) нахождение числа по его проценту; в) нахождение процента одного числа от другого. Актуализируются знания об арифметических и алгебраических приемах решения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  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кция, беседа, объяс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а контро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ка самостоятельно решенных задач, 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центные расчеты в жизненных ситуаци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 широты применения в жизни процентных расчетов. Введение базовых понятий экономики: процент прибыли, стоимость товара, заработная плата, бюджетный дефицит и профицит, изменение тарифов, пеня и др. Решение задач, связанных с банковскими расчетами: вычисление ставок процентов в банках; процентный прирост; определение начальных вкладов. Выполнение тренировочных упра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а  заняти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яснение, практическая раб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  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ение тренировочн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ы   контрол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верка самостоятельно решен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3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 на смеси, сплавы, концентраци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оение учащимися понятий концентрации вещества, процентного раствора. Формирование умения работать с законом сохранения массы. Обобщение полученных знаний при решении задач на проце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 занятий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бинированные зан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   об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рассказ, объяснение, выполнение практически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4. Решение разнообразных задач по всему курс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  занятий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актическ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  занятий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седа, творческие зад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  контрол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5.Заключительное занят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 ча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оговая проверочная работа в форме деловой игры « Проценты в нашей жизн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5:15:20Z</dcterms:created>
  <dc:creator>рабочий</dc:creator>
  <dc:description/>
  <dc:language>en-US</dc:language>
  <cp:lastModifiedBy>1</cp:lastModifiedBy>
  <dcterms:modified xsi:type="dcterms:W3CDTF">2007-12-16T17:08:56Z</dcterms:modified>
  <cp:revision>3</cp:revision>
  <dc:subject/>
  <dc:title>Элективный курс </dc:title>
</cp:coreProperties>
</file>