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856-3737-40EA-B2C8-87B925A3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9C1B-0B45-476B-9063-C5C0F1E3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6442-E823-43F5-8314-9DFFC9CD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E41-0E72-4D8B-AD94-E33CA573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9A7-B982-45F7-BD48-89842879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D526-2369-4963-BEE1-0F2EB5FD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BE1-9EC4-4C48-ACF3-1813F4A0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EF5-344C-467B-B6C8-89133E21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E655-EA42-484A-A239-0F0D72F4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72C3-468C-4FCE-9BEE-5E9E7D42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2D6-B578-4C0E-A58C-3E94E15A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0DB-08BB-4D7C-ABDF-ACE50FA5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6FB7-CDD7-47AB-B394-0740F5D7B4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Элективный кур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923920"/>
            <a:ext cx="64008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Учимся правильному расчету процен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0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 дл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икольский, С. Н., Потапов, М. К., Решетников, Н. Н. Алгебра в 7 классе: методические материалы. – М.: Просвещение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Барабанов, О. О. Задачи на проценты как проблемы словоупотребления // Математика в школе. – 2003. – № 5. – С. 50–5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ашарин, Г. П. Начала финансовой математики. – М.,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ашарин, Г. П. Элементы финансовой математики. – М.: Математика (приложение к газете «Первое сентября»). – № 27. –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Вигдорчик, Е., Нежданова, Т. Элементарная математика в экономике и бизнесе. – М.,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Водинчар, М. И., Лайкова, Г. А., Рябова, Ю. К. Решение задач на смеси, растворы и сплавы методом уравнений // Математика в школе. – 2001. – №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Глейзер, Г. И. История математики в школе (4–6 кл.): пособие для учителей. – М.: Просвещение, 198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 для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иленкин, Н. Л. За страницами учебника математики. – М.: Просвещение, 1989. – С. 7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иленкнн, Н. Л., Жохов, В. И., Чесноков, А. С., Шварцбурд, С. И. Математика 6. – М.: Дрофа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енищева, Л. О., Бойченко, Е. М., Глазков, Ю. А. и др. Го-товимся к единому государственному экзамену. Математика. – М.: Дрофа, 2003. – 12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Егерев, В. К. и др. Сборник задач по математике для поступающих во втузы / под ред. М. И. Сканави. – М.: Высшая школа, 198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итцман, Е. Великаны и карлики в мире чисел. – М., 195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Математика: Алгебра. Функции. Анализ данных. 8 класс: учеб. для общеобраз. учеб. заведений / под ред. Г. В. Дорофеева. – 2-е изд., стереотипное. – М.: Дрофа, 2000. – 304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Математика: Алгебра. Функции. Анализ данных. 9 кл: учебник для общеобраз. учеб. заведений / под ред. Г. В. Дорофеева. – М.: Дрофа, 2000. – Глава 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а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является обучающей и содерж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яснительную запис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и кур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ание кур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тическое план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ования к умениям и навы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но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ера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рограммы данного курса обусловлена непродолжительным изучением темы «Проценты» на первом этапе основной школы, когда учащиеся в силу возрастных особенностей еще не могут получить полноценные представления о процентах, об их роли в повседневной жизни. На последующих этапах обучения повторного обращения к этой теме не предусматривается. Во многих школьных учебниках можно встретить задачи на проценты, однако в них отсутствует компактное и четкое изложение соответствующей теории вопроса. Текстовые задачи включены в материалы итоговой аттестации за курс основной школы, в КИМы и ЕГЭ, в конкурсные экзамены. Однако практика показывает, что задачи на проценты вызывают затруднения у учащихся и очень многие окончившие школу не имеют прочных навыков обращения с процентами в повседневн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3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понимание необходимости знаний процентных вычислений для решения большого круга задач, показав широту применения процентных расчетов в реальной жизн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овать интеллектуальному развитию учащихся, формированию качеств мышления, характерных для математической деятельности и необходимых человеку для жизни в современном обществе, для общей социальной ориентации и решения практических проб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умения производить процентные вычисления, необходимые для применения в практиче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ать основные задачи на проценты, применять формулу сложных процен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ить учащимся основы экономической грамот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ученику оценить свой потенциал с точки зрения образовательной перспекти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 програм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ма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центы. Основные задачи на процен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а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ается история появления процентов; устраняются пробелы в знаниях по решению основных задач на проценты: а) нахождение процента от числа (величины); б) нахождение числа по его проценту; в) нахождение процента одного числа от другого. Актуализируются знания об арифметических и алгебраических приемах решения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тод   обуч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кция, беседа, объясн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орма контрол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рка самостоятельно решенных задач, самостоятельн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333360"/>
            <a:ext cx="84358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ма 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центные расчеты в жизненных ситуация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а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 широты применения в жизни процентных расчетов. Введение базовых понятий экономики: процент прибыли, стоимость товара, заработная плата, бюджетный дефицит и профицит, изменение тарифов, пеня и др. Решение задач, связанных с банковскими расчетами: вычисление ставок процентов в банках; процентный прирост; определение начальных вкладов. Выполнение тренировочных упраж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орма  заняти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ъяснение, практическая рабо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тод   обуч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полнение тренировочных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ы   контрол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верка самостоятельно решенных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3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чи на смеси, сплавы, концентраци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воение учащимися понятий концентрации вещества, процентного раствора. Формирование умения работать с законом сохранения массы. Обобщение полученных знаний при решении задач на процен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а занятий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мбинированные заня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   обу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рассказ, объяснение, выполнение практически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4. Решение разнообразных задач по всему курс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а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а  занятий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актическая раб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ы   занятий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еседа, творческие зад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а  контрол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амостоятельн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5.Заключительное занят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 ча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оговая проверочная работа в форме деловой игры « Проценты в нашей жизн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5:15:20Z</dcterms:created>
  <dc:creator>рабочий</dc:creator>
  <dc:description/>
  <dc:language>en-US</dc:language>
  <cp:lastModifiedBy>1</cp:lastModifiedBy>
  <dcterms:modified xsi:type="dcterms:W3CDTF">2007-12-16T17:08:56Z</dcterms:modified>
  <cp:revision>3</cp:revision>
  <dc:subject/>
  <dc:title>Элективный курс </dc:title>
</cp:coreProperties>
</file>