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A344-004E-46C4-86C1-EE539B7E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B48-D8A1-4FC3-8D97-10A6511E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7E3-2C86-4FC0-9A4F-C6025F2C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FA34-1FB1-44F0-BAC1-819438C9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6DA-BF7F-446D-89CB-5A405969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1071-D834-4A62-956A-E6939D2E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ABB-29FA-474E-B1BD-F7537EC3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939-3B1E-4027-84A7-2F6A31A2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7C51-BE64-49D8-8B73-C6852A96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AE1-D271-495F-8658-1E87A682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8F4-D4C0-4A5B-B5A4-5F9D36BB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0F7-2628-4E65-9919-7CB3E462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F525-E4A6-4C14-B1F5-CCDCCF0D2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Элективный кур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923920"/>
            <a:ext cx="64008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Учимся правильному расчету процен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0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 для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икольский, С. Н., Потапов, М. К., Решетников, Н. Н. Алгебра в 7 классе: методические материалы. – М.: Просвещение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Барабанов, О. О. Задачи на проценты как проблемы словоупотребления // Математика в школе. – 2003. – № 5. – С. 50–5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Башарин, Г. П. Начала финансовой математики. – М.,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ашарин, Г. П. Элементы финансовой математики. – М.: Математика (приложение к газете «Первое сентября»). – № 27. –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Вигдорчик, Е., Нежданова, Т. Элементарная математика в экономике и бизнесе. – М.,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Водинчар, М. И., Лайкова, Г. А., Рябова, Ю. К. Решение задач на смеси, растворы и сплавы методом уравнений // Математика в школе. – 2001. – №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Глейзер, Г. И. История математики в школе (4–6 кл.): пособие для учителей. – М.: Просвещение, 198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 для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иленкин, Н. Л. За страницами учебника математики. – М.: Просвещение, 1989. – С. 7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иленкнн, Н. Л., Жохов, В. И., Чесноков, А. С., Шварцбурд, С. И. Математика 6. – М.: Дрофа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енищева, Л. О., Бойченко, Е. М., Глазков, Ю. А. и др. Го-товимся к единому государственному экзамену. Математика. – М.: Дрофа, 2003. – 12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Егерев, В. К. и др. Сборник задач по математике для поступающих во втузы / под ред. М. И. Сканави. – М.: Высшая школа, 198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Литцман, Е. Великаны и карлики в мире чисел. – М., 195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Математика: Алгебра. Функции. Анализ данных. 8 класс: учеб. для общеобраз. учеб. заведений / под ред. Г. В. Дорофеева. – 2-е изд., стереотипное. – М.: Дрофа, 2000. – 304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Математика: Алгебра. Функции. Анализ данных. 9 кл: учебник для общеобраз. учеб. заведений / под ред. Г. В. Дорофеева. – М.: Дрофа, 2000. – Глава 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ктура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является обучающей и содерж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яснительную запис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и кур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ание кур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тическое план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бования к умениям и навы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но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ерат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рограммы данного курса обусловлена непродолжительным изучением темы «Проценты» на первом этапе основной школы, когда учащиеся в силу возрастных особенностей еще не могут получить полноценные представления о процентах, об их роли в повседневной жизни. На последующих этапах обучения повторного обращения к этой теме не предусматривается. Во многих школьных учебниках можно встретить задачи на проценты, однако в них отсутствует компактное и четкое изложение соответствующей теории вопроса. Текстовые задачи включены в материалы итоговой аттестации за курс основной школы, в КИМы и ЕГЭ, в конкурсные экзамены. Однако практика показывает, что задачи на проценты вызывают затруднения у учащихся и очень многие окончившие школу не имеют прочных навыков обращения с процентами в повседневно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3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понимание необходимости знаний процентных вычислений для решения большого круга задач, показав широту применения процентных расчетов в реальной жизн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овать интеллектуальному развитию учащихся, формированию качеств мышления, характерных для математической деятельности и необходимых человеку для жизни в современном обществе, для общей социальной ориентации и решения практических проб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умения производить процентные вычисления, необходимые для применения в практиче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ать основные задачи на проценты, применять формулу сложных процен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ить учащимся основы экономической грамот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ученику оценить свой потенциал с точки зрения образовательной перспекти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 програм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ма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центы. Основные задачи на процен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а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ается история появления процентов; устраняются пробелы в знаниях по решению основных задач на проценты: а) нахождение процента от числа (величины); б) нахождение числа по его проценту; в) нахождение процента одного числа от другого. Актуализируются знания об арифметических и алгебраических приемах решения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тод   обуч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кция, беседа, объясн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орма контрол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ерка самостоятельно решенных задач, самостоятельн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333360"/>
            <a:ext cx="84358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ма 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центные расчеты в жизненных ситуация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а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 широты применения в жизни процентных расчетов. Введение базовых понятий экономики: процент прибыли, стоимость товара, заработная плата, бюджетный дефицит и профицит, изменение тарифов, пеня и др. Решение задач, связанных с банковскими расчетами: вычисление ставок процентов в банках; процентный прирост; определение начальных вкладов. Выполнение тренировочных упраж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орма  заняти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ъяснение, практическая рабо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тод   обуч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полнение тренировочных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ы   контрол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верка самостоятельно решенных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3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дачи на смеси, сплавы, концентраци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воение учащимися понятий концентрации вещества, процентного раствора. Формирование умения работать с законом сохранения массы. Обобщение полученных знаний при решении задач на процен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а занятий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мбинированные заня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тод   обу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рассказ, объяснение, выполнение практически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4. Решение разнообразных задач по всему курс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а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а  занятий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актическая раб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тоды   занятий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еседа, творческие зад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а  контрол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амостоятельн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5.Заключительное занят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 ча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оговая проверочная работа в форме деловой игры « Проценты в нашей жизн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05:15:20Z</dcterms:created>
  <dc:creator>рабочий</dc:creator>
  <dc:description/>
  <dc:language>en-US</dc:language>
  <cp:lastModifiedBy>1</cp:lastModifiedBy>
  <dcterms:modified xsi:type="dcterms:W3CDTF">2007-12-16T17:08:56Z</dcterms:modified>
  <cp:revision>3</cp:revision>
  <dc:subject/>
  <dc:title>Элективный курс </dc:title>
</cp:coreProperties>
</file>