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E44-0E9E-401A-8737-DE99F5D5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B9C-0C8C-468C-95DE-0E5BFC9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4E6-CF56-4DFD-88AB-7F8B7B14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920-EBC9-4628-849E-5929089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8A6B-92A7-4483-8034-E9E0DA7F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B8EF-86E2-4E76-B038-AC1191E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067-4202-4AAB-86A0-9CB9DF1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1712-EF76-4A64-A764-4C10766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0989-F9D2-4FE7-A7CA-7C26E064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C597-6919-48E1-8912-349307F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1BF1-254A-4139-8B22-45E490B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9FA-A321-4AB9-BD13-0902B90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8DD-3FDC-4870-9D58-E124D2F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285-9732-4B38-97DA-564C036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B84-17C5-4B09-9225-5A165705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9CA7-2376-4B15-9810-036BB5CB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2C1-6F35-47BE-B8FB-5635FE24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947-6127-4B4E-ADCC-78D1247E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059-DDC5-418C-A302-053DB2D3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8BC-DCF6-4E09-8161-3606C2C8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ED2-943F-4FEE-8143-39C0627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50-0701-42F0-8198-8289A2C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EDD-13BE-4EB3-B474-E7CD5C1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BCC-5285-4FBA-9471-51FFB3C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5C68-1662-4861-83D4-5D96035884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54B-530F-4785-835E-3F4E818378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бования к современному занят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76360" y="5229000"/>
            <a:ext cx="744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омендации в организации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дения занят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е навред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НП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ранство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огик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результа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содержания теме и ц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аимосвязь всех частей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907920"/>
            <a:ext cx="6840360" cy="194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26920" y="2276640"/>
            <a:ext cx="1224000" cy="57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360" y="2708280"/>
            <a:ext cx="1224000" cy="100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924280"/>
            <a:ext cx="71280" cy="158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2781360"/>
            <a:ext cx="576360" cy="1225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256536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2421000"/>
            <a:ext cx="79200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бязательные составляющие занят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ь, задач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ип, вид занят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уктура (этапы, ча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ы, при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еполаг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нятие од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рактер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раздела программы (образовательной облас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типа и вида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549360"/>
          <a:ext cx="8704080" cy="5595840"/>
        </p:xfrm>
        <a:graphic>
          <a:graphicData uri="http://schemas.openxmlformats.org/drawingml/2006/table">
            <a:tbl>
              <a:tblPr/>
              <a:tblGrid>
                <a:gridCol w="1800000"/>
                <a:gridCol w="3241800"/>
                <a:gridCol w="3662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обуч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развив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ная часть (размин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Эмоциональное включение ребенка в занятие. Активизация его познавательных процессов и вос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ние проблем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</a:tr>
              <a:tr h="24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Развитие определенных способностей ребенка (интеллектуальных, художественных, социальных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Формирование определенных умений (умение решать задачи определенного типа, работать в группе, создавать свои произведения разного жанра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определение значимых проблем, выдвижение гипотез, дополнительная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 самостоятельным поис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лючи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ятие напряжения (эмоционального, интеллектуального, физическог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оздание условий для свободного творчеств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подведение итогов, выдвижение гипот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 и тип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гр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адицио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особ упорядоченной взаимосвязанной деятельности педагога и ребенка, направленных на решение задач образования (система действий ведущих к це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 выборе метода необходимо учитыва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держание разд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и детей (возрастные, уровень подготовленности, особенности групп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ь педагога (опыт, владение технологиям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4:43:04Z</dcterms:created>
  <dc:creator>Сергей Алексеевич</dc:creator>
  <dc:description/>
  <dc:language>en-US</dc:language>
  <cp:lastModifiedBy>Def Leppard</cp:lastModifiedBy>
  <dcterms:modified xsi:type="dcterms:W3CDTF">2011-10-27T07:40:32Z</dcterms:modified>
  <cp:revision>3</cp:revision>
  <dc:subject/>
  <dc:title>Требования к современному занятию</dc:title>
</cp:coreProperties>
</file>