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5AD-868B-4819-BCA9-368DD925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F52-5572-47C6-9550-CC7B7ECE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EEF-B04D-4FF0-831B-85D46C6B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EE7-05DA-4C5B-8645-76E41878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64BA-B42E-4446-8A83-42202E47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09E9-1E17-431C-A3E2-B301FD98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D159-3C68-4760-B0B0-8B4700F0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79A2-ACB6-43D0-8E40-CE844EBB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13CC-23FE-488E-824A-A749B33C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403B-D064-4C40-8C42-3AD64A8A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B4F3-78AD-48C0-B7A4-3BCD5FE7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CD7-CB06-4569-ADB8-9D1C9D16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E42D-7B30-4C71-8C90-433E636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C1D5-4170-4B3B-8B0B-C651FB6E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5EB8-D970-43BE-B646-AEBBE516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C4C3-0C63-4B7C-BAC7-3E113B17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5A6-EF6A-4BA2-B901-F5D4109C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D13-A000-4336-9735-C64E6E15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756-C601-4B91-AECA-28548786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BE2-5828-4613-9FC1-902E204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8F7-9342-4668-A57D-F194C195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1AC-CB5D-4CA1-B1D8-40C34BCB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C71-DFC6-4D2C-9AB5-14E37940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166-2076-4B35-AAA1-0C9DFD82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B1F-C4A1-49DF-8BDC-BACC8C3EC1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9ED3-C992-4F95-9C86-F0DCB44916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ебования к современному занят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76360" y="5229000"/>
            <a:ext cx="744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комендации в организации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дения занят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не навред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НП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странство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огика за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ответствие результатив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ответствие содержания теме и ц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заимосвязь всех частей за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907920"/>
            <a:ext cx="6840360" cy="1944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Заня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26920" y="2276640"/>
            <a:ext cx="1224000" cy="57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68360" y="2708280"/>
            <a:ext cx="1224000" cy="1008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924280"/>
            <a:ext cx="71280" cy="158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2781360"/>
            <a:ext cx="576360" cy="1225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256536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28000" y="2421000"/>
            <a:ext cx="79200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бязательные составляющие занят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ель, задач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ип, вид занят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уктура (этапы, части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тоды, при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еполаг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нятие од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арактер за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труктура за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 раздела программы (образовательной облас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 типа и вида за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труктура занят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549360"/>
          <a:ext cx="8704080" cy="5595840"/>
        </p:xfrm>
        <a:graphic>
          <a:graphicData uri="http://schemas.openxmlformats.org/drawingml/2006/table">
            <a:tbl>
              <a:tblPr/>
              <a:tblGrid>
                <a:gridCol w="1800000"/>
                <a:gridCol w="3241800"/>
                <a:gridCol w="3662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ап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е содержание обучающего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е содержание развивающего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ная часть (размин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e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Эмоциональное включение ребенка в занятие. Активизация его познавательных процессов и восприя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Мотив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e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здание проблем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eef7"/>
                    </a:solidFill>
                  </a:tcPr>
                </a:tc>
              </a:tr>
              <a:tr h="24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Развитие определенных способностей ребенка (интеллектуальных, художественных, социальных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Формирование определенных умений (умение решать задачи определенного типа, работать в группе, создавать свои произведения разного жанра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стное определение значимых проблем, выдвижение гипотез, дополнительная мотив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ение самостоятельным поис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лючитель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нятие напряжения (эмоционального, интеллектуального, физическог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Создание условий для свободного творчества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стное подведение итогов, выдвижение гипоте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 и тип за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грирова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бинирован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плекс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адицио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 -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особ упорядоченной взаимосвязанной деятельности педагога и ребенка, направленных на решение задач образования (система действий ведущих к цел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 выборе метода необходимо учитыват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держание разде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можности детей (возрастные, уровень подготовленности, особенности группы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можность педагога (опыт, владение технологиям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4:43:04Z</dcterms:created>
  <dc:creator>Сергей Алексеевич</dc:creator>
  <dc:description/>
  <dc:language>en-US</dc:language>
  <cp:lastModifiedBy>Def Leppard</cp:lastModifiedBy>
  <dcterms:modified xsi:type="dcterms:W3CDTF">2011-10-27T07:40:32Z</dcterms:modified>
  <cp:revision>3</cp:revision>
  <dc:subject/>
  <dc:title>Требования к современному занятию</dc:title>
</cp:coreProperties>
</file>