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6A7-3BBB-47CB-BCF0-585CF557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2F7-D347-4817-9A19-D8D90E3A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F2C-FF88-43BE-932C-C88F3384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50F-ECE8-489C-9DF0-44C4995A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9FAF-2159-467E-898D-4989BA66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9C0C-C41B-4AD0-991B-BA21501C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9A39-E709-48ED-8399-1E417D69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4F6C-895B-4279-AADA-7486E171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CB15-3A31-488D-B84B-19FC9E9F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E0FA-16C5-4C3A-AB10-B344809C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F8E2-CFA5-47B8-8C53-A74031A4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F59-F629-4889-893E-B2743FFD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9EBE-FA34-4C1A-8CD9-B2FAFE32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9D8D-DCCB-4F4E-A965-AC77D8B5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6927-1328-417B-A92C-823A7D6C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6A0-D1C1-45EF-9C5D-57287C7C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5BF2-69E4-4866-A749-2A284FBF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B75-8F1E-4079-9FE6-745A0619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90C-3894-47D4-8A3E-6484C2C1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6E5-686C-4CE3-82B7-63C20DF6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05E-1630-49E1-AE0F-BB1DB50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231-9EB9-4E55-B84B-D7A28C1E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F76-5A6D-4FEC-81B1-1C7327A7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785-EDED-4AD0-89EE-CB79D1E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E622-DE1D-458E-9DF8-11E4BAA472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D8B-4931-49E9-BBBE-18E7C1D9B2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ебования к современному занят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76360" y="5229000"/>
            <a:ext cx="744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комендации в организации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дения занят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не навред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НП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странство груп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огика за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ответствие результатив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ответствие содержания теме и ц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заимосвязь всех частей за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907920"/>
            <a:ext cx="6840360" cy="1944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Заня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26920" y="2276640"/>
            <a:ext cx="1224000" cy="57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68360" y="2708280"/>
            <a:ext cx="1224000" cy="1008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924280"/>
            <a:ext cx="71280" cy="158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2781360"/>
            <a:ext cx="576360" cy="1225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256536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28000" y="2421000"/>
            <a:ext cx="79200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бязательные составляющие занят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ель, задач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ип, вид занят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уктура (этапы, части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тоды, при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еполаг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нятие од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арактер за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труктура за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 раздела программы (образовательной облас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 типа и вида зан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труктура занят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549360"/>
          <a:ext cx="8704080" cy="5595840"/>
        </p:xfrm>
        <a:graphic>
          <a:graphicData uri="http://schemas.openxmlformats.org/drawingml/2006/table">
            <a:tbl>
              <a:tblPr/>
              <a:tblGrid>
                <a:gridCol w="1800000"/>
                <a:gridCol w="3241800"/>
                <a:gridCol w="3662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ап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е содержание обучающего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е содержание развивающего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ная часть (размин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e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Эмоциональное включение ребенка в занятие. Активизация его познавательных процессов и восприя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Мотив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e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здание проблем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eef7"/>
                    </a:solidFill>
                  </a:tcPr>
                </a:tc>
              </a:tr>
              <a:tr h="24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Развитие определенных способностей ребенка (интеллектуальных, художественных, социальных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Формирование определенных умений (умение решать задачи определенного типа, работать в группе, создавать свои произведения разного жанра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стное определение значимых проблем, выдвижение гипотез, дополнительная мотив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ение самостоятельным поис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лючитель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нятие напряжения (эмоционального, интеллектуального, физическог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Создание условий для свободного творчества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стное подведение итогов, выдвижение гипоте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 и тип зан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грирова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бинирован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плекс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адицио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 -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особ упорядоченной взаимосвязанной деятельности педагога и ребенка, направленных на решение задач образования (система действий ведущих к цел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 выборе метода необходимо учитыват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держание разде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можности детей (возрастные, уровень подготовленности, особенности группы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можность педагога (опыт, владение технологиям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4:43:04Z</dcterms:created>
  <dc:creator>Сергей Алексеевич</dc:creator>
  <dc:description/>
  <dc:language>en-US</dc:language>
  <cp:lastModifiedBy>Def Leppard</cp:lastModifiedBy>
  <dcterms:modified xsi:type="dcterms:W3CDTF">2011-10-27T07:40:32Z</dcterms:modified>
  <cp:revision>3</cp:revision>
  <dc:subject/>
  <dc:title>Требования к современному занятию</dc:title>
</cp:coreProperties>
</file>