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9B2-4595-4956-8B96-7D06BE90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F1B-70E1-4B97-8ABD-24872CC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97C-D2D6-43FF-80A4-9A58B44E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C0E-0D8C-46BB-92CA-7E877551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B6E1-A346-49F2-80A1-A0B3C849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2B88-52F6-43E8-97FD-D54D8F0B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45EA-BCD8-4BD8-83ED-7C31F89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8EE2-1DA2-4E38-AAEA-2E94E09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40A1-2BCA-45E0-9B67-BB813B8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E29F-C6B0-4C3F-8FB6-ABDC1840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B657-5B2F-4C94-B1A7-5E82D0B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06D-A56A-4C42-9246-553EB126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BDF3-CA67-497C-8F9B-FFB5297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F27-B7E2-4557-84BF-BDD01ED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98BF-2D13-419D-8BD4-75559A28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CF2A-7A0F-4021-A6F8-944F64AC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311-49DD-4DC3-95F6-C827183F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C4F5-83EE-428E-8714-F5D43CF9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BB8B-18ED-49A8-9A7B-C9E70A9B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73F6-7E02-4854-BBFF-EB533CD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EF6B-3950-4F07-BA4D-3EFF946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7768-57BC-4B67-A498-45802F1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A99-7DC7-4D55-A285-01D8734D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2D15-892C-4ABE-B182-805DA81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E643C-7528-413B-AC26-6A05389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9B6A-1433-4B6E-BF95-585F8AD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2DE1-6B54-46CE-8AEC-DA8F8BA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5BD9-5770-41E3-A40A-761107A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BF2A-F3AC-49C9-9EEB-6C6130AF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B23F-4323-49E1-A376-3779C36C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CDCA3-ED06-499C-9499-06110653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FA02-0A1A-4E38-8ADB-BC09021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9B53-BBD2-4A0C-B6B7-E2825E7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F67-8F93-4B17-9E21-72C5AF3F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FAF1-D346-46A7-A61E-A8D86997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0276-6FDB-49BF-B89F-758B0A9B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195C-3259-4443-9A95-B2D855B6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25AE-679D-407C-AAFE-70612D7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E656-FF79-4B6E-A70D-529EF54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50EC-30DA-4752-BD84-5272FC4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67D8-D0F5-4F36-9499-9057DB6E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5FAD-3B44-477F-AFD8-944059AD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A8B4-2E08-4268-BB77-3E3618F9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FE6-5E63-4882-AC04-0694A8C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086-1BA5-41D1-A439-ED0BCBC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90E-A6DF-4EDD-9A05-A4A29DF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FE7-8A15-4469-8312-07D75FD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FAF-DAED-4E33-8C08-915BAFB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D00-5407-4C9E-9494-AD91A23AC8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94AC-DC66-4004-B0C3-0337B39C8B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21AA-E73F-4436-AECF-1B2BC519A5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E48-A43D-4574-8E09-8DFDD861BA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901800" y="334800"/>
            <a:ext cx="77724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16000" y="220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НОСТЬ РАБОТЫ СОЦИАЛЬНОГО ПЕДАГОГА В ОБЩЕОБРАЗОВАТЕЛЬНОМ УЧРЕЖДЕНИ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ОЕ ПОРТФОЛИО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50711 ИГА СПЗ-51-08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211640" y="4076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ила: Кунгурцева Виктория Юрьевн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2268360" y="551664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п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250920" y="41799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53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9640" y="112500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n-US" sz="4800" spc="-1" strike="noStrike">
                <a:solidFill>
                  <a:srgbClr val="0070c0"/>
                </a:solidFill>
                <a:latin typeface="Franklin Gothic Book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6031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27f1"/>
                </a:solidFill>
                <a:latin typeface="Franklin Gothic Medium"/>
              </a:rPr>
              <a:t>СОЦИАЛЬНОЕ ВОСПИТАНИЕ</a:t>
            </a: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7f1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это процесс планомерного создания 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условий для целенаправленного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позитивного</a:t>
            </a: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развития и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духовно-ценностной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ориентации в целях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«взращивания» человека.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ОПРЕДЕЛЕНИЕ ПОНЯТИЯ ВОСПИТАТЕЛЬНОЙ ДЕЯТЕЛЬНОСТИ СОЦИАЛЬНОГО ПЕДАГОГА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В ОБЩЕОБРАЗОВАТЕЛЬНОЙ ШКОЛЕ</a:t>
            </a:r>
            <a:endParaRPr b="0" lang="en-US" sz="28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84464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циальный педагог проводит следующую работу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разъяснение государственной политики в области детско-молодежного движения, оказание помощи в программировании и проектировании деятельности детско-молодежных общественных объединений через регулярно организуемые методические семинары, сборы и смены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рганизация активного сотрудничества общественных объединений с государственными структурами, спонсорами, неправительственными организациями,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разработка и проведение системы мероприятий, обеспечивающих новое наполнение внеурочной воспитательной работы с учащимися общеобразовательных школ и профессиональных училищ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134136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ффективной системы материально-финансовой, организационной, юридической, научно-методической и иной поддержки социально значимой деятельности общественных объединений в образовательных учреждениях; обеспечение бюджетного финансирования организации и координации детско-молодежного движения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тановление и развитие контактов с детскими и молодежными общественными объединениями, в том числе через организацию международных и внутрироссийских обменов представителями детско-молодежного движения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шение вопросов занятости детей и молодежи, оказание помощи в самостоятельной организации досуга и развлечений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ние системы подготовки лидеров детских и молодежных общественных объединений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действие молодежному предпринимательству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ние системы эстетического воспитания детей, развитию профессионального и самодеятельного художественного творчества молодежи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075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Franklin Gothic Medium"/>
              </a:rPr>
              <a:t>Успешно использовать средства социально-педагогической работы можно только в условиях взаимного доверия социального педагога и тех, кому он помогает.</a:t>
            </a:r>
            <a:endParaRPr b="0" lang="en-US" sz="25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6920" y="5975280"/>
            <a:ext cx="78487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Medium"/>
              </a:rPr>
              <a:t>Функции и основные направления деятельности социального педагога образовательного учреждения</a:t>
            </a:r>
            <a:endParaRPr b="0" lang="en-US" sz="32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5640" y="2636640"/>
            <a:ext cx="763272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Диагнос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Воспитательная, или образовательно-воспитате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рганизацион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огнос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офилактическая или предупредительно-профилак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Коррекционно-реабилитационная или социально-терапев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рганизационно-коммуникатив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авозащитная функция или охранно-защит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Исследовательская или организационно-метод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Franklin Gothic Medium"/>
              </a:rPr>
              <a:t>Основные методы работы социального педагога: </a:t>
            </a:r>
            <a:endParaRPr b="0" lang="en-US" sz="4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беждени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сед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384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7708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Принципы социально-педагогической деятельности:</a:t>
            </a:r>
            <a:endParaRPr b="0" lang="en-US" sz="28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628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Принятие человека таким, каков он есть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Уважение права человека на принятие самостоятельного решения на любом этапе совместных действий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Конфиденциальность сотрудничества социального педагога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тветственность социального педагога за результаты своей деятельност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Порядочность социального педагога с клиентом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6616800" y="4581360"/>
            <a:ext cx="25272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09:29:36Z</dcterms:created>
  <dc:creator>Step</dc:creator>
  <dc:description/>
  <dc:language>en-US</dc:language>
  <cp:lastModifiedBy>Admin</cp:lastModifiedBy>
  <dcterms:modified xsi:type="dcterms:W3CDTF">2012-05-23T19:22:08Z</dcterms:modified>
  <cp:revision>49</cp:revision>
  <dc:subject/>
  <dc:title>Государственное бюджетное образовательное учреждение среднего профессионального образования  Анапский индустриально-педагогический колледж Краснодарского края</dc:title>
</cp:coreProperties>
</file>