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0711-07E3-4AA8-B9E2-44891E7FB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EF47-2B10-45BA-961F-CC9E068F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02A1-48FC-4419-B1D1-55B8AFD48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60E6-D90D-4897-88B6-32F8CC580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7E7D-DE53-46FC-8DB1-A01EE5D65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A363-4DFF-43BA-A871-E738A9DE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DC42-8341-42E8-9284-33444C48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5D4A-103B-44EC-9A04-FE3FB947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096F-1354-4E1D-BDB1-789FF7A3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2F9D-E437-4418-BF27-09BB3147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8873-E0B8-482C-847D-8AB8720B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F338-DEC5-4754-B96F-0C6D7A71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DD9F-28B2-46B7-9918-248CD13B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5C48-ADB8-4D60-ABD2-56EECAA3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0039-BA19-4B69-840B-E14295F4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2FD8-BC32-4EF4-A1AF-FE0C096F8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6A04-B442-4E67-97B4-800CC02DD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65560-83F7-40B8-B78E-7A54E1900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10465-5A5E-4EFC-98F3-290FB4BA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186AB-B8DF-4B5C-8BB1-B8E865D6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EE15C-558C-4031-A513-BE8288AE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86E1E-D4B4-4AE9-A816-CD1F0277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A071-C670-425D-9F2B-87706088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CB41B-1BE2-4AD3-89BD-0D0CA2EE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E7601-8398-4DBE-A6D7-3D7A87F2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62EA5-1CEF-463C-A2ED-0107696D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BD9ED-9AAC-42FC-873A-A2E6D0FB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AF1D7-F304-4D8D-A1F9-F01780F6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CB332-2F01-44F4-904F-410154662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78A4E-7892-4499-902A-00A89A8FB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18EB4-C5FA-4D77-810B-067A59AE2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2D933-78B9-494A-BC3C-A8369820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AEC1C-B814-4F2B-8E05-C3EB32B7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8FFD-89B7-4164-9F3C-5CCB3270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31FD5-D479-46BF-89C1-A54B81F5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30708-AC9A-4098-80F5-7F579492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F822A-ADF1-4FB2-B6CD-C0C1FB52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A0639-3E25-49FD-8A43-F96C76D1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8AD9B-2943-4F9E-80BB-FD9AB0FD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307EE-0311-457B-8645-D6C39331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382B7-A7D5-4C69-B0B1-DFBF0396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09C92-7051-4A03-8EE9-0D1BB98FA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26CC3-AA2B-4C0E-AF95-63B0C698E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5F8E-CFCD-4167-BC7D-281BD0E3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1EB8-FBFD-4815-A6FB-2336CBD9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5CC2-39A0-422B-A641-F61C4BD6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6960-2F57-477B-B56C-DF1A8DD1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2D36-CCFC-4FC8-B602-91DB1F08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4427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B64C-FE64-46AE-A1CD-C008034CCBF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4427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Franklin Gothic Medium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783C-BE4D-44F5-86D2-C5D69B84060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4427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Franklin Gothic Medium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Franklin Gothic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3C30-BC7C-4856-8869-18420CA3C97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4427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</p:grpSp>
      </p:grpSp>
      <p:sp>
        <p:nvSpPr>
          <p:cNvPr id="159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0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1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2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4FDD-E234-4CC0-A7C3-3C7F48E21AB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4427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901800" y="334800"/>
            <a:ext cx="7772400" cy="16527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1116000" y="2205000"/>
            <a:ext cx="7416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УЩНОСТЬ РАБОТЫ СОЦИАЛЬНОГО ПЕДАГОГА В ОБЩЕОБРАЗОВАТЕЛЬНОМ УЧРЕЖДЕНИИ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ТОДИЧЕСКОЕ ПОРТФОЛИО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050711 ИГА СПЗ-51-08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6" name="TextBox 3"/>
          <p:cNvSpPr/>
          <p:nvPr/>
        </p:nvSpPr>
        <p:spPr>
          <a:xfrm>
            <a:off x="4211640" y="4076640"/>
            <a:ext cx="44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нила: Кунгурцева Виктория Юрьевна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7" name="TextBox 4"/>
          <p:cNvSpPr/>
          <p:nvPr/>
        </p:nvSpPr>
        <p:spPr>
          <a:xfrm>
            <a:off x="2268360" y="5516640"/>
            <a:ext cx="44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апа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208" name="Picture 6" descr=""/>
          <p:cNvPicPr/>
          <p:nvPr/>
        </p:nvPicPr>
        <p:blipFill>
          <a:blip r:embed="rId2"/>
          <a:stretch/>
        </p:blipFill>
        <p:spPr>
          <a:xfrm>
            <a:off x="250920" y="4179960"/>
            <a:ext cx="3384360" cy="25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4427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476360" y="907920"/>
            <a:ext cx="66531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4427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99640" y="1125000"/>
            <a:ext cx="748836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0" lang="en-US" sz="4800" spc="-1" strike="noStrike">
                <a:solidFill>
                  <a:srgbClr val="0070c0"/>
                </a:solidFill>
                <a:latin typeface="Franklin Gothic Book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59280" y="2781360"/>
            <a:ext cx="260316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4427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27f1"/>
                </a:solidFill>
                <a:latin typeface="Franklin Gothic Medium"/>
              </a:rPr>
              <a:t>СОЦИАЛЬНОЕ ВОСПИТАНИЕ</a:t>
            </a:r>
            <a:r>
              <a:rPr b="0" lang="en-US" sz="5000" spc="-1" strike="noStrike">
                <a:solidFill>
                  <a:srgbClr val="dbf5f9"/>
                </a:solidFill>
                <a:latin typeface="Franklin Gothic Medium"/>
              </a:rPr>
              <a:t> </a:t>
            </a:r>
            <a:endParaRPr b="0" lang="en-US" sz="5000" spc="-1" strike="noStrike">
              <a:solidFill>
                <a:srgbClr val="dbf5f9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7f1"/>
                </a:solidFill>
                <a:latin typeface="Franklin Gothic Book"/>
              </a:rPr>
              <a:t> </a:t>
            </a:r>
            <a:r>
              <a:rPr b="0" lang="ru-RU" sz="2600" spc="-1" strike="noStrike">
                <a:solidFill>
                  <a:srgbClr val="0f6fc6"/>
                </a:solidFill>
                <a:latin typeface="Franklin Gothic Book"/>
              </a:rPr>
              <a:t>это процесс планомерного создания  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f6fc6"/>
                </a:solidFill>
                <a:latin typeface="Franklin Gothic Book"/>
              </a:rPr>
              <a:t>  </a:t>
            </a:r>
            <a:r>
              <a:rPr b="0" lang="ru-RU" sz="2600" spc="-1" strike="noStrike">
                <a:solidFill>
                  <a:srgbClr val="0f6fc6"/>
                </a:solidFill>
                <a:latin typeface="Franklin Gothic Book"/>
              </a:rPr>
              <a:t>условий для целенаправленного 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Franklin Gothic Book"/>
              </a:rPr>
              <a:t>  </a:t>
            </a:r>
            <a:r>
              <a:rPr b="0" lang="ru-RU" sz="2600" spc="-1" strike="noStrike">
                <a:solidFill>
                  <a:srgbClr val="0f6fc6"/>
                </a:solidFill>
                <a:latin typeface="Franklin Gothic Book"/>
              </a:rPr>
              <a:t>позитивного</a:t>
            </a:r>
            <a:r>
              <a:rPr b="0" lang="en-US" sz="2600" spc="-1" strike="noStrike">
                <a:solidFill>
                  <a:srgbClr val="0f6fc6"/>
                </a:solidFill>
                <a:latin typeface="Franklin Gothic Book"/>
              </a:rPr>
              <a:t> </a:t>
            </a:r>
            <a:r>
              <a:rPr b="0" lang="ru-RU" sz="2600" spc="-1" strike="noStrike">
                <a:solidFill>
                  <a:srgbClr val="0f6fc6"/>
                </a:solidFill>
                <a:latin typeface="Franklin Gothic Book"/>
              </a:rPr>
              <a:t>развития и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f6fc6"/>
                </a:solidFill>
                <a:latin typeface="Franklin Gothic Book"/>
              </a:rPr>
              <a:t>  </a:t>
            </a:r>
            <a:r>
              <a:rPr b="0" lang="ru-RU" sz="2600" spc="-1" strike="noStrike">
                <a:solidFill>
                  <a:srgbClr val="0f6fc6"/>
                </a:solidFill>
                <a:latin typeface="Franklin Gothic Book"/>
              </a:rPr>
              <a:t>духовно-ценностной 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f6fc6"/>
                </a:solidFill>
                <a:latin typeface="Franklin Gothic Book"/>
              </a:rPr>
              <a:t>  </a:t>
            </a:r>
            <a:r>
              <a:rPr b="0" lang="ru-RU" sz="2600" spc="-1" strike="noStrike">
                <a:solidFill>
                  <a:srgbClr val="0f6fc6"/>
                </a:solidFill>
                <a:latin typeface="Franklin Gothic Book"/>
              </a:rPr>
              <a:t>ориентации в целях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f6fc6"/>
                </a:solidFill>
                <a:latin typeface="Franklin Gothic Book"/>
              </a:rPr>
              <a:t>  </a:t>
            </a:r>
            <a:r>
              <a:rPr b="0" lang="ru-RU" sz="2600" spc="-1" strike="noStrike">
                <a:solidFill>
                  <a:srgbClr val="0f6fc6"/>
                </a:solidFill>
                <a:latin typeface="Franklin Gothic Book"/>
              </a:rPr>
              <a:t>«взращивания» человека. 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932360" y="3699000"/>
            <a:ext cx="421164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4427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9200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Franklin Gothic Medium"/>
              </a:rPr>
              <a:t>ОПРЕДЕЛЕНИЕ ПОНЯТИЯ ВОСПИТАТЕЛЬНОЙ ДЕЯТЕЛЬНОСТИ СОЦИАЛЬНОГО ПЕДАГОГА </a:t>
            </a:r>
            <a:br>
              <a:rPr sz="2800"/>
            </a:br>
            <a:r>
              <a:rPr b="0" lang="en-US" sz="2800" spc="-1" strike="noStrike">
                <a:solidFill>
                  <a:srgbClr val="04617b"/>
                </a:solidFill>
                <a:latin typeface="Franklin Gothic Medium"/>
              </a:rPr>
              <a:t>В ОБЩЕОБРАЗОВАТЕЛЬНОЙ ШКОЛЕ</a:t>
            </a:r>
            <a:endParaRPr b="0" lang="en-US" sz="28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11280" y="1844640"/>
            <a:ext cx="79214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циальный педагог проводит следующую работу: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разъяснение государственной политики в области детско-молодежного движения, оказание помощи в программировании и проектировании деятельности детско-молодежных общественных объединений через регулярно организуемые методические семинары, сборы и смены;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организация активного сотрудничества общественных объединений с государственными структурами, спонсорами, неправительственными организациями, средствами массовой информации;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разработка и проведение системы мероприятий, обеспечивающих новое наполнение внеурочной воспитательной работы с учащимися общеобразовательных школ и профессиональных училищ;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4427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1"/>
          <p:cNvSpPr/>
          <p:nvPr/>
        </p:nvSpPr>
        <p:spPr>
          <a:xfrm>
            <a:off x="250920" y="1341360"/>
            <a:ext cx="84978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эффективной системы материально-финансовой, организационной, юридической, научно-методической и иной поддержки социально значимой деятельности общественных объединений в образовательных учреждениях; обеспечение бюджетного финансирования организации и координации детско-молодежного движения;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становление и развитие контактов с детскими и молодежными общественными объединениями, в том числе через организацию международных и внутрироссийских обменов представителями детско-молодежного движения;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ешение вопросов занятости детей и молодежи, оказание помощи в самостоятельной организации досуга и развлечений;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здание системы подготовки лидеров детских и молодежных общественных объединений;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действие молодежному предпринимательству;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вершенствование системы эстетического воспитания детей, развитию профессионального и самодеятельного художественного творчества молодежи;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7451640" y="0"/>
            <a:ext cx="16923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4427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1332000" y="333360"/>
            <a:ext cx="60753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4427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4617b"/>
                </a:solidFill>
                <a:latin typeface="Franklin Gothic Medium"/>
              </a:rPr>
              <a:t>Успешно использовать средства социально-педагогической работы можно только в условиях взаимного доверия социального педагога и тех, кому он помогает.</a:t>
            </a:r>
            <a:endParaRPr b="0" lang="en-US" sz="25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26920" y="5975280"/>
            <a:ext cx="784872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1792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1619280" y="2276640"/>
            <a:ext cx="626580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4427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49016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Medium"/>
              </a:rPr>
              <a:t>Функции и основные направления деятельности социального педагога образовательного учреждения</a:t>
            </a:r>
            <a:endParaRPr b="0" lang="en-US" sz="32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55640" y="2636640"/>
            <a:ext cx="7632720" cy="26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-361080">
              <a:spcBef>
                <a:spcPts val="499"/>
              </a:spcBef>
              <a:buClr>
                <a:srgbClr val="0bd0d9"/>
              </a:buClr>
              <a:buSzPct val="9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Диагностическая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61080" indent="-361080">
              <a:spcBef>
                <a:spcPts val="499"/>
              </a:spcBef>
              <a:buClr>
                <a:srgbClr val="0bd0d9"/>
              </a:buClr>
              <a:buSzPct val="9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Воспитательная, или образовательно-воспитательная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61080" indent="-361080">
              <a:spcBef>
                <a:spcPts val="499"/>
              </a:spcBef>
              <a:buClr>
                <a:srgbClr val="0bd0d9"/>
              </a:buClr>
              <a:buSzPct val="9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Организационная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61080" indent="-361080">
              <a:spcBef>
                <a:spcPts val="499"/>
              </a:spcBef>
              <a:buClr>
                <a:srgbClr val="0bd0d9"/>
              </a:buClr>
              <a:buSzPct val="9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Прогностическая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61080" indent="-361080">
              <a:spcBef>
                <a:spcPts val="499"/>
              </a:spcBef>
              <a:buClr>
                <a:srgbClr val="0bd0d9"/>
              </a:buClr>
              <a:buSzPct val="9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Профилактическая или предупредительно-профилактическая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61080" indent="-361080">
              <a:spcBef>
                <a:spcPts val="499"/>
              </a:spcBef>
              <a:buClr>
                <a:srgbClr val="0bd0d9"/>
              </a:buClr>
              <a:buSzPct val="9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Коррекционно-реабилитационная или социально-терапевтическая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61080" indent="-361080">
              <a:spcBef>
                <a:spcPts val="499"/>
              </a:spcBef>
              <a:buClr>
                <a:srgbClr val="0bd0d9"/>
              </a:buClr>
              <a:buSzPct val="9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Организационно-коммуникативная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61080" indent="-361080">
              <a:spcBef>
                <a:spcPts val="499"/>
              </a:spcBef>
              <a:buClr>
                <a:srgbClr val="0bd0d9"/>
              </a:buClr>
              <a:buSzPct val="9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Правозащитная функция или охранно-защитная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61080" indent="-361080">
              <a:spcBef>
                <a:spcPts val="499"/>
              </a:spcBef>
              <a:buClr>
                <a:srgbClr val="0bd0d9"/>
              </a:buClr>
              <a:buSzPct val="9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Исследовательская или организационно-методическая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4427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Franklin Gothic Medium"/>
              </a:rPr>
              <a:t>Основные методы работы социального педагога: </a:t>
            </a:r>
            <a:endParaRPr b="0" lang="en-US" sz="4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блюдение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беждение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есед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циометрия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508720" y="2637000"/>
            <a:ext cx="338436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4427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7777080" cy="807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Franklin Gothic Medium"/>
              </a:rPr>
              <a:t>Принципы социально-педагогической деятельности:</a:t>
            </a:r>
            <a:endParaRPr b="0" lang="en-US" sz="28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8000" y="1628280"/>
            <a:ext cx="82803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Принятие человека таким, каков он есть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Уважение права человека на принятие самостоятельного решения на любом этапе совместных действий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Конфиденциальность сотрудничества социального педагога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Ответственность социального педагога за результаты своей деятельности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Порядочность социального педагога с клиентом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6616800" y="4581360"/>
            <a:ext cx="2527200" cy="2303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1T09:29:36Z</dcterms:created>
  <dc:creator>Step</dc:creator>
  <dc:description/>
  <dc:language>en-US</dc:language>
  <cp:lastModifiedBy>Admin</cp:lastModifiedBy>
  <dcterms:modified xsi:type="dcterms:W3CDTF">2012-05-23T19:22:08Z</dcterms:modified>
  <cp:revision>49</cp:revision>
  <dc:subject/>
  <dc:title>Государственное бюджетное образовательное учреждение среднего профессионального образования  Анапский индустриально-педагогический колледж Краснодарского края</dc:title>
</cp:coreProperties>
</file>