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BFA-6EF8-495D-92C1-3A10902C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3AD-50B6-4ECB-B932-0452B685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A54-67E9-45CE-8192-2C45CCB3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84A-70C2-4B72-A378-74FD6D5A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2A19-D494-41D0-AC1A-48F3B0BA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E921-B0DE-412D-B08F-4EFAAE1B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06B5-C36F-4BC7-BAD4-31F6C1BA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8E85-5F5C-46D9-80A4-A9F61410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489B-99E4-438E-98FB-5AC898DB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B2D-9A12-4573-AD12-95FD3244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DCB-A9D6-45E5-A28D-196FD00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C52-9A39-4E7D-8098-29F59737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1BAA-2E4E-4046-A39B-7887390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3E75-005A-4C56-AF44-C454E203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283-9616-44BB-8ED3-54E931D0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4B18-D19B-497F-977C-00A067F4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3613-1958-4F83-B974-A58C8486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5E39-0296-4117-828B-6A92D2E3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F32B-C524-4ADD-8E5A-C8B0EF5D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9AF8-9E36-41BB-88BE-E311A3A4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1032-F8AD-4ED1-A52F-DE73B3B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20F9-E04D-4DC5-B0F1-21037117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6B2-6AA9-43DA-ACFF-3184D57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3E24-F1E2-4F8B-B24D-FA0080B7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DB1E-5733-4EF4-87C3-2408735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4667-8B33-4F50-BBF8-FAC2847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F309-3095-4ED9-935E-E3B318F4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6E7D-0E42-4801-A0CD-08ACF52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44D3-8AC7-416F-BFB5-74BC0EB5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3C6F-375D-40BD-BB38-AD521B22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C925-EC50-4E72-A8A9-3E06E8E8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18D8-BFBF-4C5E-9411-D6FEE73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69D1-5340-4992-89F1-B02694D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5D8-1BE2-457D-879E-115540BF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0877-1F8D-4850-964F-1254478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7802-8694-4130-B466-E01DC7F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A348-C596-41CC-AEFD-14220ED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43D4-DD9B-47AE-97EF-17A22C2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E268-8771-413C-861F-F857FD5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5DF4-632E-4E6C-902D-AAC19FF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C458-FECA-4185-8B42-5EE13C9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34B0-B1A2-49A7-8613-83B0D079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C8EF-2320-4023-82CB-30B2C327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875-5029-4619-A22D-9A4CCCF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3BE-EAD0-4EC0-A43B-6D048082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1FD-2632-4193-AEDE-D7E6EEF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E7B-FD20-40DA-97B7-AC45B62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F7B-FEEF-41AA-9D92-275E57E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05EB-1D5A-4DE5-A155-DBEDF48885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B63-1501-4709-A596-6CF8718F5B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0931-2148-4D36-8022-D4B507AE9C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E9B-63B7-4912-B625-F0B18D05D3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901800" y="334800"/>
            <a:ext cx="77724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16000" y="220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НОСТЬ РАБОТЫ СОЦИАЛЬНОГО ПЕДАГОГА В ОБЩЕОБРАЗОВАТЕЛЬНОМ УЧРЕЖДЕНИ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ОЕ ПОРТФОЛИО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50711 ИГА СПЗ-51-08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211640" y="4076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ила: Кунгурцева Виктория Юрьевн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2268360" y="551664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п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250920" y="41799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53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9640" y="112500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n-US" sz="4800" spc="-1" strike="noStrike">
                <a:solidFill>
                  <a:srgbClr val="0070c0"/>
                </a:solidFill>
                <a:latin typeface="Franklin Gothic Book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6031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27f1"/>
                </a:solidFill>
                <a:latin typeface="Franklin Gothic Medium"/>
              </a:rPr>
              <a:t>СОЦИАЛЬНОЕ ВОСПИТАНИЕ</a:t>
            </a:r>
            <a:r>
              <a:rPr b="0" lang="en-US" sz="5000" spc="-1" strike="noStrike">
                <a:solidFill>
                  <a:srgbClr val="dbf5f9"/>
                </a:solidFill>
                <a:latin typeface="Franklin Gothic Medium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7f1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это процесс планомерного создания 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условий для целенаправленного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позитивного</a:t>
            </a: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развития и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духовно-ценностной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ориентации в целях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Franklin Gothic Book"/>
              </a:rPr>
              <a:t>  </a:t>
            </a:r>
            <a:r>
              <a:rPr b="0" lang="ru-RU" sz="2600" spc="-1" strike="noStrike">
                <a:solidFill>
                  <a:srgbClr val="0f6fc6"/>
                </a:solidFill>
                <a:latin typeface="Franklin Gothic Book"/>
              </a:rPr>
              <a:t>«взращивания» человека.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ОПРЕДЕЛЕНИЕ ПОНЯТИЯ ВОСПИТАТЕЛЬНОЙ ДЕЯТЕЛЬНОСТИ СОЦИАЛЬНОГО ПЕДАГОГА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В ОБЩЕОБРАЗОВАТЕЛЬНОЙ ШКОЛЕ</a:t>
            </a:r>
            <a:endParaRPr b="0" lang="en-US" sz="28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84464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циальный педагог проводит следующую работу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разъяснение государственной политики в области детско-молодежного движения, оказание помощи в программировании и проектировании деятельности детско-молодежных общественных объединений через регулярно организуемые методические семинары, сборы и смены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рганизация активного сотрудничества общественных объединений с государственными структурами, спонсорами, неправительственными организациями,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разработка и проведение системы мероприятий, обеспечивающих новое наполнение внеурочной воспитательной работы с учащимися общеобразовательных школ и профессиональных училищ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134136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ффективной системы материально-финансовой, организационной, юридической, научно-методической и иной поддержки социально значимой деятельности общественных объединений в образовательных учреждениях; обеспечение бюджетного финансирования организации и координации детско-молодежного движения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тановление и развитие контактов с детскими и молодежными общественными объединениями, в том числе через организацию международных и внутрироссийских обменов представителями детско-молодежного движения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шение вопросов занятости детей и молодежи, оказание помощи в самостоятельной организации досуга и развлечений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ние системы подготовки лидеров детских и молодежных общественных объединений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действие молодежному предпринимательству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ние системы эстетического воспитания детей, развитию профессионального и самодеятельного художественного творчества молодежи;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075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Franklin Gothic Medium"/>
              </a:rPr>
              <a:t>Успешно использовать средства социально-педагогической работы можно только в условиях взаимного доверия социального педагога и тех, кому он помогает.</a:t>
            </a:r>
            <a:endParaRPr b="0" lang="en-US" sz="25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6920" y="5975280"/>
            <a:ext cx="78487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Medium"/>
              </a:rPr>
              <a:t>Функции и основные направления деятельности социального педагога образовательного учреждения</a:t>
            </a:r>
            <a:endParaRPr b="0" lang="en-US" sz="32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5640" y="2636640"/>
            <a:ext cx="763272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Диагнос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Воспитательная, или образовательно-воспитатель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рганизацион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огнос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офилактическая или предупредительно-профилак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Коррекционно-реабилитационная или социально-терапевт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рганизационно-коммуникатив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Правозащитная функция или охранно-защитн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61080" indent="-361080">
              <a:spcBef>
                <a:spcPts val="499"/>
              </a:spcBef>
              <a:buClr>
                <a:srgbClr val="0bd0d9"/>
              </a:buClr>
              <a:buSzPct val="9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Исследовательская или организационно-методическая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Franklin Gothic Medium"/>
              </a:rPr>
              <a:t>Основные методы работы социального педагога: </a:t>
            </a:r>
            <a:endParaRPr b="0" lang="en-US" sz="4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беждени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сед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384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42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7708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Franklin Gothic Medium"/>
              </a:rPr>
              <a:t>Принципы социально-педагогической деятельности:</a:t>
            </a:r>
            <a:endParaRPr b="0" lang="en-US" sz="28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628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Принятие человека таким, каков он есть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Уважение права человека на принятие самостоятельного решения на любом этапе совместных действий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Конфиденциальность сотрудничества социального педагога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тветственность социального педагога за результаты своей деятельност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Порядочность социального педагога с клиентом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6616800" y="4581360"/>
            <a:ext cx="25272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09:29:36Z</dcterms:created>
  <dc:creator>Step</dc:creator>
  <dc:description/>
  <dc:language>en-US</dc:language>
  <cp:lastModifiedBy>Admin</cp:lastModifiedBy>
  <dcterms:modified xsi:type="dcterms:W3CDTF">2012-05-23T19:22:08Z</dcterms:modified>
  <cp:revision>49</cp:revision>
  <dc:subject/>
  <dc:title>Государственное бюджетное образовательное учреждение среднего профессионального образования  Анапский индустриально-педагогический колледж Краснодарского края</dc:title>
</cp:coreProperties>
</file>