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432A-4BFB-4287-9246-9194C1FD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1EE8-C902-4660-A0D3-E4893B39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8C49-E13D-40F2-8636-27DA73C9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5D20-145C-4D27-BDA9-0952A8D8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4588-DCBA-43E5-8D77-E1387B67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4F2D-4BD3-491A-B699-233134A2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4BDA-3533-4F83-9911-99705688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9F78-4A1A-466E-8E99-016F23FE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40CD-5AAF-4AB2-A45B-2D9A301B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ADF9-5AD0-4F1C-8B58-06A7F51B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ECEF-06DF-49D5-A0B8-2597DF5D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BB11-4297-450A-A38D-B165A149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6F40-AAF2-4B97-8FF0-6BA07419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CD13-A56A-40D8-81E0-C0B322D5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C629-2E5D-4789-8E3A-E64D66AB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84B2-58CD-4651-886D-3AD8B42D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B334-E277-4F6E-ACF9-849323DB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FB93-73FB-4020-8FD7-41DE6A28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AFF2-92F7-4BB8-ABA0-0DECE9F6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6144-BE9B-45F1-A666-5AB69C50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F7C6-C432-469E-8DC9-FB5FBB11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C8A8-81E7-45DA-AFB2-7AB94AF9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0182-AD5D-435F-A152-1C9AA2E9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E57E-DCE0-460E-8229-53774CF0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19CA-E6D3-49E2-AB8F-A92F4FE651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12CF-1C58-4E0D-BAEE-C33048B6AF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rcRect l="9044" t="10095" r="0" b="0"/>
          <a:stretch/>
        </p:blipFill>
        <p:spPr>
          <a:xfrm>
            <a:off x="0" y="0"/>
            <a:ext cx="9144000" cy="6778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76520" y="609480"/>
            <a:ext cx="5105160" cy="29268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e1"/>
                </a:solidFill>
                <a:uFillTx/>
                <a:latin typeface="Comic Sans MS"/>
              </a:rPr>
              <a:t>Презентация к занят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e1"/>
                </a:solidFill>
                <a:uFillTx/>
                <a:latin typeface="Comic Sans MS"/>
              </a:rPr>
              <a:t>на тему:</a:t>
            </a:r>
            <a:r>
              <a:rPr b="1" lang="ru-RU" sz="2400" spc="-1" strike="noStrike">
                <a:solidFill>
                  <a:srgbClr val="ffffe1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« Степные птиц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e1"/>
                </a:solidFill>
                <a:latin typeface="Comic Sans MS"/>
              </a:rPr>
              <a:t>воспитателя МДОУ «Детский сад «ЛУЖОК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Comic Sans MS"/>
              </a:rPr>
              <a:t>Мокровой Елены Николаев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75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425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573120"/>
          </a:xfrm>
          <a:prstGeom prst="rect">
            <a:avLst/>
          </a:prstGeom>
          <a:noFill/>
          <a:ln w="0">
            <a:noFill/>
          </a:ln>
          <a:effectLst>
            <a:outerShdw dist="117181" dir="18638369" blurRad="0" rotWithShape="0">
              <a:srgbClr val="ffff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Что такое степь?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Степ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открытое пространство, где полностью отсутствуют деревья и кустарники. Климат жаркий, сухой, мало влаги, дуют сухове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е благоприятное время года – вес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ьшим разнообразием трав характеризуется степ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 здесь можно увидеть пти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тиц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тепи могут иметь самое разнообразное меню – питаться семенами растений, насекомыми, рептилиями, мелкими грызунам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105_Trip to Gobi_black vultures2"/>
          <p:cNvPicPr/>
          <p:nvPr/>
        </p:nvPicPr>
        <p:blipFill>
          <a:blip r:embed="rId2"/>
          <a:stretch/>
        </p:blipFill>
        <p:spPr>
          <a:xfrm>
            <a:off x="609480" y="3657600"/>
            <a:ext cx="784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609480" y="1752480"/>
            <a:ext cx="4038840" cy="32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пные птицы с сильными,толстыми ногами. Весят до 23 кг. Перья жесткие. Большинство видов воду не пь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10240" y="1905120"/>
            <a:ext cx="4052880" cy="37558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Дроф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Стрепе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большая пти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общему облику стрепет весьма напоминает дроф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дет наземный образ жизни, быстро бегает по зем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нездо –ямка из сухих стебельков. Осенью улетают на зимов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00600" y="2057400"/>
            <a:ext cx="3843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Серая куропат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419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няя по величине птиц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юв и ноги тёмн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хняя часть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ерения рябая, коричневого цвета,  бока и хвост рыж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886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Журавль-красав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ый маленький журавль. Голова чёрная; позади глаз пучки белых пер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ивут на открытых территориях с невысокой тра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ираются в стаи в местах зимов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нездо – углубление с веточками, камеш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бят растения покушать и оре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257800" y="1905120"/>
            <a:ext cx="3505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81120" y="151920"/>
            <a:ext cx="39625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Жаворонки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5800" y="175248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епел, куропатка, жаворонки, уд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Polevoi_zhavoronok_1"/>
          <p:cNvPicPr/>
          <p:nvPr/>
        </p:nvPicPr>
        <p:blipFill>
          <a:blip r:embed="rId2"/>
          <a:stretch/>
        </p:blipFill>
        <p:spPr>
          <a:xfrm>
            <a:off x="380880" y="304920"/>
            <a:ext cx="3899160" cy="2614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228600" y="3048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Полевой жаворо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228600" y="6248520"/>
            <a:ext cx="7010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Черный жавороно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4648320" y="4038480"/>
            <a:ext cx="4038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тепной жаворонок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3" descr="Stepnoi_zhavoronok"/>
          <p:cNvPicPr/>
          <p:nvPr/>
        </p:nvPicPr>
        <p:blipFill>
          <a:blip r:embed="rId3"/>
          <a:stretch/>
        </p:blipFill>
        <p:spPr>
          <a:xfrm>
            <a:off x="4419720" y="914400"/>
            <a:ext cx="4495680" cy="2986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chernyi_zhavoronok"/>
          <p:cNvPicPr/>
          <p:nvPr/>
        </p:nvPicPr>
        <p:blipFill>
          <a:blip r:embed="rId4"/>
          <a:stretch/>
        </p:blipFill>
        <p:spPr>
          <a:xfrm>
            <a:off x="228600" y="3429000"/>
            <a:ext cx="397188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pustelga-samka"/>
          <p:cNvPicPr/>
          <p:nvPr/>
        </p:nvPicPr>
        <p:blipFill>
          <a:blip r:embed="rId2"/>
          <a:stretch/>
        </p:blipFill>
        <p:spPr>
          <a:xfrm>
            <a:off x="4343400" y="228600"/>
            <a:ext cx="3097080" cy="2103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Stepnoi_orel_samka"/>
          <p:cNvPicPr/>
          <p:nvPr/>
        </p:nvPicPr>
        <p:blipFill>
          <a:blip r:embed="rId3"/>
          <a:stretch/>
        </p:blipFill>
        <p:spPr>
          <a:xfrm>
            <a:off x="380880" y="3352680"/>
            <a:ext cx="4876920" cy="3289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Stepnoi_derbnik_samec_1"/>
          <p:cNvPicPr/>
          <p:nvPr/>
        </p:nvPicPr>
        <p:blipFill>
          <a:blip r:embed="rId4"/>
          <a:stretch/>
        </p:blipFill>
        <p:spPr>
          <a:xfrm>
            <a:off x="304920" y="152280"/>
            <a:ext cx="3352680" cy="2160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"/>
          <p:cNvSpPr/>
          <p:nvPr/>
        </p:nvSpPr>
        <p:spPr>
          <a:xfrm>
            <a:off x="5638680" y="457200"/>
            <a:ext cx="3505320" cy="42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ыкнов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устельг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мах крыльев 65-82 см, питается грызунами, изредка птицами и крупными насекомыми. Характерный охотничий прием – зависание над добычей с трепещущими крыльями, а затем пикирование вни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5410080" y="4724280"/>
            <a:ext cx="26672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Степной оре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мах крыльев до 2 м, охотится главным образом на сусликов. Внесен в Красную книгу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04920" y="2362320"/>
            <a:ext cx="4952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рбник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лкий сокол, охотится на мелких птиц в воздух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359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-152280" y="0"/>
            <a:ext cx="9296280" cy="7086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rcRect l="25000" t="14062" r="25000" b="10940"/>
          <a:stretch/>
        </p:blipFill>
        <p:spPr>
          <a:xfrm>
            <a:off x="7620120" y="2286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Берегите птиц!!!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rcRect l="25000" t="14062" r="25000" b="10940"/>
          <a:stretch/>
        </p:blipFill>
        <p:spPr>
          <a:xfrm rot="5170800">
            <a:off x="-360" y="838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rcRect l="25000" t="14062" r="25000" b="10940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rcRect l="25000" t="14062" r="25000" b="10940"/>
          <a:stretch/>
        </p:blipFill>
        <p:spPr>
          <a:xfrm>
            <a:off x="4724280" y="4267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rcRect l="25000" t="14062" r="25000" b="10940"/>
          <a:stretch/>
        </p:blipFill>
        <p:spPr>
          <a:xfrm rot="4021200">
            <a:off x="685440" y="365724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22222E-006 C -0.0092 0.00324 -0.02014 0.00047 -0.0283 0.00672 C -0.03889 0.01459 -0.05226 0.03033 -0.0632 0.03565 C -0.06945 0.04398 -0.07205 0.05 -0.07986 0.05324 C -0.08629 0.05903 -0.09254 0.05972 -0.1 0.06227 C -0.11823 0.06158 -0.13663 0.06134 -0.15486 0.05996 C -0.16025 0.05949 -0.1665 0.05463 -0.17153 0.05324 C -0.18386 0.04954 -0.19584 0.04468 -0.20834 0.04213 C -0.2224 0.03588 -0.23698 0.03334 -0.25157 0.03102 C -0.27743 0.02037 -0.30886 0.02801 -0.33334 0.02894 C -0.35868 0.04005 -0.33993 0.03357 -0.39167 0.03102 C -0.39931 0.02778 -0.40695 0.02616 -0.41493 0.02454 C -0.42448 0.02014 -0.43594 0.01713 -0.44497 0.01111 C -0.45018 0.00787 -0.45469 0.00301 -0.4599 -2.22222E-006 C -0.47205 -0.00694 -0.48559 -0.01157 -0.49827 -0.01551 C -0.51771 -0.01435 -0.52639 -0.01597 -0.54167 -0.00879 C -0.54462 -0.00486 -0.55313 0.00996 -0.5566 0.01343 C -0.56945 0.02616 -0.58108 0.03195 -0.59653 0.03565 C -0.64601 0.03357 -0.6415 0.03565 -0.67518 0.02454 C -0.68559 0.02107 -0.69497 0.01644 -0.70504 0.01111 C -0.70816 0.00949 -0.71511 0.00672 -0.71511 0.00672 C -0.72691 -0.00347 -0.73785 -0.00671 -0.75157 -0.00879 C -0.7757 -0.01991 -0.7842 -0.0125 -0.81997 -0.01111 C -0.82969 -0.00254 -0.83525 0.00278 -0.84341 0.01343 C -0.84809 0.01968 -0.84688 0.02732 -0.85504 0.03102 C -0.86424 0.03542 -0.87275 0.04352 -0.88177 0.04884 C -0.88785 0.05232 -0.89514 0.05324 -0.90174 0.05556 C -0.92205 0.05486 -0.94288 0.05463 -0.9632 0.05324 C -0.97761 0.05232 -0.99236 0.04445 -1.0066 0.04445 E">
                                      <p:cBhvr>
                                        <p:cTn id="49" dur="5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22222E-006 C -0.0092 0.00324 -0.02014 0.00047 -0.0283 0.00672 C -0.03889 0.01459 -0.05226 0.03033 -0.0632 0.03565 C -0.06945 0.04398 -0.07205 0.05 -0.07986 0.05324 C -0.08629 0.05903 -0.09254 0.05972 -0.1 0.06227 C -0.11823 0.06158 -0.13663 0.06134 -0.15486 0.05996 C -0.16025 0.05949 -0.1665 0.05463 -0.17153 0.05324 C -0.18386 0.04954 -0.19584 0.04468 -0.20834 0.04213 C -0.2224 0.03588 -0.23698 0.03334 -0.25157 0.03102 C -0.27743 0.02037 -0.30886 0.02801 -0.33334 0.02894 C -0.35868 0.04005 -0.33993 0.03357 -0.39167 0.03102 C -0.39931 0.02778 -0.40695 0.02616 -0.41493 0.02454 C -0.42448 0.02014 -0.43594 0.01713 -0.44497 0.01111 C -0.45018 0.00787 -0.45469 0.00301 -0.4599 -2.22222E-006 C -0.47205 -0.00694 -0.48559 -0.01157 -0.49827 -0.01551 C -0.51771 -0.01435 -0.52639 -0.01597 -0.54167 -0.00879 C -0.54462 -0.00486 -0.55313 0.00996 -0.5566 0.01343 C -0.56945 0.02616 -0.58108 0.03195 -0.59653 0.03565 C -0.64601 0.03357 -0.6415 0.03565 -0.67518 0.02454 C -0.68559 0.02107 -0.69497 0.01644 -0.70504 0.01111 C -0.70816 0.00949 -0.71511 0.00672 -0.71511 0.00672 C -0.72691 -0.00347 -0.73785 -0.00671 -0.75157 -0.00879 C -0.7757 -0.01991 -0.7842 -0.0125 -0.81997 -0.01111 C -0.82969 -0.00254 -0.83525 0.00278 -0.84341 0.01343 C -0.84809 0.01968 -0.84688 0.02732 -0.85504 0.03102 C -0.86424 0.03542 -0.87275 0.04352 -0.88177 0.04884 C -0.88785 0.05232 -0.89514 0.05324 -0.90174 0.05556 C -0.92205 0.05486 -0.94288 0.05463 -0.9632 0.05324 C -0.97761 0.05232 -0.99236 0.04445 -1.0066 0.04445 E">
                                      <p:cBhvr>
                                        <p:cTn id="53" dur="5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22222E-006 C -0.0092 0.00324 -0.02014 0.00047 -0.0283 0.00672 C -0.03889 0.01459 -0.05226 0.03033 -0.0632 0.03565 C -0.06945 0.04398 -0.07205 0.05 -0.07986 0.05324 C -0.08629 0.05903 -0.09254 0.05972 -0.1 0.06227 C -0.11823 0.06158 -0.13663 0.06134 -0.15486 0.05996 C -0.16025 0.05949 -0.1665 0.05463 -0.17153 0.05324 C -0.18386 0.04954 -0.19584 0.04468 -0.20834 0.04213 C -0.2224 0.03588 -0.23698 0.03334 -0.25157 0.03102 C -0.27743 0.02037 -0.30886 0.02801 -0.33334 0.02894 C -0.35868 0.04005 -0.33993 0.03357 -0.39167 0.03102 C -0.39931 0.02778 -0.40695 0.02616 -0.41493 0.02454 C -0.42448 0.02014 -0.43594 0.01713 -0.44497 0.01111 C -0.45018 0.00787 -0.45469 0.00301 -0.4599 -2.22222E-006 C -0.47205 -0.00694 -0.48559 -0.01157 -0.49827 -0.01551 C -0.51771 -0.01435 -0.52639 -0.01597 -0.54167 -0.00879 C -0.54462 -0.00486 -0.55313 0.00996 -0.5566 0.01343 C -0.56945 0.02616 -0.58108 0.03195 -0.59653 0.03565 C -0.64601 0.03357 -0.6415 0.03565 -0.67518 0.02454 C -0.68559 0.02107 -0.69497 0.01644 -0.70504 0.01111 C -0.70816 0.00949 -0.71511 0.00672 -0.71511 0.00672 C -0.72691 -0.00347 -0.73785 -0.00671 -0.75157 -0.00879 C -0.7757 -0.01991 -0.7842 -0.0125 -0.81997 -0.01111 C -0.82969 -0.00254 -0.83525 0.00278 -0.84341 0.01343 C -0.84809 0.01968 -0.84688 0.02732 -0.85504 0.03102 C -0.86424 0.03542 -0.87275 0.04352 -0.88177 0.04884 C -0.88785 0.05232 -0.89514 0.05324 -0.90174 0.05556 C -0.92205 0.05486 -0.94288 0.05463 -0.9632 0.05324 C -0.97761 0.05232 -0.99236 0.04445 -1.0066 0.04445 E">
                                      <p:cBhvr>
                                        <p:cTn id="57" dur="5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22222E-006 C -0.0092 0.00324 -0.02014 0.00047 -0.0283 0.00672 C -0.03889 0.01459 -0.05226 0.03033 -0.0632 0.03565 C -0.06945 0.04398 -0.07205 0.05 -0.07986 0.05324 C -0.08629 0.05903 -0.09254 0.05972 -0.1 0.06227 C -0.11823 0.06158 -0.13663 0.06134 -0.15486 0.05996 C -0.16025 0.05949 -0.1665 0.05463 -0.17153 0.05324 C -0.18386 0.04954 -0.19584 0.04468 -0.20834 0.04213 C -0.2224 0.03588 -0.23698 0.03334 -0.25157 0.03102 C -0.27743 0.02037 -0.30886 0.02801 -0.33334 0.02894 C -0.35868 0.04005 -0.33993 0.03357 -0.39167 0.03102 C -0.39931 0.02778 -0.40695 0.02616 -0.41493 0.02454 C -0.42448 0.02014 -0.43594 0.01713 -0.44497 0.01111 C -0.45018 0.00787 -0.45469 0.00301 -0.4599 -2.22222E-006 C -0.47205 -0.00694 -0.48559 -0.01157 -0.49827 -0.01551 C -0.51771 -0.01435 -0.52639 -0.01597 -0.54167 -0.00879 C -0.54462 -0.00486 -0.55313 0.00996 -0.5566 0.01343 C -0.56945 0.02616 -0.58108 0.03195 -0.59653 0.03565 C -0.64601 0.03357 -0.6415 0.03565 -0.67518 0.02454 C -0.68559 0.02107 -0.69497 0.01644 -0.70504 0.01111 C -0.70816 0.00949 -0.71511 0.00672 -0.71511 0.00672 C -0.72691 -0.00347 -0.73785 -0.00671 -0.75157 -0.00879 C -0.7757 -0.01991 -0.7842 -0.0125 -0.81997 -0.01111 C -0.82969 -0.00254 -0.83525 0.00278 -0.84341 0.01343 C -0.84809 0.01968 -0.84688 0.02732 -0.85504 0.03102 C -0.86424 0.03542 -0.87275 0.04352 -0.88177 0.04884 C -0.88785 0.05232 -0.89514 0.05324 -0.90174 0.05556 C -0.92205 0.05486 -0.94288 0.05463 -0.9632 0.05324 C -0.97761 0.05232 -0.99236 0.04445 -1.0066 0.04445 E">
                                      <p:cBhvr>
                                        <p:cTn id="61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22222E-006 C -0.0092 0.00324 -0.02014 0.00047 -0.0283 0.00672 C -0.03889 0.01459 -0.05226 0.03033 -0.0632 0.03565 C -0.06945 0.04398 -0.07205 0.05 -0.07986 0.05324 C -0.08629 0.05903 -0.09254 0.05972 -0.1 0.06227 C -0.11823 0.06158 -0.13663 0.06134 -0.15486 0.05996 C -0.16025 0.05949 -0.1665 0.05463 -0.17153 0.05324 C -0.18386 0.04954 -0.19584 0.04468 -0.20834 0.04213 C -0.2224 0.03588 -0.23698 0.03334 -0.25157 0.03102 C -0.27743 0.02037 -0.30886 0.02801 -0.33334 0.02894 C -0.35868 0.04005 -0.33993 0.03357 -0.39167 0.03102 C -0.39931 0.02778 -0.40695 0.02616 -0.41493 0.02454 C -0.42448 0.02014 -0.43594 0.01713 -0.44497 0.01111 C -0.45018 0.00787 -0.45469 0.00301 -0.4599 -2.22222E-006 C -0.47205 -0.00694 -0.48559 -0.01157 -0.49827 -0.01551 C -0.51771 -0.01435 -0.52639 -0.01597 -0.54167 -0.00879 C -0.54462 -0.00486 -0.55313 0.00996 -0.5566 0.01343 C -0.56945 0.02616 -0.58108 0.03195 -0.59653 0.03565 C -0.64601 0.03357 -0.6415 0.03565 -0.67518 0.02454 C -0.68559 0.02107 -0.69497 0.01644 -0.70504 0.01111 C -0.70816 0.00949 -0.71511 0.00672 -0.71511 0.00672 C -0.72691 -0.00347 -0.73785 -0.00671 -0.75157 -0.00879 C -0.7757 -0.01991 -0.7842 -0.0125 -0.81997 -0.01111 C -0.82969 -0.00254 -0.83525 0.00278 -0.84341 0.01343 C -0.84809 0.01968 -0.84688 0.02732 -0.85504 0.03102 C -0.86424 0.03542 -0.87275 0.04352 -0.88177 0.04884 C -0.88785 0.05232 -0.89514 0.05324 -0.90174 0.05556 C -0.92205 0.05486 -0.94288 0.05463 -0.9632 0.05324 C -0.97761 0.05232 -0.99236 0.04445 -1.0066 0.04445 E">
                                      <p:cBhvr>
                                        <p:cTn id="65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12-10-27T11:05:57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