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804-A58B-4258-9C9A-4B89F99F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0A5-D520-4BD8-94B3-41D3B5E8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B4F-5A9B-476D-8A88-2F970039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965-2A07-480F-B291-35DE87B6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997F-7203-4ED4-8F81-F861F4EC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E5CD-0020-4AE7-B6D0-D0CB378C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9B06-1743-412D-A5B7-E9BC083C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7BE6-8EAF-42F3-9B96-F4408EE2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331C-3E29-4EED-A78C-F3A8A16F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DA8-6A94-4583-98E3-0E4E5E99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9441-D6A8-422D-9712-0C7F986D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E41-FDA2-447C-80F8-CB95D509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E868-F64C-4B7F-9BB2-E49AC18D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5D33-9E55-46BA-88D7-FFC6ED41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13B8-F7A9-4285-A5F2-D3A13496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CDAC-4A87-4A04-AA52-2F5441EA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F850-8FE4-4498-8426-457EDE3F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DF7-D0CF-4B6B-9999-03D5C9C7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D52-31F8-4D60-83D1-C5B6A6AB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45C-F1B2-48D8-95E6-714DEE29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961-4B2B-4DBA-B799-6601071A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9E4-4936-4C66-A653-DF19485E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5E8-66A3-489C-8E6A-D4BCAFC7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CE8-879C-4BDC-8CAA-574D786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555-B0A8-49F0-9900-DACC37699D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963A-2287-4B73-B29A-DA64AB6D9E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9044" t="10095" r="0" b="0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609480"/>
            <a:ext cx="5105160" cy="29268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e1"/>
                </a:solidFill>
                <a:uFillTx/>
                <a:latin typeface="Comic Sans MS"/>
              </a:rPr>
              <a:t>Презентация к заня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e1"/>
                </a:solidFill>
                <a:uFillTx/>
                <a:latin typeface="Comic Sans MS"/>
              </a:rPr>
              <a:t>на тему:</a:t>
            </a:r>
            <a:r>
              <a:rPr b="1" lang="ru-RU" sz="2400" spc="-1" strike="noStrike">
                <a:solidFill>
                  <a:srgbClr val="ffffe1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« Степ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e1"/>
                </a:solidFill>
                <a:latin typeface="Comic Sans MS"/>
              </a:rPr>
              <a:t>воспитателя МДОУ «Детский сад «ЛУЖОК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Comic Sans MS"/>
              </a:rPr>
              <a:t>Мокровой Елены Николае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75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25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Что такое степь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Степ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открытое пространство, где полностью отсутствуют деревья и кустарники. Климат жаркий, сухой, мало влаги, дуют сухов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е благоприятное время года –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им разнообразием трав характеризуется степ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 здесь можно увидеть пт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т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тепи могут иметь самое разнообразное меню – питаться семенами растений, насекомыми, рептилиями, мелкими грызун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105_Trip to Gobi_black vultures2"/>
          <p:cNvPicPr/>
          <p:nvPr/>
        </p:nvPicPr>
        <p:blipFill>
          <a:blip r:embed="rId2"/>
          <a:stretch/>
        </p:blipFill>
        <p:spPr>
          <a:xfrm>
            <a:off x="609480" y="3657600"/>
            <a:ext cx="784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09480" y="1752480"/>
            <a:ext cx="40388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ые птицы с сильными,толстыми ногами. Весят до 23 кг. Перья жесткие. Большинство видов воду не пь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0240" y="1905120"/>
            <a:ext cx="4052880" cy="3755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Дроф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Стреп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ольшая п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общему облику стрепет весьма напоминает дроф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ет наземный образ жизни, быстро бегает по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нездо –ямка из сухих стебельков. Осенью улетают на зим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4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Серая куропат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419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яя по величине птиц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юв и ноги тёмн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хняя часть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ения рябая, коричневого цвета,  бока и хвост рыж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86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Журавль-красав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маленький журавль. Голова чёрная; позади глаз пучки белых пер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ут на открытых территориях с невысокой тра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ираются в стаи в местах зим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нездо – углубление с веточками, камеш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ят растения покушать и ор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81120" y="151920"/>
            <a:ext cx="3962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Жаворонк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17524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пел, куропатка, жаворонки, уд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Polevoi_zhavoronok_1"/>
          <p:cNvPicPr/>
          <p:nvPr/>
        </p:nvPicPr>
        <p:blipFill>
          <a:blip r:embed="rId2"/>
          <a:stretch/>
        </p:blipFill>
        <p:spPr>
          <a:xfrm>
            <a:off x="380880" y="304920"/>
            <a:ext cx="3899160" cy="2614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228600" y="3048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Полевой жавор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28600" y="62485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Черный жавороно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4648320" y="4038480"/>
            <a:ext cx="403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тепной жавороно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Stepnoi_zhavoronok"/>
          <p:cNvPicPr/>
          <p:nvPr/>
        </p:nvPicPr>
        <p:blipFill>
          <a:blip r:embed="rId3"/>
          <a:stretch/>
        </p:blipFill>
        <p:spPr>
          <a:xfrm>
            <a:off x="4419720" y="914400"/>
            <a:ext cx="4495680" cy="298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chernyi_zhavoronok"/>
          <p:cNvPicPr/>
          <p:nvPr/>
        </p:nvPicPr>
        <p:blipFill>
          <a:blip r:embed="rId4"/>
          <a:stretch/>
        </p:blipFill>
        <p:spPr>
          <a:xfrm>
            <a:off x="228600" y="3429000"/>
            <a:ext cx="39718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pustelga-samka"/>
          <p:cNvPicPr/>
          <p:nvPr/>
        </p:nvPicPr>
        <p:blipFill>
          <a:blip r:embed="rId2"/>
          <a:stretch/>
        </p:blipFill>
        <p:spPr>
          <a:xfrm>
            <a:off x="4343400" y="228600"/>
            <a:ext cx="3097080" cy="210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Stepnoi_orel_samka"/>
          <p:cNvPicPr/>
          <p:nvPr/>
        </p:nvPicPr>
        <p:blipFill>
          <a:blip r:embed="rId3"/>
          <a:stretch/>
        </p:blipFill>
        <p:spPr>
          <a:xfrm>
            <a:off x="380880" y="3352680"/>
            <a:ext cx="4876920" cy="328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tepnoi_derbnik_samec_1"/>
          <p:cNvPicPr/>
          <p:nvPr/>
        </p:nvPicPr>
        <p:blipFill>
          <a:blip r:embed="rId4"/>
          <a:stretch/>
        </p:blipFill>
        <p:spPr>
          <a:xfrm>
            <a:off x="304920" y="152280"/>
            <a:ext cx="3352680" cy="2160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5638680" y="457200"/>
            <a:ext cx="3505320" cy="42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ык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устельг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мах крыльев 65-82 см, питается грызунами, изредка птицами и крупными насекомыми. Характерный охотничий прием – зависание над добычей с трепещущими крыльями, а затем пикирование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10080" y="4724280"/>
            <a:ext cx="2667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тепной ор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ах крыльев до 2 м, охотится главным образом на сусликов. Внесен в Красную книгу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04920" y="2362320"/>
            <a:ext cx="4952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рбн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лкий сокол, охотится на мелких птиц в воздух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35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-152280" y="0"/>
            <a:ext cx="9296280" cy="7086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rcRect l="25000" t="14062" r="25000" b="10940"/>
          <a:stretch/>
        </p:blipFill>
        <p:spPr>
          <a:xfrm>
            <a:off x="76201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Берегите птиц!!!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rcRect l="25000" t="14062" r="25000" b="10940"/>
          <a:stretch/>
        </p:blipFill>
        <p:spPr>
          <a:xfrm rot="5170800">
            <a:off x="-360" y="838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rcRect l="25000" t="14062" r="25000" b="10940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rcRect l="25000" t="14062" r="25000" b="10940"/>
          <a:stretch/>
        </p:blipFill>
        <p:spPr>
          <a:xfrm>
            <a:off x="4724280" y="4267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rcRect l="25000" t="14062" r="25000" b="10940"/>
          <a:stretch/>
        </p:blipFill>
        <p:spPr>
          <a:xfrm rot="4021200">
            <a:off x="685440" y="36572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49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53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57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61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-0.0092 0.00324 -0.02014 0.00047 -0.0283 0.00672 C -0.03889 0.01459 -0.05226 0.03033 -0.0632 0.03565 C -0.06945 0.04398 -0.07205 0.05 -0.07986 0.05324 C -0.08629 0.05903 -0.09254 0.05972 -0.1 0.06227 C -0.11823 0.06158 -0.13663 0.06134 -0.15486 0.05996 C -0.16025 0.05949 -0.1665 0.05463 -0.17153 0.05324 C -0.18386 0.04954 -0.19584 0.04468 -0.20834 0.04213 C -0.2224 0.03588 -0.23698 0.03334 -0.25157 0.03102 C -0.27743 0.02037 -0.30886 0.02801 -0.33334 0.02894 C -0.35868 0.04005 -0.33993 0.03357 -0.39167 0.03102 C -0.39931 0.02778 -0.40695 0.02616 -0.41493 0.02454 C -0.42448 0.02014 -0.43594 0.01713 -0.44497 0.01111 C -0.45018 0.00787 -0.45469 0.00301 -0.4599 -2.22222E-006 C -0.47205 -0.00694 -0.48559 -0.01157 -0.49827 -0.01551 C -0.51771 -0.01435 -0.52639 -0.01597 -0.54167 -0.00879 C -0.54462 -0.00486 -0.55313 0.00996 -0.5566 0.01343 C -0.56945 0.02616 -0.58108 0.03195 -0.59653 0.03565 C -0.64601 0.03357 -0.6415 0.03565 -0.67518 0.02454 C -0.68559 0.02107 -0.69497 0.01644 -0.70504 0.01111 C -0.70816 0.00949 -0.71511 0.00672 -0.71511 0.00672 C -0.72691 -0.00347 -0.73785 -0.00671 -0.75157 -0.00879 C -0.7757 -0.01991 -0.7842 -0.0125 -0.81997 -0.01111 C -0.82969 -0.00254 -0.83525 0.00278 -0.84341 0.01343 C -0.84809 0.01968 -0.84688 0.02732 -0.85504 0.03102 C -0.86424 0.03542 -0.87275 0.04352 -0.88177 0.04884 C -0.88785 0.05232 -0.89514 0.05324 -0.90174 0.05556 C -0.92205 0.05486 -0.94288 0.05463 -0.9632 0.05324 C -0.97761 0.05232 -0.99236 0.04445 -1.0066 0.04445 E">
                                      <p:cBhvr>
                                        <p:cTn id="6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2-10-27T11:05:5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