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4E4-C018-4C99-8996-8E59B423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9D6-FACB-452E-85D8-44762149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909-B0F6-4909-988C-99B4AE07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584-F064-4650-9D5D-E6842519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ACC9-9172-4F6B-98AE-AB8BE8C7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2BE1-D159-4844-9977-27FE8E1E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BDD8-7DCA-406A-9C23-4DCF0ABF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F98E-EBEC-4A65-9440-6287B155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9D66-C103-4717-800F-8E461C7D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9F28-CBEB-49FA-B1D9-1714E643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5702-3E80-4B54-866E-F382E47F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CD7-D8FA-418C-B6B5-4B3ACB0D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3883-B4EB-422B-9727-F6D3FE06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480E-674E-4BE8-BB23-E177C1E5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DAD2-9FB0-44F5-A5B7-8EC9D091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4B5E-12BA-462B-AE07-6AA0A8F0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4823-14ED-495B-A990-7007F7B1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187-C0B3-460D-9ED3-E2EC84BA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A48-9CF0-49F4-9CD6-A542BA78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D8F-A9C3-46F1-8249-F90259D2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F39-37C8-457B-BC44-D6248007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FF5-A3F7-46AE-AE0E-E043E243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493-EE7D-47C2-A862-1F6FDE23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4CF-29FC-4340-A92D-56A330DC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654F-B479-47AD-BE78-D304A63BF2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B95F-7A9D-444D-8755-2B7501BD65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9044" t="10095" r="0" b="0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6520" y="609480"/>
            <a:ext cx="5105160" cy="29268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e1"/>
                </a:solidFill>
                <a:uFillTx/>
                <a:latin typeface="Comic Sans MS"/>
              </a:rPr>
              <a:t>Презентация к заня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e1"/>
                </a:solidFill>
                <a:uFillTx/>
                <a:latin typeface="Comic Sans MS"/>
              </a:rPr>
              <a:t>на тему:</a:t>
            </a:r>
            <a:r>
              <a:rPr b="1" lang="ru-RU" sz="2400" spc="-1" strike="noStrike">
                <a:solidFill>
                  <a:srgbClr val="ffffe1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« Степн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e1"/>
                </a:solidFill>
                <a:latin typeface="Comic Sans MS"/>
              </a:rPr>
              <a:t>воспитателя МДОУ «Детский сад «ЛУЖОК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Comic Sans MS"/>
              </a:rPr>
              <a:t>Мокровой Елены Николае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75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25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573120"/>
          </a:xfrm>
          <a:prstGeom prst="rect">
            <a:avLst/>
          </a:prstGeom>
          <a:noFill/>
          <a:ln w="0">
            <a:noFill/>
          </a:ln>
          <a:effectLst>
            <a:outerShdw dist="117181" dir="18638369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Что такое степь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Степ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открытое пространство, где полностью отсутствуют деревья и кустарники. Климат жаркий, сухой, мало влаги, дуют сухов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е благоприятное время года –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шим разнообразием трав характеризуется степ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 здесь можно увидеть пт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ти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тепи могут иметь самое разнообразное меню – питаться семенами растений, насекомыми, рептилиями, мелкими грызун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105_Trip to Gobi_black vultures2"/>
          <p:cNvPicPr/>
          <p:nvPr/>
        </p:nvPicPr>
        <p:blipFill>
          <a:blip r:embed="rId2"/>
          <a:stretch/>
        </p:blipFill>
        <p:spPr>
          <a:xfrm>
            <a:off x="609480" y="3657600"/>
            <a:ext cx="784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609480" y="1752480"/>
            <a:ext cx="403884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ные птицы с сильными,толстыми ногами. Весят до 23 кг. Перья жесткие. Большинство видов воду не пь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0240" y="1905120"/>
            <a:ext cx="4052880" cy="3755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Дроф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Стреп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ольшая пт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общему облику стрепет весьма напоминает дроф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ет наземный образ жизни, быстро бегает по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нездо –ямка из сухих стебельков. Осенью улетают на зим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43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Серая куропат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419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яя по величине птиц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юв и ноги тёмн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хняя часть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ения рябая, коричневого цвета,  бока и хвост рыж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86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Журавль-красав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маленький журавль. Голова чёрная; позади глаз пучки белых пер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вут на открытых территориях с невысокой тра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ираются в стаи в местах зим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нездо – углубление с веточками, камеш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ят растения покушать и ор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505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81120" y="151920"/>
            <a:ext cx="3962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Жаворонк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5800" y="17524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пел, куропатка, жаворонки, уд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Polevoi_zhavoronok_1"/>
          <p:cNvPicPr/>
          <p:nvPr/>
        </p:nvPicPr>
        <p:blipFill>
          <a:blip r:embed="rId2"/>
          <a:stretch/>
        </p:blipFill>
        <p:spPr>
          <a:xfrm>
            <a:off x="380880" y="304920"/>
            <a:ext cx="3899160" cy="2614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228600" y="3048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Полевой жавор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28600" y="624852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Черный жавороно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4648320" y="4038480"/>
            <a:ext cx="403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тепной жаворонок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Stepnoi_zhavoronok"/>
          <p:cNvPicPr/>
          <p:nvPr/>
        </p:nvPicPr>
        <p:blipFill>
          <a:blip r:embed="rId3"/>
          <a:stretch/>
        </p:blipFill>
        <p:spPr>
          <a:xfrm>
            <a:off x="4419720" y="914400"/>
            <a:ext cx="4495680" cy="2986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chernyi_zhavoronok"/>
          <p:cNvPicPr/>
          <p:nvPr/>
        </p:nvPicPr>
        <p:blipFill>
          <a:blip r:embed="rId4"/>
          <a:stretch/>
        </p:blipFill>
        <p:spPr>
          <a:xfrm>
            <a:off x="228600" y="3429000"/>
            <a:ext cx="39718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pustelga-samka"/>
          <p:cNvPicPr/>
          <p:nvPr/>
        </p:nvPicPr>
        <p:blipFill>
          <a:blip r:embed="rId2"/>
          <a:stretch/>
        </p:blipFill>
        <p:spPr>
          <a:xfrm>
            <a:off x="4343400" y="228600"/>
            <a:ext cx="3097080" cy="210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Stepnoi_orel_samka"/>
          <p:cNvPicPr/>
          <p:nvPr/>
        </p:nvPicPr>
        <p:blipFill>
          <a:blip r:embed="rId3"/>
          <a:stretch/>
        </p:blipFill>
        <p:spPr>
          <a:xfrm>
            <a:off x="380880" y="3352680"/>
            <a:ext cx="4876920" cy="328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Stepnoi_derbnik_samec_1"/>
          <p:cNvPicPr/>
          <p:nvPr/>
        </p:nvPicPr>
        <p:blipFill>
          <a:blip r:embed="rId4"/>
          <a:stretch/>
        </p:blipFill>
        <p:spPr>
          <a:xfrm>
            <a:off x="304920" y="152280"/>
            <a:ext cx="3352680" cy="2160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5638680" y="457200"/>
            <a:ext cx="3505320" cy="42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ык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устельг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мах крыльев 65-82 см, питается грызунами, изредка птицами и крупными насекомыми. Характерный охотничий прием – зависание над добычей с трепещущими крыльями, а затем пикирование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10080" y="4724280"/>
            <a:ext cx="26672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тепной оре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ах крыльев до 2 м, охотится главным образом на сусликов. Внесен в Красную книгу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04920" y="2362320"/>
            <a:ext cx="4952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рбник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лкий сокол, охотится на мелких птиц в воздух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359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-152280" y="0"/>
            <a:ext cx="9296280" cy="7086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rcRect l="25000" t="14062" r="25000" b="10940"/>
          <a:stretch/>
        </p:blipFill>
        <p:spPr>
          <a:xfrm>
            <a:off x="76201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Берегите птиц!!!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rcRect l="25000" t="14062" r="25000" b="10940"/>
          <a:stretch/>
        </p:blipFill>
        <p:spPr>
          <a:xfrm rot="5170800">
            <a:off x="-360" y="838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rcRect l="25000" t="14062" r="25000" b="10940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rcRect l="25000" t="14062" r="25000" b="10940"/>
          <a:stretch/>
        </p:blipFill>
        <p:spPr>
          <a:xfrm>
            <a:off x="4724280" y="4267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rcRect l="25000" t="14062" r="25000" b="10940"/>
          <a:stretch/>
        </p:blipFill>
        <p:spPr>
          <a:xfrm rot="4021200">
            <a:off x="685440" y="36572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49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53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57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61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6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2-10-27T11:05:5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