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8AE-FA16-4335-AEF2-61F02C5B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806-9C61-44D8-BE13-DA9B86BB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BF7-2092-4B91-A2B5-25D00F71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A898-045F-43A9-A0DB-2A4D935E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B4BA-8F9B-4632-A06E-142D5D24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3988-E4C5-4452-A13A-A1E7A5BA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EA77-1776-4043-89EE-CD65B37C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07DD-7D5B-4EFF-96B8-247DAE01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97B3-D4FE-4215-A643-267D67DE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35A5-C8A0-4D28-B988-B6C87731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6555-FF42-49D8-B620-6EAB7358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165-951F-4456-A8D4-7F1A3FAC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4F92-4892-48A4-B66C-D5FF4EAE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4368-26DE-4D62-A4AC-C1AC1D7B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9394-1D12-4D3E-BFBA-F98D5C7F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8295-3378-4C29-8C71-0FE76996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31A2-04A6-4F14-A92E-B4EDBE2C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9AB02-3B3E-4EA0-B220-B8BF3DCB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75C83-DBB5-44DD-88BC-92D65685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4C9F0-FF2B-45C4-9AED-8C978A03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0C1BE-A1F0-4F3B-9BA7-135FD035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6041F-0486-4049-8C32-0FB8FE0F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87F-D813-415A-A39F-E42E8D43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17ADB-B760-43B6-94D8-E14157A4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DCAF6-19F1-4791-8DE4-2E9166F5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90132-E88A-48F6-B224-C4EFC307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DBF4F-3AFC-4758-8DC2-3514EA3B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09249-68A0-4899-916B-85A745AB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659E0-7B65-44B5-A001-1456D285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47663-15C6-462C-8DF5-B15511D3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4B0C2-EA82-42B3-AB76-639677CE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FCA89-D33E-4018-B890-1765547A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FB772-845D-4881-A24F-339A1C71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8524-13BE-435E-9855-82FB7676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7021F-A175-4A38-83E5-FFE83DD0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1DBC6-7DA7-4E45-9CFB-7F50CA9D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E111B-A29E-415D-B0FA-7DBE757D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C8223-A066-4954-AD1D-BDC12FC2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9E3E0-AB5D-4B58-8C26-9D1C42F9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11929-7F21-46E5-8E37-F02E82E8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3C706-123A-4D0E-AE1D-5E7D8F9C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C04FF-6145-418F-A885-C645D6C0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6A15B-A817-440F-9744-1EAC23D4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F5ED6-0BB7-4FAE-B8C8-F0B7F6EA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A19-2203-440D-A4E2-97EA6C7F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7B827-0B37-4D3A-87BF-9BBCE717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D90B3-F97E-4FF4-A0EE-8AE30505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48C02-2534-4A2C-AA2B-DFBE7C41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DDAA2-68BE-49C7-A4A9-A801A3DB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24641-1C93-4264-8744-3B28356F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356AB-DF17-44C0-A74C-625DB39A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B1407-9941-43EB-80DE-84CC202D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1D1B0-12F2-4832-9D13-D4B5ED05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9D67C-EA3E-4D90-8C88-CF26F2D4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65C93-8070-4514-8569-C5EE15EF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F8C6-E491-44EF-97D2-1ABF3212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B94DE-CE56-403D-B30F-0F7B0C8A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2780-C1E1-4299-B5DD-245E7DC0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9AC-93BF-4161-8B44-E7B0AC3C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72F-302F-4D78-AC2B-47E79F4F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0DC6-11A2-4463-97DC-73DCD2383CB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1BE0-F7E1-4B23-8CB5-C34917B1C6A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E11B-32AE-483C-B057-7AE5E60ACE1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57AB-A264-4BEF-8CD5-3B20EC02527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6132-BB88-4A66-B599-5E92E44E3FD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89200" y="685440"/>
            <a:ext cx="3429000" cy="1219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8a2e4e"/>
                </a:solidFill>
                <a:latin typeface="Arial"/>
              </a:rPr>
              <a:t>Степан Семёнович Раевский</a:t>
            </a:r>
            <a:br>
              <a:rPr sz="2900"/>
            </a:br>
            <a:r>
              <a:rPr b="0" lang="ru-RU" sz="2000" spc="-1" strike="noStrike">
                <a:solidFill>
                  <a:srgbClr val="8a2e4e"/>
                </a:solidFill>
                <a:latin typeface="Arial"/>
              </a:rPr>
              <a:t>(21.04.1918-29.06. 1996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Текст 2"/>
          <p:cNvGrpSpPr/>
          <p:nvPr/>
        </p:nvGrpSpPr>
        <p:grpSpPr>
          <a:xfrm>
            <a:off x="4950000" y="2127240"/>
            <a:ext cx="3974760" cy="4511520"/>
            <a:chOff x="4950000" y="2127240"/>
            <a:chExt cx="3974760" cy="4511520"/>
          </a:xfrm>
        </p:grpSpPr>
        <p:pic>
          <p:nvPicPr>
            <p:cNvPr id="222" name="Текст 2" descr=""/>
            <p:cNvPicPr/>
            <p:nvPr/>
          </p:nvPicPr>
          <p:blipFill>
            <a:blip r:embed="rId1"/>
            <a:stretch/>
          </p:blipFill>
          <p:spPr>
            <a:xfrm>
              <a:off x="4950000" y="2127240"/>
              <a:ext cx="3974760" cy="45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952880" y="2133720"/>
              <a:ext cx="396252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исатель, переводчик, книгоиздатель. Родился в с.Межадор Усть-Сысольского уезда Вологодской губернии. Окончил Визингскую среднюю школу и десятимесячные курсы по подготовке в вуз. С 1934 учился в Коми пединституте. С 1938 по 1940 был учителем языка и литературы в Мохченской средней школе Ижемского района. В 1949 - редактор Коми книжного издательства, затем с 1958 - его директор. Он много сделал для развития литературы в республике, по изданию произведений для детей, учебников для школ. В 1975 за создание учебников "Луч солнца", "Утренняя заря", "Родина" ему была присуждена Государственная премия Коми АССР им.Куратова И.А. Он член Союза писателей с 1957. Всего им было создано шесть учебников по коми литературе. Много сделал по переводу русской литературы на коми язык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Рисунок 12"/>
          <p:cNvGrpSpPr/>
          <p:nvPr/>
        </p:nvGrpSpPr>
        <p:grpSpPr>
          <a:xfrm>
            <a:off x="493560" y="878040"/>
            <a:ext cx="4432320" cy="4437000"/>
            <a:chOff x="493560" y="878040"/>
            <a:chExt cx="4432320" cy="4437000"/>
          </a:xfrm>
        </p:grpSpPr>
        <p:pic>
          <p:nvPicPr>
            <p:cNvPr id="225" name="Рисунок 12" descr=""/>
            <p:cNvPicPr/>
            <p:nvPr/>
          </p:nvPicPr>
          <p:blipFill>
            <a:blip r:embed="rId2"/>
            <a:stretch/>
          </p:blipFill>
          <p:spPr>
            <a:xfrm>
              <a:off x="493560" y="878040"/>
              <a:ext cx="44323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09480" y="990720"/>
              <a:ext cx="4206960" cy="42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Рисунок 11" descr="Раевский Степан Семёнович (С.Зотов)"/>
          <p:cNvPicPr/>
          <p:nvPr/>
        </p:nvPicPr>
        <p:blipFill>
          <a:blip r:embed="rId3"/>
          <a:stretch/>
        </p:blipFill>
        <p:spPr>
          <a:xfrm>
            <a:off x="-658800" y="907920"/>
            <a:ext cx="55357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969840" y="1670040"/>
            <a:ext cx="64486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987480" y="1517760"/>
            <a:ext cx="6413400" cy="47671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6864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Мича   серпас»  («Красивый   узор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1980720"/>
            <a:ext cx="6255000" cy="2203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каз переносит  нас  в  летний лес,  где  три  девчонки - сестрички  собирают  землянику.  Ее  так  много!  Вся  она  крупная  как на  подбор. А  какая  она  сладкая! Быстро  набрали  ягоды,  и только  брат  не  положил  ни  одной  ягодки  в  корзинку,  рука  его  с  ягодкой  тянулась  в  рот.  Раевский живо  показывает  азарт детей  во  время  сбора  ягод: быстро собирали, соревновались, им  любо,  они  счастливы,  горды. Вывод  писатель  делает  в  конце  рассказа  пословицей: что  соберешь,  то  и  съешь.  Лес  человека  кормит,  но  надо  для  этого  приложить  свои  силы,  труд,  терпени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6788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Озъя  йов» («Земляника  с  молоком»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89200" y="76212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a2e4e"/>
                </a:solidFill>
                <a:latin typeface="Arial"/>
              </a:rPr>
              <a:t>Эдуард  Юрьевич Шим </a:t>
            </a:r>
            <a:br>
              <a:rPr sz="2600"/>
            </a:br>
            <a:r>
              <a:rPr b="0" lang="ru-RU" sz="2000" spc="-1" strike="noStrike">
                <a:solidFill>
                  <a:srgbClr val="8a2e4e"/>
                </a:solidFill>
                <a:latin typeface="Arial"/>
              </a:rPr>
              <a:t>(23.08.1930 – 13.03.2006)</a:t>
            </a:r>
            <a:br>
              <a:rPr sz="2000"/>
            </a:br>
            <a:r>
              <a:rPr b="0" lang="ru-RU" sz="2000" spc="-1" strike="noStrike">
                <a:solidFill>
                  <a:srgbClr val="8a2e4e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Текст 2"/>
          <p:cNvGrpSpPr/>
          <p:nvPr/>
        </p:nvGrpSpPr>
        <p:grpSpPr>
          <a:xfrm>
            <a:off x="5254560" y="2359080"/>
            <a:ext cx="3571920" cy="3975120"/>
            <a:chOff x="5254560" y="2359080"/>
            <a:chExt cx="3571920" cy="3975120"/>
          </a:xfrm>
        </p:grpSpPr>
        <p:pic>
          <p:nvPicPr>
            <p:cNvPr id="235" name="Текст 2" descr=""/>
            <p:cNvPicPr/>
            <p:nvPr/>
          </p:nvPicPr>
          <p:blipFill>
            <a:blip r:embed="rId1"/>
            <a:stretch/>
          </p:blipFill>
          <p:spPr>
            <a:xfrm>
              <a:off x="5254560" y="2359080"/>
              <a:ext cx="3571920" cy="39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257800" y="2362320"/>
              <a:ext cx="3560760" cy="39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астоящая фамилия Шмидт.  Русский писатель, драматург, сценарист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кончил Ленинградское архитек-турно - художественное училище. Начал печататься с 1949 года. Пишет преимущественно для детей. В книгах ставятся вопросы отношения человека к природе («След на волне» (1958), «Пикет 200» (1963), «Весенние хлопоты» (1964), «Вода на камешках» (1969))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Рисунок 6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38" name="Рисунок 6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Рисунок 5" descr=""/>
          <p:cNvPicPr/>
          <p:nvPr/>
        </p:nvPicPr>
        <p:blipFill>
          <a:blip r:embed="rId3"/>
          <a:stretch/>
        </p:blipFill>
        <p:spPr>
          <a:xfrm>
            <a:off x="-566640" y="981000"/>
            <a:ext cx="54435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817560" y="1974960"/>
            <a:ext cx="6821640" cy="42796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6255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Березовый  сок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2133360"/>
            <a:ext cx="6255000" cy="32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д с  внуком  едут  по  лесу  на  телеге  за  грибами, перед  нами осенний    лес. Красиво:  «Тут  просторно,  светло,  половина  листьев  уже  осыпалась.»  Писатель использует  сравнения  при  описании  грибов:  красавцы:  как  будто  в солнечном  загаре,  как  будто  в  веселых  веснушках. Олицетворение: трясутся  новые  плетеные  корзин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Шим  напоминает  юным  читателям,  чтобы  они  не  забывали о  бережном  отношении  к природ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837720"/>
            <a:ext cx="6255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ссказ «Война  с  грибам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45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рий</cp:lastModifiedBy>
  <dcterms:modified xsi:type="dcterms:W3CDTF">2012-12-07T20:49:45Z</dcterms:modified>
  <cp:revision>167</cp:revision>
  <dc:subject/>
  <dc:title>                                      ПРИРОДОВЕДЧЕСКАЯ                        ЛИТЕРАТУРА  РЕСПУБЛИКИ  КОМИ </dc:title>
</cp:coreProperties>
</file>