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268-437F-4EDD-8590-B8CDF88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77A-BE21-47F3-8ECF-D829E5E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9B5-169B-4997-B924-4AB2C28D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63D-E72D-4F61-BAA4-CE847391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A3E-38E1-4085-9DA1-3870E6BD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07E-9C99-4127-B7E0-0C9322A2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7EE-28C6-4B68-B846-E061131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88A-2471-461A-A2BF-510C6544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5200-4CD6-41F3-BD79-C5B699F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AEF-8248-4F0E-9838-C476B3C4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B72-63D8-49A0-BB71-9693BCD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72B-B4B6-4706-8158-F1F992A1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2E4C-1C71-439C-83E9-8F9146A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3668-8EB7-4CE3-9C5C-BEA1678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B93-D827-41C1-A25C-C9538FB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9B42-9EE3-4274-B249-E59C3E1E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216-E7D3-4B2E-8AE8-FB67AA38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D468-CBAD-49D5-8168-2C179248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167A-33C8-4B0C-AF7A-656A7B8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D1A3-9697-4DD8-8500-CE0176EC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C79B-451F-48D9-945C-1DA3F4BB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BA2F-C766-4DBF-9035-54B3BB44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90F-381F-416A-B795-8CDA4345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A069-53DA-4F10-8F34-532189D1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16C3-A571-4A0C-84FB-B91E82B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5126-E76A-4743-BA01-099D087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2B1F-8823-4F71-AC04-B1645A1E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C44C-6739-4000-9D95-A1D817D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DFDE-0E57-4CCF-8D22-23EF0B1B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EEDB-D700-46BE-8C7F-6A1EC392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972C-83C6-42A6-A2CE-D996685C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5992-FCA0-4231-BF76-D1E71DF5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0752-5840-413B-B8E8-FC93DBE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48D-532C-44BE-B1C3-B7236814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4190-3527-4F36-BBF6-5DED17EF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1CD4-F35A-4AA2-BBA2-CAC0595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5036-CD0D-438C-8201-D00352C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B06C-D4B2-4387-BFAF-2D5A73B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FF62-16E4-4451-890A-7397318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D2E5-BC57-4167-AF75-A41C351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D345-14AD-4361-BC09-0140DDD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961D-AD3B-4934-AFE6-7737026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3705-2C6B-4070-AF03-80C4640C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4DE5-C4A4-4F29-836E-B03D2124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722-376E-4791-881D-1324E42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1898-8F70-4C5B-BDBB-5AD58EDF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34B8-98AD-44CF-995D-0F6F9A8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F7E5-E96A-4ADE-9CC3-BDF96DED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9083-5C78-4DFF-A117-439818E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B8B4-4757-40F6-A0D3-722841F8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0710-FAB3-42EC-9385-DBBEB00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AA761-596D-440D-91CE-3E2E09D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96F4-98D6-432E-B825-A176EA1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B07B-58A7-49B5-A60E-ECC25DB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CD51-6AB6-4987-9627-DB39F947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3E8-2381-4116-B1C1-00173CF3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DD88-2AB7-431C-A607-0C59DDE8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DFF-0B98-4C16-8111-646B1B2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32E-8161-4049-B7F0-AF18C22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F5D-553D-470D-ABB1-9A1A1C8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EF35-B868-402F-B3E5-774C4A6ABB3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FC5E-921A-4188-909F-8134E8A6FFF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B5D3-96D5-4E99-A275-4B2F2E0859D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2A13-448B-49CF-99D5-F9834266541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A9C-B939-4849-BEB4-F70520D2C8B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89200" y="68544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a2e4e"/>
                </a:solidFill>
                <a:latin typeface="Arial"/>
              </a:rPr>
              <a:t>Степан Семёнович Раевский</a:t>
            </a:r>
            <a:br>
              <a:rPr sz="29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1.04.1918-29.06. 1996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Текст 2"/>
          <p:cNvGrpSpPr/>
          <p:nvPr/>
        </p:nvGrpSpPr>
        <p:grpSpPr>
          <a:xfrm>
            <a:off x="4950000" y="2127240"/>
            <a:ext cx="3974760" cy="4511520"/>
            <a:chOff x="4950000" y="2127240"/>
            <a:chExt cx="3974760" cy="4511520"/>
          </a:xfrm>
        </p:grpSpPr>
        <p:pic>
          <p:nvPicPr>
            <p:cNvPr id="222" name="Текст 2" descr=""/>
            <p:cNvPicPr/>
            <p:nvPr/>
          </p:nvPicPr>
          <p:blipFill>
            <a:blip r:embed="rId1"/>
            <a:stretch/>
          </p:blipFill>
          <p:spPr>
            <a:xfrm>
              <a:off x="4950000" y="2127240"/>
              <a:ext cx="397476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952880" y="2133720"/>
              <a:ext cx="396252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исатель, переводчик, книгоиздатель. Родился в с.Межадор Усть-Сысольского уезда Вологодской губернии. Окончил Визингскую среднюю школу и десятимесячные курсы по подготовке в вуз. С 1934 учился в Коми пединституте. С 1938 по 1940 был учителем языка и литературы в Мохченской средней школе Ижемского района. В 1949 - редактор Коми книжного издательства, затем с 1958 - его директор. Он много сделал для развития литературы в республике, по изданию произведений для детей, учебников для школ. В 1975 за создание учебников "Луч солнца", "Утренняя заря", "Родина" ему была присуждена Государственная премия Коми АССР им.Куратова И.А. Он член Союза писателей с 1957. Всего им было создано шесть учебников по коми литературе. Много сделал по переводу русской литературы на коми язык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Рисунок 12"/>
          <p:cNvGrpSpPr/>
          <p:nvPr/>
        </p:nvGrpSpPr>
        <p:grpSpPr>
          <a:xfrm>
            <a:off x="493560" y="878040"/>
            <a:ext cx="4432320" cy="4437000"/>
            <a:chOff x="493560" y="878040"/>
            <a:chExt cx="4432320" cy="4437000"/>
          </a:xfrm>
        </p:grpSpPr>
        <p:pic>
          <p:nvPicPr>
            <p:cNvPr id="225" name="Рисунок 12" descr=""/>
            <p:cNvPicPr/>
            <p:nvPr/>
          </p:nvPicPr>
          <p:blipFill>
            <a:blip r:embed="rId2"/>
            <a:stretch/>
          </p:blipFill>
          <p:spPr>
            <a:xfrm>
              <a:off x="493560" y="878040"/>
              <a:ext cx="44323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09480" y="990720"/>
              <a:ext cx="4206960" cy="42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Рисунок 11" descr="Раевский Степан Семёнович (С.Зотов)"/>
          <p:cNvPicPr/>
          <p:nvPr/>
        </p:nvPicPr>
        <p:blipFill>
          <a:blip r:embed="rId3"/>
          <a:stretch/>
        </p:blipFill>
        <p:spPr>
          <a:xfrm>
            <a:off x="-658800" y="907920"/>
            <a:ext cx="5535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969840" y="1670040"/>
            <a:ext cx="6448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87480" y="1517760"/>
            <a:ext cx="6413400" cy="4767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6864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Мича   серпас»  («Красивый   узор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6255000" cy="22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з переносит  нас  в  летний лес,  где  три  девчонки - сестрички  собирают  землянику.  Ее  так  много!  Вся  она  крупная  как на  подбор. А  какая  она  сладкая! Быстро  набрали  ягоды,  и только  брат  не  положил  ни  одной  ягодки  в  корзинку,  рука  его  с  ягодкой  тянулась  в  рот.  Раевский живо  показывает  азарт детей  во  время  сбора  ягод: быстро собирали, соревновались, им  любо,  они  счастливы,  горды. Вывод  писатель  делает  в  конце  рассказа  пословицей: что  соберешь,  то  и  съешь.  Лес  человека  кормит,  но  надо  для  этого  приложить  свои  силы,  труд,  терпен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6788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зъя  йов» («Земляника  с  молоком»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89200" y="762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2e4e"/>
                </a:solidFill>
                <a:latin typeface="Arial"/>
              </a:rPr>
              <a:t>Эдуард  Юрьевич Шим </a:t>
            </a:r>
            <a:br>
              <a:rPr sz="26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3.08.1930 – 13.03.2006)</a:t>
            </a:r>
            <a:br>
              <a:rPr sz="20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Текст 2"/>
          <p:cNvGrpSpPr/>
          <p:nvPr/>
        </p:nvGrpSpPr>
        <p:grpSpPr>
          <a:xfrm>
            <a:off x="5254560" y="2359080"/>
            <a:ext cx="3571920" cy="3975120"/>
            <a:chOff x="5254560" y="2359080"/>
            <a:chExt cx="3571920" cy="3975120"/>
          </a:xfrm>
        </p:grpSpPr>
        <p:pic>
          <p:nvPicPr>
            <p:cNvPr id="235" name="Текст 2" descr=""/>
            <p:cNvPicPr/>
            <p:nvPr/>
          </p:nvPicPr>
          <p:blipFill>
            <a:blip r:embed="rId1"/>
            <a:stretch/>
          </p:blipFill>
          <p:spPr>
            <a:xfrm>
              <a:off x="5254560" y="2359080"/>
              <a:ext cx="357192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2362320"/>
              <a:ext cx="35607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стоящая фамилия Шмидт.  Русский писатель, драматург, сценарис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кончил Ленинградское архитек-турно - художественное училище. Начал печататься с 1949 года. Пишет преимущественно для детей. В книгах ставятся вопросы отношения человека к природе («След на волне» (1958), «Пикет 200» (1963), «Весенние хлопоты» (1964), «Вода на камешках» (1969)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Рисунок 6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8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Рисунок 5" descr=""/>
          <p:cNvPicPr/>
          <p:nvPr/>
        </p:nvPicPr>
        <p:blipFill>
          <a:blip r:embed="rId3"/>
          <a:stretch/>
        </p:blipFill>
        <p:spPr>
          <a:xfrm>
            <a:off x="-566640" y="981000"/>
            <a:ext cx="5443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817560" y="1974960"/>
            <a:ext cx="6821640" cy="4279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6255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Березовый  со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6255000" cy="32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 с  внуком  едут  по  лесу  на  телеге  за  грибами, перед  нами осенний    лес. Красиво:  «Тут  просторно,  светло,  половина  листьев  уже  осыпалась.»  Писатель использует  сравнения  при  описании  грибов:  красавцы:  как  будто  в солнечном  загаре,  как  будто  в  веселых  веснушках. Олицетворение: трясутся  новые  плетеные  корзи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Шим  напоминает  юным  читателям,  чтобы  они  не  забывали о  бережном  отношении  к природ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6255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каз «Война  с  гриб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й</cp:lastModifiedBy>
  <dcterms:modified xsi:type="dcterms:W3CDTF">2012-12-07T20:49:45Z</dcterms:modified>
  <cp:revision>167</cp:revision>
  <dc:subject/>
  <dc:title>                                      ПРИРОДОВЕДЧЕСКАЯ                        ЛИТЕРАТУРА  РЕСПУБЛИКИ  КОМИ </dc:title>
</cp:coreProperties>
</file>