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480-9274-4F90-BB67-6D7617CB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CFC-C0A2-4DC7-912E-2BDFEFA9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AB1-F2FC-4F0E-B0B5-C230AC35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1CC-DC98-4F6E-90D6-1B2BEBC0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85E0-34C9-4512-99B1-AD305D82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FD64-0320-4A0E-911A-CA1BF4EC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BECA-7EFA-4846-82FD-FA14D40F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7F95-BCCA-4056-AABC-0BDB4B8F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0ACA-7A93-490E-8DDF-3163F55C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657B-9421-4BDB-BE12-9C132674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CEF5-57E8-4245-9298-C47BF5A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E4C-A500-4042-BD8A-77FF7D27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0833-A71C-4B2A-955A-B5AA8E29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C340-CF1B-4FC8-9FD3-C544AD4D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E8D0-78FD-4104-B458-092DD55C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CC7E-6B99-4AB1-A262-88DE5419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9B50-74DF-4732-9237-97CFA326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DF9F-356A-4DD1-9164-C854448A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5373E-4CF0-4ED7-8519-BF2EBC8F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72A28-5496-4A6F-860D-2C7E2083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6D06-1339-4076-A6EE-1534FBBE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BA480-25FF-4B95-9026-F4CFA131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BAFF-3084-4B2A-915D-5B29B0B7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D51E-00E3-4C15-BEF2-F653EC85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FFC84-7538-449C-95D3-2410682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CABD-0B96-4830-8F1A-3CE0C75E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B7B1-8C7D-4F5C-9F1B-704119B4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2B92-D826-4997-9A83-93BD01D0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7A74-F463-4998-8CD2-FB4AE844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25BE-49A8-4DC1-8371-185B05EA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26BF9-9383-4585-8733-3951BAF1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1BF9A-7EFF-4880-ABE8-303BF114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52F08-7A16-4023-9DA8-7E6F00EE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AA0-DA91-4007-886F-CC0B750D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E001-F297-4DB4-8A61-04F2984E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24A8-0E60-41DC-8399-F08F9DE0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4F49-5457-49D4-99F5-37132EC7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D5C7-DBF0-445B-B040-32C98E1E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276C6-8392-4444-95B6-43021BE6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27BA-D3C3-4F38-B080-5C37677A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38DE4-CEFF-4495-80D9-BCEFD7E5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FE88D-33F2-4F1B-B5BB-31550636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12D4A-E4F3-4E7A-AA40-8BC60DCE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FD5E6-1B23-4C53-AF56-51488CEA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E59-C12B-48F8-A829-BA205593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AAD91-B33D-479B-ABC3-BE5E6820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C9C41-FD68-4AD8-BC9F-282F93BE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B8F8F-EB5A-46F0-9D35-AC851891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75C1A-5B72-4DA4-9C20-528F6AA8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6023-1DFA-4422-A673-51284D3C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350B1-84B7-44EF-9294-E531531F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5E46C-0BA4-4C0A-9C16-BC24DB49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DE613-2613-43D0-9EB9-BF6933C6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4378A-1181-41EE-9713-98DC8C1F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B29DD-8907-4DA3-AF02-017BFB28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52E-1194-405F-A4FE-D9043CBF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B8EA-A9B1-448A-ABDE-3E3F9EEE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20D-0D2D-4A8D-A97B-81500B6E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E41-CD31-4FCE-8003-81933313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A9B-CA33-45AD-908C-21655E70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7634-0872-4560-8328-B71304FDAA8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A0BB-77AC-41C0-92DD-A173A35170E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C79E-AF68-4099-8A96-4ABB24342F0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6119-1C58-4557-ACE8-6F37516E1AF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F480-B6EC-4DA1-A505-FADFE324269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89200" y="685440"/>
            <a:ext cx="3429000" cy="121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8a2e4e"/>
                </a:solidFill>
                <a:latin typeface="Arial"/>
              </a:rPr>
              <a:t>Степан Семёнович Раевский</a:t>
            </a:r>
            <a:br>
              <a:rPr sz="2900"/>
            </a:br>
            <a:r>
              <a:rPr b="0" lang="ru-RU" sz="2000" spc="-1" strike="noStrike">
                <a:solidFill>
                  <a:srgbClr val="8a2e4e"/>
                </a:solidFill>
                <a:latin typeface="Arial"/>
              </a:rPr>
              <a:t>(21.04.1918-29.06. 1996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Текст 2"/>
          <p:cNvGrpSpPr/>
          <p:nvPr/>
        </p:nvGrpSpPr>
        <p:grpSpPr>
          <a:xfrm>
            <a:off x="4950000" y="2127240"/>
            <a:ext cx="3974760" cy="4511520"/>
            <a:chOff x="4950000" y="2127240"/>
            <a:chExt cx="3974760" cy="4511520"/>
          </a:xfrm>
        </p:grpSpPr>
        <p:pic>
          <p:nvPicPr>
            <p:cNvPr id="222" name="Текст 2" descr=""/>
            <p:cNvPicPr/>
            <p:nvPr/>
          </p:nvPicPr>
          <p:blipFill>
            <a:blip r:embed="rId1"/>
            <a:stretch/>
          </p:blipFill>
          <p:spPr>
            <a:xfrm>
              <a:off x="4950000" y="2127240"/>
              <a:ext cx="3974760" cy="45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952880" y="2133720"/>
              <a:ext cx="396252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исатель, переводчик, книгоиздатель. Родился в с.Межадор Усть-Сысольского уезда Вологодской губернии. Окончил Визингскую среднюю школу и десятимесячные курсы по подготовке в вуз. С 1934 учился в Коми пединституте. С 1938 по 1940 был учителем языка и литературы в Мохченской средней школе Ижемского района. В 1949 - редактор Коми книжного издательства, затем с 1958 - его директор. Он много сделал для развития литературы в республике, по изданию произведений для детей, учебников для школ. В 1975 за создание учебников "Луч солнца", "Утренняя заря", "Родина" ему была присуждена Государственная премия Коми АССР им.Куратова И.А. Он член Союза писателей с 1957. Всего им было создано шесть учебников по коми литературе. Много сделал по переводу русской литературы на коми язык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Рисунок 12"/>
          <p:cNvGrpSpPr/>
          <p:nvPr/>
        </p:nvGrpSpPr>
        <p:grpSpPr>
          <a:xfrm>
            <a:off x="493560" y="878040"/>
            <a:ext cx="4432320" cy="4437000"/>
            <a:chOff x="493560" y="878040"/>
            <a:chExt cx="4432320" cy="4437000"/>
          </a:xfrm>
        </p:grpSpPr>
        <p:pic>
          <p:nvPicPr>
            <p:cNvPr id="225" name="Рисунок 12" descr=""/>
            <p:cNvPicPr/>
            <p:nvPr/>
          </p:nvPicPr>
          <p:blipFill>
            <a:blip r:embed="rId2"/>
            <a:stretch/>
          </p:blipFill>
          <p:spPr>
            <a:xfrm>
              <a:off x="493560" y="878040"/>
              <a:ext cx="44323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09480" y="990720"/>
              <a:ext cx="4206960" cy="42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Рисунок 11" descr="Раевский Степан Семёнович (С.Зотов)"/>
          <p:cNvPicPr/>
          <p:nvPr/>
        </p:nvPicPr>
        <p:blipFill>
          <a:blip r:embed="rId3"/>
          <a:stretch/>
        </p:blipFill>
        <p:spPr>
          <a:xfrm>
            <a:off x="-658800" y="907920"/>
            <a:ext cx="55357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969840" y="1670040"/>
            <a:ext cx="6448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987480" y="1517760"/>
            <a:ext cx="6413400" cy="47671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6864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Мича   серпас»  («Красивый   узор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6255000" cy="220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каз переносит  нас  в  летний лес,  где  три  девчонки - сестрички  собирают  землянику.  Ее  так  много!  Вся  она  крупная  как на  подбор. А  какая  она  сладкая! Быстро  набрали  ягоды,  и только  брат  не  положил  ни  одной  ягодки  в  корзинку,  рука  его  с  ягодкой  тянулась  в  рот.  Раевский живо  показывает  азарт детей  во  время  сбора  ягод: быстро собирали, соревновались, им  любо,  они  счастливы,  горды. Вывод  писатель  делает  в  конце  рассказа  пословицей: что  соберешь,  то  и  съешь.  Лес  человека  кормит,  но  надо  для  этого  приложить  свои  силы,  труд,  терпени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6788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Озъя  йов» («Земляника  с  молоком»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89200" y="76212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a2e4e"/>
                </a:solidFill>
                <a:latin typeface="Arial"/>
              </a:rPr>
              <a:t>Эдуард  Юрьевич Шим </a:t>
            </a:r>
            <a:br>
              <a:rPr sz="2600"/>
            </a:br>
            <a:r>
              <a:rPr b="0" lang="ru-RU" sz="2000" spc="-1" strike="noStrike">
                <a:solidFill>
                  <a:srgbClr val="8a2e4e"/>
                </a:solidFill>
                <a:latin typeface="Arial"/>
              </a:rPr>
              <a:t>(23.08.1930 – 13.03.2006)</a:t>
            </a:r>
            <a:br>
              <a:rPr sz="2000"/>
            </a:br>
            <a:r>
              <a:rPr b="0" lang="ru-RU" sz="2000" spc="-1" strike="noStrike">
                <a:solidFill>
                  <a:srgbClr val="8a2e4e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Текст 2"/>
          <p:cNvGrpSpPr/>
          <p:nvPr/>
        </p:nvGrpSpPr>
        <p:grpSpPr>
          <a:xfrm>
            <a:off x="5254560" y="2359080"/>
            <a:ext cx="3571920" cy="3975120"/>
            <a:chOff x="5254560" y="2359080"/>
            <a:chExt cx="3571920" cy="3975120"/>
          </a:xfrm>
        </p:grpSpPr>
        <p:pic>
          <p:nvPicPr>
            <p:cNvPr id="235" name="Текст 2" descr=""/>
            <p:cNvPicPr/>
            <p:nvPr/>
          </p:nvPicPr>
          <p:blipFill>
            <a:blip r:embed="rId1"/>
            <a:stretch/>
          </p:blipFill>
          <p:spPr>
            <a:xfrm>
              <a:off x="5254560" y="2359080"/>
              <a:ext cx="3571920" cy="39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257800" y="2362320"/>
              <a:ext cx="3560760" cy="39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стоящая фамилия Шмидт.  Русский писатель, драматург, сценарис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кончил Ленинградское архитек-турно - художественное училище. Начал печататься с 1949 года. Пишет преимущественно для детей. В книгах ставятся вопросы отношения человека к природе («След на волне» (1958), «Пикет 200» (1963), «Весенние хлопоты» (1964), «Вода на камешках» (1969))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Рисунок 6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38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Рисунок 5" descr=""/>
          <p:cNvPicPr/>
          <p:nvPr/>
        </p:nvPicPr>
        <p:blipFill>
          <a:blip r:embed="rId3"/>
          <a:stretch/>
        </p:blipFill>
        <p:spPr>
          <a:xfrm>
            <a:off x="-566640" y="981000"/>
            <a:ext cx="54435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817560" y="1974960"/>
            <a:ext cx="6821640" cy="4279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6255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Березовый  сок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2133360"/>
            <a:ext cx="6255000" cy="32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д с  внуком  едут  по  лесу  на  телеге  за  грибами, перед  нами осенний    лес. Красиво:  «Тут  просторно,  светло,  половина  листьев  уже  осыпалась.»  Писатель использует  сравнения  при  описании  грибов:  красавцы:  как  будто  в солнечном  загаре,  как  будто  в  веселых  веснушках. Олицетворение: трясутся  новые  плетеные  корзин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Шим  напоминает  юным  читателям,  чтобы  они  не  забывали о  бережном  отношении  к природ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6255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сказ «Война  с  грибам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рий</cp:lastModifiedBy>
  <dcterms:modified xsi:type="dcterms:W3CDTF">2012-12-07T20:49:45Z</dcterms:modified>
  <cp:revision>167</cp:revision>
  <dc:subject/>
  <dc:title>                                      ПРИРОДОВЕДЧЕСКАЯ                        ЛИТЕРАТУРА  РЕСПУБЛИКИ  КОМИ </dc:title>
</cp:coreProperties>
</file>