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DF86-7E9C-44C1-B62D-4B9117BAD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3F9-4EBA-4594-B02A-912A3AE7D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8BE9-7663-4369-AFE1-001BC87D4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риентация образовательных стандартов на результат делает понятие результата образования принципиальным элементом концеп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нимание результата зависит от той парадигмы, в рамках которой рассматривается образование. Стандарты первого поколения созданы в рамках «знаниевой» парадигмы, в которой целью образования становится передача учащемуся определенной суммы знаний, а главным элементом образовательного процесса  –  репродукция этих знаний. Этим объясняется ведущая роль Обязательного минимума содержания образовательных программ в конструкции этих стандар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течественной психолого-педагогической науке глубоко разработана альтернативная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деятельностная парадигма образова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постулирующая в качестве цели образования развитие личности учащегося на основе освоения различных способов действ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приоритетом общества и системы образования является способность вступающих в жизнь молодых людей самостоятельно решать встающие перед ними новые, еще неизвестные задачи, то результат образования «измеряется» опытом решения таких задач. Тогда на первый план, наряду с общей грамотностью, выступают такие качества выпускника, как, например, разработка и проверка гипотез, умение работать в проектном режиме, инициативность в принятии решений и т.п. Эти способности востребованы в постиндустриальном обществе. Они и становятся одним из значимых ожидаемых результатов образования и предметом стандартизации. «Измеряется» такой результат нетрадиционно – в терминах «надпредметных» способностей, качеств, умений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074-7F05-4AC9-9F48-A9598984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A5D-85EA-4B3F-BA0F-C9398DF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BAB-748F-4DAE-92B4-B6C9829D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358-D61B-4D83-BDFC-1536EC89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701-D7F6-429F-AF57-CC53718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10C-7BFC-4783-9656-2D8863AC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EE0-9DCB-4E8B-8705-0930821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B3F-F980-42FE-BABC-B3B1C9F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5E0-4F20-4FF3-9490-8808865C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CD2-7959-4B78-BE27-A55EE866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7F7-8D60-4114-9507-67BF738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FA4-EFA9-4997-BCBF-8EF05CF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D4AA-AAB3-4283-8FA3-AC1F9EB649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hyperlink" Target="http://standart.edu.ru/" TargetMode="External"/><Relationship Id="rId3" Type="http://schemas.openxmlformats.org/officeDocument/2006/relationships/hyperlink" Target="http://standart.edu.r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8720" y="549000"/>
            <a:ext cx="7380360" cy="482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СРЕДСТВА ФОРМИРОВАНИЯ УНИВЕРСАЛЬНЫХ УЧЕБНЫХ ДЕЙСТВИЙ УЧАЩИХСЯ 5-6 КЛАССОВ НА УРОКАХ РУССКОГО ЯЗЫКА И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8139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55640" y="1808280"/>
            <a:ext cx="59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Выделение главной мыс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в тексте строчки, выражающие главную мыс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к моряк говорил о м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оре бывает щедр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оно печаль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жестокосерд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оно отчаян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оре бывает раз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ым бывает и грязным, -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инственным и раскрыты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гучим, ворчливым, сердитым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е – как челове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ул Р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Учим прогнозирова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кажите смысл предложения, если в нем есть с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ероя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при каких обстоятельст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Расшифровать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было бы спасено, если бы у моего коня достало сил еще на десять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В поисках мудр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лийская сказка «Философ и лодочн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гадайтесь, что за вопрос задал лодочник и что случилось по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здание проблемных ситу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Почему глагол СКАЗАТЬ в одном случае пишется СКАЖЕТЕ, а в другом СКАЖИ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КАЗАТЬ –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пря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ЖЕТЕ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щ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ЖИТЕ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каз, прос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определить морфемный состав форм глаго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´ж  - Е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ж – и´ - 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Что объединяет следующие слова, и какое из них лишне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чки, каникулы, ножницы, са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уществительные употребляются только во множественном числе, кроме существительного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ч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ое многозначно (прибор из двух стекол на дужках для улучшения зрения и защиты глаз; единица счета для обозначения количества выигрышей в спорте. Во 2-м значении существительное изменяется по числа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гадки - ш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ашки все еще грязные? – спросила м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чь ответила четырьмя местоимениями. Как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и вымы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р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ень мой находится в снег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дставке я приставочку най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ффикс мой вы в чайнике встреч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ь же я – в лесу и на поля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Задуманы слова разных частей речи  с окончанием –а. Какие? Дети называют части речи, приводят примеры (существительное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исиц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муж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юнош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лагол прошедшего времени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звенел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оимение 3-го лица единственного числа,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е задания помогают глубже вдуматься в структуру слова, устанавливать внутрипредметные связи. Дети доказывают, убеждают, что вносит  оживление в ур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ки читают текст и подбирают свою концовку (побудительное предложени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леб – всему голова. Когда хлеба вдоволь, работа идет хорошо, люди живут вес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растить хлеб очень трудно. Нужно вспахать землю, посеять зерно. Осенью нужно убрать урожай. Потом зерно свезти на мель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кусно пахнет свежим хлебом из булочной у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оске даны два предлож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се на уборку хлеб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ольше хлеба ст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е из них подойдет? Возникает спор. Ученики не согласны с такой концовкой – смысл другой. Такие задания развивают активность, умение думать, анализировать, доказы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Базовые докумен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деральный образовательный государственный стандарт общего образования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/standart.edu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иказ Министерства образования и науки от 17.12.2010 №1897, зарегистрирован в Министерстве юстиции России 01.02.2011 №196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ые программы основного общего образования. Русский язык. – 2-е изд. – М: Просвещение, 2010. – (Стандарты второго покол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 ООО МБОУ СОШ № 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квейн (пять стро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овав образ Герасима, пятиклассники могут составить такой синквейн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ерас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брый, трудолюб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ботится, любит, работ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должен страдать из-за жестокости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064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ЕПОДАВАНИЕ РУССКОГО ЯЗЫКА НА УРОВНЕ СОВРЕМЕННЫХ ТРЕБОВАНИЙ - ЭТО РЕАЛИЗАЦИЯ КОГНИТИВНО-КОММУНИКАТИВНОГО АСПЕКТА – ВЫДВИЖЕНИЕ ТЕКСТА В КАЧЕСТВЕ ЦЕНТРАЛЬНОЙ ЕДИНИЦЫ ОБУЧЕНИЯ РУССКОМУ ЯЗЫКУ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191592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ЦЕЛЕСООБРАЗНО ШИРЕ ИСПОЛЬЗОВАТЬ РАБОТУ С ТЕКСТОМ В 5-9 КЛАССАХ; ФОРМИРОВАТЬ УМЕНИЯ ИНФОРМАЦИОННОЙ ПЕРЕРАБОТКИ ТЕКСТОВ ( план, тезисы, схемы, таблицы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ОТРАБАТЫВАТЬ НАВЫКИ РАЦИОНАЛЬНОГО ЧТЕНИЯ УЧЕБНЫ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НАУЧНО-ПОПУЛЯРНЫХ, ПУБЛИЦИСТИЧЕСКИХ ТЕКСТОВ, ФОРМИРУЯ  НА ЭТОЙ ОСНОВЕ ОБЩЕУЧЕБНЫЕ УМЕНИЯ РАБОТЫ С КНИГ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ОБУЧАТЬ АНАЛИЗУ ТЕКСТА, ОБРАЩАЯ ВНИМАНИЕ НА СМЫСЛОВУЮ ЦЕЛЬНОСТЬ, ПОСЛЕДОВАТЕЛЬНОСТЬ ИЗЛОЖЕНИЯ, ЦЕЛЕСООБПАЗНОСТЬ ИСПОЛЬЗОВАНИЯ ЛЕКСИЧЕСКИХ И ГРАММАТИЧЕСКИХ СРЕД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УЧИТЬ ПИСЬМЕННОМУ ПЕРЕСКАЗУ, ИНТЕРПРЕТАЦИИ, СОЗДАВАТЬ И РЕДАКТИРОВАТЬ ТЕКСТЫ РАЗЛИЧНЫХ СТИЛЕЙ И ЖАН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ОТУ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ким образом, основные  идеи ФГОС в предмете «русский язык» - эт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Достижение результатов освоения курса русского языка на личностном, предметном и метапредмет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Реализация системно-деятельностного  и компетентностного подходов в процессе обучения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Актуализация воспитательной функции  учебного предмета «Русский язы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189000"/>
          <a:ext cx="8569080" cy="6445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841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но-деятельностный под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376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ормирование любых личностных новообразований − умений, способностей, личностных качеств − возможно лишь в деятельности»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.С. Выготский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В качестве базовых  вводятся понятия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етентность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– свойство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етенция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– содержани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Универсальные учебные действия (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УД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Универсальные учебные ум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У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В предметной области «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Филология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» базовыми являются УУД, связанные с формированием коммуникативности, а также получением и обработкой информации из  любого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Все результаты образования  в соответствии с ФГОС мыслятся в трёх сфер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едметные</a:t>
            </a:r>
            <a:r>
              <a:rPr b="0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достижения в предмет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етапредметны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«горизонтальные» достижения, когда прирост умений в одном предмете обеспечивает их перенос в другой предмет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личностные</a:t>
            </a:r>
            <a:r>
              <a:rPr b="0" lang="ru-RU" sz="2400" spc="-1" strike="noStrike">
                <a:solidFill>
                  <a:srgbClr val="4f81b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достижения как результат </a:t>
            </a: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аксиологического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и </a:t>
            </a: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антропоцентрического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подходов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f497d"/>
                </a:solidFill>
                <a:latin typeface="Arial Black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42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cc0000"/>
                </a:solidFill>
                <a:latin typeface="Calibri"/>
              </a:rPr>
              <a:t>Как формировать и развивать универсальные учебные действия у учащихся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енные обучающимися на базе одного, нескольких или всех учебных предметов способы деятельности, применимые как в рамках образовательного процесса, так и в реальных жизненных 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ительно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обенность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кольного курса русского язы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значительно большая, чем у многих других предметов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тапредметная направл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тратегии смыслового чтения, сформулированные ФГ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поиск информации и понимание прочита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преобразование и интерпретац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оценка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На всех словах – события печать.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Они дались недаром человеку.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     С.Марш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 многоступенча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ступень – это понимание каждого слова, каждого словосочетания, каждого фразеологического оборота, входящего в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Собрать рассыпанные тек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му, у, рождения, день, играл, веселую, что, крокодил Гена, гармошке, на, него, песенку, бы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ятия, слово, человеку, свои, другому, чтобы, дано, чтобы, для того, свои, сообщ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3:08:16Z</dcterms:created>
  <dc:creator>Пользователь</dc:creator>
  <dc:description/>
  <dc:language>en-US</dc:language>
  <cp:lastModifiedBy>Учитель</cp:lastModifiedBy>
  <dcterms:modified xsi:type="dcterms:W3CDTF">2012-10-09T03:57:26Z</dcterms:modified>
  <cp:revision>163</cp:revision>
  <dc:subject/>
  <dc:title>Государственные образовательные стандарты второго поколения</dc:title>
</cp:coreProperties>
</file>