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E957-2377-49AD-98E2-F66325128C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61F2-B90E-4B2B-A381-58715AE8D1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94CC-7C72-4FB2-9CC8-3621C3D2D9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риентация образовательных стандартов на результат делает понятие результата образования принципиальным элементом концепц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нимание результата зависит от той парадигмы, в рамках которой рассматривается образование. Стандарты первого поколения созданы в рамках «знаниевой» парадигмы, в которой целью образования становится передача учащемуся определенной суммы знаний, а главным элементом образовательного процесса  –  репродукция этих знаний. Этим объясняется ведущая роль Обязательного минимума содержания образовательных программ в конструкции этих стандарт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отечественной психолого-педагогической науке глубоко разработана альтернативная 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деятельностная парадигма образования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, постулирующая в качестве цели образования развитие личности учащегося на основе освоения различных способов действ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сли приоритетом общества и системы образования является способность вступающих в жизнь молодых людей самостоятельно решать встающие перед ними новые, еще неизвестные задачи, то результат образования «измеряется» опытом решения таких задач. Тогда на первый план, наряду с общей грамотностью, выступают такие качества выпускника, как, например, разработка и проверка гипотез, умение работать в проектном режиме, инициативность в принятии решений и т.п. Эти способности востребованы в постиндустриальном обществе. Они и становятся одним из значимых ожидаемых результатов образования и предметом стандартизации. «Измеряется» такой результат нетрадиционно – в терминах «надпредметных» способностей, качеств, умений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705E-048A-46F3-B4CE-8BC3ABF4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46CA-FEDF-4988-9839-EDA90475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E811-05F9-42E5-B8F3-632069F8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548E-3344-4FC0-BA4A-B64CF034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81F2-43CE-4ABB-B88A-5ADC34EA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943C-F2CC-4BAC-99F5-C0E60B1A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3E49-832E-4AD3-AEE1-61638F54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F4ED-3B2E-4ECF-A3F1-2EB34073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C026-7BEC-4FFD-A762-326605A9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24FD-B6F7-4F75-9AC4-3F7BAABA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BAFD-070E-4A5A-9EF5-21D65C65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4908-60AF-4742-B7D1-D2919E5D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9B13-968A-47E8-99B7-AAE5D0F0ACD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tandart.edu.ru/" TargetMode="External"/><Relationship Id="rId2" Type="http://schemas.openxmlformats.org/officeDocument/2006/relationships/hyperlink" Target="http://standart.edu.ru/" TargetMode="External"/><Relationship Id="rId3" Type="http://schemas.openxmlformats.org/officeDocument/2006/relationships/hyperlink" Target="http://standart.edu.ru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8720" y="549000"/>
            <a:ext cx="7380360" cy="482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6600ff"/>
                </a:solidFill>
                <a:latin typeface="Calibri"/>
              </a:rPr>
              <a:t>СРЕДСТВА ФОРМИРОВАНИЯ УНИВЕРСАЛЬНЫХ УЧЕБНЫХ ДЕЙСТВИЙ УЧАЩИХСЯ 5-6 КЛАССОВ НА УРОКАХ РУССКОГО ЯЗЫКА И ЛИТЕРАТУ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9813960" y="651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655640" y="1808280"/>
            <a:ext cx="590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alibri"/>
              </a:rPr>
              <a:t>Выделение главной мыс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дите в тексте строчки, выражающие главную мыс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рик моряк говорил о мо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Море бывает щедрым, - сказал о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Бывает оно печальным, - сказал о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Бывает жестокосердным, - сказал о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Бывает оно отчаянным, - сказал о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Море бывает разным, - сказал о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стым бывает и грязным, -сказал о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инственным и раскрыты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гучим, ворчливым, сердитым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ре – как человек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ул Р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alibri"/>
              </a:rPr>
              <a:t>Учим прогнозировани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скажите смысл предложения, если в нем есть сло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вероят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и при каких обстоятельств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alibri"/>
              </a:rPr>
              <a:t>Расшифровать предлож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было бы спасено, если бы у моего коня достало сил еще на десять мин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alibri"/>
              </a:rPr>
              <a:t>В поисках мудр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глийская сказка «Философ и лодочни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гадайтесь, что за вопрос задал лодочник и что случилось пот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оздание проблемных ситуа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Почему глагол СКАЗАТЬ в одном случае пишется СКАЖЕТЕ, а в другом СКАЖИТ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СКАЗАТЬ –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пря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КАЖЕТЕ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ущее врем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КАЖИТЕ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каз, прось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 определить морфемный состав форм глагол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а´ж  - ЕТ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аж – и´ - 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Что объединяет следующие слова, и какое из них лишне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чки, каникулы, ножницы, сан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существительные употребляются только во множественном числе, кроме существительного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чк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которое многозначно (прибор из двух стекол на дужках для улучшения зрения и защиты глаз; единица счета для обозначения количества выигрышей в спорте. Во 2-м значении существительное изменяется по числам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Загадки - шут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Чашки все еще грязные? – спросила м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чь ответила четырьмя местоимениями. Каки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ни вымыт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ара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рень мой находится в снег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одставке я приставочку най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ффикс мой вы в чайнике встреча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сь же я – в лесу и на поля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Задуманы слова разных частей речи  с окончанием –а. Какие? Дети называют части речи, приводят примеры (существительное женского рода: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лисиц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мужского рода: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юнош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глагол прошедшего времени женского рода: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зазвенела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стоимение 3-го лица единственного числа, женского рода: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н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ие задания помогают глубже вдуматься в структуру слова, устанавливать внутрипредметные связи. Дети доказывают, убеждают, что вносит  оживление в уро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ники читают текст и подбирают свою концовку (побудительное предложение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Хлеб – всему голова. Когда хлеба вдоволь, работа идет хорошо, люди живут весе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ырастить хлеб очень трудно. Нужно вспахать землю, посеять зерно. Осенью нужно убрать урожай. Потом зерно свезти на мельниц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кусно пахнет свежим хлебом из булочной утр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доске даны два предлож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се на уборку хлеб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Больше хлеба стра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ое из них подойдет? Возникает спор. Ученики не согласны с такой концовкой – смысл другой. Такие задания развивают активность, умение думать, анализировать, доказыв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Базовые документ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едеральный образовательный государственный стандарт общего образования: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: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/standart.edu.ru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приказ Министерства образования и науки от 17.12.2010 №1897, зарегистрирован в Министерстве юстиции России 01.02.2011 №1964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ные программы основного общего образования. Русский язык. – 2-е изд. – М: Просвещение, 2010. – (Стандарты второго поколени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ная образовательная программа  ООО МБОУ СОШ № 4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инквейн (пять строк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анализировав образ Герасима, пятиклассники могут составить такой синквейн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Гераси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добрый, трудолюбив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аботится, любит, работа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е должен страдать из-за жестокости люд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06436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РЕПОДАВАНИЕ РУССКОГО ЯЗЫКА НА УРОВНЕ СОВРЕМЕННЫХ ТРЕБОВАНИЙ - ЭТО РЕАЛИЗАЦИЯ КОГНИТИВНО-КОММУНИКАТИВНОГО АСПЕКТА – ВЫДВИЖЕНИЕ ТЕКСТА В КАЧЕСТВЕ ЦЕНТРАЛЬНОЙ ЕДИНИЦЫ ОБУЧЕНИЯ РУССКОМУ ЯЗЫКУ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0560" y="1915920"/>
            <a:ext cx="8785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Arial"/>
              </a:rPr>
              <a:t>ЦЕЛЕСООБРАЗНО ШИРЕ ИСПОЛЬЗОВАТЬ РАБОТУ С ТЕКСТОМ В 5-9 КЛАССАХ; ФОРМИРОВАТЬ УМЕНИЯ ИНФОРМАЦИОННОЙ ПЕРЕРАБОТКИ ТЕКСТОВ ( план, тезисы, схемы, таблицы и т.д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Arial"/>
              </a:rPr>
              <a:t>ОТРАБАТЫВАТЬ НАВЫКИ РАЦИОНАЛЬНОГО ЧТЕНИЯ УЧЕБНЫХ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Arial"/>
              </a:rPr>
              <a:t>НАУЧНО-ПОПУЛЯРНЫХ, ПУБЛИЦИСТИЧЕСКИХ ТЕКСТОВ, ФОРМИРУЯ  НА ЭТОЙ ОСНОВЕ ОБЩЕУЧЕБНЫЕ УМЕНИЯ РАБОТЫ С КНИГ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Arial"/>
              </a:rPr>
              <a:t>ОБУЧАТЬ АНАЛИЗУ ТЕКСТА, ОБРАЩАЯ ВНИМАНИЕ НА СМЫСЛОВУЮ ЦЕЛЬНОСТЬ, ПОСЛЕДОВАТЕЛЬНОСТЬ ИЗЛОЖЕНИЯ, ЦЕЛЕСООБПАЗНОСТЬ ИСПОЛЬЗОВАНИЯ ЛЕКСИЧЕСКИХ И ГРАММАТИЧЕСКИХ СРЕДСТ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Arial"/>
              </a:rPr>
              <a:t>УЧИТЬ ПИСЬМЕННОМУ ПЕРЕСКАЗУ, ИНТЕРПРЕТАЦИИ, СОЗДАВАТЬ И РЕДАКТИРОВАТЬ ТЕКСТЫ РАЗЛИЧНЫХ СТИЛЕЙ И ЖАНР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ОТУ С ТЕКСТ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Таким образом, основные  идеи ФГОС в предмете «русский язык» - это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560" y="112500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102c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c34"/>
                </a:solidFill>
                <a:latin typeface="Calibri"/>
              </a:rPr>
              <a:t>Достижение результатов освоения курса русского языка на личностном, предметном и метапредметном уров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102c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102c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c34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102c34"/>
                </a:solidFill>
                <a:latin typeface="Calibri"/>
              </a:rPr>
              <a:t>Реализация системно-деятельностного  и компетентностного подходов в процессе обучения русскому язы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102c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102c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c34"/>
                </a:solidFill>
                <a:latin typeface="Calibri"/>
              </a:rPr>
              <a:t>Актуализация воспитательной функции  учебного предмета «Русский язы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50920" y="189000"/>
          <a:ext cx="8569080" cy="64450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84132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стемно-деятельностный подх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376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Формирование любых личностных новообразований − умений, способностей, личностных качеств − возможно лишь в деятельности»</a:t>
                      </a: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Л.С. Выготский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Georgia"/>
              </a:rPr>
              <a:t>В качестве базовых  вводятся понятия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Компетентность</a:t>
            </a:r>
            <a:r>
              <a:rPr b="0" lang="ru-RU" sz="2400" spc="-1" strike="noStrike">
                <a:solidFill>
                  <a:srgbClr val="1f497d"/>
                </a:solidFill>
                <a:latin typeface="Georgia"/>
              </a:rPr>
              <a:t> – свойство лич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Компетенция</a:t>
            </a:r>
            <a:r>
              <a:rPr b="0" lang="ru-RU" sz="2400" spc="-1" strike="noStrike">
                <a:solidFill>
                  <a:srgbClr val="1f497d"/>
                </a:solidFill>
                <a:latin typeface="Georgia"/>
              </a:rPr>
              <a:t> – содержание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Georgia"/>
              </a:rPr>
              <a:t>Универсальные учебные действия (</a:t>
            </a: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УУД</a:t>
            </a:r>
            <a:r>
              <a:rPr b="0" lang="ru-RU" sz="2400" spc="-1" strike="noStrike">
                <a:solidFill>
                  <a:srgbClr val="1f497d"/>
                </a:solidFill>
                <a:latin typeface="Georgia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Georgia"/>
              </a:rPr>
              <a:t>Универсальные учебные умени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УУУ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1f497d"/>
                </a:solidFill>
                <a:latin typeface="Georgia"/>
              </a:rPr>
              <a:t>В предметной области «</a:t>
            </a: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Филология</a:t>
            </a:r>
            <a:r>
              <a:rPr b="0" lang="ru-RU" sz="2400" spc="-1" strike="noStrike">
                <a:solidFill>
                  <a:srgbClr val="1f497d"/>
                </a:solidFill>
                <a:latin typeface="Georgia"/>
              </a:rPr>
              <a:t>» базовыми являются УУД, связанные с формированием коммуникативности, а также получением и обработкой информации из  любого текс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Georgia"/>
              </a:rPr>
              <a:t>Все результаты образования  в соответствии с ФГОС мыслятся в трёх сфера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692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предметные</a:t>
            </a:r>
            <a:r>
              <a:rPr b="0" lang="ru-RU" sz="2400" spc="-1" strike="noStrike">
                <a:solidFill>
                  <a:srgbClr val="80008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Georgia"/>
              </a:rPr>
              <a:t>(достижения в предмете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метапредметные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Georgia"/>
              </a:rPr>
              <a:t>(«горизонтальные» достижения, когда прирост умений в одном предмете обеспечивает их перенос в другой предмет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личностные</a:t>
            </a:r>
            <a:r>
              <a:rPr b="0" lang="ru-RU" sz="2400" spc="-1" strike="noStrike">
                <a:solidFill>
                  <a:srgbClr val="4f81bd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Georgia"/>
              </a:rPr>
              <a:t>(достижения как результат </a:t>
            </a:r>
            <a:r>
              <a:rPr b="0" i="1" lang="ru-RU" sz="2400" spc="-1" strike="noStrike">
                <a:solidFill>
                  <a:srgbClr val="1f497d"/>
                </a:solidFill>
                <a:latin typeface="Georgia"/>
              </a:rPr>
              <a:t>аксиологического</a:t>
            </a:r>
            <a:r>
              <a:rPr b="0" lang="ru-RU" sz="2400" spc="-1" strike="noStrike">
                <a:solidFill>
                  <a:srgbClr val="1f497d"/>
                </a:solidFill>
                <a:latin typeface="Georgia"/>
              </a:rPr>
              <a:t> и </a:t>
            </a:r>
            <a:r>
              <a:rPr b="0" i="1" lang="ru-RU" sz="2400" spc="-1" strike="noStrike">
                <a:solidFill>
                  <a:srgbClr val="1f497d"/>
                </a:solidFill>
                <a:latin typeface="Georgia"/>
              </a:rPr>
              <a:t>антропоцентрического </a:t>
            </a:r>
            <a:r>
              <a:rPr b="0" lang="ru-RU" sz="2400" spc="-1" strike="noStrike">
                <a:solidFill>
                  <a:srgbClr val="1f497d"/>
                </a:solidFill>
                <a:latin typeface="Georgia"/>
              </a:rPr>
              <a:t>подходов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1f497d"/>
                </a:solidFill>
                <a:latin typeface="Arial Black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42472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cc0000"/>
                </a:solidFill>
                <a:latin typeface="Calibri"/>
              </a:rPr>
              <a:t>Как формировать и развивать универсальные учебные действия у учащихся?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Метапредметные результ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военные обучающимися на базе одного, нескольких или всех учебных предметов способы деятельности, применимые как в рамках образовательного процесса, так и в реальных жизненных ситуаци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личительной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собенностью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школьного курса русского язык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вляется значительно большая, чем у многих других предметов,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ег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етапредметная направлен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Стратегии смыслового чтения, сформулированные ФГО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Работа с текстом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 поиск информации и понимание прочитан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Работа с текстом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 преобразование и интерпретация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Работа с текстом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 оценка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087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Calibri"/>
              </a:rPr>
              <a:t>На всех словах – события печать.</a:t>
            </a:r>
            <a:br>
              <a:rPr sz="4000"/>
            </a:br>
            <a:r>
              <a:rPr b="0" lang="ru-RU" sz="4000" spc="-1" strike="noStrike">
                <a:solidFill>
                  <a:srgbClr val="800080"/>
                </a:solidFill>
                <a:latin typeface="Calibri"/>
              </a:rPr>
              <a:t>Они дались недаром человеку.</a:t>
            </a:r>
            <a:br>
              <a:rPr sz="4000"/>
            </a:br>
            <a:r>
              <a:rPr b="0" lang="ru-RU" sz="4000" spc="-1" strike="noStrike">
                <a:solidFill>
                  <a:srgbClr val="800080"/>
                </a:solidFill>
                <a:latin typeface="Calibri"/>
              </a:rPr>
              <a:t>     С.Марша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нимание многоступенчат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ая ступень – это понимание каждого слова, каждого словосочетания, каждого фразеологического оборота, входящего в текс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alibri"/>
              </a:rPr>
              <a:t>Собрать рассыпанные текс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тому, у, рождения, день, играл, веселую, что, крокодил Гена, гармошке, на, него, песенку, бы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нятия, слово, человеку, свои, другому, чтобы, дано, чтобы, для того, свои, сообщ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.В.Ломоно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03:08:16Z</dcterms:created>
  <dc:creator>Пользователь</dc:creator>
  <dc:description/>
  <dc:language>en-US</dc:language>
  <cp:lastModifiedBy>Учитель</cp:lastModifiedBy>
  <dcterms:modified xsi:type="dcterms:W3CDTF">2012-10-09T03:57:26Z</dcterms:modified>
  <cp:revision>163</cp:revision>
  <dc:subject/>
  <dc:title>Государственные образовательные стандарты второго поколения</dc:title>
</cp:coreProperties>
</file>