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5.wmf" ContentType="image/x-wmf"/>
  <Override PartName="/ppt/media/image6.png" ContentType="image/pn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C63-28E0-4459-8655-272F1F25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762-8407-4221-B845-ECE4921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6FC-18A3-4651-B97F-C0BBF54C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F30-92CE-43F5-B664-313D16DC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5F989-1CDE-488D-8B60-EBA0076E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5D8D4-6EE9-411D-8BF7-3D20BAC2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68DF9-ECC1-4EE5-87BA-312A05A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4448-B338-453D-BC8B-7478828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840C-8C39-43C7-A0DC-54CFB85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6DCC9-E63A-4AB0-BD91-F1AAE427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EBCCB-1261-49A0-B88A-E9A29EA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843-5514-4E89-925F-D5B7F36A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BC8F-FFAB-482F-9E3D-23EDAB0E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9C8E-F07E-49F5-BCCD-2E3A66A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F7348-29B0-4986-B292-FCF7124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9FB43-893E-4D50-BE58-7450294A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3A0A-325A-4A7A-A371-86C81174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301-EB7E-492C-B327-7601243E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A8C-B1CF-4885-828F-D2A671B7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FF0-8851-49E4-A26A-74B273F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277-6ED1-4B51-8700-A55CD9B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521-4014-4B1F-90A6-88DB72F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096-93A5-4D88-9E50-3B55236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4D3-EBC9-4A22-8B21-B4FF4CC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857-92E2-476C-B81E-58F054BAF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AE5-18A8-4126-A867-E8CFF56C9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овременные проблемы готовности детей 6-7 лет к обучению в шк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Выполнил соц. педаг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МБДОУ № 1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Пахова О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ОССИЙС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ое государственное автоном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Северный (Арктический) федеральный университет имени М.В. Ломонос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титут естественных наук и биомедиц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83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Диагностический комплекс 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авторы Н.Я. Семаго, М.М. Семаго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700" t="1245" r="2393" b="73751"/>
          <a:stretch/>
        </p:blipFill>
        <p:spPr>
          <a:xfrm>
            <a:off x="0" y="112536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033" t="29999" r="13875" b="38750"/>
          <a:stretch/>
        </p:blipFill>
        <p:spPr>
          <a:xfrm>
            <a:off x="0" y="3753000"/>
            <a:ext cx="4229280" cy="310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197000"/>
            <a:ext cx="65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Продолжи узор».  Определение уровня развития моторных навыков, в частности мелкой моторики руки, произвольного внимания, умения работать самостоятельно в режиме фронтальной инстру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Сосчитай и сравни»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-меньше» в ситуации «конфликтного» расположения элемент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7655" t="70001" r="38757" b="0"/>
          <a:stretch/>
        </p:blipFill>
        <p:spPr>
          <a:xfrm>
            <a:off x="0" y="0"/>
            <a:ext cx="471636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3492" t="7628" r="0" b="0"/>
          <a:stretch/>
        </p:blipFill>
        <p:spPr>
          <a:xfrm>
            <a:off x="0" y="3594240"/>
            <a:ext cx="4932360" cy="3263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ценка сформированности у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укового и звукобук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нализа материала,подаваемого на слу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формированность графи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в частности, написания графе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ая регуля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бствен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Шифров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явление сформирова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ой регуляции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удержание алгоритма деятель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озможностей распределения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еключения внимания, работоспособ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темпа и целенаправленности деятельнос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«Рисунок человека». Общая оценка сформированности графической деятельности, оценка топологических  метрических (соблюдение пропорций) пространственных представлений, общего уровня  развит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ценка поведенческих  особенностей детей в процессе проведения диагност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Если ребенок расторможен, мешает другим детям, не может сам сосредоточиться, кривляется, отвлекается, разговаривает и т.п., это отмечается в соответствующей графе. Если такое поведение отмечается практически на протяжении большей части работы, этот факт должен быть обязательно отмечен и в графе «Друго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стая зрительно-моторная реакц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 использование биомыши индивидуальн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8764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ЗМ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оценка функционального состояния ЦНС) в основе лежит анализ уровня и стабильности сенсомоторных реакций человека в ответ на световые раздраж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ъявляется 75 стимул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емя между стимулами 2-4 секун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мул зеленого ц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097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маго, гештальт – тест Бенд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052640"/>
          <a:ext cx="81468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1468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587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ывод по обработанным результатам 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3 % детей 6-7 лет относительно готовых к школе, что является удовлетворительным показателем на 1 полугодие учебного г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й показатель позволяет педагогам спланировать и провести индивидуально-коррекционную работу по повышению уровня готовности к школьному об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довести психологическое и в некоторой степени физиологическое развитие ребенка до уровня готовности к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а взрослого сначала пробудить у ребенка желание научится чему-то новому, а уже затем начинать работу по развитию высших психологических фун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умозаключ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930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онятие «готовность к обучению в школе» выделяет три тесно взаимосвязанных аспекта: физиологический, личностный и психологическ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Ребенок, поступая в школу, должен быть зрелым в физиологическом и социальном отношении, успешность обучения ребенка в школе также зависит от зрелости основных психических проце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едостаточная развитость какого-либо одного компонента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ллектуальный, личностный и эмоционально- волевой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возникает потребность в психологической помощи ребенк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98764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836640"/>
            <a:ext cx="71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ктически все авторы, исследовавшие психологическую готовность к школе, признают, что эффективным школьное обучение будет только в том случае, если первоклассник обладает необходимыми и достаточными для начального этапа обучения качествами, которые затем в учебном процессе развиваются и совершенствуютс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ланировано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сти корреляционный анализ использованных метод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ледить уровен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воения школьной программы детей 2005 г.р. и 2006 г.р. в октябре 2013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711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21101400">
            <a:off x="323640" y="1341360"/>
            <a:ext cx="8135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65680" y="3257640"/>
            <a:ext cx="527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Готовность к шко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Основные показатели развития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детей 6 – 7 л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вышается двигательная и умственн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ольше общается со своими сверстниками во дворе, играя в разны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чало полового созр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заканчивается формирование органов дых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увеличиваются возможности органов пищева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степенно образуется так называемый сменный прику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уются навыки самоорганизации, взаимоконтроля, увеличивается проявление волевых усилий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Игровые действия становятся более сложными, игровое пространство также усложн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приобретают более детализированный характер, обогащается их цветовая гамма. Явные половые различия между рисун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конструировании свободно владеют обобщенными способами анализа, определяют форму на основе сходства со знакомыми им объемными телами. Осваивают сложную технику оригами и придумывают собстве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сприятие продолжает разв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нимание становится произвольным. Время произвольного сосредоточения достигает 30 мин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чь достигает высокого уровня развития. Может объяснить значение сложных многозначных слов, а также точно выражать свое эмоциональное состо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родолжается личностное развитие. Происходит развитие самосознания ребенка, что позволяет ему более точно и адекватно рассчитывать свои возможности. Он правильно воспринимает отношение к нему других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етодики определения готовности детей 6-7 лет к обучению к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едовательность событий» А.Н. Бернштейна (позволяет исследовать качества мышл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Шифровка» Д. Вексклера (направлена на исследование концентрации и распределения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Джекобсона направлена на выявление уровня кратковременной памя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хо – моторные координации (воспроизведение и оценка ритмов). Цветкова Л.С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ные матрицы Равенна. Забрамной С.Д., Боровик О.В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штальт – тест Бендер (степень сформированности зрительно-моторной координ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оценки уровня развития зрительно-моторного восприятия (М. Безруких, Л.Мороз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й комплекс Сема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экспресс оценки состояния центральной нервной системыпо параметрам ПЗМ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 – МБДОУ г. Архангельс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 – 2 г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лонгитюдн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 – дети старшей и подготовительной возрастной группы (дети 2007 г.р. 2006 г.р. 2005 г.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агностика психофизиологической готовности детей к школьному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етодик: Семаго, Гештальт (охватывает одну возрастную группу), ПЗМР (охватывает две возрастные групп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исследовании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изучение психофизиологической готовности детей к школьному обучению и ее динамика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роанализировать теоретические источники к пониманию психофизиологической готовности ребенка к школьному обучению, особенности диагностических критериев псих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добрать диагностические методики психофизи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Изучить психологические и физиологические особенности детей старшего  и подготовительного возраста, провести экспериментальное исследование проблемы диагностики психологической готовности ребенка к школьному обучению и проанализировать полученные результаты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ходя из очевидной значимости диагностики психологической готовности ребенка к школьному обучению, предполагается, что чем выше данная готовность, тем выше уровень школьной адаптации и мотивации учащихся перв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рактеристика детей охваченных исследова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248000" cy="2940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6-7 лет (2006 г.р., 2005 г.р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0 из общеразвивающих груп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0 из логопедической груп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5-6 лет (2007 г.р., 2006 г.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О методик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ительно-граф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ештальт - тест   Бе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позволяет надежно оценить степень сформированности зрительно- моторной координ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5623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8:01:58Z</dcterms:created>
  <dc:creator>1</dc:creator>
  <dc:description/>
  <dc:language>en-US</dc:language>
  <cp:lastModifiedBy>1</cp:lastModifiedBy>
  <dcterms:modified xsi:type="dcterms:W3CDTF">2013-02-07T20:17:53Z</dcterms:modified>
  <cp:revision>15</cp:revision>
  <dc:subject/>
  <dc:title>Современные проблемы готовности детей 6-7 лет к обучению в школе и их биологические аспекты.</dc:title>
</cp:coreProperties>
</file>