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5.wmf" ContentType="image/x-wmf"/>
  <Override PartName="/ppt/media/image6.png" ContentType="image/pn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FF8-FE51-47D2-AD6A-8A5FBAF4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423-13B9-4BEE-8577-07845B32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AE6-8FBC-4CF8-904B-0CF0953A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550-7B89-4DE7-84F8-A04AB7F3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815A8-239B-4F5E-B6E1-CA9DE2A5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5D59-6ED9-40E4-8863-210EACE1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864B-58D5-4BFE-87B4-589B451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78A4-213D-42D7-B432-79C822C8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8E24-69AE-487F-A396-A8314CD5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8B748-95A5-47A6-87B4-7ED0FD18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11E5-6AC2-46EE-8B51-7A9C54E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A1D-0633-4201-B57B-8DF42C0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AEC59-8240-4D37-9FF8-3CB5B34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24B8-0FFC-4B4D-8FC2-C845060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8EC9F-16AB-485E-B650-4E3520F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A2C7-BD92-4C08-8DBF-5AC78F45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274C1-848B-4AAB-9904-9144DC75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75A-D677-43EB-A9A7-DC7A5CFE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C39-9787-4B8A-9805-252BF8D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0A9-D955-40A5-9B27-A96C6EC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906-C637-4B7E-B876-27E442E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CBD-90D8-4FEB-A758-1C8B4F8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BEF-0A88-492C-B06D-C929A185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6D4-02CD-4C5D-8256-8320D06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FE8-D62F-4C10-A634-7BF808DDF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997-B802-40B7-BAC3-1E6E4F096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овременные проблемы готовности детей 6-7 лет к обучению в шк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Выполнил соц. педаг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МБДОУ № 1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Пахова О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ОССИЙС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ое государственное автоном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Северный (Арктический) федеральный университет имени М.В. Ломонос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титут естественных наук и биомедиц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83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Диагностический комплекс 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авторы Н.Я. Семаго, М.М. Семаго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700" t="1245" r="2393" b="73751"/>
          <a:stretch/>
        </p:blipFill>
        <p:spPr>
          <a:xfrm>
            <a:off x="0" y="112536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033" t="29999" r="13875" b="38750"/>
          <a:stretch/>
        </p:blipFill>
        <p:spPr>
          <a:xfrm>
            <a:off x="0" y="3753000"/>
            <a:ext cx="4229280" cy="310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197000"/>
            <a:ext cx="65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Продолжи узор».  Определение уровня развития моторных навыков, в частности мелкой моторики руки, произвольного внимания, умения работать самостоятельно в режиме фронтальной инстру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Сосчитай и сравни»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-меньше» в ситуации «конфликтного» расположения элемент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7655" t="70001" r="38757" b="0"/>
          <a:stretch/>
        </p:blipFill>
        <p:spPr>
          <a:xfrm>
            <a:off x="0" y="0"/>
            <a:ext cx="471636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3492" t="7628" r="0" b="0"/>
          <a:stretch/>
        </p:blipFill>
        <p:spPr>
          <a:xfrm>
            <a:off x="0" y="3594240"/>
            <a:ext cx="4932360" cy="3263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ценка сформированности у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укового и звукобук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нализа материала,подаваемого на слу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формированность графи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в частности, написания графе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ая регуля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бствен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Шифров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явление сформирова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ой регуляции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удержание алгоритма деятель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озможностей распределения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еключения внимания, работоспособ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темпа и целенаправленности деятельнос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«Рисунок человека». Общая оценка сформированности графической деятельности, оценка топологических  метрических (соблюдение пропорций) пространственных представлений, общего уровня  развит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ценка поведенческих  особенностей детей в процессе проведения диагност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Если ребенок расторможен, мешает другим детям, не может сам сосредоточиться, кривляется, отвлекается, разговаривает и т.п., это отмечается в соответствующей графе. Если такое поведение отмечается практически на протяжении большей части работы, этот факт должен быть обязательно отмечен и в графе «Друго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стая зрительно-моторная реакц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 использование биомыши индивидуальн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8764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ЗМ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оценка функционального состояния ЦНС) в основе лежит анализ уровня и стабильности сенсомоторных реакций человека в ответ на световые раздраж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ъявляется 75 стимул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емя между стимулами 2-4 секун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мул зеленого ц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097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маго, гештальт – тест Бенд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052640"/>
          <a:ext cx="81468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1468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587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ывод по обработанным результатам 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3 % детей 6-7 лет относительно готовых к школе, что является удовлетворительным показателем на 1 полугодие учебного г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й показатель позволяет педагогам спланировать и провести индивидуально-коррекционную работу по повышению уровня готовности к школьному об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довести психологическое и в некоторой степени физиологическое развитие ребенка до уровня готовности к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а взрослого сначала пробудить у ребенка желание научится чему-то новому, а уже затем начинать работу по развитию высших психологических фун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умозаключ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930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онятие «готовность к обучению в школе» выделяет три тесно взаимосвязанных аспекта: физиологический, личностный и психологическ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Ребенок, поступая в школу, должен быть зрелым в физиологическом и социальном отношении, успешность обучения ребенка в школе также зависит от зрелости основных психических проце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едостаточная развитость какого-либо одного компонента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ллектуальный, личностный и эмоционально- волевой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возникает потребность в психологической помощи ребенк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98764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836640"/>
            <a:ext cx="71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ктически все авторы, исследовавшие психологическую готовность к школе, признают, что эффективным школьное обучение будет только в том случае, если первоклассник обладает необходимыми и достаточными для начального этапа обучения качествами, которые затем в учебном процессе развиваются и совершенствуютс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ланировано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сти корреляционный анализ использованных метод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ледить уровен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воения школьной программы детей 2005 г.р. и 2006 г.р. в октябре 2013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711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21101400">
            <a:off x="323640" y="1341360"/>
            <a:ext cx="8135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65680" y="3257640"/>
            <a:ext cx="527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Готовность к шко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Основные показатели развития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детей 6 – 7 л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вышается двигательная и умственн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ольше общается со своими сверстниками во дворе, играя в разны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чало полового созр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заканчивается формирование органов дых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увеличиваются возможности органов пищева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степенно образуется так называемый сменный прику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уются навыки самоорганизации, взаимоконтроля, увеличивается проявление волевых усилий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Игровые действия становятся более сложными, игровое пространство также усложн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приобретают более детализированный характер, обогащается их цветовая гамма. Явные половые различия между рисун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конструировании свободно владеют обобщенными способами анализа, определяют форму на основе сходства со знакомыми им объемными телами. Осваивают сложную технику оригами и придумывают собстве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сприятие продолжает разв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нимание становится произвольным. Время произвольного сосредоточения достигает 30 мин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чь достигает высокого уровня развития. Может объяснить значение сложных многозначных слов, а также точно выражать свое эмоциональное состо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родолжается личностное развитие. Происходит развитие самосознания ребенка, что позволяет ему более точно и адекватно рассчитывать свои возможности. Он правильно воспринимает отношение к нему других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етодики определения готовности детей 6-7 лет к обучению к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едовательность событий» А.Н. Бернштейна (позволяет исследовать качества мышл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Шифровка» Д. Вексклера (направлена на исследование концентрации и распределения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Джекобсона направлена на выявление уровня кратковременной памя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хо – моторные координации (воспроизведение и оценка ритмов). Цветкова Л.С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ные матрицы Равенна. Забрамной С.Д., Боровик О.В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штальт – тест Бендер (степень сформированности зрительно-моторной координ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оценки уровня развития зрительно-моторного восприятия (М. Безруких, Л.Мороз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й комплекс Сема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экспресс оценки состояния центральной нервной системыпо параметрам ПЗМ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 – МБДОУ г. Архангельс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 – 2 г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лонгитюдн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 – дети старшей и подготовительной возрастной группы (дети 2007 г.р. 2006 г.р. 2005 г.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агностика психофизиологической готовности детей к школьному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етодик: Семаго, Гештальт (охватывает одну возрастную группу), ПЗМР (охватывает две возрастные групп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исследовании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изучение психофизиологической готовности детей к школьному обучению и ее динамика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роанализировать теоретические источники к пониманию психофизиологической готовности ребенка к школьному обучению, особенности диагностических критериев псих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добрать диагностические методики психофизи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Изучить психологические и физиологические особенности детей старшего  и подготовительного возраста, провести экспериментальное исследование проблемы диагностики психологической готовности ребенка к школьному обучению и проанализировать полученные результаты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ходя из очевидной значимости диагностики психологической готовности ребенка к школьному обучению, предполагается, что чем выше данная готовность, тем выше уровень школьной адаптации и мотивации учащихся перв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рактеристика детей охваченных исследова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248000" cy="2940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6-7 лет (2006 г.р., 2005 г.р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0 из общеразвивающих груп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0 из логопедической груп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5-6 лет (2007 г.р., 2006 г.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О методик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ительно-граф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ештальт - тест   Бе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позволяет надежно оценить степень сформированности зрительно- моторной координ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5623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8:01:58Z</dcterms:created>
  <dc:creator>1</dc:creator>
  <dc:description/>
  <dc:language>en-US</dc:language>
  <cp:lastModifiedBy>1</cp:lastModifiedBy>
  <dcterms:modified xsi:type="dcterms:W3CDTF">2013-02-07T20:17:53Z</dcterms:modified>
  <cp:revision>15</cp:revision>
  <dc:subject/>
  <dc:title>Современные проблемы готовности детей 6-7 лет к обучению в школе и их биологические аспекты.</dc:title>
</cp:coreProperties>
</file>