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5.wmf" ContentType="image/x-wmf"/>
  <Override PartName="/ppt/media/image6.png" ContentType="image/png"/>
  <Override PartName="/ppt/media/image10.jpeg" ContentType="image/jpeg"/>
  <Override PartName="/ppt/media/image2.gif" ContentType="image/gif"/>
  <Override PartName="/ppt/media/image4.jpeg" ContentType="image/jpeg"/>
  <Override PartName="/ppt/media/image1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AE7-7FD6-46E8-AE9D-41C67DD4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2B8-37F4-45EB-AD32-E13148E3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61D-16E5-4C2A-AB4A-13FC0438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A60-8B3B-42B2-85BF-A7093367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4180E-9A2C-44E8-840B-3CF0CA83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25A5C-B71F-4728-B092-2DCA4663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AF011-4EBE-4F77-AEE5-EF08AE70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09EEF-88E3-4B0E-A3C9-6843B59D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D9AA8-76CC-4BC8-9590-2AC184EE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1EEA4-7E72-4B38-84AA-A96CFC90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2B16E-FADE-4347-8E2B-5D2F9AC2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2B8-6A57-495C-BA23-359EF436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F63FD-8B30-4476-AC81-AA110AB8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4489B-1D18-444E-9232-2713768F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CA675-5659-4243-BF8F-1FD1BA52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CF5CC-94A7-4A61-BCC7-E5729689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CDB69-81A6-46A1-9812-961719CB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71E-E897-495F-AE99-67FD3023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CCE-7313-450D-9D0C-A21F3808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5AF-06ED-436B-A959-E772FBEC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CEF-3457-4660-9803-5A4282BA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97A-EC4F-4972-9EA5-0202E622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9B7-8F74-45FB-903A-693255D3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932-2457-4504-9F3E-6A78613B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8BCA-B6D1-48BA-AEC6-F477C0D38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812B-EEE4-40CD-9B64-72F471180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2842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овременные проблемы готовности детей 6-7 лет к обучению в школ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Выполнил соц. педаго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МБДОУ № 1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Пахова О.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ОБРАЗОВАНИЯ И НАУКИ РОССИЙС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едеральное государственное автоном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шего профессионального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Северный (Арктический) федеральный университет имени М.В. Ломоносов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ститут естественных наук и биомедиц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832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Диагностический комплекс </a:t>
            </a:r>
            <a:br>
              <a:rPr sz="36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авторы Н.Я. Семаго, М.М. Семаго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7700" t="1245" r="2393" b="73751"/>
          <a:stretch/>
        </p:blipFill>
        <p:spPr>
          <a:xfrm>
            <a:off x="0" y="1125360"/>
            <a:ext cx="9144000" cy="2505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21033" t="29999" r="13875" b="38750"/>
          <a:stretch/>
        </p:blipFill>
        <p:spPr>
          <a:xfrm>
            <a:off x="0" y="3753000"/>
            <a:ext cx="4229280" cy="310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1197000"/>
            <a:ext cx="658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Продолжи узор».  Определение уровня развития моторных навыков, в частности мелкой моторики руки, произвольного внимания, умения работать самостоятельно в режиме фронтальной инструк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Сосчитай и сравни». Оценка сформированности навыков пересчета в пределах 9, соотнесение цифры (графемы) и количества изображенных фигур. Оценка моторных навыков при изображении цифр. Определение сформированности понятия «больше-меньше» в ситуации «конфликтного» расположения элементов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7655" t="70001" r="38757" b="0"/>
          <a:stretch/>
        </p:blipFill>
        <p:spPr>
          <a:xfrm>
            <a:off x="0" y="0"/>
            <a:ext cx="4716360" cy="344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3492" t="7628" r="0" b="0"/>
          <a:stretch/>
        </p:blipFill>
        <p:spPr>
          <a:xfrm>
            <a:off x="0" y="3594240"/>
            <a:ext cx="4932360" cy="32637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Сло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Оценка сформированности у ребен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звукового и звукобуквен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анализа материала,подаваемого на слу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формированность графической 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(в частности, написания графем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оизвольная регуля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бствен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Шифровка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ыявление сформирован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оизвольной регуляции 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(удержание алгоритма деятельности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озможностей распределения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ереключения внимания, работоспособ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темпа и целенаправленности деятельности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«Рисунок человека». Общая оценка сформированности графической деятельности, оценка топологических  метрических (соблюдение пропорций) пространственных представлений, общего уровня  развития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8280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Оценка поведенческих  особенностей детей в процессе проведения диагност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Если ребенок расторможен, мешает другим детям, не может сам сосредоточиться, кривляется, отвлекается, разговаривает и т.п., это отмечается в соответствующей графе. Если такое поведение отмечается практически на протяжении большей части работы, этот факт должен быть обязательно отмечен и в графе «Друго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ростая зрительно-моторная реакция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 использование биомыши индивидуально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87640" y="105264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ЗМ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оценка функционального состояния ЦНС) в основе лежит анализ уровня и стабильности сенсомоторных реакций человека в ответ на световые раздражит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дъявляется 75 стимул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ремя между стимулами 2-4 секунд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имул зеленого цв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30970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зультаты исследован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емаго, гештальт – тест Бенд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052640"/>
          <a:ext cx="8146800" cy="521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52640"/>
                    <a:ext cx="814680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15876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Вывод по обработанным результатам  исследова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358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3 % детей 6-7 лет относительно готовых к школе, что является удовлетворительным показателем на 1 полугодие учебного год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нный показатель позволяет педагогам спланировать и провести индивидуально-коррекционную работу по повышению уровня готовности к школьному обучению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им образом довести психологическое и в некоторой степени физиологическое развитие ребенка до уровня готовности к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дача взрослого сначала пробудить у ребенка желание научится чему-то новому, а уже затем начинать работу по развитию высших психологических функц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умозаключе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88930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Понятие «готовность к обучению в школе» выделяет три тесно взаимосвязанных аспекта: физиологический, личностный и психологическ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Ребенок, поступая в школу, должен быть зрелым в физиологическом и социальном отношении, успешность обучения ребенка в школе также зависит от зрелости основных психических процесс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Недостаточная развитость какого-либо одного компонента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теллектуальный, личностный и эмоционально- волевой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возникает потребность в психологической помощи ребенку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987640" cy="2604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9280" y="836640"/>
            <a:ext cx="716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практически все авторы, исследовавшие психологическую готовность к школе, признают, что эффективным школьное обучение будет только в том случае, если первоклассник обладает необходимыми и достаточными для начального этапа обучения качествами, которые затем в учебном процессе развиваются и совершенствуютс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07592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Запланировано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вести корреляционный анализ использованных методи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следить уровень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воения школьной программы детей 2005 г.р. и 2006 г.р. в октябре 2013 г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71160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 rot="21101400">
            <a:off x="323640" y="1341360"/>
            <a:ext cx="81356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!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65680" y="3257640"/>
            <a:ext cx="5278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Готовность к школ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—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это совокупность определенных свойств и способов поведения (компетентностей) ребенка, необходимых ему для восприятия, переработки и усвоения учебных стимулов в начале и при дальнейшем продолжении школьного обучения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Основные показатели развития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детей 6 – 7 ле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овышается двигательная и умственная акт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больше общается со своими сверстниками во дворе, играя в разные иг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начало полового созре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заканчивается формирование органов дых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увеличиваются возможности органов пищевар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остепенно образуется так называемый сменный прику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Формируются навыки самоорганизации, взаимоконтроля, увеличивается проявление волевых усилий при выполнении зад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Игровые действия становятся более сложными, игровое пространство также усложня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исунки приобретают более детализированный характер, обогащается их цветовая гамма. Явные половые различия между рисунк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 конструировании свободно владеют обобщенными способами анализа, определяют форму на основе сходства со знакомыми им объемными телами. Осваивают сложную технику оригами и придумывают собствен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сприятие продолжает развивать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нимание становится произвольным. Время произвольного сосредоточения достигает 30 мину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чь достигает высокого уровня развития. Может объяснить значение сложных многозначных слов, а также точно выражать свое эмоциональное состоя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Продолжается личностное развитие. Происходит развитие самосознания ребенка, что позволяет ему более точно и адекватно рассчитывать свои возможности. Он правильно воспринимает отношение к нему других люд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методики определения готовности детей 6-7 лет к обучению к школ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оследовательность событий» А.Н. Бернштейна (позволяет исследовать качества мышле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Шифровка» Д. Вексклера (направлена на исследование концентрации и распределения внима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тодика Джекобсона направлена на выявление уровня кратковременной памя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хо – моторные координации (воспроизведение и оценка ритмов). Цветкова Л.С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ные матрицы Равенна. Забрамной С.Д., Боровик О.В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штальт – тест Бендер (степень сформированности зрительно-моторной координац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тодика оценки уровня развития зрительно-моторного восприятия (М. Безруких, Л.Морозов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й комплекс Сема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тодика экспресс оценки состояния центральной нервной системыпо параметрам ПЗМ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за – МБДОУ г. Архангельс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ок – 2 го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ние лонгитюдно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кт – дети старшей и подготовительной возрастной группы (дети 2007 г.р. 2006 г.р. 2005 г.р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 исследования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агностика психофизиологической готовности детей к школьному обуч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методик: Семаго, Гештальт (охватывает одну возрастную группу), ПЗМР (охватывает две возрастные групп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333360"/>
            <a:ext cx="820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 исследовании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Цель исследован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изучение психофизиологической готовности детей к школьному обучению и ее динамика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Задачи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Проанализировать теоретические источники к пониманию психофизиологической готовности ребенка к школьному обучению, особенности диагностических критериев психологической готовности ребенка к школ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Подобрать диагностические методики психофизиологической готовности ребенка к школ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Изучить психологические и физиологические особенности детей старшего  и подготовительного возраста, провести экспериментальное исследование проблемы диагностики психологической готовности ребенка к школьному обучению и проанализировать полученные результаты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Гипотеза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ходя из очевидной значимости диагностики психологической готовности ребенка к школьному обучению, предполагается, что чем выше данная готовность, тем выше уровень школьной адаптации и мотивации учащихся первого кла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Характеристика детей охваченных исследованием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4248000" cy="2940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70 детей 6-7 лет (2006 г.р., 2005 г.р.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60 из общеразвивающих груп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0 из логопедической групп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70 детей 5-6 лет (2007 г.р., 2006 г.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 Black"/>
              </a:rPr>
              <a:t>О методиках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рительно-графически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ештальт - тест   Бенде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позволяет надежно оценить степень сформированности зрительно- моторной координац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92360" y="2852640"/>
            <a:ext cx="55623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8:01:58Z</dcterms:created>
  <dc:creator>1</dc:creator>
  <dc:description/>
  <dc:language>en-US</dc:language>
  <cp:lastModifiedBy>1</cp:lastModifiedBy>
  <dcterms:modified xsi:type="dcterms:W3CDTF">2013-02-07T20:17:53Z</dcterms:modified>
  <cp:revision>15</cp:revision>
  <dc:subject/>
  <dc:title>Современные проблемы готовности детей 6-7 лет к обучению в школе и их биологические аспекты.</dc:title>
</cp:coreProperties>
</file>