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AB5-BB7D-4598-BA34-6481D07C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CCA-B237-4696-90B8-84E57EA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47C-913C-4668-B485-5A4D02AC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1D3-2D58-4101-A0A4-84432864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64BA-6087-42D7-8043-E06C5D0C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D28-8596-46DD-98CE-B774A50A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8F87-2138-4B29-8E64-EB9E4B9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AD6-23A7-44EC-A725-F867E8FD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8DE2-02E3-445F-BCF6-6A41ADB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33FA-A9BE-4D08-A5BE-DC38D32D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05ED-DE8A-401D-A4EA-E8DF294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504-64E1-4E68-B6F3-1BCDF7D2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AA7B-2936-45E0-B012-F960F00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238-D95A-4F9C-9138-88C619E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63AA-617F-4429-87FD-FA1BDCFB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CB4-2A65-450F-9A8A-DB221380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7A9E-76AC-4B15-B085-CA28DEAD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F64-C9CB-4756-B478-8487C07B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8E5-35F9-43FA-9E2F-E6926F9C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C17-0B30-4E54-B8B7-DF600823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536-53BF-4F89-8462-801139B7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C8E-2C02-4A8E-831B-9796F11F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7C7-3828-4183-B8F6-E922531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22D-CEDB-4C15-A0E2-A307990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6845-9B94-4818-B043-49F819B9B8F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D0A-6B0E-4454-9528-32BAFE6E61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200"/>
                </a:solidFill>
                <a:latin typeface="Comic Sans MS"/>
              </a:rPr>
              <a:t>Скоро в школу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800600" y="5562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емидова Т.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ификация: Шуманова Н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4" descr="eac2a4ed50fb"/>
          <p:cNvPicPr/>
          <p:nvPr/>
        </p:nvPicPr>
        <p:blipFill>
          <a:blip r:embed="rId1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7" descr="1sentabr07"/>
          <p:cNvPicPr/>
          <p:nvPr/>
        </p:nvPicPr>
        <p:blipFill>
          <a:blip r:embed="rId2"/>
          <a:stretch/>
        </p:blipFill>
        <p:spPr>
          <a:xfrm>
            <a:off x="685800" y="1895400"/>
            <a:ext cx="419112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1sentabr09"/>
          <p:cNvPicPr/>
          <p:nvPr/>
        </p:nvPicPr>
        <p:blipFill>
          <a:blip r:embed="rId1"/>
          <a:stretch/>
        </p:blipFill>
        <p:spPr>
          <a:xfrm>
            <a:off x="914400" y="53352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0998"/>
          <p:cNvPicPr/>
          <p:nvPr/>
        </p:nvPicPr>
        <p:blipFill>
          <a:blip r:embed="rId2"/>
          <a:stretch/>
        </p:blipFill>
        <p:spPr>
          <a:xfrm>
            <a:off x="4876920" y="38088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CT0374"/>
          <p:cNvPicPr/>
          <p:nvPr/>
        </p:nvPicPr>
        <p:blipFill>
          <a:blip r:embed="rId3"/>
          <a:stretch/>
        </p:blipFill>
        <p:spPr>
          <a:xfrm>
            <a:off x="4876920" y="342900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1251797493"/>
          <p:cNvPicPr/>
          <p:nvPr/>
        </p:nvPicPr>
        <p:blipFill>
          <a:blip r:embed="rId4"/>
          <a:stretch/>
        </p:blipFill>
        <p:spPr>
          <a:xfrm>
            <a:off x="990720" y="3429000"/>
            <a:ext cx="32004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9" descr="000003"/>
          <p:cNvPicPr/>
          <p:nvPr/>
        </p:nvPicPr>
        <p:blipFill>
          <a:blip r:embed="rId1"/>
          <a:stretch/>
        </p:blipFill>
        <p:spPr>
          <a:xfrm>
            <a:off x="1143000" y="380880"/>
            <a:ext cx="2629080" cy="32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4"/>
          <p:cNvPicPr/>
          <p:nvPr/>
        </p:nvPicPr>
        <p:blipFill>
          <a:blip r:embed="rId2"/>
          <a:stretch/>
        </p:blipFill>
        <p:spPr>
          <a:xfrm>
            <a:off x="4572000" y="380880"/>
            <a:ext cx="3110040" cy="3124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belgr_b_12603"/>
          <p:cNvPicPr/>
          <p:nvPr/>
        </p:nvPicPr>
        <p:blipFill>
          <a:blip r:embed="rId3"/>
          <a:stretch/>
        </p:blipFill>
        <p:spPr>
          <a:xfrm>
            <a:off x="4800600" y="3733920"/>
            <a:ext cx="3429000" cy="2846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t4_2758891"/>
          <p:cNvPicPr/>
          <p:nvPr/>
        </p:nvPicPr>
        <p:blipFill>
          <a:blip r:embed="rId4"/>
          <a:stretch/>
        </p:blipFill>
        <p:spPr>
          <a:xfrm>
            <a:off x="1600200" y="3733920"/>
            <a:ext cx="22827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67183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Мой первый учитель</a:t>
            </a:r>
            <a:br>
              <a:rPr sz="4000"/>
            </a:b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(тема: «Я и мои учителя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4000320" cy="3879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учитель1 001"/>
          <p:cNvPicPr/>
          <p:nvPr/>
        </p:nvPicPr>
        <p:blipFill>
          <a:blip r:embed="rId2"/>
          <a:stretch/>
        </p:blipFill>
        <p:spPr>
          <a:xfrm>
            <a:off x="228600" y="2362320"/>
            <a:ext cx="27687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Ученик из цифр</a:t>
            </a:r>
            <a:br>
              <a:rPr sz="4000"/>
            </a:b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(тема: «Оценки и отметки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6" descr="цифры2 001"/>
          <p:cNvPicPr/>
          <p:nvPr/>
        </p:nvPicPr>
        <p:blipFill>
          <a:blip r:embed="rId1"/>
          <a:stretch/>
        </p:blipFill>
        <p:spPr>
          <a:xfrm>
            <a:off x="1219320" y="1828800"/>
            <a:ext cx="2658960" cy="365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человек из цифр1 001"/>
          <p:cNvPicPr/>
          <p:nvPr/>
        </p:nvPicPr>
        <p:blipFill>
          <a:blip r:embed="rId2"/>
          <a:stretch/>
        </p:blipFill>
        <p:spPr>
          <a:xfrm>
            <a:off x="5165640" y="1828800"/>
            <a:ext cx="26593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75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413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Графический диктант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«Дорога в школу»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тема: «Что такое школа?»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10080" cy="481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71832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Organization Chart 7"/>
          <p:cNvGrpSpPr/>
          <p:nvPr/>
        </p:nvGrpSpPr>
        <p:grpSpPr>
          <a:xfrm>
            <a:off x="685800" y="152280"/>
            <a:ext cx="7695720" cy="5332680"/>
            <a:chOff x="685800" y="152280"/>
            <a:chExt cx="7695720" cy="5332680"/>
          </a:xfrm>
        </p:grpSpPr>
        <p:cxnSp>
          <p:nvCxnSpPr>
            <p:cNvPr id="156" name="_s1028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5346720" y="1470960"/>
              <a:ext cx="1067040" cy="269424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29"/>
            <p:cNvCxnSpPr>
              <a:stCxn id="160" idx="0"/>
              <a:endCxn id="158" idx="2"/>
            </p:cNvCxnSpPr>
            <p:nvPr/>
          </p:nvCxnSpPr>
          <p:spPr>
            <a:xfrm flipV="1">
              <a:off x="4533480" y="2284920"/>
              <a:ext cx="2880" cy="106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0"/>
            <p:cNvCxnSpPr>
              <a:stCxn id="162" idx="0"/>
              <a:endCxn id="158" idx="2"/>
            </p:cNvCxnSpPr>
            <p:nvPr/>
          </p:nvCxnSpPr>
          <p:spPr>
            <a:xfrm flipH="1" flipV="1" rot="5400000">
              <a:off x="2653200" y="1471320"/>
              <a:ext cx="1067040" cy="269424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031"/>
            <p:cNvSpPr/>
            <p:nvPr/>
          </p:nvSpPr>
          <p:spPr>
            <a:xfrm>
              <a:off x="3379320" y="15228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технологи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ог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68580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теллектуальн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337932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пециальная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_s1034"/>
            <p:cNvSpPr/>
            <p:nvPr/>
          </p:nvSpPr>
          <p:spPr>
            <a:xfrm>
              <a:off x="6072840" y="3351960"/>
              <a:ext cx="2308680" cy="2133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изическ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отовность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Text Box 15"/>
          <p:cNvSpPr/>
          <p:nvPr/>
        </p:nvSpPr>
        <p:spPr>
          <a:xfrm>
            <a:off x="2705400" y="56800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сихологическая готовность!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«Скоро в школу»</a:t>
            </a:r>
            <a:br>
              <a:rPr sz="4400"/>
            </a:b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у дошкольников мотивационной готовности, т.е. желания учи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личностной готовности, т.е. «внутренней позиции школьни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Форма организации встре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отренин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это комплексная форма общения, где дети в процессе активного взаимообмена опыт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овладевают навыками самовыражения, самообу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расширяют индивидуальный поведенческий репертуар и поле решений будущих школьных пробл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7" descr="729x"/>
          <p:cNvPicPr/>
          <p:nvPr/>
        </p:nvPicPr>
        <p:blipFill>
          <a:blip r:embed="rId1"/>
          <a:stretch/>
        </p:blipFill>
        <p:spPr>
          <a:xfrm>
            <a:off x="4267080" y="2590920"/>
            <a:ext cx="415296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67120" y="-10836000"/>
            <a:ext cx="88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rganization Chart 45"/>
          <p:cNvGrpSpPr/>
          <p:nvPr/>
        </p:nvGrpSpPr>
        <p:grpSpPr>
          <a:xfrm>
            <a:off x="228600" y="304920"/>
            <a:ext cx="8456760" cy="6171840"/>
            <a:chOff x="228600" y="304920"/>
            <a:chExt cx="8456760" cy="6171840"/>
          </a:xfrm>
        </p:grpSpPr>
        <p:cxnSp>
          <p:nvCxnSpPr>
            <p:cNvPr id="171" name="_s2052"/>
            <p:cNvCxnSpPr>
              <a:stCxn id="172" idx="1"/>
              <a:endCxn id="173" idx="2"/>
            </p:cNvCxnSpPr>
            <p:nvPr/>
          </p:nvCxnSpPr>
          <p:spPr>
            <a:xfrm rot="10800000">
              <a:off x="2764800" y="689760"/>
              <a:ext cx="846360" cy="559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1"/>
              <a:endCxn id="173" idx="2"/>
            </p:cNvCxnSpPr>
            <p:nvPr/>
          </p:nvCxnSpPr>
          <p:spPr>
            <a:xfrm rot="10800000">
              <a:off x="2764800" y="689760"/>
              <a:ext cx="846360" cy="501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1"/>
              <a:endCxn id="173" idx="2"/>
            </p:cNvCxnSpPr>
            <p:nvPr/>
          </p:nvCxnSpPr>
          <p:spPr>
            <a:xfrm rot="10800000">
              <a:off x="2764800" y="690480"/>
              <a:ext cx="846360" cy="443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5"/>
            <p:cNvCxnSpPr>
              <a:stCxn id="179" idx="1"/>
              <a:endCxn id="173" idx="2"/>
            </p:cNvCxnSpPr>
            <p:nvPr/>
          </p:nvCxnSpPr>
          <p:spPr>
            <a:xfrm rot="10800000">
              <a:off x="2764800" y="689760"/>
              <a:ext cx="846360" cy="385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2056"/>
            <p:cNvCxnSpPr>
              <a:stCxn id="181" idx="1"/>
              <a:endCxn id="173" idx="2"/>
            </p:cNvCxnSpPr>
            <p:nvPr/>
          </p:nvCxnSpPr>
          <p:spPr>
            <a:xfrm rot="10800000">
              <a:off x="2764800" y="689760"/>
              <a:ext cx="846360" cy="3280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2057"/>
            <p:cNvCxnSpPr>
              <a:stCxn id="183" idx="1"/>
              <a:endCxn id="173" idx="2"/>
            </p:cNvCxnSpPr>
            <p:nvPr/>
          </p:nvCxnSpPr>
          <p:spPr>
            <a:xfrm rot="10800000">
              <a:off x="2764800" y="689760"/>
              <a:ext cx="846360" cy="270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2058"/>
            <p:cNvCxnSpPr>
              <a:stCxn id="185" idx="1"/>
              <a:endCxn id="173" idx="2"/>
            </p:cNvCxnSpPr>
            <p:nvPr/>
          </p:nvCxnSpPr>
          <p:spPr>
            <a:xfrm rot="10800000">
              <a:off x="2764800" y="689760"/>
              <a:ext cx="846360" cy="212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2059"/>
            <p:cNvCxnSpPr>
              <a:stCxn id="187" idx="1"/>
              <a:endCxn id="173" idx="2"/>
            </p:cNvCxnSpPr>
            <p:nvPr/>
          </p:nvCxnSpPr>
          <p:spPr>
            <a:xfrm rot="10800000">
              <a:off x="2764800" y="689760"/>
              <a:ext cx="846360" cy="154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60"/>
            <p:cNvCxnSpPr>
              <a:stCxn id="189" idx="1"/>
              <a:endCxn id="173" idx="2"/>
            </p:cNvCxnSpPr>
            <p:nvPr/>
          </p:nvCxnSpPr>
          <p:spPr>
            <a:xfrm rot="10800000">
              <a:off x="2764800" y="689760"/>
              <a:ext cx="846360" cy="96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61"/>
            <p:cNvCxnSpPr>
              <a:stCxn id="191" idx="1"/>
              <a:endCxn id="173" idx="2"/>
            </p:cNvCxnSpPr>
            <p:nvPr/>
          </p:nvCxnSpPr>
          <p:spPr>
            <a:xfrm rot="10800000">
              <a:off x="2764800" y="689760"/>
              <a:ext cx="846360" cy="38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62"/>
            <p:cNvSpPr/>
            <p:nvPr/>
          </p:nvSpPr>
          <p:spPr>
            <a:xfrm>
              <a:off x="228600" y="30492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200"/>
                  </a:solidFill>
                  <a:latin typeface="Comic Sans MS"/>
                </a:rPr>
                <a:t>«Скоро в школу»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_s2063"/>
            <p:cNvSpPr/>
            <p:nvPr/>
          </p:nvSpPr>
          <p:spPr>
            <a:xfrm>
              <a:off x="3611160" y="88344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такое школа? Наука учитьс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_s2064"/>
            <p:cNvSpPr/>
            <p:nvPr/>
          </p:nvSpPr>
          <p:spPr>
            <a:xfrm>
              <a:off x="3611160" y="146196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ервое сентября- день знаний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_s2065"/>
            <p:cNvSpPr/>
            <p:nvPr/>
          </p:nvSpPr>
          <p:spPr>
            <a:xfrm>
              <a:off x="3611160" y="204084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акие предметы нужны в школ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_s2066"/>
            <p:cNvSpPr/>
            <p:nvPr/>
          </p:nvSpPr>
          <p:spPr>
            <a:xfrm>
              <a:off x="3611160" y="261936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то такие ученики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2067"/>
            <p:cNvSpPr/>
            <p:nvPr/>
          </p:nvSpPr>
          <p:spPr>
            <a:xfrm>
              <a:off x="3611160" y="319788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Я и мои учител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2068"/>
            <p:cNvSpPr/>
            <p:nvPr/>
          </p:nvSpPr>
          <p:spPr>
            <a:xfrm>
              <a:off x="3611160" y="3776760"/>
              <a:ext cx="50688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такое класс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2069"/>
            <p:cNvSpPr/>
            <p:nvPr/>
          </p:nvSpPr>
          <p:spPr>
            <a:xfrm>
              <a:off x="3611160" y="4355280"/>
              <a:ext cx="50688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Оценки и отметк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70"/>
            <p:cNvSpPr/>
            <p:nvPr/>
          </p:nvSpPr>
          <p:spPr>
            <a:xfrm>
              <a:off x="3611160" y="493380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аникулы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2071"/>
            <p:cNvSpPr/>
            <p:nvPr/>
          </p:nvSpPr>
          <p:spPr>
            <a:xfrm>
              <a:off x="3611160" y="551268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Что делать, если…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72"/>
            <p:cNvSpPr/>
            <p:nvPr/>
          </p:nvSpPr>
          <p:spPr>
            <a:xfrm>
              <a:off x="3611160" y="6091200"/>
              <a:ext cx="5074200" cy="3855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Итогово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2"/>
          <p:cNvSpPr/>
          <p:nvPr/>
        </p:nvSpPr>
        <p:spPr>
          <a:xfrm>
            <a:off x="1432080" y="762120"/>
            <a:ext cx="64926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Arial"/>
              </a:rPr>
              <a:t>Структура кур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0 встреч по 30 мину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200"/>
                </a:solidFill>
                <a:latin typeface="Arial"/>
              </a:rPr>
              <a:t>Ресурсное обеспечение кур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ый иллюстративный материа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печатном и электронном вид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мага, простые и цветные карандаш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тека игр и упражн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Каждая встреч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Волшебный вход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ритуал входа в занятие, который помогает установить контакт, настроить группу на работу. Перед тем как войти в кабинет дети всегда отвечают на вопрос, например, что бывает белым, каким может быть яблоко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м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звучивается ведущи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стафет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разминка). Например, « Ветер, дождь и гром», «Один-много», «Скажи наоборот», «Назови деток» и т.д. Подвижная и интеллектуальн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уг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вопросы для обсужд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еме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юды, игры и упраж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ективные  тесты, рисунки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Выход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ритуал прощания, завершения встре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Результат рабо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хранение позитивного образа «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раждение сферы сознания от негативных, травмирующих личность переживаний, связанных с переходом в новые социальные усло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нижение тревож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вышение самооценки будущего уче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Первое сентября – день зна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Волшебный вход»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Что бывает полезным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Первое сентября – день знани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1 сентября, день знаний, урок, звонок, перемена, школьная линей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Эстафет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Ветер, дождь и гром», «Один-много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ру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Вопросы для обсужд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   праздник: 1 сентября – день знаний (форма, школьная линейка, содержание первого дня в школе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можно и нельзя делать на уро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урок отменят: хорошо это или плохо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можно и нельзя делать на перемен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ы хотел бы, чтобы в школе остались одни перемен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чем звонит звонок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еремен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«Строимся по росту», «Молекул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ективные  тесты, рисунки детей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Дорога в школу» (графический диктан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Вых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7:24:37Z</dcterms:created>
  <dc:creator>Женя</dc:creator>
  <dc:description/>
  <dc:language>en-US</dc:language>
  <cp:lastModifiedBy>Пользователь</cp:lastModifiedBy>
  <dcterms:modified xsi:type="dcterms:W3CDTF">2013-08-22T14:39:5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