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2E18-8922-41E8-AF92-062A7DCE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9D90-9A05-4A7C-BA73-2935E760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3DB-8726-477A-B920-3596C514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DEFC-C7D8-435C-BCA9-5983CB65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B320-1312-49CA-A0BC-1944FE84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BABF-7C6B-47B4-8C5C-50476C29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F499-DB8A-4AB9-9282-F10E0555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83BB-CE47-46A1-BEC2-E06D09CC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4EC9-252E-4534-AE52-EBDBCDDF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4B5F-DB4F-4BD3-962A-98938474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43D2-637A-4B53-A5ED-3DDBC1BC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C56-DA30-4416-8AE0-A2570A28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D003-7A59-4B6E-996E-0655F5FE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4EAB-F9AE-42FA-972D-C97A8F93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8F1B-5B57-402F-B331-5549A97C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F294-C331-47D1-BD72-6CD8B1FD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31EB-9010-4866-B709-E1EAC33F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FEA-BF89-4989-BA0B-E4CBC4C3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9C8-E0C9-46AA-B731-3BF2719E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A15-D093-424A-8E2D-FA8845C4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558-7016-4985-AEBF-BCD7BA50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3719-6435-4A17-8074-814E7701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DB3-D894-4CC3-9CF0-6179869B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1B2-E23A-4302-81A5-BBE23928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5065-D2F5-441C-917B-B0535E430C5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0541-9B41-4033-A703-892F8116B6C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11426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200"/>
                </a:solidFill>
                <a:latin typeface="Comic Sans MS"/>
              </a:rPr>
              <a:t>Скоро в школу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4800600" y="5562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Демидова Т.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ификация: Шуманова Н.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4" descr="eac2a4ed50fb"/>
          <p:cNvPicPr/>
          <p:nvPr/>
        </p:nvPicPr>
        <p:blipFill>
          <a:blip r:embed="rId1"/>
          <a:stretch/>
        </p:blipFill>
        <p:spPr>
          <a:xfrm>
            <a:off x="152280" y="152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7" descr="1sentabr07"/>
          <p:cNvPicPr/>
          <p:nvPr/>
        </p:nvPicPr>
        <p:blipFill>
          <a:blip r:embed="rId2"/>
          <a:stretch/>
        </p:blipFill>
        <p:spPr>
          <a:xfrm>
            <a:off x="685800" y="1895400"/>
            <a:ext cx="4191120" cy="3710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1sentabr09"/>
          <p:cNvPicPr/>
          <p:nvPr/>
        </p:nvPicPr>
        <p:blipFill>
          <a:blip r:embed="rId1"/>
          <a:stretch/>
        </p:blipFill>
        <p:spPr>
          <a:xfrm>
            <a:off x="914400" y="533520"/>
            <a:ext cx="3556080" cy="2666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0998"/>
          <p:cNvPicPr/>
          <p:nvPr/>
        </p:nvPicPr>
        <p:blipFill>
          <a:blip r:embed="rId2"/>
          <a:stretch/>
        </p:blipFill>
        <p:spPr>
          <a:xfrm>
            <a:off x="4876920" y="38088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PICT0374"/>
          <p:cNvPicPr/>
          <p:nvPr/>
        </p:nvPicPr>
        <p:blipFill>
          <a:blip r:embed="rId3"/>
          <a:stretch/>
        </p:blipFill>
        <p:spPr>
          <a:xfrm>
            <a:off x="4876920" y="3429000"/>
            <a:ext cx="3632040" cy="2724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1251797493"/>
          <p:cNvPicPr/>
          <p:nvPr/>
        </p:nvPicPr>
        <p:blipFill>
          <a:blip r:embed="rId4"/>
          <a:stretch/>
        </p:blipFill>
        <p:spPr>
          <a:xfrm>
            <a:off x="990720" y="3429000"/>
            <a:ext cx="320040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9" descr="000003"/>
          <p:cNvPicPr/>
          <p:nvPr/>
        </p:nvPicPr>
        <p:blipFill>
          <a:blip r:embed="rId1"/>
          <a:stretch/>
        </p:blipFill>
        <p:spPr>
          <a:xfrm>
            <a:off x="1143000" y="380880"/>
            <a:ext cx="2629080" cy="3276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4"/>
          <p:cNvPicPr/>
          <p:nvPr/>
        </p:nvPicPr>
        <p:blipFill>
          <a:blip r:embed="rId2"/>
          <a:stretch/>
        </p:blipFill>
        <p:spPr>
          <a:xfrm>
            <a:off x="4572000" y="380880"/>
            <a:ext cx="3110040" cy="3124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belgr_b_12603"/>
          <p:cNvPicPr/>
          <p:nvPr/>
        </p:nvPicPr>
        <p:blipFill>
          <a:blip r:embed="rId3"/>
          <a:stretch/>
        </p:blipFill>
        <p:spPr>
          <a:xfrm>
            <a:off x="4800600" y="3733920"/>
            <a:ext cx="3429000" cy="2846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t4_2758891"/>
          <p:cNvPicPr/>
          <p:nvPr/>
        </p:nvPicPr>
        <p:blipFill>
          <a:blip r:embed="rId4"/>
          <a:stretch/>
        </p:blipFill>
        <p:spPr>
          <a:xfrm>
            <a:off x="1600200" y="3733920"/>
            <a:ext cx="228276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67183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Мой первый учитель</a:t>
            </a:r>
            <a:br>
              <a:rPr sz="4000"/>
            </a:b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(тема: «Я и мои учителя»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4000320" cy="3879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учитель1 001"/>
          <p:cNvPicPr/>
          <p:nvPr/>
        </p:nvPicPr>
        <p:blipFill>
          <a:blip r:embed="rId2"/>
          <a:stretch/>
        </p:blipFill>
        <p:spPr>
          <a:xfrm>
            <a:off x="228600" y="2362320"/>
            <a:ext cx="27687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Ученик из цифр</a:t>
            </a:r>
            <a:br>
              <a:rPr sz="4000"/>
            </a:b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(тема: «Оценки и отметки»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6" descr="цифры2 001"/>
          <p:cNvPicPr/>
          <p:nvPr/>
        </p:nvPicPr>
        <p:blipFill>
          <a:blip r:embed="rId1"/>
          <a:stretch/>
        </p:blipFill>
        <p:spPr>
          <a:xfrm>
            <a:off x="1219320" y="1828800"/>
            <a:ext cx="2658960" cy="3657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человек из цифр1 001"/>
          <p:cNvPicPr/>
          <p:nvPr/>
        </p:nvPicPr>
        <p:blipFill>
          <a:blip r:embed="rId2"/>
          <a:stretch/>
        </p:blipFill>
        <p:spPr>
          <a:xfrm>
            <a:off x="5165640" y="1828800"/>
            <a:ext cx="26593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75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64134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Графический диктант </a:t>
            </a:r>
            <a:br>
              <a:rPr sz="2800"/>
            </a:b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«Дорога в школу»</a:t>
            </a:r>
            <a:br>
              <a:rPr sz="2800"/>
            </a:b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(тема: «Что такое школа?»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410080" cy="4811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718320" cy="32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b05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Organization Chart 7"/>
          <p:cNvGrpSpPr/>
          <p:nvPr/>
        </p:nvGrpSpPr>
        <p:grpSpPr>
          <a:xfrm>
            <a:off x="685800" y="152280"/>
            <a:ext cx="7695720" cy="5332680"/>
            <a:chOff x="685800" y="152280"/>
            <a:chExt cx="7695720" cy="5332680"/>
          </a:xfrm>
        </p:grpSpPr>
        <p:cxnSp>
          <p:nvCxnSpPr>
            <p:cNvPr id="156" name="_s1028"/>
            <p:cNvCxnSpPr>
              <a:stCxn id="157" idx="0"/>
              <a:endCxn id="158" idx="2"/>
            </p:cNvCxnSpPr>
            <p:nvPr/>
          </p:nvCxnSpPr>
          <p:spPr>
            <a:xfrm flipV="1" rot="16200000">
              <a:off x="5346720" y="1470960"/>
              <a:ext cx="1067040" cy="2694240"/>
            </a:xfrm>
            <a:prstGeom prst="bentConnector3">
              <a:avLst>
                <a:gd name="adj1" fmla="val 156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29"/>
            <p:cNvCxnSpPr>
              <a:stCxn id="160" idx="0"/>
              <a:endCxn id="158" idx="2"/>
            </p:cNvCxnSpPr>
            <p:nvPr/>
          </p:nvCxnSpPr>
          <p:spPr>
            <a:xfrm flipV="1">
              <a:off x="4533480" y="2284920"/>
              <a:ext cx="2880" cy="106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030"/>
            <p:cNvCxnSpPr>
              <a:stCxn id="162" idx="0"/>
              <a:endCxn id="158" idx="2"/>
            </p:cNvCxnSpPr>
            <p:nvPr/>
          </p:nvCxnSpPr>
          <p:spPr>
            <a:xfrm flipH="1" flipV="1" rot="5400000">
              <a:off x="2653200" y="1471320"/>
              <a:ext cx="1067040" cy="2694240"/>
            </a:xfrm>
            <a:prstGeom prst="bentConnector3">
              <a:avLst>
                <a:gd name="adj1" fmla="val 156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8" name="_s1031"/>
            <p:cNvSpPr/>
            <p:nvPr/>
          </p:nvSpPr>
          <p:spPr>
            <a:xfrm>
              <a:off x="3379320" y="152280"/>
              <a:ext cx="2308680" cy="21330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граммы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технологи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школьного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разован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_s1032"/>
            <p:cNvSpPr/>
            <p:nvPr/>
          </p:nvSpPr>
          <p:spPr>
            <a:xfrm>
              <a:off x="685800" y="3351960"/>
              <a:ext cx="2308680" cy="21330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Интеллектуальна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готовность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_s1033"/>
            <p:cNvSpPr/>
            <p:nvPr/>
          </p:nvSpPr>
          <p:spPr>
            <a:xfrm>
              <a:off x="3379320" y="3351960"/>
              <a:ext cx="2308680" cy="21330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пециальная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готовность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_s1034"/>
            <p:cNvSpPr/>
            <p:nvPr/>
          </p:nvSpPr>
          <p:spPr>
            <a:xfrm>
              <a:off x="6072840" y="3351960"/>
              <a:ext cx="2308680" cy="21330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изическа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готовность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3" name="Text Box 15"/>
          <p:cNvSpPr/>
          <p:nvPr/>
        </p:nvSpPr>
        <p:spPr>
          <a:xfrm>
            <a:off x="2705400" y="5680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сихологическая готовность!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«Скоро в школу»</a:t>
            </a:r>
            <a:br>
              <a:rPr sz="4400"/>
            </a:b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Цели курс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у дошкольников мотивационной готовности, т.е. желания учить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личностной готовности, т.е. «внутренней позиции школьни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Форма организации встре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гротренинг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это комплексная форма общения, где дети в процессе активного взаимообмена опыт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овладевают навыками самовыражения, самообуч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расширяют индивидуальный поведенческий репертуар и поле решений будущих школьных пробле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7" descr="729x"/>
          <p:cNvPicPr/>
          <p:nvPr/>
        </p:nvPicPr>
        <p:blipFill>
          <a:blip r:embed="rId1"/>
          <a:stretch/>
        </p:blipFill>
        <p:spPr>
          <a:xfrm>
            <a:off x="4267080" y="2590920"/>
            <a:ext cx="4152960" cy="2334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67120" y="-10836000"/>
            <a:ext cx="88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Organization Chart 45"/>
          <p:cNvGrpSpPr/>
          <p:nvPr/>
        </p:nvGrpSpPr>
        <p:grpSpPr>
          <a:xfrm>
            <a:off x="228600" y="304920"/>
            <a:ext cx="8456760" cy="6171840"/>
            <a:chOff x="228600" y="304920"/>
            <a:chExt cx="8456760" cy="6171840"/>
          </a:xfrm>
        </p:grpSpPr>
        <p:cxnSp>
          <p:nvCxnSpPr>
            <p:cNvPr id="171" name="_s2052"/>
            <p:cNvCxnSpPr>
              <a:stCxn id="172" idx="1"/>
              <a:endCxn id="173" idx="2"/>
            </p:cNvCxnSpPr>
            <p:nvPr/>
          </p:nvCxnSpPr>
          <p:spPr>
            <a:xfrm rot="10800000">
              <a:off x="2764800" y="689760"/>
              <a:ext cx="846360" cy="559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2053"/>
            <p:cNvCxnSpPr>
              <a:stCxn id="175" idx="1"/>
              <a:endCxn id="173" idx="2"/>
            </p:cNvCxnSpPr>
            <p:nvPr/>
          </p:nvCxnSpPr>
          <p:spPr>
            <a:xfrm rot="10800000">
              <a:off x="2764800" y="689760"/>
              <a:ext cx="846360" cy="501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2054"/>
            <p:cNvCxnSpPr>
              <a:stCxn id="177" idx="1"/>
              <a:endCxn id="173" idx="2"/>
            </p:cNvCxnSpPr>
            <p:nvPr/>
          </p:nvCxnSpPr>
          <p:spPr>
            <a:xfrm rot="10800000">
              <a:off x="2764800" y="690480"/>
              <a:ext cx="846360" cy="4437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2055"/>
            <p:cNvCxnSpPr>
              <a:stCxn id="179" idx="1"/>
              <a:endCxn id="173" idx="2"/>
            </p:cNvCxnSpPr>
            <p:nvPr/>
          </p:nvCxnSpPr>
          <p:spPr>
            <a:xfrm rot="10800000">
              <a:off x="2764800" y="689760"/>
              <a:ext cx="846360" cy="3859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2056"/>
            <p:cNvCxnSpPr>
              <a:stCxn id="181" idx="1"/>
              <a:endCxn id="173" idx="2"/>
            </p:cNvCxnSpPr>
            <p:nvPr/>
          </p:nvCxnSpPr>
          <p:spPr>
            <a:xfrm rot="10800000">
              <a:off x="2764800" y="689760"/>
              <a:ext cx="846360" cy="3280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2057"/>
            <p:cNvCxnSpPr>
              <a:stCxn id="183" idx="1"/>
              <a:endCxn id="173" idx="2"/>
            </p:cNvCxnSpPr>
            <p:nvPr/>
          </p:nvCxnSpPr>
          <p:spPr>
            <a:xfrm rot="10800000">
              <a:off x="2764800" y="689760"/>
              <a:ext cx="846360" cy="270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2058"/>
            <p:cNvCxnSpPr>
              <a:stCxn id="185" idx="1"/>
              <a:endCxn id="173" idx="2"/>
            </p:cNvCxnSpPr>
            <p:nvPr/>
          </p:nvCxnSpPr>
          <p:spPr>
            <a:xfrm rot="10800000">
              <a:off x="2764800" y="689760"/>
              <a:ext cx="846360" cy="212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2059"/>
            <p:cNvCxnSpPr>
              <a:stCxn id="187" idx="1"/>
              <a:endCxn id="173" idx="2"/>
            </p:cNvCxnSpPr>
            <p:nvPr/>
          </p:nvCxnSpPr>
          <p:spPr>
            <a:xfrm rot="10800000">
              <a:off x="2764800" y="689760"/>
              <a:ext cx="846360" cy="1544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2060"/>
            <p:cNvCxnSpPr>
              <a:stCxn id="189" idx="1"/>
              <a:endCxn id="173" idx="2"/>
            </p:cNvCxnSpPr>
            <p:nvPr/>
          </p:nvCxnSpPr>
          <p:spPr>
            <a:xfrm rot="10800000">
              <a:off x="2764800" y="689760"/>
              <a:ext cx="846360" cy="96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2061"/>
            <p:cNvCxnSpPr>
              <a:stCxn id="191" idx="1"/>
              <a:endCxn id="173" idx="2"/>
            </p:cNvCxnSpPr>
            <p:nvPr/>
          </p:nvCxnSpPr>
          <p:spPr>
            <a:xfrm rot="10800000">
              <a:off x="2764800" y="689760"/>
              <a:ext cx="846360" cy="38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3" name="_s2062"/>
            <p:cNvSpPr/>
            <p:nvPr/>
          </p:nvSpPr>
          <p:spPr>
            <a:xfrm>
              <a:off x="228600" y="30492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200"/>
                  </a:solidFill>
                  <a:latin typeface="Comic Sans MS"/>
                </a:rPr>
                <a:t>«Скоро в школу»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_s2063"/>
            <p:cNvSpPr/>
            <p:nvPr/>
          </p:nvSpPr>
          <p:spPr>
            <a:xfrm>
              <a:off x="3611160" y="88344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Что такое школа? Наука учитьс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_s2064"/>
            <p:cNvSpPr/>
            <p:nvPr/>
          </p:nvSpPr>
          <p:spPr>
            <a:xfrm>
              <a:off x="3611160" y="146196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Первое сентября- день знаний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_s2065"/>
            <p:cNvSpPr/>
            <p:nvPr/>
          </p:nvSpPr>
          <p:spPr>
            <a:xfrm>
              <a:off x="3611160" y="204084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Какие предметы нужны в школе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_s2066"/>
            <p:cNvSpPr/>
            <p:nvPr/>
          </p:nvSpPr>
          <p:spPr>
            <a:xfrm>
              <a:off x="3611160" y="261936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Кто такие ученики?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_s2067"/>
            <p:cNvSpPr/>
            <p:nvPr/>
          </p:nvSpPr>
          <p:spPr>
            <a:xfrm>
              <a:off x="3611160" y="319788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Я и мои учител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_s2068"/>
            <p:cNvSpPr/>
            <p:nvPr/>
          </p:nvSpPr>
          <p:spPr>
            <a:xfrm>
              <a:off x="3611160" y="3776760"/>
              <a:ext cx="50688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Что такое класс?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_s2069"/>
            <p:cNvSpPr/>
            <p:nvPr/>
          </p:nvSpPr>
          <p:spPr>
            <a:xfrm>
              <a:off x="3611160" y="4355280"/>
              <a:ext cx="50688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Оценки и отметки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_s2070"/>
            <p:cNvSpPr/>
            <p:nvPr/>
          </p:nvSpPr>
          <p:spPr>
            <a:xfrm>
              <a:off x="3611160" y="493380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Каникулы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_s2071"/>
            <p:cNvSpPr/>
            <p:nvPr/>
          </p:nvSpPr>
          <p:spPr>
            <a:xfrm>
              <a:off x="3611160" y="551268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Что делать, если…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_s2072"/>
            <p:cNvSpPr/>
            <p:nvPr/>
          </p:nvSpPr>
          <p:spPr>
            <a:xfrm>
              <a:off x="3611160" y="609120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Итоговое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2"/>
          <p:cNvSpPr/>
          <p:nvPr/>
        </p:nvSpPr>
        <p:spPr>
          <a:xfrm>
            <a:off x="1432080" y="762120"/>
            <a:ext cx="64926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200"/>
                </a:solidFill>
                <a:latin typeface="Arial"/>
              </a:rPr>
              <a:t>Структура кур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10 встреч по 30 мину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200"/>
                </a:solidFill>
                <a:latin typeface="Arial"/>
              </a:rPr>
              <a:t>Ресурсное обеспечение кур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лядный иллюстративный материа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 печатном и электронном виде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мага, простые и цветные карандаш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отека игр и упражне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Каждая встреч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Волшебный вход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ритуал входа в занятие, который помогает установить контакт, настроить группу на работу. Перед тем как войти в кабинет дети всегда отвечают на вопрос, например, что бывает белым, каким может быть яблоко и т.д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ма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озвучивается ведущим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ловар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стафета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разминка). Например, « Ветер, дождь и гром», «Один-много», «Скажи наоборот», «Назови деток» и т.д. Подвижная и интеллектуальна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уг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вопросы для обсужд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еремен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этюды, игры и упражн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ективные  тесты, рисунки дет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Выход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ритуал прощания, завершения встреч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200"/>
                </a:solidFill>
                <a:latin typeface="Comic Sans MS"/>
              </a:rPr>
              <a:t>Результат работ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хранение позитивного образа «Я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граждение сферы сознания от негативных, травмирующих личность переживаний, связанных с переходом в новые социальные услов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нижение тревож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вышение самооценки будущего уче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68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68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Первое сентября – день зна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«Волшебный вход»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Что бывает полезным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Тем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 «Первое сентября – день знаний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Словар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 1 сентября, день знаний, урок, звонок, перемена, школьная линей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Эстафет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 «Ветер, дождь и гром», «Один-много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Круг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Вопросы для обсуждени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   праздник: 1 сентября – день знаний (форма, школьная линейка, содержание первого дня в школе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 можно и нельзя делать на урок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урок отменят: хорошо это или плохо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 можно и нельзя делать на перемене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ы хотел бы, чтобы в школе остались одни перемены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чем звонит звонок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еремен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 «Строимся по росту», «Молекула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роективные  тесты, рисунки детей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Дорога в школу» (графический диктант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«Выход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07:24:37Z</dcterms:created>
  <dc:creator>Женя</dc:creator>
  <dc:description/>
  <dc:language>en-US</dc:language>
  <cp:lastModifiedBy>Пользователь</cp:lastModifiedBy>
  <dcterms:modified xsi:type="dcterms:W3CDTF">2013-08-22T14:39:52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