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368-34A2-4CE0-832E-421D1819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281-F2BE-4B72-A539-72B9AE20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189-3AF1-49CF-9855-1265D7A8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05E-D23D-4C00-92C1-E3498C0B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E1CB-C318-428D-ACB1-3481C92E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62C-D5BD-46AA-8336-E7229C1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C996-9178-4ACE-AB8A-D6F8658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1F0-1DC9-4603-B735-1B1E993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BEA1-CCD8-45DD-90E8-73D4F0A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FD05-6F50-4A41-A966-15EE1E0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8BE-045A-4E7C-8135-7B10BF9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AED-3595-4AE6-8586-823141B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C73F-EE46-413A-8BB1-520A26B8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A74-2413-46E0-B082-30AC656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262-B734-4662-B5E6-98A2FB6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F1C-7AE6-4471-BBC2-F617E1FA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A49B-DAB9-4088-A016-2B95806F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90E-3910-4AEE-9669-3D87B43E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0BE-ACF7-4D5D-92B8-D40CB1E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B02-7DCA-4C4C-874C-A82F9AD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87B-1ADC-4A99-8D21-C31F1F6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EB6-EEB0-432B-9BDB-D3070D0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EEA-2645-4111-9773-7C9F1F8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85D-6347-4999-B2DD-E7BD24C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D7A-AE8B-45C3-9578-2A53F181FE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781-97AA-4DEA-A475-65A0C0F12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Система и модель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работы с детьми младшего и старшего дошкольного  возраста по ознакомлению </a:t>
            </a: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с правилами</a:t>
            </a:r>
            <a:br>
              <a:rPr sz="54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дорожного движения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84280"/>
          <a:ext cx="7772400" cy="515448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рети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ый праздник с детьми, родителями, инспекторами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аздник нашей ул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одительское собрание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О предупреждении детского травматизма на дорогах в летний пери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трибуты для игр по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изкультурный досу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Разрешается - запрещ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елевая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ки дорожные – наши друз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Мой любимый 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Самый красивый и любимы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ое развлечение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Эстафета зеленого огонь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родителя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Родительские собрания с участием сотрудников ГИБД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вместные досуги и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частие родителей в конкурсах, выстав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Фото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обучения родителей методам формирования у детей навыков безопасного поведения на улицах и дороге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484280"/>
          <a:ext cx="7772400" cy="5450040"/>
        </p:xfrm>
        <a:graphic>
          <a:graphicData uri="http://schemas.openxmlformats.org/drawingml/2006/table">
            <a:tbl>
              <a:tblPr/>
              <a:tblGrid>
                <a:gridCol w="444024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тский дорожно-транспортный травмат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растные особенности восприятия детьми дорож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ипичные опасные дорожные ситуации для пешехода, формы и методы их изучения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законы безопас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у детей навыков безопасного поведения на улице, дороге,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значение и правила перехода проезжей части по сигналам светофора и умение пользоваться дорожными зна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зучение обязанностей пешеходов, пасса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оведения детей в общественном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ветственность родителей за нарушение детьми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Этапы работы по ознакомлению детей дошкольного возраста с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9480" y="1423080"/>
            <a:ext cx="7132680" cy="5448960"/>
            <a:chOff x="789480" y="1423080"/>
            <a:chExt cx="7132680" cy="5448960"/>
          </a:xfrm>
        </p:grpSpPr>
        <p:sp>
          <p:nvSpPr>
            <p:cNvPr id="131" name="_s538655"/>
            <p:cNvSpPr/>
            <p:nvPr/>
          </p:nvSpPr>
          <p:spPr>
            <a:xfrm flipV="1">
              <a:off x="3465000" y="1422720"/>
              <a:ext cx="1780920" cy="1361520"/>
            </a:xfrm>
            <a:custGeom>
              <a:avLst/>
              <a:gdLst>
                <a:gd name="textAreaLeft" fmla="*/ 639000 w 1780920"/>
                <a:gd name="textAreaRight" fmla="*/ 1141920 w 1780920"/>
                <a:gd name="textAreaTop" fmla="*/ 488520 h 1361520"/>
                <a:gd name="textAreaBottom" fmla="*/ 87300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орм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зн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тношения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блюде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дорожного 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38656"/>
            <p:cNvSpPr/>
            <p:nvPr/>
          </p:nvSpPr>
          <p:spPr>
            <a:xfrm flipV="1">
              <a:off x="2572920" y="2784600"/>
              <a:ext cx="3565080" cy="1363680"/>
            </a:xfrm>
            <a:custGeom>
              <a:avLst/>
              <a:gdLst>
                <a:gd name="textAreaLeft" fmla="*/ 783720 w 3565080"/>
                <a:gd name="textAreaRight" fmla="*/ 2781360 w 3565080"/>
                <a:gd name="textAreaTop" fmla="*/ 299880 h 1363680"/>
                <a:gd name="textAreaBottom" fmla="*/ 10638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Расшир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первоначальных представлен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акопление новых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38657"/>
            <p:cNvSpPr/>
            <p:nvPr/>
          </p:nvSpPr>
          <p:spPr>
            <a:xfrm flipV="1">
              <a:off x="1680840" y="4148280"/>
              <a:ext cx="5349240" cy="1361520"/>
            </a:xfrm>
            <a:custGeom>
              <a:avLst/>
              <a:gdLst>
                <a:gd name="textAreaLeft" fmla="*/ 928440 w 5349240"/>
                <a:gd name="textAreaRight" fmla="*/ 4420800 w 5349240"/>
                <a:gd name="textAreaTop" fmla="*/ 236160 h 1361520"/>
                <a:gd name="textAreaBottom" fmla="*/ 112536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точнение представлений де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38658"/>
            <p:cNvSpPr/>
            <p:nvPr/>
          </p:nvSpPr>
          <p:spPr>
            <a:xfrm flipV="1">
              <a:off x="789480" y="5510160"/>
              <a:ext cx="7132680" cy="1361520"/>
            </a:xfrm>
            <a:custGeom>
              <a:avLst/>
              <a:gdLst>
                <a:gd name="textAreaLeft" fmla="*/ 1073160 w 7132680"/>
                <a:gd name="textAreaRight" fmla="*/ 6059520 w 7132680"/>
                <a:gd name="textAreaTop" fmla="*/ 204840 h 1361520"/>
                <a:gd name="textAreaBottom" fmla="*/ 11566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Анализ семейного воспитания по данному вопро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Задачи работы с детьми младшего и старшего дошкольного возраста по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916280"/>
          <a:ext cx="7772400" cy="4417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ладший возраст</a:t>
                      </a: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со светофором, его назнач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детей с дорожными зна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ть представления об улице, ее основных ча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ать знания о правилах дорож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ить различать виды наземного тран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ывать культуру поведения на улице, дороге и в транспо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млад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1484280"/>
          <a:ext cx="7772400" cy="5408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астник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а и цвет предметов. Сравнение предметов по разме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и движение. Передвижение в заданном напра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а и их 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асти легкового автомобиля и грузов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мвай, троллейбус, автобус, метро маршрутное такс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лица и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и закрепление навыка остановки перед переходом дороги. Остановись и посмотри по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территории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редн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1484280"/>
          <a:ext cx="7772400" cy="5434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иентировка на мес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вета, их последовательность и назначение в дорожном движ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Маршрутный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шрутный (городской)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адка в общественный транспор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то такое «Пешеходный переход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с односторонним и двусторонним движением. Правило правой сторо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проезжей части. Родители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еста для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тар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484280"/>
          <a:ext cx="7772400" cy="51894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, транспорт, пешеход, вод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лементы дор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нятие «Регулируемый и нерегулируемый пешеходный переход». Знаки пешеходного пере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крепление навыков «остановись и посмотри», «перейди» (как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ветофор и его сигналы. Сигналы регулировщ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дорог с односторонним и двусторонним движением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асность движения в разное время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ведение на тротуаре. Передвижение групп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за территорию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предшкольно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14400" y="1484280"/>
          <a:ext cx="7772400" cy="5488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шеходов и пассажиров. Использование светоотражающ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наки предупреждающие водителей и пешеходов об опасности на дорог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апрещающие и предписывающ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информационно-указательные и знаки серви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возки детей в автомобиле. Пользование ремнями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ногополосное движение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подаваемые водителями транспорта служб оперативного реаг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городная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нтегративный подход в ознакомлении детей с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62360" y="1690560"/>
            <a:ext cx="9541800" cy="4958640"/>
            <a:chOff x="-162360" y="1690560"/>
            <a:chExt cx="9541800" cy="4958640"/>
          </a:xfrm>
        </p:grpSpPr>
        <p:sp>
          <p:nvSpPr>
            <p:cNvPr id="147" name="_s557126"/>
            <p:cNvSpPr/>
            <p:nvPr/>
          </p:nvSpPr>
          <p:spPr>
            <a:xfrm>
              <a:off x="3403800" y="2396520"/>
              <a:ext cx="2409120" cy="20160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557063"/>
            <p:cNvSpPr/>
            <p:nvPr/>
          </p:nvSpPr>
          <p:spPr>
            <a:xfrm>
              <a:off x="3403800" y="169056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ff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557145"/>
            <p:cNvSpPr/>
            <p:nvPr/>
          </p:nvSpPr>
          <p:spPr>
            <a:xfrm>
              <a:off x="4052520" y="2619360"/>
              <a:ext cx="2409120" cy="20160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557146"/>
            <p:cNvSpPr/>
            <p:nvPr/>
          </p:nvSpPr>
          <p:spPr>
            <a:xfrm>
              <a:off x="6277320" y="226836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озн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57151"/>
            <p:cNvSpPr/>
            <p:nvPr/>
          </p:nvSpPr>
          <p:spPr>
            <a:xfrm>
              <a:off x="4320720" y="3161880"/>
              <a:ext cx="2409480" cy="201600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7152"/>
            <p:cNvSpPr/>
            <p:nvPr/>
          </p:nvSpPr>
          <p:spPr>
            <a:xfrm>
              <a:off x="6970320" y="39182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Социализ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7147"/>
            <p:cNvSpPr/>
            <p:nvPr/>
          </p:nvSpPr>
          <p:spPr>
            <a:xfrm>
              <a:off x="4052520" y="3704760"/>
              <a:ext cx="2409120" cy="20156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557148"/>
            <p:cNvSpPr/>
            <p:nvPr/>
          </p:nvSpPr>
          <p:spPr>
            <a:xfrm>
              <a:off x="6279840" y="556632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Художе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ворчество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р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57149"/>
            <p:cNvSpPr/>
            <p:nvPr/>
          </p:nvSpPr>
          <p:spPr>
            <a:xfrm>
              <a:off x="3403800" y="392940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557150"/>
            <p:cNvSpPr/>
            <p:nvPr/>
          </p:nvSpPr>
          <p:spPr>
            <a:xfrm>
              <a:off x="3405960" y="614592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Чтение художеств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литера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57153"/>
            <p:cNvSpPr/>
            <p:nvPr/>
          </p:nvSpPr>
          <p:spPr>
            <a:xfrm>
              <a:off x="2755080" y="3704760"/>
              <a:ext cx="2409480" cy="201564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57154"/>
            <p:cNvSpPr/>
            <p:nvPr/>
          </p:nvSpPr>
          <p:spPr>
            <a:xfrm>
              <a:off x="530280" y="556848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Коммуник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557155"/>
            <p:cNvSpPr/>
            <p:nvPr/>
          </p:nvSpPr>
          <p:spPr>
            <a:xfrm>
              <a:off x="2486880" y="316188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7156"/>
            <p:cNvSpPr/>
            <p:nvPr/>
          </p:nvSpPr>
          <p:spPr>
            <a:xfrm>
              <a:off x="-162360" y="39200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Физ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7157"/>
            <p:cNvSpPr/>
            <p:nvPr/>
          </p:nvSpPr>
          <p:spPr>
            <a:xfrm>
              <a:off x="2755080" y="2619360"/>
              <a:ext cx="2409480" cy="2016000"/>
            </a:xfrm>
            <a:prstGeom prst="ellipse">
              <a:avLst/>
            </a:prstGeom>
            <a:solidFill>
              <a:srgbClr val="ff8c01">
                <a:alpha val="50000"/>
              </a:srgbClr>
            </a:solidFill>
            <a:ln w="9360">
              <a:solidFill>
                <a:srgbClr val="ff8c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7158"/>
            <p:cNvSpPr/>
            <p:nvPr/>
          </p:nvSpPr>
          <p:spPr>
            <a:xfrm>
              <a:off x="527760" y="226980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Музы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3080" y="301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3141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резентацию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одготовили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тарший воспитатель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Крутова Раис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Окунь Светла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Семенова Татья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Матвеева Екатер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деть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виж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южетно –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атрализован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вободная продуктив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зготовление атрибутов для проигрывания дор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узыкально – игровые дос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онкурсы, викторины, 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спользование видеофильмов, 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о содержанию подвижные игры для обучения детей ПДД можно условно классифицировать н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сигналах светофора и регулировщ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знаках дорож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б элементах дороги, об участках дорожного движения и правилах их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мплексные игры-занятия, включающие в себя элементы нескольких или все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сигналах светофора и регулировщи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овкий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Эстафета «Красный, желтый, 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раски свето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ш друг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топ. И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елай, как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знаках дорожного движен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полни пор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гада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Что нам скажет дорожны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357720"/>
            <a:ext cx="8172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Игры, формирующие представления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элементах дороги, об участках доро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движения и правилах их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то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Га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роех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Комплексные игры-занятия, включающие в себя элементы нескольких или всех игр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орожное – не дорож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Разгадай загадку, покажи от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ехали, автомобили. Сто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а-соревнование «Быстрые автомоб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Едем в автобусе, едем в трамв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втомобили и пеш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йди безопасный 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77" name="_s13335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334"/>
            <p:cNvCxnSpPr>
              <a:stCxn id="181" idx="0"/>
              <a:endCxn id="179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3333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3329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дидактически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включает игр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формир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у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представл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3330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уде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(регулировщико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бочих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331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анспорт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средства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ругих механизма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помогающ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ям в 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жизни и тр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332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знаковой систем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зработа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ьми д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безопас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виж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еречень дидактических игр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то необходимо регулировщику дорожного движения дл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ставь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, како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 по о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вета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асположи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расный, желтый,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еселые челов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ворящи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е 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бывчивый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ы перекр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у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ша 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южетно-ролевые игры по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Скорая помощ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акрепить умение детей брать на себя роли регулировщика, инспектора ГИБДД, водителя «скорой помощи», мамы, дочки (сына), больного, действовать соответственно взят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Улица полна неожидан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расширять представления детей об улице, о проезжей части дороги, тротуаре, пешеходах, транспортных средствах; учить детей распределять роли, вести их до конц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Прогулка с любимыми кукл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накомить детей с правилами дорожного движения и дорожной атрибутикой в ход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Освоение основ ПДД происходит легче, если в процесс познания включаются 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театрализованные игр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 по сказке С.Михалкова «Бездельник 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сказке Н.Гинсбург «Коле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«Еду, еду в автомоби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книге Я.Пишумова «Это улица м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музыкально-познавательное развлечение «В королевстве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егрированная театрализованная совместная деятельность педагога с детьми «Город масте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развлечение «Путешествие в страну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Видеофильм «Азбука безопасности»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 участием Смешариков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армония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шеходная «зеб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ебры в 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яшущие челов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граничная 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игающий челове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детски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амая страшная м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культурные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терпеливые 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вто спец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а остан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авто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истегните ре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обучения ПДД в дошкольном учреждении подразумевает: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оспитание у детей навыков культуры поведения на улицах, дорогах, в транспо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вышение квалификации педагогических кадров, отвечающих за социальное воспитание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ктивизацию совместной деятельности учреждения и родителей по обучению детей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ебно-методическое пособие «Дети на дороге. Правила дорожного движения в играх и упраж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грамма и методические рекомендации по ознакомлению детей дошкольного возраста с правилами дорожного движения «Азбука дорожного движения» Л.Б. Баряева, В.Л. Жевнеров, Е.В. Загре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.С. Майорова «Изучаем дорожную азбу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.Н.Черепанова «Правила дорожного движения дошкольни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ческие рекомендации: Формирование у дошкольников навыков безопасного поведения на улицах и дорогах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амках реализации федеральной целевой программы «Повышение безопасности дорожного движения в 2006-2012 г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Справочник старшего воспитателя» №6,7 2009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Дошкольная педагогика»  Апрель 200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.В.Чермашенцева «Основы безопасного поведения 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Модель работы ДОУ по ознакомлению с правилами дорожного движ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74600" y="1815480"/>
            <a:ext cx="6849000" cy="4722840"/>
            <a:chOff x="1074600" y="1815480"/>
            <a:chExt cx="6849000" cy="4722840"/>
          </a:xfrm>
        </p:grpSpPr>
        <p:sp>
          <p:nvSpPr>
            <p:cNvPr id="104" name="_s5164"/>
            <p:cNvSpPr/>
            <p:nvPr/>
          </p:nvSpPr>
          <p:spPr>
            <a:xfrm flipH="1">
              <a:off x="278388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2"/>
            <p:cNvSpPr/>
            <p:nvPr/>
          </p:nvSpPr>
          <p:spPr>
            <a:xfrm>
              <a:off x="107460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даг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5163"/>
            <p:cNvSpPr/>
            <p:nvPr/>
          </p:nvSpPr>
          <p:spPr>
            <a:xfrm>
              <a:off x="4499280" y="476676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6"/>
            <p:cNvSpPr/>
            <p:nvPr/>
          </p:nvSpPr>
          <p:spPr>
            <a:xfrm>
              <a:off x="3644640" y="53596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62"/>
            <p:cNvSpPr/>
            <p:nvPr/>
          </p:nvSpPr>
          <p:spPr>
            <a:xfrm>
              <a:off x="535356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5134"/>
            <p:cNvSpPr/>
            <p:nvPr/>
          </p:nvSpPr>
          <p:spPr>
            <a:xfrm>
              <a:off x="621396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61"/>
            <p:cNvSpPr/>
            <p:nvPr/>
          </p:nvSpPr>
          <p:spPr>
            <a:xfrm flipV="1">
              <a:off x="4499280" y="2994120"/>
              <a:ext cx="0" cy="59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5128"/>
            <p:cNvSpPr/>
            <p:nvPr/>
          </p:nvSpPr>
          <p:spPr>
            <a:xfrm>
              <a:off x="3644640" y="18154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127"/>
            <p:cNvSpPr/>
            <p:nvPr/>
          </p:nvSpPr>
          <p:spPr>
            <a:xfrm>
              <a:off x="3644640" y="3587760"/>
              <a:ext cx="1708920" cy="117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рож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603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 методической работы с педагогами по</a:t>
            </a:r>
            <a:br>
              <a:rPr sz="2400"/>
            </a:b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теме «Правила безопасного поведения на дорог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765000"/>
          <a:ext cx="7772400" cy="6040440"/>
        </p:xfrm>
        <a:graphic>
          <a:graphicData uri="http://schemas.openxmlformats.org/drawingml/2006/table">
            <a:tbl>
              <a:tblPr/>
              <a:tblGrid>
                <a:gridCol w="3108240"/>
                <a:gridCol w="1555920"/>
                <a:gridCol w="1554120"/>
                <a:gridCol w="155412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Ж. Правила дорож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и обзор ли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ы и методы обучения детей поведению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мина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знаний правил поведения на проезже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ганизация предметно-раз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ающей среды в груп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работка методических рекомендаций по П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стема работы с деть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воение знаний, умений, навыков детей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ждение детского дорожно-транспортного травматизма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явление знаний и умений педагогов по данной 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педагога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ес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нформационно-практические обучающи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зготовление методических игр и пособ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едагогические сов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Мастер - 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курс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обучения воспитателей правилам безопасного поведения детей на дороге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484280"/>
          <a:ext cx="7772400" cy="5489640"/>
        </p:xfrm>
        <a:graphic>
          <a:graphicData uri="http://schemas.openxmlformats.org/drawingml/2006/table">
            <a:tbl>
              <a:tblPr/>
              <a:tblGrid>
                <a:gridCol w="2220840"/>
                <a:gridCol w="221940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ДД. Основные термины и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в 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язанности пешехода, пасса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сихофизиологическ. характеристики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дительные сигн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авто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ДТП и их 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светофора и регул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формационно-практическое занятие на территории вело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, 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жные знаки и раз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484280"/>
          <a:ext cx="7772400" cy="526860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ервы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щее родительское собрание 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и на дорог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 научить ребенка безопасному поведению на ули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 глазами ребе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ктор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оверь себ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Высокая цена беспеч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исциплина на улице – залог безопасности пешеход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гулка в парке совместно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ознавательная прогу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библиоте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апа, мама, я – читает вс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В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збука дорожного движения нужна нам как таблица умн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484280"/>
          <a:ext cx="7772400" cy="542304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торо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нь открытых дверей «Как мы учим детей правилам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Что нужно знать детям и родителям о правилах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екомен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ую литературу читать детям по ПД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рисун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Наш путь из дома в детский с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ет ли мой ребенок дорожные знак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ля чего нужны ПДД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на которой я жи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ский травматизм. Меры его предуп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исание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огда я иду по улице с дочерью или сыном, то я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1:06Z</dcterms:created>
  <dc:creator>1</dc:creator>
  <dc:description/>
  <dc:language>en-US</dc:language>
  <cp:lastModifiedBy>Админ</cp:lastModifiedBy>
  <dcterms:modified xsi:type="dcterms:W3CDTF">2011-06-10T08:03:24Z</dcterms:modified>
  <cp:revision>14</cp:revision>
  <dc:subject/>
  <dc:title>Слайд 1</dc:title>
</cp:coreProperties>
</file>