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78F8-C515-4A1A-9D30-650D0CCF0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B49A-11D5-43A5-8BE8-D2385EA4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3340-F026-4D6A-8302-53D65764C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39DA-A8DF-43F1-BF82-B771CC175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1053-6922-49FF-B568-B91CF7480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0F59-7350-457B-AAC5-92B4F7B7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73A4-D606-4E7F-A6E3-BE14E4F1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2674-9375-4AF6-93E2-20BB5B24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2930-EC99-475B-94CC-7168285D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D6F4-A157-4971-894D-9DAE3D37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92B6-35F8-4440-A017-1D887501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0A9B-F63C-4ABD-BF95-8A540F73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2A0E-D789-4755-8190-E125F3C1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51D6-CF4F-46E7-AC1D-504C208D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97BB-5EA9-4014-9B53-432296C4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7C8C-FDC1-4CAB-8042-E44CD40A1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A882-1580-4B90-BFED-8E352D39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568F-ED76-407E-A285-1901A131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6B2D-9505-416D-A735-6958ED7B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D128-635C-4B97-96BA-A8470CB1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597C-BFE7-4C75-99FE-843AAEFD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BD00-6DC7-48E1-A7D8-9E4ABD04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9CD5-B696-4D86-B055-D629333C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26EA-D162-461B-82FF-7F14E63B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DFE7-A705-4F66-803D-6B21FAAB6A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F0D0-08FC-4E27-9568-6DD183E42B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560" y="620280"/>
            <a:ext cx="770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Система и модель 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работы с детьми младшего и старшего дошкольного  возраста по ознакомлению </a:t>
            </a:r>
            <a:br>
              <a:rPr sz="4000"/>
            </a:br>
            <a:br>
              <a:rPr sz="4000"/>
            </a:br>
            <a:r>
              <a:rPr b="1" lang="en-US" sz="5400" spc="-1" strike="noStrike">
                <a:solidFill>
                  <a:srgbClr val="00cc66"/>
                </a:solidFill>
                <a:latin typeface="Times New Roman"/>
              </a:rPr>
              <a:t>с правилами</a:t>
            </a:r>
            <a:br>
              <a:rPr sz="5400"/>
            </a:br>
            <a:r>
              <a:rPr b="1" lang="en-US" sz="5400" spc="-1" strike="noStrike">
                <a:solidFill>
                  <a:srgbClr val="00cc66"/>
                </a:solidFill>
                <a:latin typeface="Times New Roman"/>
              </a:rPr>
              <a:t>дорожного движения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66"/>
                </a:solidFill>
                <a:latin typeface="Times New Roman"/>
              </a:rPr>
              <a:t>Система работы с родителями по ПДД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14400" y="1484280"/>
          <a:ext cx="7772400" cy="5154480"/>
        </p:xfrm>
        <a:graphic>
          <a:graphicData uri="http://schemas.openxmlformats.org/drawingml/2006/table">
            <a:tbl>
              <a:tblPr/>
              <a:tblGrid>
                <a:gridCol w="1295280"/>
                <a:gridCol w="2590920"/>
                <a:gridCol w="3886200"/>
              </a:tblGrid>
              <a:tr h="46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Групп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Формы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Тем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Третий кварт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0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овместный праздник с детьми, родителями, инспекторами ГИБ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Праздник нашей улиц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лад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Родительское собрание с участием инспектора ГИБ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О предупреждении детского травматизма на дорогах в летний период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ыставка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Атрибуты для игр по безопасности дорожного движ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изкультурный досу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Разрешается - запрещаетс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Целевая прогул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Знаки дорожные – наши друзь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ыставка совместных раб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Мой любимый транспорт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Экскурсия по улиц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Самый красивый и любимый город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одготови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е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овместное развлечение детей и р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Эстафета зеленого огонь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66"/>
                </a:solidFill>
                <a:latin typeface="Times New Roman"/>
              </a:rPr>
              <a:t>Формы работы с родителями: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Родительские собрания с участием сотрудников ГИБД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Бес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Консульт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Круглый сто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Совместные досуги и праздн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Участие родителей в конкурсах, выставк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Целевые прогулки и экскурс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Анкетиров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КВ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Фотовыста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66"/>
                </a:solidFill>
                <a:latin typeface="Times New Roman"/>
              </a:rPr>
              <a:t>Система обучения родителей методам формирования у детей навыков безопасного поведения на улицах и дороге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14400" y="1484280"/>
          <a:ext cx="7772400" cy="5450040"/>
        </p:xfrm>
        <a:graphic>
          <a:graphicData uri="http://schemas.openxmlformats.org/drawingml/2006/table">
            <a:tbl>
              <a:tblPr/>
              <a:tblGrid>
                <a:gridCol w="4440240"/>
                <a:gridCol w="2220840"/>
                <a:gridCol w="1111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Ответстве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Сро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етский дорожно-транспортный травматиз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нспектор ГИБ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ен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озрастные особенности восприятия детьми дорожных ситу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едагог-психо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к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ипичные опасные дорожные ситуации для пешехода, формы и методы их изучения в сем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нспектор  ГИБ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едагог-организатор С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оябр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сновные законы безопасного дви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ека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ормирование у детей навыков безопасного поведения на улице, дороге, транспор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и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Январ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азначение и правила перехода проезжей части по сигналам светофора и умение пользоваться дорожными знак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нспектор  ГИБД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евр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зучение обязанностей пешеходов, пассажи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едагог-организатор С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авила поведения детей в общественном транспор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и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прел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тветственность родителей за нарушение детьми П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нспектор  ГИБ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тоговое за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с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юн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Этапы работы по ознакомлению детей дошкольного возраста с ПДД: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89480" y="1423080"/>
            <a:ext cx="7132680" cy="5448960"/>
            <a:chOff x="789480" y="1423080"/>
            <a:chExt cx="7132680" cy="5448960"/>
          </a:xfrm>
        </p:grpSpPr>
        <p:sp>
          <p:nvSpPr>
            <p:cNvPr id="131" name="_s538655"/>
            <p:cNvSpPr/>
            <p:nvPr/>
          </p:nvSpPr>
          <p:spPr>
            <a:xfrm flipV="1">
              <a:off x="3465000" y="1422720"/>
              <a:ext cx="1780920" cy="1361520"/>
            </a:xfrm>
            <a:custGeom>
              <a:avLst/>
              <a:gdLst>
                <a:gd name="textAreaLeft" fmla="*/ 639000 w 1780920"/>
                <a:gd name="textAreaRight" fmla="*/ 1141920 w 1780920"/>
                <a:gd name="textAreaTop" fmla="*/ 488520 h 1361520"/>
                <a:gd name="textAreaBottom" fmla="*/ 873000 h 136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0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Формиров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сознательн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отношения 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соблюдени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прави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дорожного движ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538656"/>
            <p:cNvSpPr/>
            <p:nvPr/>
          </p:nvSpPr>
          <p:spPr>
            <a:xfrm flipV="1">
              <a:off x="2572920" y="2784600"/>
              <a:ext cx="3565080" cy="1363680"/>
            </a:xfrm>
            <a:custGeom>
              <a:avLst/>
              <a:gdLst>
                <a:gd name="textAreaLeft" fmla="*/ 783720 w 3565080"/>
                <a:gd name="textAreaRight" fmla="*/ 2781360 w 3565080"/>
                <a:gd name="textAreaTop" fmla="*/ 299880 h 1363680"/>
                <a:gd name="textAreaBottom" fmla="*/ 1063800 h 136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Расшире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первоначальных представлений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накопление новых зна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о правилах дорожного движ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538657"/>
            <p:cNvSpPr/>
            <p:nvPr/>
          </p:nvSpPr>
          <p:spPr>
            <a:xfrm flipV="1">
              <a:off x="1680840" y="4148280"/>
              <a:ext cx="5349240" cy="1361520"/>
            </a:xfrm>
            <a:custGeom>
              <a:avLst/>
              <a:gdLst>
                <a:gd name="textAreaLeft" fmla="*/ 928440 w 5349240"/>
                <a:gd name="textAreaRight" fmla="*/ 4420800 w 5349240"/>
                <a:gd name="textAreaTop" fmla="*/ 236160 h 1361520"/>
                <a:gd name="textAreaBottom" fmla="*/ 1125360 h 136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Уточнение представлений дет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о правилах дорожного движ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538658"/>
            <p:cNvSpPr/>
            <p:nvPr/>
          </p:nvSpPr>
          <p:spPr>
            <a:xfrm flipV="1">
              <a:off x="789480" y="5510160"/>
              <a:ext cx="7132680" cy="1361520"/>
            </a:xfrm>
            <a:custGeom>
              <a:avLst/>
              <a:gdLst>
                <a:gd name="textAreaLeft" fmla="*/ 1073160 w 7132680"/>
                <a:gd name="textAreaRight" fmla="*/ 6059520 w 7132680"/>
                <a:gd name="textAreaTop" fmla="*/ 204840 h 1361520"/>
                <a:gd name="textAreaBottom" fmla="*/ 1156680 h 136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00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Анализ семейного воспитания по данному вопрос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Times New Roman"/>
              </a:rPr>
              <a:t>Задачи работы с детьми младшего и старшего дошкольного возраста по ПДД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1916280"/>
          <a:ext cx="7772400" cy="44179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02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Младший возраст</a:t>
                      </a:r>
                      <a:r>
                        <a:rPr b="1" lang="en-US" sz="20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Старший возра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ознакомить со светофором, его назначени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ознакомить детей с дорожными знак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ормировать представления об улице, ее основных част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ать знания о правилах дорожного дви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учить различать виды наземного транспор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оспитывать культуру поведения на улице, дороге и в транспор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Times New Roman"/>
              </a:rPr>
              <a:t>Система работы с детьми младшего  возраста по ознакомлению с ПДД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914400" y="1484280"/>
          <a:ext cx="7772400" cy="5408640"/>
        </p:xfrm>
        <a:graphic>
          <a:graphicData uri="http://schemas.openxmlformats.org/drawingml/2006/table">
            <a:tbl>
              <a:tblPr/>
              <a:tblGrid>
                <a:gridCol w="1295280"/>
                <a:gridCol w="6477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Меся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Тем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ен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Участники дорожного движ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к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орма и цвет предметов. Сравнение предметов по размер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о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игналы и движение. Передвижение в заданном направлен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ека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иды транспорта и их отлич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янв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Части легкового автомобиля и грузови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евр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рамвай, троллейбус, автобус, метро маршрутное такс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Улица и дорог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пр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ормирование и закрепление навыка остановки перед переходом дороги. Остановись и посмотри по сторона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Экскурсия по территории детского са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Times New Roman"/>
              </a:rPr>
              <a:t>Система работы с детьми среднего  возраста по ознакомлению с ПДД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914400" y="1484280"/>
          <a:ext cx="7772400" cy="5434200"/>
        </p:xfrm>
        <a:graphic>
          <a:graphicData uri="http://schemas.openxmlformats.org/drawingml/2006/table">
            <a:tbl>
              <a:tblPr/>
              <a:tblGrid>
                <a:gridCol w="1295280"/>
                <a:gridCol w="6477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Меся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Тем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ен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риентировка на мест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к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Цвета, их последовательность и назначение в дорожном движен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о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иды транспортных средств. Маршрутный транспор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ека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ршрутный (городской) транспор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янв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осадка в общественный транспорт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евр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Что такое «Пешеходный переход»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орога с односторонним и двусторонним движением. Правило правой сторон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пр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авила перехода проезжей части. Родители. Три фикс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еста для иг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Times New Roman"/>
              </a:rPr>
              <a:t>Система работы с детьми старшего  возраста по ознакомлению с ПДД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14400" y="1484280"/>
          <a:ext cx="7772400" cy="5189400"/>
        </p:xfrm>
        <a:graphic>
          <a:graphicData uri="http://schemas.openxmlformats.org/drawingml/2006/table">
            <a:tbl>
              <a:tblPr/>
              <a:tblGrid>
                <a:gridCol w="1295280"/>
                <a:gridCol w="6477120"/>
              </a:tblGrid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Меся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Тем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ен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орога, транспорт, пешеход, водител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к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Элементы дорог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о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онятие «Регулируемый и нерегулируемый пешеходный переход». Знаки пешеходного перехо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ека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Закрепление навыков «остановись и посмотри», «перейди» (как?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янв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ветофор и его сигналы. Сигналы регулировщи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евр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авила перехода дорог с односторонним и двусторонним движением. Три фикс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пасность движения в разное время го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пр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оведение на тротуаре. Передвижение группа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Экскурсия за территорию детского са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Times New Roman"/>
              </a:rPr>
              <a:t>Система работы с детьми предшкольного  возраста по ознакомлению с ПДД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914400" y="1484280"/>
          <a:ext cx="7772400" cy="5488200"/>
        </p:xfrm>
        <a:graphic>
          <a:graphicData uri="http://schemas.openxmlformats.org/drawingml/2006/table">
            <a:tbl>
              <a:tblPr/>
              <a:tblGrid>
                <a:gridCol w="1295280"/>
                <a:gridCol w="647712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Месяц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Тем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ен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авила пешеходов и пассажиров. Использование светоотражающих элемент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к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иды дорожных знаков: знаки предупреждающие водителей и пешеходов об опасности на дорог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о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иды дорожных знаков: запрещающие и предписывающ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ека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иды дорожных знаков: информационно-указательные и знаки сервис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янв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авила перевозки детей в автомобиле. Пользование ремнями безопас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евр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ногополосное движение транспор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игналы подаваемые водителями транспорта служб оперативного реагиров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пр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Загородная дорог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Экскурс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66"/>
                </a:solidFill>
                <a:latin typeface="Times New Roman"/>
              </a:rPr>
              <a:t>Интегративный подход в ознакомлении детей с ПДД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-162360" y="1690560"/>
            <a:ext cx="9541800" cy="4958640"/>
            <a:chOff x="-162360" y="1690560"/>
            <a:chExt cx="9541800" cy="4958640"/>
          </a:xfrm>
        </p:grpSpPr>
        <p:sp>
          <p:nvSpPr>
            <p:cNvPr id="147" name="_s557126"/>
            <p:cNvSpPr/>
            <p:nvPr/>
          </p:nvSpPr>
          <p:spPr>
            <a:xfrm>
              <a:off x="3403800" y="2396520"/>
              <a:ext cx="2409120" cy="201600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557063"/>
            <p:cNvSpPr/>
            <p:nvPr/>
          </p:nvSpPr>
          <p:spPr>
            <a:xfrm>
              <a:off x="3403800" y="1690560"/>
              <a:ext cx="24091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ff"/>
                  </a:solidFill>
                  <a:latin typeface="Arial"/>
                </a:rPr>
                <a:t>Безопас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557145"/>
            <p:cNvSpPr/>
            <p:nvPr/>
          </p:nvSpPr>
          <p:spPr>
            <a:xfrm>
              <a:off x="4052520" y="2619360"/>
              <a:ext cx="2409120" cy="201600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557146"/>
            <p:cNvSpPr/>
            <p:nvPr/>
          </p:nvSpPr>
          <p:spPr>
            <a:xfrm>
              <a:off x="6277320" y="2268360"/>
              <a:ext cx="24094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Познан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557151"/>
            <p:cNvSpPr/>
            <p:nvPr/>
          </p:nvSpPr>
          <p:spPr>
            <a:xfrm>
              <a:off x="4320720" y="3161880"/>
              <a:ext cx="2409480" cy="201600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557152"/>
            <p:cNvSpPr/>
            <p:nvPr/>
          </p:nvSpPr>
          <p:spPr>
            <a:xfrm>
              <a:off x="6970320" y="3918240"/>
              <a:ext cx="24091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Arial"/>
                </a:rPr>
                <a:t>Социализац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557147"/>
            <p:cNvSpPr/>
            <p:nvPr/>
          </p:nvSpPr>
          <p:spPr>
            <a:xfrm>
              <a:off x="4052520" y="3704760"/>
              <a:ext cx="2409120" cy="2015640"/>
            </a:xfrm>
            <a:prstGeom prst="ellipse">
              <a:avLst/>
            </a:prstGeom>
            <a:solidFill>
              <a:srgbClr val="01bd0a">
                <a:alpha val="50000"/>
              </a:srgbClr>
            </a:solidFill>
            <a:ln w="936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557148"/>
            <p:cNvSpPr/>
            <p:nvPr/>
          </p:nvSpPr>
          <p:spPr>
            <a:xfrm>
              <a:off x="6279840" y="5566320"/>
              <a:ext cx="24091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66"/>
                  </a:solidFill>
                  <a:latin typeface="Arial"/>
                </a:rPr>
                <a:t>Художественно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66"/>
                  </a:solidFill>
                  <a:latin typeface="Arial"/>
                </a:rPr>
                <a:t>творчество 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66"/>
                  </a:solidFill>
                  <a:latin typeface="Arial"/>
                </a:rPr>
                <a:t>тру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557149"/>
            <p:cNvSpPr/>
            <p:nvPr/>
          </p:nvSpPr>
          <p:spPr>
            <a:xfrm>
              <a:off x="3403800" y="3929400"/>
              <a:ext cx="2409120" cy="2016000"/>
            </a:xfrm>
            <a:prstGeom prst="ellipse">
              <a:avLst/>
            </a:prstGeom>
            <a:solidFill>
              <a:srgbClr val="1a0fff">
                <a:alpha val="50000"/>
              </a:srgbClr>
            </a:solidFill>
            <a:ln w="9360">
              <a:solidFill>
                <a:srgbClr val="1a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557150"/>
            <p:cNvSpPr/>
            <p:nvPr/>
          </p:nvSpPr>
          <p:spPr>
            <a:xfrm>
              <a:off x="3405960" y="6145920"/>
              <a:ext cx="24094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Чтение художественно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литерату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557153"/>
            <p:cNvSpPr/>
            <p:nvPr/>
          </p:nvSpPr>
          <p:spPr>
            <a:xfrm>
              <a:off x="2755080" y="3704760"/>
              <a:ext cx="2409480" cy="201564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557154"/>
            <p:cNvSpPr/>
            <p:nvPr/>
          </p:nvSpPr>
          <p:spPr>
            <a:xfrm>
              <a:off x="530280" y="5568480"/>
              <a:ext cx="24091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Коммуникац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557155"/>
            <p:cNvSpPr/>
            <p:nvPr/>
          </p:nvSpPr>
          <p:spPr>
            <a:xfrm>
              <a:off x="2486880" y="3161880"/>
              <a:ext cx="2409120" cy="2016000"/>
            </a:xfrm>
            <a:prstGeom prst="ellipse">
              <a:avLst/>
            </a:prstGeom>
            <a:solidFill>
              <a:srgbClr val="1a0fff">
                <a:alpha val="50000"/>
              </a:srgbClr>
            </a:solidFill>
            <a:ln w="9360">
              <a:solidFill>
                <a:srgbClr val="1a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557156"/>
            <p:cNvSpPr/>
            <p:nvPr/>
          </p:nvSpPr>
          <p:spPr>
            <a:xfrm>
              <a:off x="-162360" y="3920040"/>
              <a:ext cx="24091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Физическ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культур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557157"/>
            <p:cNvSpPr/>
            <p:nvPr/>
          </p:nvSpPr>
          <p:spPr>
            <a:xfrm>
              <a:off x="2755080" y="2619360"/>
              <a:ext cx="2409480" cy="2016000"/>
            </a:xfrm>
            <a:prstGeom prst="ellipse">
              <a:avLst/>
            </a:prstGeom>
            <a:solidFill>
              <a:srgbClr val="ff8c01">
                <a:alpha val="50000"/>
              </a:srgbClr>
            </a:solidFill>
            <a:ln w="9360">
              <a:solidFill>
                <a:srgbClr val="ff8c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557158"/>
            <p:cNvSpPr/>
            <p:nvPr/>
          </p:nvSpPr>
          <p:spPr>
            <a:xfrm>
              <a:off x="527760" y="2269800"/>
              <a:ext cx="24094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Arial"/>
                </a:rPr>
                <a:t>Музык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13080" y="30160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66"/>
                </a:solidFill>
                <a:latin typeface="Arial"/>
              </a:rPr>
              <a:t>Здоров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81800" y="314172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Тр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66"/>
                </a:solidFill>
                <a:latin typeface="Times New Roman"/>
              </a:rPr>
              <a:t>Презентацию</a:t>
            </a:r>
            <a:r>
              <a:rPr b="1" lang="en-US" sz="4400" spc="-1" strike="noStrike">
                <a:solidFill>
                  <a:srgbClr val="00cc66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cc66"/>
                </a:solidFill>
                <a:latin typeface="Times New Roman"/>
              </a:rPr>
              <a:t>подготовили</a:t>
            </a:r>
            <a:r>
              <a:rPr b="1" lang="en-US" sz="4400" spc="-1" strike="noStrike">
                <a:solidFill>
                  <a:srgbClr val="00cc66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Старший воспитатель ГДОУ детский сад 120 Выборгского рай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cc00"/>
                </a:solidFill>
                <a:latin typeface="Arial"/>
              </a:rPr>
              <a:t>Крутова Раиса Александ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Методи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cc00"/>
                </a:solidFill>
                <a:latin typeface="Arial"/>
              </a:rPr>
              <a:t>Окунь Светлана Алекс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Воспита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cc00"/>
                </a:solidFill>
                <a:latin typeface="Arial"/>
              </a:rPr>
              <a:t>Семенова Татьяна Анато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Воспитатель  ГДОУ детский сад 120 Выборгского рай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cc00"/>
                </a:solidFill>
                <a:latin typeface="Arial"/>
              </a:rPr>
              <a:t>Матвеева Екатерина Викто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66"/>
                </a:solidFill>
                <a:latin typeface="Times New Roman"/>
              </a:rPr>
              <a:t>Формы работы с детьми: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Бес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Целевые прогулки и экскурс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Подвижные иг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Дидактические иг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Сюжетно – ролевые иг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Театрализованные иг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Свободная продуктивная дея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Чтение художественной литерат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Изготовление атрибутов для проигрывания дорожных ситуа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Музыкально – игровые досуг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Конкурсы, викторины, выстав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Использование видеофильмов, рол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5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5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5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5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5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5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5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5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5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5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5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5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5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5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5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50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50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50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0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5000" fill="hold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5000" fill="hold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66"/>
                </a:solidFill>
                <a:latin typeface="Times New Roman"/>
              </a:rPr>
              <a:t>По содержанию подвижные игры для обучения детей ПДД можно условно классифицировать на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Игры, формирующие представления о сигналах светофора и регулировщ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Игры, формирующие представления о знаках дорожного движ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Игры, формирующие представления об элементах дороги, об участках дорожного движения и правилах их повед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Комплексные игры-занятия, включающие в себя элементы нескольких или всех иг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66"/>
                </a:solidFill>
                <a:latin typeface="Times New Roman"/>
              </a:rPr>
              <a:t>Игры, формирующие представления о сигналах светофора и регулировщика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Ловкий пеше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Эстафета «Красный, желтый, зелен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Светоф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Краски светоф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Наш друг светоф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Стоп. Иди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Делай, как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66"/>
                </a:solidFill>
                <a:latin typeface="Times New Roman"/>
              </a:rPr>
              <a:t>Игры, формирующие представления о знаках дорожного движения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Выполни пор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Повор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Угадай зн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Что нам скажет дорожный зна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71640" y="3357720"/>
            <a:ext cx="81723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Игры, формирующие представления о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элементах дороги, об участках дорож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движения и правилах их повед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2b2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2b2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Кто быстре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2b2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Гара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2b2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Как проех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Times New Roman"/>
              </a:rPr>
              <a:t>Комплексные игры-занятия, включающие в себя элементы нескольких или всех игр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Дорожное – не дорожное с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Разгадай загадку, покажи отгад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Поехали, автомобили. Стоп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Игра-соревнование «Быстрые автомобил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Едем в автобусе, едем в трамва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Автомобили и пеше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Найди безопасный пу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912960" y="243000"/>
            <a:ext cx="7703280" cy="5830560"/>
            <a:chOff x="912960" y="243000"/>
            <a:chExt cx="7703280" cy="5830560"/>
          </a:xfrm>
        </p:grpSpPr>
        <p:cxnSp>
          <p:nvCxnSpPr>
            <p:cNvPr id="177" name="_s13335"/>
            <p:cNvCxnSpPr>
              <a:stCxn id="178" idx="0"/>
              <a:endCxn id="179" idx="2"/>
            </p:cNvCxnSpPr>
            <p:nvPr/>
          </p:nvCxnSpPr>
          <p:spPr>
            <a:xfrm flipV="1" rot="16200000">
              <a:off x="5528880" y="1809360"/>
              <a:ext cx="1166760" cy="269676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0" name="_s13334"/>
            <p:cNvCxnSpPr>
              <a:stCxn id="181" idx="0"/>
              <a:endCxn id="179" idx="2"/>
            </p:cNvCxnSpPr>
            <p:nvPr/>
          </p:nvCxnSpPr>
          <p:spPr>
            <a:xfrm flipV="1">
              <a:off x="4764600" y="2574360"/>
              <a:ext cx="2880" cy="116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13333"/>
            <p:cNvCxnSpPr>
              <a:stCxn id="183" idx="0"/>
              <a:endCxn id="179" idx="2"/>
            </p:cNvCxnSpPr>
            <p:nvPr/>
          </p:nvCxnSpPr>
          <p:spPr>
            <a:xfrm flipH="1" flipV="1" rot="5400000">
              <a:off x="2832840" y="1809360"/>
              <a:ext cx="1166760" cy="269676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9" name="_s13329"/>
            <p:cNvSpPr/>
            <p:nvPr/>
          </p:nvSpPr>
          <p:spPr>
            <a:xfrm>
              <a:off x="3609000" y="243000"/>
              <a:ext cx="2310840" cy="2332080"/>
            </a:xfrm>
            <a:custGeom>
              <a:avLst/>
              <a:gdLst>
                <a:gd name="textAreaLeft" fmla="*/ 112680 w 2310840"/>
                <a:gd name="textAreaRight" fmla="*/ 2198160 w 2310840"/>
                <a:gd name="textAreaTop" fmla="*/ 112680 h 2332080"/>
                <a:gd name="textAreaBottom" fmla="*/ 2219400 h 2332080"/>
              </a:gdLst>
              <a:ahLst/>
              <a:rect l="textAreaLeft" t="textAreaTop" r="textAreaRight" b="textAreaBottom"/>
              <a:pathLst>
                <a:path w="21600" h="21799">
                  <a:moveTo>
                    <a:pt x="3600" y="0"/>
                  </a:moveTo>
                  <a:arcTo wR="3600" hR="3600" stAng="16200000" swAng="-5400000"/>
                  <a:lnTo>
                    <a:pt x="0" y="18199"/>
                  </a:lnTo>
                  <a:arcTo wR="3600" hR="3600" stAng="10800000" swAng="-5400000"/>
                  <a:lnTo>
                    <a:pt x="18000" y="217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66"/>
                  </a:solidFill>
                  <a:latin typeface="Arial"/>
                </a:rPr>
                <a:t>Систем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66"/>
                  </a:solidFill>
                  <a:latin typeface="Arial"/>
                </a:rPr>
                <a:t>дидактических иг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66"/>
                  </a:solidFill>
                  <a:latin typeface="Arial"/>
                </a:rPr>
                <a:t>включает игры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66"/>
                  </a:solidFill>
                  <a:latin typeface="Arial"/>
                </a:rPr>
                <a:t>формирующ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66"/>
                  </a:solidFill>
                  <a:latin typeface="Arial"/>
                </a:rPr>
                <a:t>у де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66"/>
                  </a:solidFill>
                  <a:latin typeface="Arial"/>
                </a:rPr>
                <a:t>представления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13330"/>
            <p:cNvSpPr/>
            <p:nvPr/>
          </p:nvSpPr>
          <p:spPr>
            <a:xfrm>
              <a:off x="912960" y="3741480"/>
              <a:ext cx="2310840" cy="2332080"/>
            </a:xfrm>
            <a:custGeom>
              <a:avLst/>
              <a:gdLst>
                <a:gd name="textAreaLeft" fmla="*/ 112680 w 2310840"/>
                <a:gd name="textAreaRight" fmla="*/ 2198160 w 2310840"/>
                <a:gd name="textAreaTop" fmla="*/ 112680 h 2332080"/>
                <a:gd name="textAreaBottom" fmla="*/ 2219400 h 2332080"/>
              </a:gdLst>
              <a:ahLst/>
              <a:rect l="textAreaLeft" t="textAreaTop" r="textAreaRight" b="textAreaBottom"/>
              <a:pathLst>
                <a:path w="21600" h="21799">
                  <a:moveTo>
                    <a:pt x="3600" y="0"/>
                  </a:moveTo>
                  <a:arcTo wR="3600" hR="3600" stAng="16200000" swAng="-5400000"/>
                  <a:lnTo>
                    <a:pt x="0" y="18199"/>
                  </a:lnTo>
                  <a:arcTo wR="3600" hR="3600" stAng="10800000" swAng="-5400000"/>
                  <a:lnTo>
                    <a:pt x="18000" y="217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о труде взрослы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(регулировщиков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дорожных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рабочих и т.д.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3331"/>
            <p:cNvSpPr/>
            <p:nvPr/>
          </p:nvSpPr>
          <p:spPr>
            <a:xfrm>
              <a:off x="3609000" y="3741480"/>
              <a:ext cx="2310840" cy="2332080"/>
            </a:xfrm>
            <a:custGeom>
              <a:avLst/>
              <a:gdLst>
                <a:gd name="textAreaLeft" fmla="*/ 112680 w 2310840"/>
                <a:gd name="textAreaRight" fmla="*/ 2198160 w 2310840"/>
                <a:gd name="textAreaTop" fmla="*/ 112680 h 2332080"/>
                <a:gd name="textAreaBottom" fmla="*/ 2219400 h 2332080"/>
              </a:gdLst>
              <a:ahLst/>
              <a:rect l="textAreaLeft" t="textAreaTop" r="textAreaRight" b="textAreaBottom"/>
              <a:pathLst>
                <a:path w="21600" h="21799">
                  <a:moveTo>
                    <a:pt x="3600" y="0"/>
                  </a:moveTo>
                  <a:arcTo wR="3600" hR="3600" stAng="16200000" swAng="-5400000"/>
                  <a:lnTo>
                    <a:pt x="0" y="18199"/>
                  </a:lnTo>
                  <a:arcTo wR="3600" hR="3600" stAng="10800000" swAng="-5400000"/>
                  <a:lnTo>
                    <a:pt x="18000" y="217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о транспортны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средствах 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других механизмах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помогающи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людям в и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жизни и труд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13332"/>
            <p:cNvSpPr/>
            <p:nvPr/>
          </p:nvSpPr>
          <p:spPr>
            <a:xfrm>
              <a:off x="6305400" y="3741480"/>
              <a:ext cx="2310840" cy="2332080"/>
            </a:xfrm>
            <a:custGeom>
              <a:avLst/>
              <a:gdLst>
                <a:gd name="textAreaLeft" fmla="*/ 112680 w 2310840"/>
                <a:gd name="textAreaRight" fmla="*/ 2198160 w 2310840"/>
                <a:gd name="textAreaTop" fmla="*/ 112680 h 2332080"/>
                <a:gd name="textAreaBottom" fmla="*/ 2219400 h 2332080"/>
              </a:gdLst>
              <a:ahLst/>
              <a:rect l="textAreaLeft" t="textAreaTop" r="textAreaRight" b="textAreaBottom"/>
              <a:pathLst>
                <a:path w="21600" h="21799">
                  <a:moveTo>
                    <a:pt x="3600" y="0"/>
                  </a:moveTo>
                  <a:arcTo wR="3600" hR="3600" stAng="16200000" swAng="-5400000"/>
                  <a:lnTo>
                    <a:pt x="0" y="18199"/>
                  </a:lnTo>
                  <a:arcTo wR="3600" hR="3600" stAng="10800000" swAng="-5400000"/>
                  <a:lnTo>
                    <a:pt x="18000" y="217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о знаковой системе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разработанно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людьми дл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безопас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дорожног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движ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66"/>
                </a:solidFill>
                <a:latin typeface="Times New Roman"/>
              </a:rPr>
              <a:t>Перечень дидактических игр по ПДД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Что необходимо регулировщику дорожного движения для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Поставь дорожный 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Угадай, какой 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Угадай по опис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Цвета светоф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Расположи прави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Красный, желтый, зеле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Веселые челове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Стро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Говорящие зн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Дорожные зага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Забывчивый худож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Виды перекрест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Пута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Дорожный экзам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Наша у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Сюжетно-ролевые игры по ПДД: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«Скорая помощ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Педагогический замысел: закрепить умение детей брать на себя роли регулировщика, инспектора ГИБДД, водителя «скорой помощи», мамы, дочки (сына), больного, действовать соответственно взятой ро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«Улица полна неожиданносте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Педагогический замысел: расширять представления детей об улице, о проезжей части дороги, тротуаре, пешеходах, транспортных средствах; учить детей распределять роли, вести их до конца и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«Прогулка с любимыми куклам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Педагогический замысел: знакомить детей с правилами дорожного движения и дорожной атрибутикой в ходе и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Times New Roman"/>
              </a:rPr>
              <a:t>Освоение основ ПДД происходит легче, если в процесс познания включаются </a:t>
            </a:r>
            <a:r>
              <a:rPr b="1" lang="en-US" sz="3200" spc="-1" strike="noStrike">
                <a:solidFill>
                  <a:srgbClr val="00cc66"/>
                </a:solidFill>
                <a:latin typeface="Times New Roman"/>
              </a:rPr>
              <a:t>театрализованные игры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Театрализованные игры по сказке С.Михалкова «Бездельник светофо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Театрализованная игра по сказке Н.Гинсбург «Колес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Театрализованная игра «Еду, еду в автомобил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Театрализованная игра по книге Я.Пишумова «Это улица мо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Театрализованное музыкально-познавательное развлечение «В королевстве дорожных знак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нтегрированная театрализованная совместная деятельность педагога с детьми «Город мастер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Театрализованное развлечение «Путешествие в страну дорожных знак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66"/>
                </a:solidFill>
                <a:latin typeface="Times New Roman"/>
              </a:rPr>
              <a:t>Видеофильм «Азбука безопасности»</a:t>
            </a:r>
            <a:br>
              <a:rPr sz="3200"/>
            </a:br>
            <a:r>
              <a:rPr b="1" lang="ru-RU" sz="3200" spc="-1" strike="noStrike">
                <a:solidFill>
                  <a:srgbClr val="00cc66"/>
                </a:solidFill>
                <a:latin typeface="Times New Roman"/>
              </a:rPr>
              <a:t>с участием Смешариков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Светоф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Гармония светоф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Пешеходная «зебр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Зебры в гор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Пляшущие челове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Пограничная терри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Мигающий человеч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Недетский зн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Самая страшная маш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Некультурные автомоб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Нетерпеливые вод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Авто спецназна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На останов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В автобу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Пристегните рем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66"/>
                </a:solidFill>
                <a:latin typeface="Times New Roman"/>
              </a:rPr>
              <a:t>Система обучения ПДД в дошкольном учреждении подразумевает:</a:t>
            </a: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воспитание у детей навыков культуры поведения на улицах, дорогах, в транспор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повышение квалификации педагогических кадров, отвечающих за социальное воспитание дошкольни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Активизацию совместной деятельности учреждения и родителей по обучению детей ПД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66"/>
                </a:solidFill>
                <a:latin typeface="Times New Roman"/>
              </a:rPr>
              <a:t>Используемая литература: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Учебно-методическое пособие «Дети на дороге. Правила дорожного движения в играх и упражнения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Программа и методические рекомендации по ознакомлению детей дошкольного возраста с правилами дорожного движения «Азбука дорожного движения» Л.Б. Баряева, В.Л. Жевнеров, Е.В. Загреб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Ф.С. Майорова «Изучаем дорожную азбук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С.Н.Черепанова «Правила дорожного движения дошкольник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cc66"/>
                </a:solidFill>
                <a:latin typeface="Times New Roman"/>
              </a:rPr>
              <a:t>Используемая литература:</a:t>
            </a:r>
            <a:r>
              <a:rPr b="1" lang="en-US" sz="4000" spc="-1" strike="noStrike">
                <a:solidFill>
                  <a:srgbClr val="00cc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Методические рекомендации: Формирование у дошкольников навыков безопасного поведения на улицах и дорогах.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 рамках реализации федеральной целевой программы «Повышение безопасности дорожного движения в 2006-2012 года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Журнал «Справочник старшего воспитателя» №6,7 2009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Журнал «Дошкольная педагогика»  Апрель 2009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О.В.Чермашенцева «Основы безопасного поведения дошкольник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66"/>
                </a:solidFill>
                <a:latin typeface="Times New Roman"/>
              </a:rPr>
              <a:t>Модель работы ДОУ по ознакомлению с правилами дорожного движен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074600" y="1815480"/>
            <a:ext cx="6849000" cy="4722840"/>
            <a:chOff x="1074600" y="1815480"/>
            <a:chExt cx="6849000" cy="4722840"/>
          </a:xfrm>
        </p:grpSpPr>
        <p:sp>
          <p:nvSpPr>
            <p:cNvPr id="104" name="_s5164"/>
            <p:cNvSpPr/>
            <p:nvPr/>
          </p:nvSpPr>
          <p:spPr>
            <a:xfrm flipH="1">
              <a:off x="2783880" y="4177080"/>
              <a:ext cx="86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5132"/>
            <p:cNvSpPr/>
            <p:nvPr/>
          </p:nvSpPr>
          <p:spPr>
            <a:xfrm>
              <a:off x="1074600" y="3587760"/>
              <a:ext cx="1709640" cy="11786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едагог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5163"/>
            <p:cNvSpPr/>
            <p:nvPr/>
          </p:nvSpPr>
          <p:spPr>
            <a:xfrm>
              <a:off x="4499280" y="4766760"/>
              <a:ext cx="0" cy="59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5136"/>
            <p:cNvSpPr/>
            <p:nvPr/>
          </p:nvSpPr>
          <p:spPr>
            <a:xfrm>
              <a:off x="3644640" y="5359680"/>
              <a:ext cx="1708920" cy="11786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оциальны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артне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5162"/>
            <p:cNvSpPr/>
            <p:nvPr/>
          </p:nvSpPr>
          <p:spPr>
            <a:xfrm>
              <a:off x="5353560" y="4177080"/>
              <a:ext cx="86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5134"/>
            <p:cNvSpPr/>
            <p:nvPr/>
          </p:nvSpPr>
          <p:spPr>
            <a:xfrm>
              <a:off x="6213960" y="3587760"/>
              <a:ext cx="1709640" cy="11786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Родител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5161"/>
            <p:cNvSpPr/>
            <p:nvPr/>
          </p:nvSpPr>
          <p:spPr>
            <a:xfrm flipV="1">
              <a:off x="4499280" y="2994120"/>
              <a:ext cx="0" cy="59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5128"/>
            <p:cNvSpPr/>
            <p:nvPr/>
          </p:nvSpPr>
          <p:spPr>
            <a:xfrm>
              <a:off x="3644640" y="1815480"/>
              <a:ext cx="1708920" cy="11786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Де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5127"/>
            <p:cNvSpPr/>
            <p:nvPr/>
          </p:nvSpPr>
          <p:spPr>
            <a:xfrm>
              <a:off x="3644640" y="3587760"/>
              <a:ext cx="1708920" cy="11786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равил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Дорожного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движения</a:t>
              </a:r>
              <a:r>
                <a:rPr b="0" lang="en-US" sz="2000" spc="-1" strike="noStrike">
                  <a:solidFill>
                    <a:srgbClr val="b2b2b2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-603720"/>
            <a:ext cx="7772400" cy="20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66"/>
                </a:solidFill>
                <a:latin typeface="Times New Roman"/>
              </a:rPr>
              <a:t>Система  методической работы с педагогами по</a:t>
            </a:r>
            <a:br>
              <a:rPr sz="2400"/>
            </a:br>
            <a:r>
              <a:rPr b="1" lang="en-US" sz="2400" spc="-1" strike="noStrike">
                <a:solidFill>
                  <a:srgbClr val="00cc66"/>
                </a:solidFill>
                <a:latin typeface="Times New Roman"/>
              </a:rPr>
              <a:t>теме «Правила безопасного поведения на дороге»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14400" y="765000"/>
          <a:ext cx="7772400" cy="6040440"/>
        </p:xfrm>
        <a:graphic>
          <a:graphicData uri="http://schemas.openxmlformats.org/drawingml/2006/table">
            <a:tbl>
              <a:tblPr/>
              <a:tblGrid>
                <a:gridCol w="3108240"/>
                <a:gridCol w="1555920"/>
                <a:gridCol w="1554120"/>
                <a:gridCol w="1554120"/>
              </a:tblGrid>
              <a:tr h="72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Тем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Форма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Ответст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ве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Сро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БЖ. Правила дорожного дви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ыставка и обзор лит-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и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ентябрь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ормы и методы обучения детей поведению на улиц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еминар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к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ониторинг знаний правил поведения на проезжей ч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актическое за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о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рганизация предметно-разви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ающей среды в групп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онкур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ека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ыработка методических рекомендаций по ПД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руглый ст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ворческая 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январь -февр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истема работы с детьм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езен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оспитател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рт - апр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Усвоение знаний, умений, навыков детей по П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ониторин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и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едупреждение детского дорожно-транспортного травматизма ле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онсуль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и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ю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ыявление знаний и умений педагогов по данной темати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нкетир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и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вгу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66"/>
                </a:solidFill>
                <a:latin typeface="Times New Roman"/>
              </a:rPr>
              <a:t>Формы работы с педагогами: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196640"/>
            <a:ext cx="77724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Анкетиро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Тестиро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Информационно-практические обучающие заня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Курсы повышения квалифик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Консульт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Изготовление методических игр и пособ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Семина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Педагогические сове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Мастер - класс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Выстав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Конкурсы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5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5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5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5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5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5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5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5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5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5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5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5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5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5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50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0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50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50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Times New Roman"/>
              </a:rPr>
              <a:t>Система обучения воспитателей правилам безопасного поведения детей на дороге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14400" y="1484280"/>
          <a:ext cx="7772400" cy="5489640"/>
        </p:xfrm>
        <a:graphic>
          <a:graphicData uri="http://schemas.openxmlformats.org/drawingml/2006/table">
            <a:tbl>
              <a:tblPr/>
              <a:tblGrid>
                <a:gridCol w="2220840"/>
                <a:gridCol w="2219400"/>
                <a:gridCol w="2220840"/>
                <a:gridCol w="1111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Форма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Ответстве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Сро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ДД. Основные термины и пон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еоретическое за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отрудник ГИБ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ен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орога в детский с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актическое за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и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к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бязанности пешехода, пассажи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еоретическое за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о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сихофизиологическ. характеристики реб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онсуль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едагог-психо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ека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едупредительные сигн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Экскурсия в автошкол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отрудник ГИБ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Янв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иды транспортных средств. ДТП и их прич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еоретическое за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Февр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игналы светофора и регулировщ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нформационно-практическое занятие на территории велогород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отрудник ГИБДД, педагог-организатор С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орожные знаки и размет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пр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тоговое за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Заче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и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едагог-организато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66"/>
                </a:solidFill>
                <a:latin typeface="Times New Roman"/>
              </a:rPr>
              <a:t>Система работы с родителями по ПДД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14400" y="1484280"/>
          <a:ext cx="7772400" cy="5268600"/>
        </p:xfrm>
        <a:graphic>
          <a:graphicData uri="http://schemas.openxmlformats.org/drawingml/2006/table">
            <a:tbl>
              <a:tblPr/>
              <a:tblGrid>
                <a:gridCol w="1295280"/>
                <a:gridCol w="2590920"/>
                <a:gridCol w="3886200"/>
              </a:tblGrid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Групп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Формы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Тем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ервый кварт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бщее родительское собрание  с участием инспектора ГИБ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Дети на дорог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лад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руглый ст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Как научить ребенка безопасному поведению на улиц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онсуль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Улица  глазами ребен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иктори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Проверь себ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Бесед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Высокая цена беспечност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онсуль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Дисциплина на улице – залог безопасности пешеходов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огулка в парке совместно с родител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Познавательная прогул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Экскурсия в библиоте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Папа, мама, я – читает вся семь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одготови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е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В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Азбука дорожного движения нужна нам как таблица умнож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66"/>
                </a:solidFill>
                <a:latin typeface="Times New Roman"/>
              </a:rPr>
              <a:t>Система работы с родителями по ПДД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14400" y="1484280"/>
          <a:ext cx="7772400" cy="5423040"/>
        </p:xfrm>
        <a:graphic>
          <a:graphicData uri="http://schemas.openxmlformats.org/drawingml/2006/table">
            <a:tbl>
              <a:tblPr/>
              <a:tblGrid>
                <a:gridCol w="1295280"/>
                <a:gridCol w="2590920"/>
                <a:gridCol w="3886200"/>
              </a:tblGrid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Групп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Формы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Тем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Второй кварт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8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ень открытых дверей «Как мы учим детей правилам дорожного движ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лад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онсуль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Что нужно знать детям и родителям о правилах дорожного движ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Рекоменд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Какую литературу читать детям по ПДД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онкурс рисун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Наш путь из дома в детский сад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нкетирование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Знает ли мой ребенок дорожные знаки?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тар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онсуль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Для чего нужны ПДД?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ыставка совместных раб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Улица на которой я живу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онсуль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Детский травматизм. Меры его предупрежд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одготови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е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аписание соч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«Когда я иду по улице с дочерью или сыном, то я…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05:41:06Z</dcterms:created>
  <dc:creator>1</dc:creator>
  <dc:description/>
  <dc:language>en-US</dc:language>
  <cp:lastModifiedBy>Админ</cp:lastModifiedBy>
  <dcterms:modified xsi:type="dcterms:W3CDTF">2011-06-10T08:03:24Z</dcterms:modified>
  <cp:revision>14</cp:revision>
  <dc:subject/>
  <dc:title>Слайд 1</dc:title>
</cp:coreProperties>
</file>