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8660-54AF-46AE-A39F-9EE2402D3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1703-8721-4778-A4B5-0FD099460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593A-96D1-43E6-B0C6-6C2098859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683A-8E71-4A40-B010-EFE2528B8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45D9F-B1CE-43F0-A2D1-4C3DD8B04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4DC8B-916C-4FF0-B9AC-B4C458B86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A89B9-5D71-43D9-9663-6ADE19669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DA67E-1166-4949-9091-FD45F3C12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A0FB6-5021-4E66-A85F-270CD5BA5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5E51E-C67A-4CB4-BE58-05057851D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468CE-9756-4FF3-8F37-795E48016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9887-AE39-467A-903A-890F0747D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85D82-6BBC-420A-9D91-DCAD6B45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D7690-5789-434B-A072-E173AF6A6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7914D-C06C-4381-A5F8-49E30C03C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80B67-2393-4105-8807-AAF8CCDCA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60FB6-46A7-4F6F-B9C9-F7E063B27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6B74-3E14-46FC-AF14-67B15B06F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9930-E648-4BC4-98CC-110039BD5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DC4C-B278-4370-9EC1-AC4C30417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D634-C0FC-4A6E-BA96-033CAAD89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7BD0-341E-4409-A843-9D823731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AC76-1CC6-4A08-A301-23238AB91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E390-B7D7-4B2B-A467-BFC3EDE6B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F2612-6D38-48E0-A61B-A9B8F292800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22DF5-079D-4B7B-8B62-3100EC1D476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42560" y="620280"/>
            <a:ext cx="770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Система и модель </a:t>
            </a:r>
            <a:br>
              <a:rPr sz="4000"/>
            </a:b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работы с детьми младшего и старшего дошкольного  возраста по ознакомлению </a:t>
            </a:r>
            <a:br>
              <a:rPr sz="4000"/>
            </a:br>
            <a:br>
              <a:rPr sz="4000"/>
            </a:br>
            <a:r>
              <a:rPr b="1" lang="en-US" sz="5400" spc="-1" strike="noStrike">
                <a:solidFill>
                  <a:srgbClr val="00cc66"/>
                </a:solidFill>
                <a:latin typeface="Times New Roman"/>
              </a:rPr>
              <a:t>с правилами</a:t>
            </a:r>
            <a:br>
              <a:rPr sz="5400"/>
            </a:br>
            <a:r>
              <a:rPr b="1" lang="en-US" sz="5400" spc="-1" strike="noStrike">
                <a:solidFill>
                  <a:srgbClr val="00cc66"/>
                </a:solidFill>
                <a:latin typeface="Times New Roman"/>
              </a:rPr>
              <a:t>дорожного движения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66"/>
                </a:solidFill>
                <a:latin typeface="Times New Roman"/>
              </a:rPr>
              <a:t>Система работы с родителями по ПДД: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914400" y="1484280"/>
          <a:ext cx="7772400" cy="5154480"/>
        </p:xfrm>
        <a:graphic>
          <a:graphicData uri="http://schemas.openxmlformats.org/drawingml/2006/table">
            <a:tbl>
              <a:tblPr/>
              <a:tblGrid>
                <a:gridCol w="1295280"/>
                <a:gridCol w="2590920"/>
                <a:gridCol w="3886200"/>
              </a:tblGrid>
              <a:tr h="46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Групп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Формы рабо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Тем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Третий кварт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06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овместный праздник с детьми, родителями, инспекторами ГИБД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«Праздник нашей улицы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млад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Родительское собрание с участием инспектора ГИБД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«О предупреждении детского травматизма на дорогах в летний период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редня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Выставка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«Атрибуты для игр по безопасности дорожного движени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Физкультурный досуг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«Разрешается - запрещаетс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Целевая прогул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«Знаки дорожные – наши друзь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тар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Выставка совместных рабо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«Мой любимый транспорт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Экскурсия по улиц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«Самый красивый и любимый город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одготови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тель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овместное развлечение детей и род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«Эстафета зеленого огоньк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66"/>
                </a:solidFill>
                <a:latin typeface="Times New Roman"/>
              </a:rPr>
              <a:t>Формы работы с родителями: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Родительские собрания с участием сотрудников ГИБДД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Бесе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Консульт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Круглый сто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Совместные досуги и праздни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Участие родителей в конкурсах, выставк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Целевые прогулки и экскурс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Анкетирова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КВ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Фотовыста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66"/>
                </a:solidFill>
                <a:latin typeface="Times New Roman"/>
              </a:rPr>
              <a:t>Система обучения родителей методам формирования у детей навыков безопасного поведения на улицах и дороге: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914400" y="1484280"/>
          <a:ext cx="7772400" cy="5450040"/>
        </p:xfrm>
        <a:graphic>
          <a:graphicData uri="http://schemas.openxmlformats.org/drawingml/2006/table">
            <a:tbl>
              <a:tblPr/>
              <a:tblGrid>
                <a:gridCol w="4440240"/>
                <a:gridCol w="2220840"/>
                <a:gridCol w="11113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Те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Ответствен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Срок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Детский дорожно-транспортный травматиз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Инспектор ГИБД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ентя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Возрастные особенности восприятия детьми дорожных ситу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едагог-психоло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Октя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Типичные опасные дорожные ситуации для пешехода, формы и методы их изучения в сем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Инспектор  ГИБД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едагог-организатор СЮ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Ноябр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Основные законы безопасного движ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Дека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Формирование у детей навыков безопасного поведения на улице, дороге, транспорт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тарший воспита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Январ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Назначение и правила перехода проезжей части по сигналам светофора и умение пользоваться дорожными знак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Инспектор  ГИБД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Февра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Изучение обязанностей пешеходов, пассажир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едагог-организатор СЮ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Ма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равила поведения детей в общественном транспорт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тарший воспита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Апрел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Ответственность родителей за нарушение детьми ПД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Инспектор  ГИБД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Ма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Итоговое заня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вс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Июн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66"/>
                </a:solidFill>
                <a:latin typeface="Times New Roman"/>
              </a:rPr>
              <a:t>Этапы работы по ознакомлению детей дошкольного возраста с ПДД: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789480" y="1423080"/>
            <a:ext cx="7132680" cy="5448960"/>
            <a:chOff x="789480" y="1423080"/>
            <a:chExt cx="7132680" cy="5448960"/>
          </a:xfrm>
        </p:grpSpPr>
        <p:sp>
          <p:nvSpPr>
            <p:cNvPr id="131" name="_s538655"/>
            <p:cNvSpPr/>
            <p:nvPr/>
          </p:nvSpPr>
          <p:spPr>
            <a:xfrm flipV="1">
              <a:off x="3465000" y="1422720"/>
              <a:ext cx="1780920" cy="1361520"/>
            </a:xfrm>
            <a:custGeom>
              <a:avLst/>
              <a:gdLst>
                <a:gd name="textAreaLeft" fmla="*/ 639000 w 1780920"/>
                <a:gd name="textAreaRight" fmla="*/ 1141920 w 1780920"/>
                <a:gd name="textAreaTop" fmla="*/ 488520 h 1361520"/>
                <a:gd name="textAreaBottom" fmla="*/ 873000 h 136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00ff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Формирова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сознательног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отношения 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соблюдению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прави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дорожного движ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538656"/>
            <p:cNvSpPr/>
            <p:nvPr/>
          </p:nvSpPr>
          <p:spPr>
            <a:xfrm flipV="1">
              <a:off x="2572920" y="2784600"/>
              <a:ext cx="3565080" cy="1363680"/>
            </a:xfrm>
            <a:custGeom>
              <a:avLst/>
              <a:gdLst>
                <a:gd name="textAreaLeft" fmla="*/ 783720 w 3565080"/>
                <a:gd name="textAreaRight" fmla="*/ 2781360 w 3565080"/>
                <a:gd name="textAreaTop" fmla="*/ 299880 h 1363680"/>
                <a:gd name="textAreaBottom" fmla="*/ 1063800 h 136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ff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Расширени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первоначальных представлений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накопление новых знани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о правилах дорожного движе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538657"/>
            <p:cNvSpPr/>
            <p:nvPr/>
          </p:nvSpPr>
          <p:spPr>
            <a:xfrm flipV="1">
              <a:off x="1680840" y="4148280"/>
              <a:ext cx="5349240" cy="1361520"/>
            </a:xfrm>
            <a:custGeom>
              <a:avLst/>
              <a:gdLst>
                <a:gd name="textAreaLeft" fmla="*/ 928440 w 5349240"/>
                <a:gd name="textAreaRight" fmla="*/ 4420800 w 5349240"/>
                <a:gd name="textAreaTop" fmla="*/ 236160 h 1361520"/>
                <a:gd name="textAreaBottom" fmla="*/ 1125360 h 136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ff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Уточнение представлений дете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о правилах дорожного движ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538658"/>
            <p:cNvSpPr/>
            <p:nvPr/>
          </p:nvSpPr>
          <p:spPr>
            <a:xfrm flipV="1">
              <a:off x="789480" y="5510160"/>
              <a:ext cx="7132680" cy="1361520"/>
            </a:xfrm>
            <a:custGeom>
              <a:avLst/>
              <a:gdLst>
                <a:gd name="textAreaLeft" fmla="*/ 1073160 w 7132680"/>
                <a:gd name="textAreaRight" fmla="*/ 6059520 w 7132680"/>
                <a:gd name="textAreaTop" fmla="*/ 204840 h 1361520"/>
                <a:gd name="textAreaBottom" fmla="*/ 1156680 h 136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00ff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Анализ семейного воспитания по данному вопрос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66"/>
                </a:solidFill>
                <a:latin typeface="Times New Roman"/>
              </a:rPr>
              <a:t>Задачи работы с детьми младшего и старшего дошкольного возраста по ПДД: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914400" y="1916280"/>
          <a:ext cx="7772400" cy="441792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102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Младший возраст</a:t>
                      </a:r>
                      <a:r>
                        <a:rPr b="1" lang="en-US" sz="20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Старший возрас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ознакомить со светофором, его назначени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ознакомить детей с дорожными знак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формировать представления об улице, ее основных частя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дать знания о правилах дорожного движ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учить различать виды наземного транспор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воспитывать культуру поведения на улице, дороге и в транспорт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66"/>
                </a:solidFill>
                <a:latin typeface="Times New Roman"/>
              </a:rPr>
              <a:t>Система работы с детьми младшего  возраста по ознакомлению с ПДД: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914400" y="1484280"/>
          <a:ext cx="7772400" cy="5408640"/>
        </p:xfrm>
        <a:graphic>
          <a:graphicData uri="http://schemas.openxmlformats.org/drawingml/2006/table">
            <a:tbl>
              <a:tblPr/>
              <a:tblGrid>
                <a:gridCol w="1295280"/>
                <a:gridCol w="64771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Месяц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Тем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ентя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Участники дорожного движ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октя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Форма и цвет предметов. Сравнение предметов по размер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ноя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игналы и движение. Передвижение в заданном направлен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дека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Виды транспорта и их отлич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янва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Части легкового автомобиля и грузовик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февра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Трамвай, троллейбус, автобус, метро маршрутное такс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мар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Улица и дорог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апр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Формирование и закрепление навыка остановки перед переходом дороги. Остановись и посмотри по сторона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ма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Экскурсия по территории детского сад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66"/>
                </a:solidFill>
                <a:latin typeface="Times New Roman"/>
              </a:rPr>
              <a:t>Система работы с детьми среднего  возраста по ознакомлению с ПДД: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914400" y="1484280"/>
          <a:ext cx="7772400" cy="5434200"/>
        </p:xfrm>
        <a:graphic>
          <a:graphicData uri="http://schemas.openxmlformats.org/drawingml/2006/table">
            <a:tbl>
              <a:tblPr/>
              <a:tblGrid>
                <a:gridCol w="1295280"/>
                <a:gridCol w="64771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Месяц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Тем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ентя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Ориентировка на местно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октя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Цвета, их последовательность и назначение в дорожном движен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ноя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Виды транспортных средств. Маршрутный транспор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дека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Маршрутный (городской) транспор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янва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осадка в общественный транспорт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февра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Что такое «Пешеходный переход»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мар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Дорога с односторонним и двусторонним движением. Правило правой сторон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апр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равила перехода проезжей части. Родители. Три фиксац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ма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Места для иг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66"/>
                </a:solidFill>
                <a:latin typeface="Times New Roman"/>
              </a:rPr>
              <a:t>Система работы с детьми старшего  возраста по ознакомлению с ПДД: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914400" y="1484280"/>
          <a:ext cx="7772400" cy="5189400"/>
        </p:xfrm>
        <a:graphic>
          <a:graphicData uri="http://schemas.openxmlformats.org/drawingml/2006/table">
            <a:tbl>
              <a:tblPr/>
              <a:tblGrid>
                <a:gridCol w="1295280"/>
                <a:gridCol w="6477120"/>
              </a:tblGrid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Месяц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Тем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ентя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Дорога, транспорт, пешеход, водитель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октя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Элементы дорог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ноя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онятие «Регулируемый и нерегулируемый пешеходный переход». Знаки пешеходного переход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дека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Закрепление навыков «остановись и посмотри», «перейди» (как?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янва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ветофор и его сигналы. Сигналы регулировщик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февра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равила перехода дорог с односторонним и двусторонним движением. Три фиксац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мар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Опасность движения в разное время год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апр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оведение на тротуаре. Передвижение группам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ма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Экскурсия за территорию детского сад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66"/>
                </a:solidFill>
                <a:latin typeface="Times New Roman"/>
              </a:rPr>
              <a:t>Система работы с детьми предшкольного  возраста по ознакомлению с ПДД: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914400" y="1484280"/>
          <a:ext cx="7772400" cy="5488200"/>
        </p:xfrm>
        <a:graphic>
          <a:graphicData uri="http://schemas.openxmlformats.org/drawingml/2006/table">
            <a:tbl>
              <a:tblPr/>
              <a:tblGrid>
                <a:gridCol w="1295280"/>
                <a:gridCol w="6477120"/>
              </a:tblGrid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Месяц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Тем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ентя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равила пешеходов и пассажиров. Использование светоотражающих элемент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октя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Виды дорожных знаков: знаки предупреждающие водителей и пешеходов об опасности на дорог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ноя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Виды дорожных знаков: запрещающие и предписывающи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дека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Виды дорожных знаков: информационно-указательные и знаки сервис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янва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равила перевозки детей в автомобиле. Пользование ремнями безопасно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февра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Многополосное движение транспорт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мар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игналы подаваемые водителями транспорта служб оперативного реагирова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апр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Загородная дорог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ма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Экскурс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66"/>
                </a:solidFill>
                <a:latin typeface="Times New Roman"/>
              </a:rPr>
              <a:t>Интегративный подход в ознакомлении детей с ПДД: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-162360" y="1690560"/>
            <a:ext cx="9541800" cy="4958640"/>
            <a:chOff x="-162360" y="1690560"/>
            <a:chExt cx="9541800" cy="4958640"/>
          </a:xfrm>
        </p:grpSpPr>
        <p:sp>
          <p:nvSpPr>
            <p:cNvPr id="147" name="_s557126"/>
            <p:cNvSpPr/>
            <p:nvPr/>
          </p:nvSpPr>
          <p:spPr>
            <a:xfrm>
              <a:off x="3403800" y="2396520"/>
              <a:ext cx="2409120" cy="2016000"/>
            </a:xfrm>
            <a:prstGeom prst="ellipse">
              <a:avLst/>
            </a:prstGeom>
            <a:solidFill>
              <a:srgbClr val="0399ff">
                <a:alpha val="50000"/>
              </a:srgbClr>
            </a:solidFill>
            <a:ln w="936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557063"/>
            <p:cNvSpPr/>
            <p:nvPr/>
          </p:nvSpPr>
          <p:spPr>
            <a:xfrm>
              <a:off x="3403800" y="1690560"/>
              <a:ext cx="240912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ff"/>
                  </a:solidFill>
                  <a:latin typeface="Arial"/>
                </a:rPr>
                <a:t>Безопасн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557145"/>
            <p:cNvSpPr/>
            <p:nvPr/>
          </p:nvSpPr>
          <p:spPr>
            <a:xfrm>
              <a:off x="4052520" y="2619360"/>
              <a:ext cx="2409120" cy="2016000"/>
            </a:xfrm>
            <a:prstGeom prst="ellipse">
              <a:avLst/>
            </a:prstGeom>
            <a:solidFill>
              <a:srgbClr val="f60802">
                <a:alpha val="50000"/>
              </a:srgbClr>
            </a:solidFill>
            <a:ln w="9360">
              <a:solidFill>
                <a:srgbClr val="f6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557146"/>
            <p:cNvSpPr/>
            <p:nvPr/>
          </p:nvSpPr>
          <p:spPr>
            <a:xfrm>
              <a:off x="6277320" y="2268360"/>
              <a:ext cx="240948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Познани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557151"/>
            <p:cNvSpPr/>
            <p:nvPr/>
          </p:nvSpPr>
          <p:spPr>
            <a:xfrm>
              <a:off x="4320720" y="3161880"/>
              <a:ext cx="2409480" cy="2016000"/>
            </a:xfrm>
            <a:prstGeom prst="ellipse">
              <a:avLst/>
            </a:prstGeom>
            <a:solidFill>
              <a:srgbClr val="f1fd09">
                <a:alpha val="50000"/>
              </a:srgbClr>
            </a:solidFill>
            <a:ln w="9360">
              <a:solidFill>
                <a:srgbClr val="f1f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_s557152"/>
            <p:cNvSpPr/>
            <p:nvPr/>
          </p:nvSpPr>
          <p:spPr>
            <a:xfrm>
              <a:off x="6970320" y="3918240"/>
              <a:ext cx="240912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00"/>
                  </a:solidFill>
                  <a:latin typeface="Arial"/>
                </a:rPr>
                <a:t>Социализаци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557147"/>
            <p:cNvSpPr/>
            <p:nvPr/>
          </p:nvSpPr>
          <p:spPr>
            <a:xfrm>
              <a:off x="4052520" y="3704760"/>
              <a:ext cx="2409120" cy="2015640"/>
            </a:xfrm>
            <a:prstGeom prst="ellipse">
              <a:avLst/>
            </a:prstGeom>
            <a:solidFill>
              <a:srgbClr val="01bd0a">
                <a:alpha val="50000"/>
              </a:srgbClr>
            </a:solidFill>
            <a:ln w="936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557148"/>
            <p:cNvSpPr/>
            <p:nvPr/>
          </p:nvSpPr>
          <p:spPr>
            <a:xfrm>
              <a:off x="6279840" y="5566320"/>
              <a:ext cx="240912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66"/>
                  </a:solidFill>
                  <a:latin typeface="Arial"/>
                </a:rPr>
                <a:t>Художественно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66"/>
                  </a:solidFill>
                  <a:latin typeface="Arial"/>
                </a:rPr>
                <a:t>творчество 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66"/>
                  </a:solidFill>
                  <a:latin typeface="Arial"/>
                </a:rPr>
                <a:t>тру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_s557149"/>
            <p:cNvSpPr/>
            <p:nvPr/>
          </p:nvSpPr>
          <p:spPr>
            <a:xfrm>
              <a:off x="3403800" y="3929400"/>
              <a:ext cx="2409120" cy="2016000"/>
            </a:xfrm>
            <a:prstGeom prst="ellipse">
              <a:avLst/>
            </a:prstGeom>
            <a:solidFill>
              <a:srgbClr val="1a0fff">
                <a:alpha val="50000"/>
              </a:srgbClr>
            </a:solidFill>
            <a:ln w="9360">
              <a:solidFill>
                <a:srgbClr val="1a0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557150"/>
            <p:cNvSpPr/>
            <p:nvPr/>
          </p:nvSpPr>
          <p:spPr>
            <a:xfrm>
              <a:off x="3405960" y="6145920"/>
              <a:ext cx="240948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Чтение художественно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литератур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_s557153"/>
            <p:cNvSpPr/>
            <p:nvPr/>
          </p:nvSpPr>
          <p:spPr>
            <a:xfrm>
              <a:off x="2755080" y="3704760"/>
              <a:ext cx="2409480" cy="2015640"/>
            </a:xfrm>
            <a:prstGeom prst="ellipse">
              <a:avLst/>
            </a:prstGeom>
            <a:solidFill>
              <a:srgbClr val="ff00ff">
                <a:alpha val="50000"/>
              </a:srgbClr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_s557154"/>
            <p:cNvSpPr/>
            <p:nvPr/>
          </p:nvSpPr>
          <p:spPr>
            <a:xfrm>
              <a:off x="530280" y="5568480"/>
              <a:ext cx="240912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Arial"/>
                </a:rPr>
                <a:t>Коммуникаци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557155"/>
            <p:cNvSpPr/>
            <p:nvPr/>
          </p:nvSpPr>
          <p:spPr>
            <a:xfrm>
              <a:off x="2486880" y="3161880"/>
              <a:ext cx="2409120" cy="2016000"/>
            </a:xfrm>
            <a:prstGeom prst="ellipse">
              <a:avLst/>
            </a:prstGeom>
            <a:solidFill>
              <a:srgbClr val="1a0fff">
                <a:alpha val="50000"/>
              </a:srgbClr>
            </a:solidFill>
            <a:ln w="9360">
              <a:solidFill>
                <a:srgbClr val="1a0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557156"/>
            <p:cNvSpPr/>
            <p:nvPr/>
          </p:nvSpPr>
          <p:spPr>
            <a:xfrm>
              <a:off x="-162360" y="3920040"/>
              <a:ext cx="240912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Физическа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культур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_s557157"/>
            <p:cNvSpPr/>
            <p:nvPr/>
          </p:nvSpPr>
          <p:spPr>
            <a:xfrm>
              <a:off x="2755080" y="2619360"/>
              <a:ext cx="2409480" cy="2016000"/>
            </a:xfrm>
            <a:prstGeom prst="ellipse">
              <a:avLst/>
            </a:prstGeom>
            <a:solidFill>
              <a:srgbClr val="ff8c01">
                <a:alpha val="50000"/>
              </a:srgbClr>
            </a:solidFill>
            <a:ln w="9360">
              <a:solidFill>
                <a:srgbClr val="ff8c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557158"/>
            <p:cNvSpPr/>
            <p:nvPr/>
          </p:nvSpPr>
          <p:spPr>
            <a:xfrm>
              <a:off x="527760" y="2269800"/>
              <a:ext cx="240948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00"/>
                  </a:solidFill>
                  <a:latin typeface="Arial"/>
                </a:rPr>
                <a:t>Музык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613080" y="301608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66"/>
                </a:solidFill>
                <a:latin typeface="Arial"/>
              </a:rPr>
              <a:t>Здоров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381800" y="3141720"/>
            <a:ext cx="7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Тру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66"/>
                </a:solidFill>
                <a:latin typeface="Times New Roman"/>
              </a:rPr>
              <a:t>Презентацию</a:t>
            </a:r>
            <a:r>
              <a:rPr b="1" lang="en-US" sz="4400" spc="-1" strike="noStrike">
                <a:solidFill>
                  <a:srgbClr val="00cc66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cc66"/>
                </a:solidFill>
                <a:latin typeface="Times New Roman"/>
              </a:rPr>
              <a:t>подготовили</a:t>
            </a:r>
            <a:r>
              <a:rPr b="1" lang="en-US" sz="4400" spc="-1" strike="noStrike">
                <a:solidFill>
                  <a:srgbClr val="00cc66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Старший воспитатель ГДОУ детский сад 120 Выборгского рай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cc00"/>
                </a:solidFill>
                <a:latin typeface="Arial"/>
              </a:rPr>
              <a:t>Крутова Раиса Александ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Методис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cc00"/>
                </a:solidFill>
                <a:latin typeface="Arial"/>
              </a:rPr>
              <a:t>Окунь Светлана Алексе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Воспитате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cc00"/>
                </a:solidFill>
                <a:latin typeface="Arial"/>
              </a:rPr>
              <a:t>Семенова Татьяна Анатол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Воспитатель  ГДОУ детский сад 120 Выборгского рай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cc00"/>
                </a:solidFill>
                <a:latin typeface="Arial"/>
              </a:rPr>
              <a:t>Матвеева Екатерина Викто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66"/>
                </a:solidFill>
                <a:latin typeface="Times New Roman"/>
              </a:rPr>
              <a:t>Формы работы с детьми: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Бесед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Целевые прогулки и экскурс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Подвижные игр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Дидактические игр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Сюжетно – ролевые игр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Театрализованные игр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Свободная продуктивная деятельн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Чтение художественной литератур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Изготовление атрибутов для проигрывания дорожных ситуац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Музыкально – игровые досуг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Конкурсы, викторины, выстав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Использование видеофильмов, рол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5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5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5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5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5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5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5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5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5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5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5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5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50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50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50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50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50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50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5000" fill="hold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5000" fill="hold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5000" fill="hold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5000" fill="hold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5000" fill="hold"/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5000" fill="hold"/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66"/>
                </a:solidFill>
                <a:latin typeface="Times New Roman"/>
              </a:rPr>
              <a:t>По содержанию подвижные игры для обучения детей ПДД можно условно классифицировать на: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Игры, формирующие представления о сигналах светофора и регулировщи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Игры, формирующие представления о знаках дорожного движ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Игры, формирующие представления об элементах дороги, об участках дорожного движения и правилах их повед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Комплексные игры-занятия, включающие в себя элементы нескольких или всех иг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66"/>
                </a:solidFill>
                <a:latin typeface="Times New Roman"/>
              </a:rPr>
              <a:t>Игры, формирующие представления о сигналах светофора и регулировщика: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81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Ловкий пешех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Эстафета «Красный, желтый, зелены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Светоф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Краски светоф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Наш друг светоф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Стоп. Идит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Делай, как 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66"/>
                </a:solidFill>
                <a:latin typeface="Times New Roman"/>
              </a:rPr>
              <a:t>Игры, формирующие представления о знаках дорожного движения: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Выполни пору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Повор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Угадай зна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Что нам скажет дорожный зна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971640" y="3357720"/>
            <a:ext cx="81723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66"/>
                </a:solidFill>
                <a:latin typeface="Arial"/>
              </a:rPr>
              <a:t>Игры, формирующие представления о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66"/>
                </a:solidFill>
                <a:latin typeface="Arial"/>
              </a:rPr>
              <a:t>элементах дороги, об участках дорож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cc66"/>
                </a:solidFill>
                <a:latin typeface="Arial"/>
              </a:rPr>
              <a:t>движения и правилах их повед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2b2b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2b2b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Кто быстре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2b2b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Гараж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2b2b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Как проех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66"/>
                </a:solidFill>
                <a:latin typeface="Times New Roman"/>
              </a:rPr>
              <a:t>Комплексные игры-занятия, включающие в себя элементы нескольких или всех игр: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Дорожное – не дорожное сло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Разгадай загадку, покажи отгад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Поехали, автомобили. Стоп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Игра-соревнование «Быстрые автомобил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Едем в автобусе, едем в трамва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Автомобили и пешех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Найди безопасный пу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912960" y="243000"/>
            <a:ext cx="7703280" cy="5830560"/>
            <a:chOff x="912960" y="243000"/>
            <a:chExt cx="7703280" cy="5830560"/>
          </a:xfrm>
        </p:grpSpPr>
        <p:cxnSp>
          <p:nvCxnSpPr>
            <p:cNvPr id="177" name="_s13335"/>
            <p:cNvCxnSpPr>
              <a:stCxn id="178" idx="0"/>
              <a:endCxn id="179" idx="2"/>
            </p:cNvCxnSpPr>
            <p:nvPr/>
          </p:nvCxnSpPr>
          <p:spPr>
            <a:xfrm flipV="1" rot="16200000">
              <a:off x="5528880" y="1809360"/>
              <a:ext cx="1166760" cy="2696760"/>
            </a:xfrm>
            <a:prstGeom prst="bentConnector3">
              <a:avLst>
                <a:gd name="adj1" fmla="val 978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0" name="_s13334"/>
            <p:cNvCxnSpPr>
              <a:stCxn id="181" idx="0"/>
              <a:endCxn id="179" idx="2"/>
            </p:cNvCxnSpPr>
            <p:nvPr/>
          </p:nvCxnSpPr>
          <p:spPr>
            <a:xfrm flipV="1">
              <a:off x="4764600" y="2574360"/>
              <a:ext cx="2880" cy="1166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2" name="_s13333"/>
            <p:cNvCxnSpPr>
              <a:stCxn id="183" idx="0"/>
              <a:endCxn id="179" idx="2"/>
            </p:cNvCxnSpPr>
            <p:nvPr/>
          </p:nvCxnSpPr>
          <p:spPr>
            <a:xfrm flipH="1" flipV="1" rot="5400000">
              <a:off x="2832840" y="1809360"/>
              <a:ext cx="1166760" cy="2696760"/>
            </a:xfrm>
            <a:prstGeom prst="bentConnector3">
              <a:avLst>
                <a:gd name="adj1" fmla="val 978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9" name="_s13329"/>
            <p:cNvSpPr/>
            <p:nvPr/>
          </p:nvSpPr>
          <p:spPr>
            <a:xfrm>
              <a:off x="3609000" y="243000"/>
              <a:ext cx="2310840" cy="2332080"/>
            </a:xfrm>
            <a:custGeom>
              <a:avLst/>
              <a:gdLst>
                <a:gd name="textAreaLeft" fmla="*/ 112680 w 2310840"/>
                <a:gd name="textAreaRight" fmla="*/ 2198160 w 2310840"/>
                <a:gd name="textAreaTop" fmla="*/ 112680 h 2332080"/>
                <a:gd name="textAreaBottom" fmla="*/ 2219400 h 2332080"/>
              </a:gdLst>
              <a:ahLst/>
              <a:rect l="textAreaLeft" t="textAreaTop" r="textAreaRight" b="textAreaBottom"/>
              <a:pathLst>
                <a:path w="21600" h="21799">
                  <a:moveTo>
                    <a:pt x="3600" y="0"/>
                  </a:moveTo>
                  <a:arcTo wR="3600" hR="3600" stAng="16200000" swAng="-5400000"/>
                  <a:lnTo>
                    <a:pt x="0" y="18199"/>
                  </a:lnTo>
                  <a:arcTo wR="3600" hR="3600" stAng="10800000" swAng="-5400000"/>
                  <a:lnTo>
                    <a:pt x="18000" y="217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66"/>
                  </a:solidFill>
                  <a:latin typeface="Arial"/>
                </a:rPr>
                <a:t>Систем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66"/>
                  </a:solidFill>
                  <a:latin typeface="Arial"/>
                </a:rPr>
                <a:t>дидактических иг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66"/>
                  </a:solidFill>
                  <a:latin typeface="Arial"/>
                </a:rPr>
                <a:t>включает игры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66"/>
                  </a:solidFill>
                  <a:latin typeface="Arial"/>
                </a:rPr>
                <a:t>формирующ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66"/>
                  </a:solidFill>
                  <a:latin typeface="Arial"/>
                </a:rPr>
                <a:t>у дете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66"/>
                  </a:solidFill>
                  <a:latin typeface="Arial"/>
                </a:rPr>
                <a:t>представления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13330"/>
            <p:cNvSpPr/>
            <p:nvPr/>
          </p:nvSpPr>
          <p:spPr>
            <a:xfrm>
              <a:off x="912960" y="3741480"/>
              <a:ext cx="2310840" cy="2332080"/>
            </a:xfrm>
            <a:custGeom>
              <a:avLst/>
              <a:gdLst>
                <a:gd name="textAreaLeft" fmla="*/ 112680 w 2310840"/>
                <a:gd name="textAreaRight" fmla="*/ 2198160 w 2310840"/>
                <a:gd name="textAreaTop" fmla="*/ 112680 h 2332080"/>
                <a:gd name="textAreaBottom" fmla="*/ 2219400 h 2332080"/>
              </a:gdLst>
              <a:ahLst/>
              <a:rect l="textAreaLeft" t="textAreaTop" r="textAreaRight" b="textAreaBottom"/>
              <a:pathLst>
                <a:path w="21600" h="21799">
                  <a:moveTo>
                    <a:pt x="3600" y="0"/>
                  </a:moveTo>
                  <a:arcTo wR="3600" hR="3600" stAng="16200000" swAng="-5400000"/>
                  <a:lnTo>
                    <a:pt x="0" y="18199"/>
                  </a:lnTo>
                  <a:arcTo wR="3600" hR="3600" stAng="10800000" swAng="-5400000"/>
                  <a:lnTo>
                    <a:pt x="18000" y="217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о труде взрослы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(регулировщиков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дорожных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рабочих и т.д.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13331"/>
            <p:cNvSpPr/>
            <p:nvPr/>
          </p:nvSpPr>
          <p:spPr>
            <a:xfrm>
              <a:off x="3609000" y="3741480"/>
              <a:ext cx="2310840" cy="2332080"/>
            </a:xfrm>
            <a:custGeom>
              <a:avLst/>
              <a:gdLst>
                <a:gd name="textAreaLeft" fmla="*/ 112680 w 2310840"/>
                <a:gd name="textAreaRight" fmla="*/ 2198160 w 2310840"/>
                <a:gd name="textAreaTop" fmla="*/ 112680 h 2332080"/>
                <a:gd name="textAreaBottom" fmla="*/ 2219400 h 2332080"/>
              </a:gdLst>
              <a:ahLst/>
              <a:rect l="textAreaLeft" t="textAreaTop" r="textAreaRight" b="textAreaBottom"/>
              <a:pathLst>
                <a:path w="21600" h="21799">
                  <a:moveTo>
                    <a:pt x="3600" y="0"/>
                  </a:moveTo>
                  <a:arcTo wR="3600" hR="3600" stAng="16200000" swAng="-5400000"/>
                  <a:lnTo>
                    <a:pt x="0" y="18199"/>
                  </a:lnTo>
                  <a:arcTo wR="3600" hR="3600" stAng="10800000" swAng="-5400000"/>
                  <a:lnTo>
                    <a:pt x="18000" y="217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о транспортны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средствах 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других механизмах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помогающи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людям в и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жизни и труд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_s13332"/>
            <p:cNvSpPr/>
            <p:nvPr/>
          </p:nvSpPr>
          <p:spPr>
            <a:xfrm>
              <a:off x="6305400" y="3741480"/>
              <a:ext cx="2310840" cy="2332080"/>
            </a:xfrm>
            <a:custGeom>
              <a:avLst/>
              <a:gdLst>
                <a:gd name="textAreaLeft" fmla="*/ 112680 w 2310840"/>
                <a:gd name="textAreaRight" fmla="*/ 2198160 w 2310840"/>
                <a:gd name="textAreaTop" fmla="*/ 112680 h 2332080"/>
                <a:gd name="textAreaBottom" fmla="*/ 2219400 h 2332080"/>
              </a:gdLst>
              <a:ahLst/>
              <a:rect l="textAreaLeft" t="textAreaTop" r="textAreaRight" b="textAreaBottom"/>
              <a:pathLst>
                <a:path w="21600" h="21799">
                  <a:moveTo>
                    <a:pt x="3600" y="0"/>
                  </a:moveTo>
                  <a:arcTo wR="3600" hR="3600" stAng="16200000" swAng="-5400000"/>
                  <a:lnTo>
                    <a:pt x="0" y="18199"/>
                  </a:lnTo>
                  <a:arcTo wR="3600" hR="3600" stAng="10800000" swAng="-5400000"/>
                  <a:lnTo>
                    <a:pt x="18000" y="217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о знаковой системе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разработанно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людьми дл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безопасност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дорожног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движе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66"/>
                </a:solidFill>
                <a:latin typeface="Times New Roman"/>
              </a:rPr>
              <a:t>Перечень дидактических игр по ПДД: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Что необходимо регулировщику дорожного движения для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Поставь дорожный зн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Угадай, какой зн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Угадай по описа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Цвета светоф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Расположи прави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Красный, желтый, зеле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Веселые человеч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Строи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Говорящие зна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Дорожные загад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Забывчивый худож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Виды перекрест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Пута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Дорожный экзам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Наша ул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66"/>
                </a:solidFill>
                <a:latin typeface="Times New Roman"/>
              </a:rPr>
              <a:t>Сюжетно-ролевые игры по ПДД: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66"/>
                </a:solidFill>
                <a:latin typeface="Arial"/>
              </a:rPr>
              <a:t>«Скорая помощь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Педагогический замысел: закрепить умение детей брать на себя роли регулировщика, инспектора ГИБДД, водителя «скорой помощи», мамы, дочки (сына), больного, действовать соответственно взятой ро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66"/>
                </a:solidFill>
                <a:latin typeface="Arial"/>
              </a:rPr>
              <a:t>«Улица полна неожиданносте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66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Педагогический замысел: расширять представления детей об улице, о проезжей части дороги, тротуаре, пешеходах, транспортных средствах; учить детей распределять роли, вести их до конца иг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66"/>
                </a:solidFill>
                <a:latin typeface="Arial"/>
              </a:rPr>
              <a:t>«Прогулка с любимыми куклам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Педагогический замысел: знакомить детей с правилами дорожного движения и дорожной атрибутикой в ходе иг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66"/>
                </a:solidFill>
                <a:latin typeface="Times New Roman"/>
              </a:rPr>
              <a:t>Освоение основ ПДД происходит легче, если в процесс познания включаются </a:t>
            </a:r>
            <a:r>
              <a:rPr b="1" lang="en-US" sz="3200" spc="-1" strike="noStrike">
                <a:solidFill>
                  <a:srgbClr val="00cc66"/>
                </a:solidFill>
                <a:latin typeface="Times New Roman"/>
              </a:rPr>
              <a:t>театрализованные игры: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Театрализованные игры по сказке С.Михалкова «Бездельник светофор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Театрализованная игра по сказке Н.Гинсбург «Колесо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Театрализованная игра «Еду, еду в автомобил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Театрализованная игра по книге Я.Пишумова «Это улица мо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Театрализованное музыкально-познавательное развлечение «В королевстве дорожных знак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Интегрированная театрализованная совместная деятельность педагога с детьми «Город мастер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Театрализованное развлечение «Путешествие в страну дорожных знак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66"/>
                </a:solidFill>
                <a:latin typeface="Times New Roman"/>
              </a:rPr>
              <a:t>Видеофильм «Азбука безопасности»</a:t>
            </a:r>
            <a:br>
              <a:rPr sz="3200"/>
            </a:br>
            <a:r>
              <a:rPr b="1" lang="ru-RU" sz="3200" spc="-1" strike="noStrike">
                <a:solidFill>
                  <a:srgbClr val="00cc66"/>
                </a:solidFill>
                <a:latin typeface="Times New Roman"/>
              </a:rPr>
              <a:t>с участием Смешариков: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Светоф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Гармония светоф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Пешеходная «зебр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Зебры в горо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Пляшущие человеч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Пограничная террито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Мигающий человеч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Недетский зна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Самая страшная маш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Некультурные автомоб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Нетерпеливые водит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Авто спецназна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На останов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В автобу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Пристегните рем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66"/>
                </a:solidFill>
                <a:latin typeface="Times New Roman"/>
              </a:rPr>
              <a:t>Система обучения ПДД в дошкольном учреждении подразумевает:</a:t>
            </a:r>
            <a:r>
              <a:rPr b="1" lang="en-US" sz="3600" spc="-1" strike="noStrike">
                <a:solidFill>
                  <a:srgbClr val="00cc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воспитание у детей навыков культуры поведения на улицах, дорогах, в транспорт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повышение квалификации педагогических кадров, отвечающих за социальное воспитание дошкольник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Активизацию совместной деятельности учреждения и родителей по обучению детей ПД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66"/>
                </a:solidFill>
                <a:latin typeface="Times New Roman"/>
              </a:rPr>
              <a:t>Используемая литература: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Учебно-методическое пособие «Дети на дороге. Правила дорожного движения в играх и упражнения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Программа и методические рекомендации по ознакомлению детей дошкольного возраста с правилами дорожного движения «Азбука дорожного движения» Л.Б. Баряева, В.Л. Жевнеров, Е.В. Загреб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Ф.С. Майорова «Изучаем дорожную азбук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С.Н.Черепанова «Правила дорожного движения дошкольника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66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cc66"/>
                </a:solidFill>
                <a:latin typeface="Times New Roman"/>
              </a:rPr>
              <a:t>Используемая литература:</a:t>
            </a:r>
            <a:r>
              <a:rPr b="1" lang="en-US" sz="4000" spc="-1" strike="noStrike">
                <a:solidFill>
                  <a:srgbClr val="00cc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Методические рекомендации: Формирование у дошкольников навыков безопасного поведения на улицах и дорогах. </a:t>
            </a: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В рамках реализации федеральной целевой программы «Повышение безопасности дорожного движения в 2006-2012 годах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Журнал «Справочник старшего воспитателя» №6,7 2009</a:t>
            </a: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Журнал «Дошкольная педагогика»  Апрель 2009 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О.В.Чермашенцева «Основы безопасного поведения дошкольнико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13716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66"/>
                </a:solidFill>
                <a:latin typeface="Times New Roman"/>
              </a:rPr>
              <a:t>Модель работы ДОУ по ознакомлению с правилами дорожного движения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074600" y="1815480"/>
            <a:ext cx="6849000" cy="4722840"/>
            <a:chOff x="1074600" y="1815480"/>
            <a:chExt cx="6849000" cy="4722840"/>
          </a:xfrm>
        </p:grpSpPr>
        <p:sp>
          <p:nvSpPr>
            <p:cNvPr id="104" name="_s5164"/>
            <p:cNvSpPr/>
            <p:nvPr/>
          </p:nvSpPr>
          <p:spPr>
            <a:xfrm flipH="1">
              <a:off x="2783880" y="4177080"/>
              <a:ext cx="86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5132"/>
            <p:cNvSpPr/>
            <p:nvPr/>
          </p:nvSpPr>
          <p:spPr>
            <a:xfrm>
              <a:off x="1074600" y="3587760"/>
              <a:ext cx="1709640" cy="117864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Педагог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5163"/>
            <p:cNvSpPr/>
            <p:nvPr/>
          </p:nvSpPr>
          <p:spPr>
            <a:xfrm>
              <a:off x="4499280" y="4766760"/>
              <a:ext cx="0" cy="59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5136"/>
            <p:cNvSpPr/>
            <p:nvPr/>
          </p:nvSpPr>
          <p:spPr>
            <a:xfrm>
              <a:off x="3644640" y="5359680"/>
              <a:ext cx="1708920" cy="117864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Социальны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партнер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5162"/>
            <p:cNvSpPr/>
            <p:nvPr/>
          </p:nvSpPr>
          <p:spPr>
            <a:xfrm>
              <a:off x="5353560" y="4177080"/>
              <a:ext cx="86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5134"/>
            <p:cNvSpPr/>
            <p:nvPr/>
          </p:nvSpPr>
          <p:spPr>
            <a:xfrm>
              <a:off x="6213960" y="3587760"/>
              <a:ext cx="1709640" cy="117864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Родител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5161"/>
            <p:cNvSpPr/>
            <p:nvPr/>
          </p:nvSpPr>
          <p:spPr>
            <a:xfrm flipV="1">
              <a:off x="4499280" y="2994120"/>
              <a:ext cx="0" cy="59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5128"/>
            <p:cNvSpPr/>
            <p:nvPr/>
          </p:nvSpPr>
          <p:spPr>
            <a:xfrm>
              <a:off x="3644640" y="1815480"/>
              <a:ext cx="1708920" cy="117864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Дет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5127"/>
            <p:cNvSpPr/>
            <p:nvPr/>
          </p:nvSpPr>
          <p:spPr>
            <a:xfrm>
              <a:off x="3644640" y="3587760"/>
              <a:ext cx="1708920" cy="11786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Правил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Дорожного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движения</a:t>
              </a:r>
              <a:r>
                <a:rPr b="0" lang="en-US" sz="2000" spc="-1" strike="noStrike">
                  <a:solidFill>
                    <a:srgbClr val="b2b2b2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8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-603720"/>
            <a:ext cx="7772400" cy="20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66"/>
                </a:solidFill>
                <a:latin typeface="Times New Roman"/>
              </a:rPr>
              <a:t>Система  методической работы с педагогами по</a:t>
            </a:r>
            <a:br>
              <a:rPr sz="2400"/>
            </a:br>
            <a:r>
              <a:rPr b="1" lang="en-US" sz="2400" spc="-1" strike="noStrike">
                <a:solidFill>
                  <a:srgbClr val="00cc66"/>
                </a:solidFill>
                <a:latin typeface="Times New Roman"/>
              </a:rPr>
              <a:t>теме «Правила безопасного поведения на дороге»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914400" y="765000"/>
          <a:ext cx="7772400" cy="6040440"/>
        </p:xfrm>
        <a:graphic>
          <a:graphicData uri="http://schemas.openxmlformats.org/drawingml/2006/table">
            <a:tbl>
              <a:tblPr/>
              <a:tblGrid>
                <a:gridCol w="3108240"/>
                <a:gridCol w="1555920"/>
                <a:gridCol w="1554120"/>
                <a:gridCol w="1554120"/>
              </a:tblGrid>
              <a:tr h="72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Тем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Форма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Ответст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вен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Срок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ОБЖ. Правила дорожного движ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Выставка и обзор лит-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тарший воспита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ентябрь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Формы и методы обучения детей поведению на улиц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еминар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октя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Мониторинг знаний правил поведения на проезжей ча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рактическое заня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ноя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Организация предметно-разви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вающей среды в групп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Конкур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дека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Выработка методических рекомендаций по ПД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Круглый сто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Творческая груп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январь -февра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истема работы с детьм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резентац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Воспитател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март - апр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Усвоение знаний, умений, навыков детей по ПД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Мониторинг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тарший воспита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ма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редупреждение детского дорожно-транспортного травматизма лет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Консультац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тарший воспита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ию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Выявление знаний и умений педагогов по данной темати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Анкетир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тарший воспита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авгу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66"/>
                </a:solidFill>
                <a:latin typeface="Times New Roman"/>
              </a:rPr>
              <a:t>Формы работы с педагогами: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196640"/>
            <a:ext cx="77724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Анкетиров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Тестиров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Информационно-практические обучающие занят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Курсы повышения квалифик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Консульт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Изготовление методических игр и пособ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Семинар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Педагогические сове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Мастер - класс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Выстав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Конкурсы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5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5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5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5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5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5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5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5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5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5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5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5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50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50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50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50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50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50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5000" fill="hold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5000" fill="hold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5000" fill="hold"/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5000" fill="hold"/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66"/>
                </a:solidFill>
                <a:latin typeface="Times New Roman"/>
              </a:rPr>
              <a:t>Система обучения воспитателей правилам безопасного поведения детей на дороге: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914400" y="1484280"/>
          <a:ext cx="7772400" cy="5489640"/>
        </p:xfrm>
        <a:graphic>
          <a:graphicData uri="http://schemas.openxmlformats.org/drawingml/2006/table">
            <a:tbl>
              <a:tblPr/>
              <a:tblGrid>
                <a:gridCol w="2220840"/>
                <a:gridCol w="2219400"/>
                <a:gridCol w="2220840"/>
                <a:gridCol w="11113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Те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Форма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Ответствен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Срок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ДД. Основные термины и поня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Теоретическое заня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отрудник ГИБД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ентя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Дорога в детский са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рактическое заня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тарший воспита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Октя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Обязанности пешехода, пассажи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Теоретическое заня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Ноя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сихофизиологическ. характеристики ребен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Консультац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едагог-психоло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Дека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редупредительные сигнал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Экскурсия в автошкол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отрудник ГИБД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Янва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Виды транспортных средств. ДТП и их причи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Теоретическое заня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Февра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игналы светофора и регулировщ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Информационно-практическое занятие на территории велогород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отрудник ГИБДД, педагог-организатор СЮ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Ма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Дорожные знаки и размет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Апр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Итоговое заня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Заче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тарший воспита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едагог-организатор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Ю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Ма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66"/>
                </a:solidFill>
                <a:latin typeface="Times New Roman"/>
              </a:rPr>
              <a:t>Система работы с родителями по ПДД: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914400" y="1484280"/>
          <a:ext cx="7772400" cy="5268600"/>
        </p:xfrm>
        <a:graphic>
          <a:graphicData uri="http://schemas.openxmlformats.org/drawingml/2006/table">
            <a:tbl>
              <a:tblPr/>
              <a:tblGrid>
                <a:gridCol w="1295280"/>
                <a:gridCol w="2590920"/>
                <a:gridCol w="3886200"/>
              </a:tblGrid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Групп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Формы рабо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Тем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Первый кварт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6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Общее родительское собрание  с участием инспектора ГИБД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«Дети на дороге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млад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Круглый сто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«Как научить ребенка безопасному поведению на улице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4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редня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Консультац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«Улица  глазами ребенк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Викторин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«Проверь себ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Бесед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«Высокая цена беспечност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тар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Консультац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«Дисциплина на улице – залог безопасности пешеходов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рогулка в парке совместно с родител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«Познавательная прогулк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Экскурсия в библиоте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«Папа, мама, я – читает вся семь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одготови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тель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КВ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«Азбука дорожного движения нужна нам как таблица умножени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66"/>
                </a:solidFill>
                <a:latin typeface="Times New Roman"/>
              </a:rPr>
              <a:t>Система работы с родителями по ПДД: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914400" y="1484280"/>
          <a:ext cx="7772400" cy="5423040"/>
        </p:xfrm>
        <a:graphic>
          <a:graphicData uri="http://schemas.openxmlformats.org/drawingml/2006/table">
            <a:tbl>
              <a:tblPr/>
              <a:tblGrid>
                <a:gridCol w="1295280"/>
                <a:gridCol w="2590920"/>
                <a:gridCol w="3886200"/>
              </a:tblGrid>
              <a:tr h="43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Групп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Формы рабо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Тем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Второй кварт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84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День открытых дверей «Как мы учим детей правилам дорожного движени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млад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Консульт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«Что нужно знать детям и родителям о правилах дорожного движени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редня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Рекоменд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«Какую литературу читать детям по ПДД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Конкурс рисунк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«Наш путь из дома в детский сад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Анкетирование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«Знает ли мой ребенок дорожные знаки?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2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тар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Консультац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«Для чего нужны ПДД?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Выставка совместных рабо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«Улица на которой я живу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Консульт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«Детский травматизм. Меры его предупреждени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одготови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тель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Написание сочи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«Когда я иду по улице с дочерью или сыном, то я…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1T05:41:06Z</dcterms:created>
  <dc:creator>1</dc:creator>
  <dc:description/>
  <dc:language>en-US</dc:language>
  <cp:lastModifiedBy>Админ</cp:lastModifiedBy>
  <dcterms:modified xsi:type="dcterms:W3CDTF">2011-06-10T08:03:24Z</dcterms:modified>
  <cp:revision>14</cp:revision>
  <dc:subject/>
  <dc:title>Слайд 1</dc:title>
</cp:coreProperties>
</file>