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025-635B-4AE2-B4EC-E8869609F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8FC-C296-462D-B1E6-3DFF7A1D2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3E3-171D-4A1E-BF83-3D1679BBF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18F-E44B-4352-B6D4-62CE2BE6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5B4-92D7-4922-B700-A268A3DB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43F-0792-497B-8C45-7E939CD2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DB5-015F-4B1E-B7D1-028F8578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0C4-D70B-4038-B302-6596692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CF-1106-4B24-873E-1BAEA0F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C8F-B7D8-498E-942D-F77FC0E1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837-4EC9-4C1E-A2F4-1AFD3898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FBF-AC63-4147-8E7F-5795552D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13E-405C-44CE-ACAC-70E7EF8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1CD-014C-4C39-A082-5FC441A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50F-1216-4B06-952E-F0E0D0B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030-7C9B-4DE5-9ED9-757E0C303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odnoklassniki.ru/profile/357503641306/photos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310-1"/>
          <p:cNvPicPr/>
          <p:nvPr/>
        </p:nvPicPr>
        <p:blipFill>
          <a:blip r:embed="rId1"/>
          <a:stretch/>
        </p:blipFill>
        <p:spPr>
          <a:xfrm rot="1036200">
            <a:off x="7370280" y="208080"/>
            <a:ext cx="1540080" cy="132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кий сад № 258 комбинирован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муниципальному конкурсу педагогических работников дошкольных учреждений «Солнечный круг»</a:t>
            </a: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крет педагогического счастья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Передер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рина Наталья Владимир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МДОУ «Детский сад № 258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-14 лет, стаж в должности старшего воспитателя -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на на высшую квалификационную категорию, 28 января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награды и дости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 и науки РФ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муниципального конкурс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х программ по работе с одаренными детьми «Путь к успеху»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Лауреата муниципального конкурса «К вершинам мастерств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Всероссийской научно-практической конференции при ОмГПУ «Психолого-педагогические и социальные аспекты благополучия современного ребенк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участника муниципального конкурса учебно-методических проектов «Методическая коллекция»,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2396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14400" y="99072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280001"/>
          <p:cNvPicPr/>
          <p:nvPr/>
        </p:nvPicPr>
        <p:blipFill>
          <a:blip r:embed="rId2"/>
          <a:stretch/>
        </p:blipFill>
        <p:spPr>
          <a:xfrm>
            <a:off x="147600" y="811080"/>
            <a:ext cx="1682640" cy="17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A280001"/>
          <p:cNvPicPr/>
          <p:nvPr/>
        </p:nvPicPr>
        <p:blipFill>
          <a:blip r:embed="rId3"/>
          <a:stretch/>
        </p:blipFill>
        <p:spPr>
          <a:xfrm>
            <a:off x="969840" y="1025640"/>
            <a:ext cx="1683000" cy="17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A280004"/>
          <p:cNvPicPr/>
          <p:nvPr/>
        </p:nvPicPr>
        <p:blipFill>
          <a:blip r:embed="rId4"/>
          <a:stretch/>
        </p:blipFill>
        <p:spPr>
          <a:xfrm>
            <a:off x="2111400" y="1120680"/>
            <a:ext cx="1668600" cy="183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A280006"/>
          <p:cNvPicPr/>
          <p:nvPr/>
        </p:nvPicPr>
        <p:blipFill>
          <a:blip r:embed="rId5"/>
          <a:stretch/>
        </p:blipFill>
        <p:spPr>
          <a:xfrm>
            <a:off x="3602160" y="128412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PA280003"/>
          <p:cNvPicPr/>
          <p:nvPr/>
        </p:nvPicPr>
        <p:blipFill>
          <a:blip r:embed="rId6"/>
          <a:stretch/>
        </p:blipFill>
        <p:spPr>
          <a:xfrm>
            <a:off x="4854600" y="1519200"/>
            <a:ext cx="1447920" cy="17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Наталья\Desktop\скан\Untitled4.jpg"/>
          <p:cNvPicPr/>
          <p:nvPr/>
        </p:nvPicPr>
        <p:blipFill>
          <a:blip r:embed="rId7"/>
          <a:stretch/>
        </p:blipFill>
        <p:spPr>
          <a:xfrm>
            <a:off x="6118200" y="1658880"/>
            <a:ext cx="142560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Наталья\Desktop\скан\Untitled6.jpg"/>
          <p:cNvPicPr/>
          <p:nvPr/>
        </p:nvPicPr>
        <p:blipFill>
          <a:blip r:embed="rId8"/>
          <a:stretch/>
        </p:blipFill>
        <p:spPr>
          <a:xfrm>
            <a:off x="7343640" y="1866960"/>
            <a:ext cx="141948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PA280005"/>
          <p:cNvPicPr/>
          <p:nvPr/>
        </p:nvPicPr>
        <p:blipFill>
          <a:blip r:embed="rId9"/>
          <a:srcRect l="118" t="0" r="0" b="0"/>
          <a:stretch/>
        </p:blipFill>
        <p:spPr>
          <a:xfrm>
            <a:off x="225360" y="3108240"/>
            <a:ext cx="15271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A280007"/>
          <p:cNvPicPr/>
          <p:nvPr/>
        </p:nvPicPr>
        <p:blipFill>
          <a:blip r:embed="rId10"/>
          <a:stretch/>
        </p:blipFill>
        <p:spPr>
          <a:xfrm>
            <a:off x="1533600" y="3311640"/>
            <a:ext cx="1411200" cy="17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A280002"/>
          <p:cNvPicPr/>
          <p:nvPr/>
        </p:nvPicPr>
        <p:blipFill>
          <a:blip r:embed="rId11"/>
          <a:stretch/>
        </p:blipFill>
        <p:spPr>
          <a:xfrm>
            <a:off x="2859120" y="3470400"/>
            <a:ext cx="148572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C:\Users\Наталья\Desktop\скан\Untitled3.jpg"/>
          <p:cNvPicPr/>
          <p:nvPr/>
        </p:nvPicPr>
        <p:blipFill>
          <a:blip r:embed="rId12"/>
          <a:stretch/>
        </p:blipFill>
        <p:spPr>
          <a:xfrm>
            <a:off x="4224240" y="3736800"/>
            <a:ext cx="135432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Наталья\Desktop\скан\Untitled7.jpg"/>
          <p:cNvPicPr/>
          <p:nvPr/>
        </p:nvPicPr>
        <p:blipFill>
          <a:blip r:embed="rId13"/>
          <a:stretch/>
        </p:blipFill>
        <p:spPr>
          <a:xfrm>
            <a:off x="5491080" y="4016520"/>
            <a:ext cx="11653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Наталья\Desktop\скан\Untitled2.jpg"/>
          <p:cNvPicPr/>
          <p:nvPr/>
        </p:nvPicPr>
        <p:blipFill>
          <a:blip r:embed="rId14"/>
          <a:stretch/>
        </p:blipFill>
        <p:spPr>
          <a:xfrm>
            <a:off x="6595920" y="4184640"/>
            <a:ext cx="1140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C:\Users\Наталья\Desktop\скан\Untitled5.jpg"/>
          <p:cNvPicPr/>
          <p:nvPr/>
        </p:nvPicPr>
        <p:blipFill>
          <a:blip r:embed="rId15"/>
          <a:stretch/>
        </p:blipFill>
        <p:spPr>
          <a:xfrm>
            <a:off x="7743960" y="4334040"/>
            <a:ext cx="117612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f2936"/>
                </a:solidFill>
                <a:latin typeface="Verdana"/>
              </a:rPr>
              <a:t>Эссе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ой педагогический стаж  - 14 лет, работая воспитателем на работу спешила как на праздник, знала – меня ждут мои детишки – почемуч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процессе работы поняла – нужны более глубокие знания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 дошкольной педагогике: детской, возрастной, специальной, общения взрослого и ребёнка - и  в 2001 г. поступила на факультет специальной дошкольной педагогики и психологии. С 2005 г. работаю старшим воспитателем, как и прежде, иду на работу с радостью  в свой творческий, сплочённый коллектив взрослых и детей, живущий своими  радостями и забота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ситуации обновления  образовательных программ в соответствии с ФГТ, перед образовательным учреждением сегодня стоит множество непростых задач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дним из основных путей обновления является переход на личностно-ориентированную модель развития и воспитания, признающий ценность развития индивидуальности ребёнка: не рядом, не «над», а в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Качество работы ДОУ зависит от качества работы воспит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настоящее время востребован не просто воспитатель, а педагог-исследователь, педагог-психолог, педагог-технолог. Роль обучения должна быть иной.  Научить ребёнка мыслить и самостоятельно добывать знания, заложить фундамент активной жизненной позиции - это педагогическая цель современного образования, а приоритетной задачей педагога является установка на развитие творческой деятельности ребёнка, уметь расковать мысль, побудить стремление создать новое, принимать самостоятельно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И  я как, старший воспитатель создаю условия для реализации образовательной программы и учебно – воспитательного процесса в цел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ю условия для профессионального роста и развития педагого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ворческого поиска новых методов и форм работы с детьми и родителя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ажно вывести родителей на уровень равноправного партнёрства, чтобы они являлись субъектами образовательного процесс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ДОУ предоставляет образовательные услуги – помощь семье в воспитании и развитии ребёнка – дошкольника, и от того насколько грамотно выстроен  образовательный процесс, зависит качественный уровень данной услуг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 нравится  принцип: «Педагогика – это любовь». Мне повезло с учителями. Они научили меня любить детей, людей, себя, мир вокруг. Они зажгли во мне огонь, который я несу в своем сердце, душе. Огонь, согревающий и меня, и тех, кто ря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Л.Модерат сказал: «Сотвори  мир  в себе и подари  его людям». Став педагогом, я выполняю этот наказ. Нет ученика без учителя, но и учителя нет без ученика. Это наша общая жизнь и ее надо наполнить  мудрой  любовь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ый человек, потому что профессия моя – это радость  общения с детьми и педагогами. Это моменты счастья, когда я вижу широко раскрытые от удивления детские глаза,  вижу благодарность и улыбки на лицах ребяти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я счастливый человек, потому что утром  с радостью иду в детский сад, чтобы снова и снова встретиться с детьми, коллегами – моими единомышленниками, живущими  со мой  в  одном ритме жизни. А  вечером, усталая, но счастливая, иду  домой, где меня  ждет  моя  сем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снова  я буду  продолжать думать о работе, строить  планы, что надо сделать еще, и ещ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9.gif"/>
          <p:cNvPicPr/>
          <p:nvPr/>
        </p:nvPicPr>
        <p:blipFill>
          <a:blip r:embed="rId1"/>
          <a:stretch/>
        </p:blipFill>
        <p:spPr>
          <a:xfrm>
            <a:off x="7726320" y="571500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3895560" cy="46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Наталья\Desktop\Новая папка\IMG_0719.JPG"/>
          <p:cNvPicPr/>
          <p:nvPr/>
        </p:nvPicPr>
        <p:blipFill>
          <a:blip r:embed="rId2"/>
          <a:stretch/>
        </p:blipFill>
        <p:spPr>
          <a:xfrm>
            <a:off x="4952880" y="357120"/>
            <a:ext cx="347688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i408.odnoklassniki.ru/getImage?photoId=279169802970&amp;photoType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4840" y="335268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xxoffice.gif"/>
          <p:cNvPicPr/>
          <p:nvPr/>
        </p:nvPicPr>
        <p:blipFill>
          <a:blip r:embed="rId5"/>
          <a:stretch/>
        </p:blipFill>
        <p:spPr>
          <a:xfrm>
            <a:off x="3638520" y="5562720"/>
            <a:ext cx="133020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 это мои колл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6094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се педагоги – люди от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Деток стараются восп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Новые знания им пере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они не только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 к новым зн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сами стрем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KIDS01.gif"/>
          <p:cNvPicPr/>
          <p:nvPr/>
        </p:nvPicPr>
        <p:blipFill>
          <a:blip r:embed="rId1"/>
          <a:stretch/>
        </p:blipFill>
        <p:spPr>
          <a:xfrm>
            <a:off x="7162920" y="685800"/>
            <a:ext cx="15523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Съемный диск - копия\Съемный диск\Фото на распечатку\15x22\Изображение 244.jpg"/>
          <p:cNvPicPr/>
          <p:nvPr/>
        </p:nvPicPr>
        <p:blipFill>
          <a:blip r:embed="rId2"/>
          <a:stretch/>
        </p:blipFill>
        <p:spPr>
          <a:xfrm>
            <a:off x="304920" y="99072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D:\Съемный диск - копия\Фототека\Фото конкурс\SAM_0626.JPG"/>
          <p:cNvPicPr/>
          <p:nvPr/>
        </p:nvPicPr>
        <p:blipFill>
          <a:blip r:embed="rId3"/>
          <a:stretch/>
        </p:blipFill>
        <p:spPr>
          <a:xfrm>
            <a:off x="307800" y="3962520"/>
            <a:ext cx="3032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191120" y="272520"/>
            <a:ext cx="4495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А дети у нас - просто талан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Правила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знают   на  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Рисуют, танц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песн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 общем  актив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жизнью жив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3008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Изображение 02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036"/>
          <p:cNvPicPr/>
          <p:nvPr/>
        </p:nvPicPr>
        <p:blipFill>
          <a:blip r:embed="rId2"/>
          <a:stretch/>
        </p:blipFill>
        <p:spPr>
          <a:xfrm>
            <a:off x="492120" y="3048120"/>
            <a:ext cx="30132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62.GIF"/>
          <p:cNvPicPr/>
          <p:nvPr/>
        </p:nvPicPr>
        <p:blipFill>
          <a:blip r:embed="rId3"/>
          <a:stretch/>
        </p:blipFill>
        <p:spPr>
          <a:xfrm>
            <a:off x="7143840" y="5357880"/>
            <a:ext cx="1522440" cy="124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mother.gif"/>
          <p:cNvPicPr/>
          <p:nvPr/>
        </p:nvPicPr>
        <p:blipFill>
          <a:blip r:embed="rId1"/>
          <a:stretch/>
        </p:blipFill>
        <p:spPr>
          <a:xfrm>
            <a:off x="914400" y="325440"/>
            <a:ext cx="1285920" cy="16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IMG_0414.JPG"/>
          <p:cNvPicPr/>
          <p:nvPr/>
        </p:nvPicPr>
        <p:blipFill>
          <a:blip r:embed="rId2"/>
          <a:stretch/>
        </p:blipFill>
        <p:spPr>
          <a:xfrm>
            <a:off x="333360" y="30481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Съемный диск - копия\Фототека\Фото спорт\SAM_0646.JPG"/>
          <p:cNvPicPr/>
          <p:nvPr/>
        </p:nvPicPr>
        <p:blipFill>
          <a:blip r:embed="rId3"/>
          <a:stretch/>
        </p:blipFill>
        <p:spPr>
          <a:xfrm>
            <a:off x="5000760" y="14292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8120"/>
            <a:ext cx="39340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Глядя на них, и сама развив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Быть самой лучшей я тоже стар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Новых проектов, программ испытат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Что же тут делать, ведь я – старший воспит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Я – воспитател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19:4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