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18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0937-0073-4C0E-B0E1-1F5FF78584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BC4A-8C51-4193-825C-D2BD3D8A81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D06D-C321-429D-A65B-3D029402F4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879-7417-4802-AA4B-B92C2619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0A3F-5C71-43C1-A244-907CD0CC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886-95F1-425D-8A3C-21FF9B56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831E-4473-4FE4-B508-10D97B2C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1B7-D8DA-44AC-8F00-BC2F304D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65A3-EF39-4181-A6D5-1FC9FDAE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1011-B042-4EC0-8CEC-202B3BF5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DFBC-C75C-47D3-A4F0-BCB7F5E9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5EE-B453-4D3E-AAC9-D6AB253A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5DB4-FD5E-4F99-AF7E-7F4B7F91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9E6-4BD3-4245-8660-320299D8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52A-36C8-41CE-AC6D-6D7BD328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ff93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6431-B97D-4985-9133-D6F0E894E2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hyperlink" Target="http://www.odnoklassniki.ru/profile/357503641306/photos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ff93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p310-1"/>
          <p:cNvPicPr/>
          <p:nvPr/>
        </p:nvPicPr>
        <p:blipFill>
          <a:blip r:embed="rId1"/>
          <a:stretch/>
        </p:blipFill>
        <p:spPr>
          <a:xfrm rot="1036200">
            <a:off x="7370280" y="208080"/>
            <a:ext cx="1540080" cy="1323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дошкольное образовательно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етский сад № 258 комбинированног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а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муниципальному конкурсу педагогических работников дошкольных учреждений «Солнечный круг»</a:t>
            </a:r>
            <a:br>
              <a:rPr sz="2000"/>
            </a:br>
            <a:br>
              <a:rPr sz="2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екрет педагогического счастья</a:t>
            </a:r>
            <a:br>
              <a:rPr sz="4000"/>
            </a:b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: старший воспитател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Передерина Наталья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6248520" y="152280"/>
            <a:ext cx="2133360" cy="2743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49532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ерина Наталья Владимировн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воспитатель МДОУ «Детский сад № 258 комбинированного ви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стаж -14 лет, стаж в должности старшего воспитателя - 6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ована на высшую квалификационную категорию, 28 января 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значимые награды и достиж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ая грамота Министерства образования  и науки РФ, 2010 г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т участника муниципального конкурс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ских программ по работе с одаренными детьми «Путь к успеху», 2010 г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 Лауреата муниципального конкурса «К вершинам мастерства», 2011 г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т участника Всероссийской научно-практической конференции при ОмГПУ «Психолого-педагогические и социальные аспекты благополучия современного ребенка», 2011 г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детельство участника муниципального конкурса учебно-методических проектов «Методическая коллекция», 201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8d3e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2523960" cy="1852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ff9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914400" y="990720"/>
            <a:ext cx="7848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772400" cy="83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PA280001"/>
          <p:cNvPicPr/>
          <p:nvPr/>
        </p:nvPicPr>
        <p:blipFill>
          <a:blip r:embed="rId2"/>
          <a:stretch/>
        </p:blipFill>
        <p:spPr>
          <a:xfrm>
            <a:off x="147600" y="811080"/>
            <a:ext cx="1682640" cy="1757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PA280001"/>
          <p:cNvPicPr/>
          <p:nvPr/>
        </p:nvPicPr>
        <p:blipFill>
          <a:blip r:embed="rId3"/>
          <a:stretch/>
        </p:blipFill>
        <p:spPr>
          <a:xfrm>
            <a:off x="969840" y="1025640"/>
            <a:ext cx="1683000" cy="1757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PA280004"/>
          <p:cNvPicPr/>
          <p:nvPr/>
        </p:nvPicPr>
        <p:blipFill>
          <a:blip r:embed="rId4"/>
          <a:stretch/>
        </p:blipFill>
        <p:spPr>
          <a:xfrm>
            <a:off x="2111400" y="1120680"/>
            <a:ext cx="1668600" cy="1838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PA280006"/>
          <p:cNvPicPr/>
          <p:nvPr/>
        </p:nvPicPr>
        <p:blipFill>
          <a:blip r:embed="rId5"/>
          <a:stretch/>
        </p:blipFill>
        <p:spPr>
          <a:xfrm>
            <a:off x="3602160" y="1284120"/>
            <a:ext cx="1417680" cy="172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PA280003"/>
          <p:cNvPicPr/>
          <p:nvPr/>
        </p:nvPicPr>
        <p:blipFill>
          <a:blip r:embed="rId6"/>
          <a:stretch/>
        </p:blipFill>
        <p:spPr>
          <a:xfrm>
            <a:off x="4854600" y="1519200"/>
            <a:ext cx="1447920" cy="1795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C:\Users\Наталья\Desktop\скан\Untitled4.jpg"/>
          <p:cNvPicPr/>
          <p:nvPr/>
        </p:nvPicPr>
        <p:blipFill>
          <a:blip r:embed="rId7"/>
          <a:stretch/>
        </p:blipFill>
        <p:spPr>
          <a:xfrm>
            <a:off x="6118200" y="1658880"/>
            <a:ext cx="1425600" cy="182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C:\Users\Наталья\Desktop\скан\Untitled6.jpg"/>
          <p:cNvPicPr/>
          <p:nvPr/>
        </p:nvPicPr>
        <p:blipFill>
          <a:blip r:embed="rId8"/>
          <a:stretch/>
        </p:blipFill>
        <p:spPr>
          <a:xfrm>
            <a:off x="7343640" y="1866960"/>
            <a:ext cx="1419480" cy="1657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PA280005"/>
          <p:cNvPicPr/>
          <p:nvPr/>
        </p:nvPicPr>
        <p:blipFill>
          <a:blip r:embed="rId9"/>
          <a:srcRect l="118" t="0" r="0" b="0"/>
          <a:stretch/>
        </p:blipFill>
        <p:spPr>
          <a:xfrm>
            <a:off x="225360" y="3108240"/>
            <a:ext cx="1527120" cy="1838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PA280007"/>
          <p:cNvPicPr/>
          <p:nvPr/>
        </p:nvPicPr>
        <p:blipFill>
          <a:blip r:embed="rId10"/>
          <a:stretch/>
        </p:blipFill>
        <p:spPr>
          <a:xfrm>
            <a:off x="1533600" y="3311640"/>
            <a:ext cx="1411200" cy="174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A280002"/>
          <p:cNvPicPr/>
          <p:nvPr/>
        </p:nvPicPr>
        <p:blipFill>
          <a:blip r:embed="rId11"/>
          <a:stretch/>
        </p:blipFill>
        <p:spPr>
          <a:xfrm>
            <a:off x="2859120" y="3470400"/>
            <a:ext cx="1485720" cy="180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C:\Users\Наталья\Desktop\скан\Untitled3.jpg"/>
          <p:cNvPicPr/>
          <p:nvPr/>
        </p:nvPicPr>
        <p:blipFill>
          <a:blip r:embed="rId12"/>
          <a:stretch/>
        </p:blipFill>
        <p:spPr>
          <a:xfrm>
            <a:off x="4224240" y="3736800"/>
            <a:ext cx="1354320" cy="171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C:\Users\Наталья\Desktop\скан\Untitled7.jpg"/>
          <p:cNvPicPr/>
          <p:nvPr/>
        </p:nvPicPr>
        <p:blipFill>
          <a:blip r:embed="rId13"/>
          <a:stretch/>
        </p:blipFill>
        <p:spPr>
          <a:xfrm>
            <a:off x="5491080" y="4016520"/>
            <a:ext cx="116532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C:\Users\Наталья\Desktop\скан\Untitled2.jpg"/>
          <p:cNvPicPr/>
          <p:nvPr/>
        </p:nvPicPr>
        <p:blipFill>
          <a:blip r:embed="rId14"/>
          <a:stretch/>
        </p:blipFill>
        <p:spPr>
          <a:xfrm>
            <a:off x="6595920" y="4184640"/>
            <a:ext cx="1140120" cy="1523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C:\Users\Наталья\Desktop\скан\Untitled5.jpg"/>
          <p:cNvPicPr/>
          <p:nvPr/>
        </p:nvPicPr>
        <p:blipFill>
          <a:blip r:embed="rId15"/>
          <a:stretch/>
        </p:blipFill>
        <p:spPr>
          <a:xfrm>
            <a:off x="7743960" y="4334040"/>
            <a:ext cx="117612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0456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2080" indent="-262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f2936"/>
                </a:solidFill>
                <a:latin typeface="Verdana"/>
              </a:rPr>
              <a:t>Эссе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Мой педагогический стаж  - 14 лет, работая воспитателем на работу спешила как на праздник, знала – меня ждут мои детишки – почемуч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процессе работы поняла – нужны более глубокие знания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 дошкольной педагогике: детской, возрастной, специальной, общения взрослого и ребёнка - и  в 2001 г. поступила на факультет специальной дошкольной педагогики и психологии. С 2005 г. работаю старшим воспитателем, как и прежде, иду на работу с радостью  в свой творческий, сплочённый коллектив взрослых и детей, живущий своими  радостями и заботам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ситуации обновления  образовательных программ в соответствии с ФГТ, перед образовательным учреждением сегодня стоит множество непростых задач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Одним из основных путей обновления является переход на личностно-ориентированную модель развития и воспитания, признающий ценность развития индивидуальности ребёнка: не рядом, не «над», а вмес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Качество работы ДОУ зависит от качества работы воспитател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настоящее время востребован не просто воспитатель, а педагог-исследователь, педагог-психолог, педагог-технолог. Роль обучения должна быть иной.  Научить ребёнка мыслить и самостоятельно добывать знания, заложить фундамент активной жизненной позиции - это педагогическая цель современного образования, а приоритетной задачей педагога является установка на развитие творческой деятельности ребёнка, уметь расковать мысль, побудить стремление создать новое, принимать самостоятельно решения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И  я как, старший воспитатель создаю условия для реализации образовательной программы и учебно – воспитательного процесса в цело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оздаю условия для профессионального роста и развития педагогов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творческого поиска новых методов и форм работы с детьми и родителям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ажно вывести родителей на уровень равноправного партнёрства, чтобы они являлись субъектами образовательного процесс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ДОУ предоставляет образовательные услуги – помощь семье в воспитании и развитии ребёнка – дошкольника, и от того насколько грамотно выстроен  образовательный процесс, зависит качественный уровень данной услуг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04560" y="3049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Моя педагогическая 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 нравится  принцип: «Педагогика – это любовь». Мне повезло с учителями. Они научили меня любить детей, людей, себя, мир вокруг. Они зажгли во мне огонь, который я несу в своем сердце, душе. Огонь, согревающий и меня, и тех, кто ряд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Л.Модерат сказал: «Сотвори  мир  в себе и подари  его людям». Став педагогом, я выполняю этот наказ. Нет ученика без учителя, но и учителя нет без ученика. Это наша общая жизнь и ее надо наполнить  мудрой  любовью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частливый человек, потому что профессия моя – это радость  общения с детьми и педагогами. Это моменты счастья, когда я вижу широко раскрытые от удивления детские глаза,  вижу благодарность и улыбки на лицах ребятиш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я счастливый человек, потому что утром  с радостью иду в детский сад, чтобы снова и снова встретиться с детьми, коллегами – моими единомышленниками, живущими  со мой  в  одном ритме жизни. А  вечером, усталая, но счастливая, иду  домой, где меня  ждет  моя  сем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снова  я буду  продолжать думать о работе, строить  планы, что надо сделать еще, и еще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19.gif"/>
          <p:cNvPicPr/>
          <p:nvPr/>
        </p:nvPicPr>
        <p:blipFill>
          <a:blip r:embed="rId1"/>
          <a:stretch/>
        </p:blipFill>
        <p:spPr>
          <a:xfrm>
            <a:off x="7726320" y="5715000"/>
            <a:ext cx="990720" cy="1028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WordArt 2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3895560" cy="460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Наталья\Desktop\Новая папка\IMG_0719.JPG"/>
          <p:cNvPicPr/>
          <p:nvPr/>
        </p:nvPicPr>
        <p:blipFill>
          <a:blip r:embed="rId2"/>
          <a:stretch/>
        </p:blipFill>
        <p:spPr>
          <a:xfrm>
            <a:off x="4952880" y="357120"/>
            <a:ext cx="3476880" cy="27147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http://i408.odnoklassniki.ru/getImage?photoId=279169802970&amp;photoType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84840" y="3352680"/>
            <a:ext cx="2500200" cy="30718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xxoffice.gif"/>
          <p:cNvPicPr/>
          <p:nvPr/>
        </p:nvPicPr>
        <p:blipFill>
          <a:blip r:embed="rId5"/>
          <a:stretch/>
        </p:blipFill>
        <p:spPr>
          <a:xfrm>
            <a:off x="3638520" y="5562720"/>
            <a:ext cx="1330200" cy="99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А это мои колле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3520" y="609480"/>
            <a:ext cx="85341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Все педагоги – люди от бо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Деток стараются воспит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Новые знания им перед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Чтобы они не только учили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Чтоб к новым знани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сами стрем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KIDS01.gif"/>
          <p:cNvPicPr/>
          <p:nvPr/>
        </p:nvPicPr>
        <p:blipFill>
          <a:blip r:embed="rId1"/>
          <a:stretch/>
        </p:blipFill>
        <p:spPr>
          <a:xfrm>
            <a:off x="7162920" y="685800"/>
            <a:ext cx="1552320" cy="9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D:\Съемный диск - копия\Съемный диск\Фото на распечатку\15x22\Изображение 244.jpg"/>
          <p:cNvPicPr/>
          <p:nvPr/>
        </p:nvPicPr>
        <p:blipFill>
          <a:blip r:embed="rId2"/>
          <a:stretch/>
        </p:blipFill>
        <p:spPr>
          <a:xfrm>
            <a:off x="304920" y="990720"/>
            <a:ext cx="3214440" cy="2428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" descr="D:\Съемный диск - копия\Фототека\Фото конкурс\SAM_0626.JPG"/>
          <p:cNvPicPr/>
          <p:nvPr/>
        </p:nvPicPr>
        <p:blipFill>
          <a:blip r:embed="rId3"/>
          <a:stretch/>
        </p:blipFill>
        <p:spPr>
          <a:xfrm>
            <a:off x="307800" y="3962520"/>
            <a:ext cx="3032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191120" y="272520"/>
            <a:ext cx="44956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А дети у нас - просто талан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Правила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знают   на   п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Рисуют, танцу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песни по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В общем  активн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жизнью живу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971800"/>
            <a:ext cx="30081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Изображение 025"/>
          <p:cNvPicPr/>
          <p:nvPr/>
        </p:nvPicPr>
        <p:blipFill>
          <a:blip r:embed="rId1"/>
          <a:stretch/>
        </p:blipFill>
        <p:spPr>
          <a:xfrm>
            <a:off x="533520" y="22860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036"/>
          <p:cNvPicPr/>
          <p:nvPr/>
        </p:nvPicPr>
        <p:blipFill>
          <a:blip r:embed="rId2"/>
          <a:stretch/>
        </p:blipFill>
        <p:spPr>
          <a:xfrm>
            <a:off x="492120" y="3048120"/>
            <a:ext cx="3013200" cy="27432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8" descr="62.GIF"/>
          <p:cNvPicPr/>
          <p:nvPr/>
        </p:nvPicPr>
        <p:blipFill>
          <a:blip r:embed="rId3"/>
          <a:stretch/>
        </p:blipFill>
        <p:spPr>
          <a:xfrm>
            <a:off x="7143840" y="5357880"/>
            <a:ext cx="1522440" cy="1247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4" descr="mother.gif"/>
          <p:cNvPicPr/>
          <p:nvPr/>
        </p:nvPicPr>
        <p:blipFill>
          <a:blip r:embed="rId1"/>
          <a:stretch/>
        </p:blipFill>
        <p:spPr>
          <a:xfrm>
            <a:off x="914400" y="325440"/>
            <a:ext cx="1285920" cy="1608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D:\IMG_0414.JPG"/>
          <p:cNvPicPr/>
          <p:nvPr/>
        </p:nvPicPr>
        <p:blipFill>
          <a:blip r:embed="rId2"/>
          <a:stretch/>
        </p:blipFill>
        <p:spPr>
          <a:xfrm>
            <a:off x="333360" y="3048120"/>
            <a:ext cx="3552840" cy="2895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D:\Съемный диск - копия\Фототека\Фото спорт\SAM_0646.JPG"/>
          <p:cNvPicPr/>
          <p:nvPr/>
        </p:nvPicPr>
        <p:blipFill>
          <a:blip r:embed="rId3"/>
          <a:stretch/>
        </p:blipFill>
        <p:spPr>
          <a:xfrm>
            <a:off x="5000760" y="142920"/>
            <a:ext cx="3429000" cy="27147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95680" y="3048120"/>
            <a:ext cx="393408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Глядя на них, и сама развиваюс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Быть самой лучшей я тоже стараюс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Новых проектов, программ испытател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Что же тут делать, ведь я – старший воспитател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Я – воспитатель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22T07:19:49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