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AF8-5DF0-4834-95A5-A497DCA1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6AD-650E-4F63-AAEA-B0F8E338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32D-B518-4B95-95A5-7274FC9F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821-9A6D-49F6-807B-35F1B496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EF41-FC8D-409A-8F99-D3D219F4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2B86-8815-47B4-AE1F-9A1A325C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305D-7EBA-44E2-9AE9-A5DAE4A1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866A-DE20-4053-9661-B855F6CE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8808-E962-4D63-98F9-C4E0469B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66AB-8280-49FC-BAAE-ED46D3A1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DCB1-8C03-42E5-9949-9FA5DBE1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DE9-D548-482E-9C87-5449698B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61D9-F5DD-4F2D-B89B-EBD5294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56AD-E672-41FE-995F-C0A19A4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2C50-2C59-4821-884C-8F628B19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8BFF-96C2-4D60-96B7-7C094C2A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78D4-9814-4877-9ABF-FD170619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7B6-6908-4AAA-B4B4-B70214F4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4F1-26CC-466F-98E6-9BB17D97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6CD-96E7-4A3F-BF97-F7760D3E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B8B-A22C-4640-9D5A-10B67F33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EA4-C91C-494F-BDB0-CF3DFF1A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68D-BE72-4D16-8AEB-9C632A94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9F4-6065-4B0A-A073-D0434CA9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EED2-9406-4544-8186-DFA3E1A09B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5EDE-173E-44ED-AD63-97A251DB08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амоуправлени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материалам раб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.Н. Степанова, Д.В. Григорь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оспитательный потенциа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ьно ценная направленность пор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ая значимость для ребенка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ичие реальных и конкретных прав и обязанностей у исполнителя пор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структивная оснащенность процесса поручаемого дела (цель, значение, сроки, варианты помощи и поддерж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вающий характер содержания и способов выполнения поручений (от простого к сложному, от желаемого к обязательному, от исполнительской к руководящ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шибки само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ать все на себ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ветом учеников должен заниматься отдельный педагог, а не зам. по 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тавлять в стороне начальную школ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зам самоуправления учатся уже 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вращать Совет в сервисную служб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валивание практически всей организации и ответственности за предстоящее д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обеда жить и работать под единоначалием педагога, а после уроков играть в демократи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ез единой демократической линии в школе самоуправление превращается постепенно в фар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бывать благодарить тех, кто берет на себя ответственность на себя или разделяет ее с н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делайте систему поощр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рывать глаза на проявление безответственности членов Совет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Шанс на исправление и закрепление успеха. Один ша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лизм, возрастающая принудительность в выполнении де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 проводить дела «спустя рука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нятие само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 организации жизнедеятельности коллектива учащихся, обеспечивающую развитие их самостоятельности в принятии и реализации решений для достижения общественно значимых целей (Педагогическая энциклопеди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енаправленная, конкретная, систематическая, организованная и прогнозируемая по результатам деятельность учащихся, в процессе которой реализуются функции управления, направленные на решение задач, стоящих перед школой (Н.И. Приходько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остоятельность в проявлении инициативы, принятии решения и его самореализации в интересах своего коллектива или организации (В.Т. Кабуш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организации коллектива (В.М. Коротов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нятие само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йствия детей, осуществляемые самостоятельно или совместно со взрослыми членами классного сообщества, по планированию, организации и анализу жизнедеятельности в классе, направленной на создание благоприятных условий для общения и развития одноклассников и решение других социально ценных задач (Е.Н. Степан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самоуправления </a:t>
            </a:r>
            <a:br>
              <a:rPr sz="4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по Е.Н. Степанову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действие развитию ребен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развитие качеств самостоятельности, активности, ответственност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рганизация эффективного функционирования учебной групп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успешное выполнение возложенных на класс функци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ормирование у учащихся готовности и способности выполнять систему социальных ролей челове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расширение пространства для проявления своей активност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нципы самоупр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е наполнение работы органов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ая значимость деятельности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ветствие содержательного и организационно-структурного компонентов самоуправления уровню развития классного коллект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аимосвязь функций, полномочий, реальных прав и возможностей органов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овольность и выборность органов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ициатива, самодеятельность и творчество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сность и актуальность принимаемых решений, коллегиальность их раз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четание деятельности постоянных и выборных органов самоуправления, последовательность и систематичность их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язательное представительство классных коллекти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аимодействие всех органов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трудничество детей и взрослых при подготовке, принятии и выполнении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Шаг первый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из опыта 825 школы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рование внутришкольного пространства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ом этапе проводится диагностика межличностных, внутри- и межвозрастных, других отношений детей в рамках школы. Вокруг инициативной педагогической группы могут объединиться ребята, готовые встать в рефлексивную позицию по отношению к процессу развития школы. Они составляют детскую диагностическую службу школы. Возникновение подобной службы как коллективного исследователя, а затем и проектировщика деятельности в режиме самоуправления – главная задача начального эта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Шаг второй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из опыта 825 школы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реализация «прецедентов самоуправл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м этапе детской диагностической службой школы инициируются изменения в событийной жизни школы. Появляются «прецеденты самоуправления» - события, которые могут осуществляться школьниками преимущественно само-деятельно и само-управляе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Шаг третий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из опыта 825 школы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овление детского самоуправления как основного принципа событийной жизни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ерь все общешкольные события, потенциально открытые к развертыванию в режиме детского самоуправления, должны стать предметом заботы детей. Развертываться событие может в несколько эта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вление конкурса на лучший проект коллективно-творческого дела (например, в рамках годового цикла общешкольных праздник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временных творческих групп по разработке про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 экспертным советом старшеклассников лучшего проекта или – в случае невозможности подобного – лучших проектировщиков по результатам внутригруппового рейтинга в творческих групп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ладывание «команды дела», готовой претворить проект в жиз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«команды дела» с привлечением всех заинтересованных 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Начало: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«деятельность рождает самоуправление»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(А.С. Макаренко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олнение какого-то ответственного задания, порученного классу органом школьного само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ие одного или нескольких дел, организаторами которых выступают объединенные общим интересом однокласс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аботка и осуществление совместными усилиями учащихся социально значимого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ие в классе клуба, членами которого являются учащиеся со схожими увлеч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8:18:00Z</dcterms:created>
  <dc:creator>User</dc:creator>
  <dc:description/>
  <dc:language>en-US</dc:language>
  <cp:lastModifiedBy>ViDOKaf</cp:lastModifiedBy>
  <dcterms:modified xsi:type="dcterms:W3CDTF">2008-04-15T19:01:43Z</dcterms:modified>
  <cp:revision>15</cp:revision>
  <dc:subject/>
  <dc:title>Самоуправление</dc:title>
</cp:coreProperties>
</file>