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E0BE1-B383-4AAC-8066-6E4049759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7D24F-1C32-42F7-8746-4A29F86EE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34A7C-E868-4207-813C-E13302305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0CDAF-817B-402A-8A29-6C3C248B2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B3BC2-027E-4AF5-8645-EE403D7BA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8037A-B4A6-4BC2-B725-3C1B423DD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7A064-5AC5-4216-B06C-5D80F386E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DDC58-4872-4341-A890-AE79B59CD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7F72E-B0A4-47C4-BCDF-B3A1B8B18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AEA88-EB41-498E-8FFB-45C7548FF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4FCEB-D3C2-41E8-BB32-62BE547EC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42A40-C915-4B6A-8D19-3AC0A5464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B6137-F864-4BF3-BBA2-F8719DFF7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3096A-136F-45D9-909D-838C3665B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12DC3-1F7B-4D3E-8330-49A0A0B58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4407F-05DC-4E06-B113-545CE5964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1FA80-A60D-426E-8D7C-9026EBF42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BAFB5-D011-4582-8486-DF05A52E0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353BE-6834-4FFD-BFC3-59549AD27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7128E-CAFD-45BB-A74D-5B0D26257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E6061-3CB0-4511-B28C-34FE63B37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46D5F-5003-4E2D-B4BE-D09F6AF6A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A4F88-5686-4681-B265-4F1C26353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6B5FF-2F65-4ED2-B03F-A4571C9DB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6DAC6-A82B-4CD6-B093-28858824299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F8F38-036F-47DE-A994-6B15E6B9680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33"/>
                </a:solidFill>
                <a:latin typeface="Times New Roman"/>
              </a:rPr>
              <a:t>Самоуправление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 материалам рабо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Е.Н. Степанова, Д.В. Григорьев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Воспитательный потенциал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оциально ценная направленность поруч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личностная значимость для ребенка деятельност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личие реальных и конкретных прав и обязанностей у исполнителя поруч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нструктивная оснащенность процесса поручаемого дела (цель, значение, сроки, варианты помощи и поддержки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азвивающий характер содержания и способов выполнения поручений (от простого к сложному, от желаемого к обязательному, от исполнительской к руководящей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Ошибки самоуправления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0920" y="1600200"/>
            <a:ext cx="828180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Брать все на себя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Советом учеников должен заниматься отдельный педагог, а не зам. по В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ставлять в стороне начальную школу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Азам самоуправления учатся уже та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евращать Совет в сервисную службу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Сваливание практически всей организации и ответственности за предстоящее дел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о обеда жить и работать под единоначалием педагога, а после уроков играть в демократию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Без единой демократической линии в школе самоуправление превращается постепенно в фар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Забывать благодарить тех, кто берет на себя ответственность на себя или разделяет ее с нами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Сделайте систему поощре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Закрывать глаза на проявление безответственности членов Совета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Шанс на исправление и закрепление успеха. Один шан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Формализм, возрастающая принудительность в выполнении дел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Не проводить дела «спустя рукава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Понятие самоуправления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10920" y="1600200"/>
            <a:ext cx="82818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Форма организации жизнедеятельности коллектива учащихся, обеспечивающую развитие их самостоятельности в принятии и реализации решений для достижения общественно значимых целей (Педагогическая энциклопедия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Целенаправленная, конкретная, систематическая, организованная и прогнозируемая по результатам деятельность учащихся, в процессе которой реализуются функции управления, направленные на решение задач, стоящих перед школой (Н.И. Приходько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амостоятельность в проявлении инициативы, принятии решения и его самореализации в интересах своего коллектива или организации (В.Т. Кабуш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Метод организации коллектива (В.М. Коротов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Понятие самоуправления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Действия детей, осуществляемые самостоятельно или совместно со взрослыми членами классного сообщества, по планированию, организации и анализу жизнедеятельности в классе, направленной на создание благоприятных условий для общения и развития одноклассников и решение других социально ценных задач (Е.Н. Степанов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Цели самоуправления </a:t>
            </a:r>
            <a:br>
              <a:rPr sz="4200"/>
            </a:br>
            <a:r>
              <a:rPr b="0" lang="en-US" sz="2400" spc="-1" strike="noStrike">
                <a:solidFill>
                  <a:srgbClr val="330033"/>
                </a:solidFill>
                <a:latin typeface="Times New Roman"/>
              </a:rPr>
              <a:t>(по Е.Н. Степанову)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68000" y="1599840"/>
            <a:ext cx="8351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Содействие развитию ребенка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(развитие качеств самостоятельности, активности, ответственности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Организация эффективного функционирования учебной группы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(успешное выполнение возложенных на класс функций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Формирование у учащихся готовности и способности выполнять систему социальных ролей человека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(расширение пространства для проявления своей активности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Принципы самоуправления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1280" y="1599840"/>
            <a:ext cx="8075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еятельное наполнение работы органов самоуправл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оциальная значимость деятельности самоуправл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оответствие содержательного и организационно-структурного компонентов самоуправления уровню развития классного коллекти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заимосвязь функций, полномочий, реальных прав и возможностей органов самоуправл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обровольность и выборность органов самоуправл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Инициатива, самодеятельность и творчество дет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Гласность и актуальность принимаемых решений, коллегиальность их разработ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очетание деятельности постоянных и выборных органов самоуправления, последовательность и систематичность их работ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бязательное представительство классных коллектив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заимодействие всех органов самоуправл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отрудничество детей и взрослых при подготовке, принятии и выполнении реше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Шаг первый </a:t>
            </a:r>
            <a:r>
              <a:rPr b="0" lang="en-US" sz="2400" spc="-1" strike="noStrike">
                <a:solidFill>
                  <a:srgbClr val="330033"/>
                </a:solidFill>
                <a:latin typeface="Times New Roman"/>
              </a:rPr>
              <a:t>(из опыта 825 школы)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иагностирование внутришкольного пространства отнош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этом этапе проводится диагностика межличностных, внутри- и межвозрастных, других отношений детей в рамках школы. Вокруг инициативной педагогической группы могут объединиться ребята, готовые встать в рефлексивную позицию по отношению к процессу развития школы. Они составляют детскую диагностическую службу школы. Возникновение подобной службы как коллективного исследователя, а затем и проектировщика деятельности в режиме самоуправления – главная задача начального этап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Шаг второй </a:t>
            </a:r>
            <a:r>
              <a:rPr b="0" lang="en-US" sz="2400" spc="-1" strike="noStrike">
                <a:solidFill>
                  <a:srgbClr val="330033"/>
                </a:solidFill>
                <a:latin typeface="Times New Roman"/>
              </a:rPr>
              <a:t>(из опыта 825 школы)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ектирование и реализация «прецедентов самоуправления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этом этапе детской диагностической службой школы инициируются изменения в событийной жизни школы. Появляются «прецеденты самоуправления» - события, которые могут осуществляться школьниками преимущественно само-деятельно и само-управляем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Шаг третий</a:t>
            </a:r>
            <a:r>
              <a:rPr b="0" i="1" lang="en-US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0033"/>
                </a:solidFill>
                <a:latin typeface="Times New Roman"/>
              </a:rPr>
              <a:t>(из опыта 825 школы)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тановление детского самоуправления как основного принципа событийной жизни школ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Теперь все общешкольные события, потенциально открытые к развертыванию в режиме детского самоуправления, должны стать предметом заботы детей. Развертываться событие может в несколько этапов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бъявление конкурса на лучший проект коллективно-творческого дела (например, в рамках годового цикла общешкольных праздников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оздание временных творческих групп по разработке проект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пределение экспертным советом старшеклассников лучшего проекта или – в случае невозможности подобного – лучших проектировщиков по результатам внутригруппового рейтинга в творческих группах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кладывание «команды дела», готовой претворить проект в жизнь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абота «команды дела» с привлечением всех заинтересованных лиц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040" y="277560"/>
            <a:ext cx="776124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33"/>
                </a:solidFill>
                <a:latin typeface="Times New Roman"/>
              </a:rPr>
              <a:t>Начало: </a:t>
            </a:r>
            <a:br>
              <a:rPr sz="2800"/>
            </a:br>
            <a:r>
              <a:rPr b="1" lang="en-US" sz="2800" spc="-1" strike="noStrike">
                <a:solidFill>
                  <a:srgbClr val="330033"/>
                </a:solidFill>
                <a:latin typeface="Times New Roman"/>
              </a:rPr>
              <a:t>«деятельность рождает самоуправление» </a:t>
            </a:r>
            <a:br>
              <a:rPr sz="2800"/>
            </a:br>
            <a:r>
              <a:rPr b="1" lang="en-US" sz="2800" spc="-1" strike="noStrike">
                <a:solidFill>
                  <a:srgbClr val="330033"/>
                </a:solidFill>
                <a:latin typeface="Times New Roman"/>
              </a:rPr>
              <a:t>(А.С. Макаренко)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ыполнение какого-то ответственного задания, порученного классу органом школьного самоуправл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оведение одного или нескольких дел, организаторами которых выступают объединенные общим интересом одноклассник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азработка и осуществление совместными усилиями учащихся социально значимого проект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оздание в классе клуба, членами которого являются учащиеся со схожими увлечения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0T18:18:00Z</dcterms:created>
  <dc:creator>User</dc:creator>
  <dc:description/>
  <dc:language>en-US</dc:language>
  <cp:lastModifiedBy>ViDOKaf</cp:lastModifiedBy>
  <dcterms:modified xsi:type="dcterms:W3CDTF">2008-04-15T19:01:43Z</dcterms:modified>
  <cp:revision>15</cp:revision>
  <dc:subject/>
  <dc:title>Самоуправление</dc:title>
</cp:coreProperties>
</file>