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492-2CE0-4BD4-AF91-B57E60B4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D4C-ECCD-41A5-A81D-117E452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257-1C98-4B55-9871-1A2C140E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6D0-547D-4830-ADA5-45327236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0F23-4C0F-470F-B067-29B6C40C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55C7-AD3E-4927-BD80-4489B1CB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D9E8-264C-4F3A-A629-55F715A3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4D32-CE12-449C-B8B4-97D231B0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4DF1-2E8E-460D-B208-A37FB5A6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49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B70D-1769-4F2C-A82C-12536EE2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311F-98FC-4F9A-A84D-35CE15B6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32B-889D-4A8F-8BED-FA98E3F4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1322-8E7C-4177-87DE-EBFE9EE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C051-4DAB-4FBC-B16B-0F2D695B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CCB1-BE28-4E3C-A809-7E00B8D9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F24-87A9-4992-9CDC-78AB34C2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15D0-9859-4BF6-AF4E-0BC5D9E0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58A-532C-45D9-B528-EDE3F88B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9E2-668C-4603-96C8-07DB7903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797-1F14-484C-92C8-E8968573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49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891-7A66-4DD9-969C-0CE8F16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8D8-9A27-4F7A-9D51-E5DFB82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1D2-1923-423C-80F8-1128108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395-EDCB-4A81-A2D0-3513063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1731C-D350-4A7D-B045-500628BFE7C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49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405B6B-486B-4A00-8EB9-8DE3337FCA3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7677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27000"/>
            <a:ext cx="7772400" cy="2727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ГБОУ СОШ с.Курумоч детский сад с/п Белочка-1</a:t>
            </a: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Роль игры в ризвитии речи дошкольник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89440" y="3981600"/>
            <a:ext cx="413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перв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йкина Ю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42900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6200" y="31860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</a:rPr>
              <a:t>Таким образом </a:t>
            </a:r>
            <a:r>
              <a:rPr b="0" lang="ru-RU" sz="2800" spc="-1" strike="noStrike">
                <a:solidFill>
                  <a:srgbClr val="004a4a"/>
                </a:solidFill>
                <a:latin typeface="Arial"/>
                <a:ea typeface="Times New Roman CYR"/>
              </a:rPr>
              <a:t>важнейшим условием полноценного речевого и общего развития ребенка является своевременное формирование у него грамматического строя языка средствами разнообразной игровой деятельности,поскольку язык и речь выполняют ведущую функцию в развитии его мышления,речевого общения,планирование и организации деятельности его поведения,формирование социальных 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dur="indefinite" fill="hold">
                      <p:stCondLst>
                        <p:cond delay="0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dur="indefinite" fill="hold">
                            <p:stCondLst>
                              <p:cond delay="15960"/>
                            </p:stCondLst>
                            <p:childTnLst>
                              <p:par>
                                <p:cTn id="44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 u="sng">
                <a:solidFill>
                  <a:srgbClr val="009900"/>
                </a:solidFill>
                <a:uFillTx/>
                <a:latin typeface="Arial"/>
              </a:rPr>
              <a:t>Актуальность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1640"/>
            <a:ext cx="8370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ь усваивается ребёнком самостоятельно, путём подражания, в процессе разнообразной речевой практики. Сталкиваясь с непониманием встречая языковые трудности на пути и достижению цели, ребёнок обращается к слову как особому объекту познания, начинает играть со словом,обследовательно, Словесные игры стимулируют желание ребёнка к экспериментированию со словом, способствуют обогощению словаря и речи ребёнк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cc0000"/>
                </a:solidFill>
                <a:uFillTx/>
                <a:latin typeface="Arial"/>
              </a:rPr>
              <a:t>Цель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 CYR"/>
                <a:ea typeface="Times New Roman CYR"/>
              </a:rPr>
              <a:t>формирование грамматического строя речи детей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003399"/>
                </a:solidFill>
                <a:uFillTx/>
                <a:latin typeface="Arial"/>
              </a:rPr>
              <a:t>Задачи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Symbol"/>
                <a:ea typeface="Symbol"/>
              </a:rPr>
              <a:t></a:t>
            </a: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оздание условий для формирования грамматического строя реч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Symbol"/>
                <a:ea typeface="Symbol"/>
              </a:rPr>
              <a:t></a:t>
            </a: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овершенствование грамматического строя речи через игр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Активизация словаря детей посредством использования игровых приемов и упраж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971800"/>
            <a:ext cx="228600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Arial"/>
              </a:rPr>
              <a:t>Усло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1522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речевой у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17524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 </a:t>
            </a: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подбор настольно-печат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581280"/>
            <a:ext cx="44956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дидактических игр в соответств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 </a:t>
            </a:r>
            <a:r>
              <a:rPr b="1" lang="ru-RU" sz="20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с возр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8120" y="5170320"/>
            <a:ext cx="449604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33366"/>
                </a:solidFill>
                <a:latin typeface="Times New Roman CYR"/>
                <a:ea typeface="Times New Roman CYR"/>
              </a:rPr>
              <a:t>предметно-развивающая 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886200"/>
            <a:ext cx="1752480" cy="167652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657600"/>
            <a:ext cx="1524240" cy="2286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2128680"/>
            <a:ext cx="1447920" cy="1076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604800"/>
            <a:ext cx="1981080" cy="237168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0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228600"/>
            <a:ext cx="472428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етоды и приём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рамматически правильн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03320"/>
            <a:ext cx="297180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гры и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развитию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11720"/>
            <a:ext cx="2971800" cy="11779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скрытие знач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"маленьких слов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словосочетания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работа над пониманием предлог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50080" y="1700280"/>
            <a:ext cx="3041640" cy="13572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несение вопроса с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ветствующей грам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орм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какой?какая?какое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249800"/>
            <a:ext cx="2971800" cy="1116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глядное моделиров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художественного текс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ходе игр-драматиз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562720"/>
            <a:ext cx="2971800" cy="99036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тавление предлож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потребляя раз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рамматические констру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72840" y="1295280"/>
            <a:ext cx="274680" cy="57960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79480" y="1295280"/>
            <a:ext cx="158760" cy="299556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295280"/>
            <a:ext cx="1440" cy="42674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34080" y="1300320"/>
            <a:ext cx="377640" cy="29858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1295280"/>
            <a:ext cx="436680" cy="42552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2979720"/>
            <a:ext cx="3246480" cy="122400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поставление 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 косвенной формы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топор-топ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ети-летит-летя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3122640"/>
            <a:ext cx="2971800" cy="990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правление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сказка правиль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ормы сло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54320" y="1311120"/>
            <a:ext cx="11160" cy="165924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9640" y="1311120"/>
            <a:ext cx="204840" cy="1824120"/>
          </a:xfrm>
          <a:prstGeom prst="line">
            <a:avLst/>
          </a:prstGeom>
          <a:ln cap="rnd" w="57240">
            <a:solidFill>
              <a:srgbClr val="00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0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 u="sng">
                <a:solidFill>
                  <a:srgbClr val="ff0066"/>
                </a:solidFill>
                <a:uFillTx/>
                <a:latin typeface="Arial"/>
              </a:rPr>
              <a:t>Все эти методы реализовываются при помощи игр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5017" t="0" r="0" b="0"/>
          <a:stretch/>
        </p:blipFill>
        <p:spPr>
          <a:xfrm>
            <a:off x="855720" y="4156200"/>
            <a:ext cx="2998800" cy="208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43560" y="4189320"/>
            <a:ext cx="3279600" cy="203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4989" t="9982" r="9978" b="9982"/>
          <a:stretch/>
        </p:blipFill>
        <p:spPr>
          <a:xfrm>
            <a:off x="5443560" y="1557360"/>
            <a:ext cx="3181320" cy="228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4983" t="0" r="29908" b="0"/>
          <a:stretch/>
        </p:blipFill>
        <p:spPr>
          <a:xfrm>
            <a:off x="887400" y="1558800"/>
            <a:ext cx="3009960" cy="2283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dur="indefinite" fill="hold">
                      <p:stCondLst>
                        <p:cond delay="0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6767ff"/>
                </a:solidFill>
                <a:uFillTx/>
                <a:latin typeface="Arial"/>
              </a:rPr>
              <a:t>Игры для грамматического строя реч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 Размыто письмо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 Живое слово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r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Дополни предложение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dur="indefinite" fill="hold">
                      <p:stCondLst>
                        <p:cond delay="0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914400"/>
            <a:ext cx="3429000" cy="160020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04920"/>
            <a:ext cx="3886200" cy="1523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«Игрушки полезные и вредны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«Что делать если у ребёнка плохая памят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70240" y="2590920"/>
            <a:ext cx="3886200" cy="148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одительские собр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е правильной речи ребёнка в сем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ваем речь, игр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</a:t>
            </a:r>
            <a:r>
              <a:rPr b="0" lang="ru-RU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чему ребёнку нужна иг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444920"/>
            <a:ext cx="4781520" cy="1955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ение совместных праздников по культуре реч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пуск папок-передвиже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ставки игр и пособий по развитию речи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05320" y="1214280"/>
            <a:ext cx="1143000" cy="314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73560" y="1825560"/>
            <a:ext cx="914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514600"/>
            <a:ext cx="81000" cy="192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0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7:40:19Z</dcterms:created>
  <dc:creator>1</dc:creator>
  <dc:description/>
  <dc:language>en-US</dc:language>
  <cp:lastModifiedBy>1</cp:lastModifiedBy>
  <dcterms:modified xsi:type="dcterms:W3CDTF">2010-12-05T19:07:3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