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ABCB-0265-4595-97E4-8405AD85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AB41-80A9-4154-841E-AA36A8F9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3CF0-5C44-4F83-96D4-4A7FA78D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1E14-C2F8-451B-9EF8-809A8B58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84F5-8EB3-4475-A391-BCC1A235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2480-8A9B-4EA0-B4B4-F107513D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15D8-0BF5-4A81-8C4E-F1227FCA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30F6-0B03-4174-89B5-061AD6C9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2B57-7188-4ABB-8353-14DA9067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20320"/>
            <a:ext cx="82249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7F92-892E-4244-830E-B1DE9EE9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901F-DB54-4E2D-BE44-C11A6963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E3DF-18EE-4013-956E-EB60FB15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9D89-F6B2-484F-BDEE-106D351C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7B7A-28A2-4B8F-A06C-B7EA37DE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3A3B-494C-4B4E-A2E3-F4CE0A31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CF42-4CE4-40D3-843B-56E2FA46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2A8F-1F80-45C8-AE6E-36348A73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59E-7D4C-40DD-9369-9A324A8C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94FF-C644-4FAB-AD79-2AB7ED29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BAEC-FC52-4564-82AA-B7720C0F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20320"/>
            <a:ext cx="82249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A1EA-2065-4803-A580-6CD9810B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68C8-4052-4733-ABA2-39F5EA60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0CDA-8B68-41FD-AAD8-1A46A809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8B39-30CF-499B-9BCD-40370F7D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3280" cy="1106280"/>
            <a:chOff x="1071720" y="304920"/>
            <a:chExt cx="761328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124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232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C981E-2F87-4A3A-84D3-88801BD6180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32C7BBA-1CD2-44F1-95D6-BDAFF09DA88A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76772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0720" y="27000"/>
            <a:ext cx="7772400" cy="2727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ГБОУ СОШ с.Курумоч детский сад с/п Белочка-1</a:t>
            </a: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Роль игры в ризвитии речи дошкольника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89440" y="3981600"/>
            <a:ext cx="4130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ь первой катег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йкина Ю.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3429000"/>
            <a:ext cx="4038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76200" y="31860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4a4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4a4a"/>
                </a:solidFill>
                <a:latin typeface="Arial"/>
              </a:rPr>
              <a:t>Таким образом </a:t>
            </a:r>
            <a:r>
              <a:rPr b="0" lang="ru-RU" sz="2800" spc="-1" strike="noStrike">
                <a:solidFill>
                  <a:srgbClr val="004a4a"/>
                </a:solidFill>
                <a:latin typeface="Arial"/>
                <a:ea typeface="Times New Roman CYR"/>
              </a:rPr>
              <a:t>важнейшим условием полноценного речевого и общего развития ребенка является своевременное формирование у него грамматического строя языка средствами разнообразной игровой деятельности,поскольку язык и речь выполняют ведущую функцию в развитии его мышления,речевого общения,планирование и организации деятельности его поведения,формирование социальных связ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dur="indefinite" fill="hold">
                      <p:stCondLst>
                        <p:cond delay="0"/>
                      </p:stCondLst>
                      <p:childTnLst>
                        <p:par>
                          <p:cTn id="4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dur="indefinite" fill="hold">
                            <p:stCondLst>
                              <p:cond delay="15960"/>
                            </p:stCondLst>
                            <p:childTnLst>
                              <p:par>
                                <p:cTn id="447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400" spc="-1" strike="noStrike" u="sng">
                <a:solidFill>
                  <a:srgbClr val="009900"/>
                </a:solidFill>
                <a:uFillTx/>
                <a:latin typeface="Arial"/>
              </a:rPr>
              <a:t>Актуальность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1640"/>
            <a:ext cx="83707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чь усваивается ребёнком самостоятельно, путём подражания, в процессе разнообразной речевой практики. Сталкиваясь с непониманием встречая языковые трудности на пути и достижению цели, ребёнок обращается к слову как особому объекту познания, начинает играть со словом,обследовательно, Словесные игры стимулируют желание ребёнка к экспериментированию со словом, способствуют обогощению словаря и речи ребёнка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52520" y="1600200"/>
            <a:ext cx="403884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0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800" spc="-1" strike="noStrike" u="sng">
                <a:solidFill>
                  <a:srgbClr val="cc0000"/>
                </a:solidFill>
                <a:uFillTx/>
                <a:latin typeface="Arial"/>
              </a:rPr>
              <a:t>Цель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 CYR"/>
                <a:ea typeface="Times New Roman CYR"/>
              </a:rPr>
              <a:t>формирование грамматического строя речи детей до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0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dur="indefinite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800" spc="-1" strike="noStrike" u="sng">
                <a:solidFill>
                  <a:srgbClr val="003399"/>
                </a:solidFill>
                <a:uFillTx/>
                <a:latin typeface="Arial"/>
              </a:rPr>
              <a:t>Задачи 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3366"/>
                </a:solidFill>
                <a:latin typeface="Symbol"/>
                <a:ea typeface="Symbol"/>
              </a:rPr>
              <a:t></a:t>
            </a:r>
            <a:r>
              <a:rPr b="1" lang="ru-RU" sz="26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Создание условий для формирования грамматического строя реч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3366"/>
                </a:solidFill>
                <a:latin typeface="Symbol"/>
                <a:ea typeface="Symbol"/>
              </a:rPr>
              <a:t></a:t>
            </a:r>
            <a:r>
              <a:rPr b="1" lang="ru-RU" sz="26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Совершенствование грамматического строя речи через игр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Активизация словаря детей посредством использования игровых приемов и упражне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0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971800"/>
            <a:ext cx="228600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Arial"/>
              </a:rPr>
              <a:t>Услов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152280"/>
            <a:ext cx="4495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речевой уго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1752480"/>
            <a:ext cx="4495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 </a:t>
            </a:r>
            <a:r>
              <a:rPr b="1" lang="ru-RU" sz="22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подбор настольно-печат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3581280"/>
            <a:ext cx="4495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дидактических игр в соответств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 </a:t>
            </a:r>
            <a:r>
              <a:rPr b="1" lang="ru-RU" sz="20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с возрас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8120" y="5170320"/>
            <a:ext cx="4496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предметно-развивающая сре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886200"/>
            <a:ext cx="1752480" cy="1676520"/>
          </a:xfrm>
          <a:prstGeom prst="line">
            <a:avLst/>
          </a:prstGeom>
          <a:ln cap="rnd" w="572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3657600"/>
            <a:ext cx="1524240" cy="228600"/>
          </a:xfrm>
          <a:prstGeom prst="line">
            <a:avLst/>
          </a:prstGeom>
          <a:ln cap="rnd" w="572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09680" y="2128680"/>
            <a:ext cx="1447920" cy="1076400"/>
          </a:xfrm>
          <a:prstGeom prst="line">
            <a:avLst/>
          </a:prstGeom>
          <a:ln cap="rnd" w="572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76520" y="604800"/>
            <a:ext cx="1981080" cy="2371680"/>
          </a:xfrm>
          <a:prstGeom prst="line">
            <a:avLst/>
          </a:prstGeom>
          <a:ln cap="rnd" w="572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0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7400" y="228600"/>
            <a:ext cx="472428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Методы и приём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грамматически правильной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903320"/>
            <a:ext cx="2971800" cy="99072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гры и упраж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а занят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 развитию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311720"/>
            <a:ext cx="2971800" cy="117792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скрытие значени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"маленьких слов"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 словосочетаниях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(работа над пониманием предлог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50080" y="1700280"/>
            <a:ext cx="3041640" cy="135720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отнесение вопроса с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ответствующей грамматическ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форм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(какой?какая?какое?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4249800"/>
            <a:ext cx="2971800" cy="111600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аглядное моделирова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художественного текст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 ходе игр-драматизац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5562720"/>
            <a:ext cx="2971800" cy="99036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ставление предложени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употребляя раз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грамматические конструк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472840" y="1295280"/>
            <a:ext cx="274680" cy="579600"/>
          </a:xfrm>
          <a:prstGeom prst="line">
            <a:avLst/>
          </a:prstGeom>
          <a:ln cap="rnd" w="57240">
            <a:solidFill>
              <a:srgbClr val="00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579480" y="1295280"/>
            <a:ext cx="158760" cy="2995560"/>
          </a:xfrm>
          <a:prstGeom prst="line">
            <a:avLst/>
          </a:prstGeom>
          <a:ln cap="rnd" w="57240">
            <a:solidFill>
              <a:srgbClr val="00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295280"/>
            <a:ext cx="1440" cy="4267440"/>
          </a:xfrm>
          <a:prstGeom prst="line">
            <a:avLst/>
          </a:prstGeom>
          <a:ln cap="rnd" w="57240">
            <a:solidFill>
              <a:srgbClr val="00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34080" y="1300320"/>
            <a:ext cx="377640" cy="2985840"/>
          </a:xfrm>
          <a:prstGeom prst="line">
            <a:avLst/>
          </a:prstGeom>
          <a:ln cap="rnd" w="57240">
            <a:solidFill>
              <a:srgbClr val="00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1295280"/>
            <a:ext cx="436680" cy="425520"/>
          </a:xfrm>
          <a:prstGeom prst="line">
            <a:avLst/>
          </a:prstGeom>
          <a:ln cap="rnd" w="57240">
            <a:solidFill>
              <a:srgbClr val="00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2979720"/>
            <a:ext cx="3246480" cy="122400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поставление нач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 косвенной формы сл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(топор-топор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лети-летит-летя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3122640"/>
            <a:ext cx="2971800" cy="99072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справление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дсказка правильн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формы слов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54320" y="1311120"/>
            <a:ext cx="11160" cy="1659240"/>
          </a:xfrm>
          <a:prstGeom prst="line">
            <a:avLst/>
          </a:prstGeom>
          <a:ln cap="rnd" w="57240">
            <a:solidFill>
              <a:srgbClr val="00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89640" y="1311120"/>
            <a:ext cx="204840" cy="1824120"/>
          </a:xfrm>
          <a:prstGeom prst="line">
            <a:avLst/>
          </a:prstGeom>
          <a:ln cap="rnd" w="57240">
            <a:solidFill>
              <a:srgbClr val="00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dur="indefinite" fill="hold">
                      <p:stCondLst>
                        <p:cond delay="0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400" spc="-1" strike="noStrike" u="sng">
                <a:solidFill>
                  <a:srgbClr val="ff0066"/>
                </a:solidFill>
                <a:uFillTx/>
                <a:latin typeface="Arial"/>
              </a:rPr>
              <a:t>Все эти методы реализовываются при помощи игр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5017" t="0" r="0" b="0"/>
          <a:stretch/>
        </p:blipFill>
        <p:spPr>
          <a:xfrm>
            <a:off x="855720" y="4156200"/>
            <a:ext cx="2998800" cy="2089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443560" y="4189320"/>
            <a:ext cx="3279600" cy="2033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rcRect l="4989" t="9982" r="9978" b="9982"/>
          <a:stretch/>
        </p:blipFill>
        <p:spPr>
          <a:xfrm>
            <a:off x="5443560" y="1557360"/>
            <a:ext cx="3181320" cy="2284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rcRect l="4983" t="0" r="29908" b="0"/>
          <a:stretch/>
        </p:blipFill>
        <p:spPr>
          <a:xfrm>
            <a:off x="887400" y="1558800"/>
            <a:ext cx="3009960" cy="2283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dur="indefinite" fill="hold">
                      <p:stCondLst>
                        <p:cond delay="0"/>
                      </p:stCondLst>
                      <p:childTnLst>
                        <p:par>
                          <p:cTn id="3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dur="indefinite" fill="hold">
                      <p:stCondLst>
                        <p:cond delay="indefinite"/>
                      </p:stCondLst>
                      <p:childTnLst>
                        <p:par>
                          <p:cTn id="3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dur="indefinite" fill="hold">
                      <p:stCondLst>
                        <p:cond delay="indefinite"/>
                      </p:stCondLst>
                      <p:childTnLst>
                        <p:par>
                          <p:cTn id="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 u="sng">
                <a:solidFill>
                  <a:srgbClr val="6767ff"/>
                </a:solidFill>
                <a:uFillTx/>
                <a:latin typeface="Arial"/>
              </a:rPr>
              <a:t>Игры для грамматического строя реч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 Размыто письмо»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 Живое слово»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r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Дополни предложение»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dur="indefinite" fill="hold">
                      <p:stCondLst>
                        <p:cond delay="0"/>
                      </p:stCondLst>
                      <p:childTnLst>
                        <p:par>
                          <p:cTn id="3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dur="indefinite" fill="hold">
                      <p:stCondLst>
                        <p:cond delay="indefinite"/>
                      </p:stCondLst>
                      <p:childTnLst>
                        <p:par>
                          <p:cTn id="3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dur="indefinite" fill="hold">
                      <p:stCondLst>
                        <p:cond delay="indefinite"/>
                      </p:stCondLst>
                      <p:childTnLst>
                        <p:par>
                          <p:cTn id="3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6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dur="indefinite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1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2280" y="914400"/>
            <a:ext cx="3429000" cy="1600200"/>
          </a:xfrm>
          <a:prstGeom prst="ellipse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Формы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304920"/>
            <a:ext cx="3886200" cy="15238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уль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 «Игрушки полезные и вредны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 «Что делать если у ребёнка плохая память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70240" y="2590920"/>
            <a:ext cx="3886200" cy="14842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одительские собр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</a:t>
            </a:r>
            <a:r>
              <a:rPr b="0" lang="ru-RU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витие правильной речи ребёнка в семь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</a:t>
            </a:r>
            <a:r>
              <a:rPr b="0" lang="ru-RU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виваем речь, игра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</a:t>
            </a:r>
            <a:r>
              <a:rPr b="0" lang="ru-RU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чему ребёнку нужна иг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444920"/>
            <a:ext cx="4781520" cy="19558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ведение совместных праздников по культуре реч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ыпуск папок-передвижек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ыставки игр и пособий по развитию речи дет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505320" y="1214280"/>
            <a:ext cx="1143000" cy="314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73560" y="1825560"/>
            <a:ext cx="91440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2514600"/>
            <a:ext cx="81000" cy="1920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wheel spokes="8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dur="indefinite" fill="hold">
                      <p:stCondLst>
                        <p:cond delay="0"/>
                      </p:stCondLst>
                      <p:childTnLst>
                        <p:par>
                          <p:cTn id="3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431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7:40:19Z</dcterms:created>
  <dc:creator>1</dc:creator>
  <dc:description/>
  <dc:language>en-US</dc:language>
  <cp:lastModifiedBy>1</cp:lastModifiedBy>
  <dcterms:modified xsi:type="dcterms:W3CDTF">2010-12-05T19:07:30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