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946-26F1-433C-8C1A-0D1B1143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33D-A17D-4DA8-A2FD-AD8D0D76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844-69C0-46D0-A359-CF439D54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C12-7930-4EE8-A8DB-F89961AB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7270-D6E7-4B7F-87BE-801542F0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6E07-3CBF-41CB-A371-3B6A59C3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59ED-8817-4928-A78A-75BBC1B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EDE5-A01E-4823-A567-6911003C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ED28-75AD-4686-BA40-513B590E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49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B75-AD4F-4679-B46D-EAE40C4D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B21F-38A6-47AE-89CC-1E8BCB22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9C7-C0D7-4A70-859C-C0D23FCB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E929-0A6B-4886-93BC-BCDEAD1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20AF-64D3-485F-B369-342BEE03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D20D-43D0-4A32-9792-996EF0FA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5866-BCFF-4A73-8500-21D48276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593-A9ED-46D0-96BE-541B0641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76C-E0AE-45A5-9A4C-C46E6DB1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683-605F-45D4-B711-63E9DD6B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D4D-08D6-45B2-8767-8D18F7F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49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A9C-7F90-4E5F-B415-F0B2CA77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DBB-60BD-498A-8482-1D47A53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5E0-6511-430E-A809-BFAC3783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E45-234E-44FE-974F-0D383FF8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A6653-52B4-4DA6-A710-11122C2F7FC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8B5D02-66B2-4FE1-9758-CCFC7BC14BB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77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27000"/>
            <a:ext cx="7772400" cy="2727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ГБОУ СОШ с.Курумоч детский сад с/п Белочка-1</a:t>
            </a: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Роль игры в ризвитии речи дошкольник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89440" y="3981600"/>
            <a:ext cx="413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перв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йкина Ю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42900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6200" y="31860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</a:rPr>
              <a:t>Таким образом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  <a:ea typeface="Times New Roman CYR"/>
              </a:rPr>
              <a:t>важнейшим условием полноценного речевого и общего развития ребенка является своевременное формирование у него грамматического строя языка средствами разнообразной игровой деятельности,поскольку язык и речь выполняют ведущую функцию в развитии его мышления,речевого общения,планирование и организации деятельности его поведения,формирование социальных 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dur="indefinite" fill="hold">
                      <p:stCondLst>
                        <p:cond delay="0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dur="indefinite" fill="hold">
                            <p:stCondLst>
                              <p:cond delay="15960"/>
                            </p:stCondLst>
                            <p:childTnLst>
                              <p:par>
                                <p:cTn id="44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 u="sng">
                <a:solidFill>
                  <a:srgbClr val="009900"/>
                </a:solidFill>
                <a:uFillTx/>
                <a:latin typeface="Arial"/>
              </a:rPr>
              <a:t>Актуальность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1640"/>
            <a:ext cx="8370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ь усваивается ребёнком самостоятельно, путём подражания, в процессе разнообразной речевой практики. Сталкиваясь с непониманием встречая языковые трудности на пути и достижению цели, ребёнок обращается к слову как особому объекту познания, начинает играть со словом,обследовательно, Словесные игры стимулируют желание ребёнка к экспериментированию со словом, способствуют обогощению словаря и речи ребёнк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cc0000"/>
                </a:solidFill>
                <a:uFillTx/>
                <a:latin typeface="Arial"/>
              </a:rPr>
              <a:t>Цель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 CYR"/>
                <a:ea typeface="Times New Roman CYR"/>
              </a:rPr>
              <a:t>формирование грамматического строя речи детей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003399"/>
                </a:solidFill>
                <a:uFillTx/>
                <a:latin typeface="Arial"/>
              </a:rPr>
              <a:t>Задачи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Symbol"/>
                <a:ea typeface="Symbol"/>
              </a:rPr>
              <a:t></a:t>
            </a: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оздание условий для формирования грамматического строя реч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Symbol"/>
                <a:ea typeface="Symbol"/>
              </a:rPr>
              <a:t></a:t>
            </a: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овершенствование грамматического строя речи через игр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Активизация словаря детей посредством использования игровых приемов и упраж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971800"/>
            <a:ext cx="228600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Arial"/>
              </a:rPr>
              <a:t>Усло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1522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речевой у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17524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 </a:t>
            </a: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подбор настольно-печат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5812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дидактических игр в соответств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 </a:t>
            </a: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 возр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8120" y="5170320"/>
            <a:ext cx="4496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предметно-развивающая 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886200"/>
            <a:ext cx="1752480" cy="167652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657600"/>
            <a:ext cx="1524240" cy="2286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2128680"/>
            <a:ext cx="1447920" cy="1076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604800"/>
            <a:ext cx="1981080" cy="237168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0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228600"/>
            <a:ext cx="472428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етоды и приём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рамматически правильн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03320"/>
            <a:ext cx="297180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гры и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развитию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11720"/>
            <a:ext cx="2971800" cy="11779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скрытие знач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"маленьких слов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словосочетания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работа над пониманием предлог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50080" y="1700280"/>
            <a:ext cx="3041640" cy="13572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несение вопроса с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ветствующей грам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орм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какой?какая?какое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249800"/>
            <a:ext cx="2971800" cy="1116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глядное моделиров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художественного текс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ходе игр-драматиз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562720"/>
            <a:ext cx="2971800" cy="99036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тавление предлож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потребляя раз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рамматические констру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72840" y="1295280"/>
            <a:ext cx="274680" cy="57960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79480" y="1295280"/>
            <a:ext cx="158760" cy="299556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295280"/>
            <a:ext cx="1440" cy="42674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34080" y="1300320"/>
            <a:ext cx="377640" cy="29858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1295280"/>
            <a:ext cx="436680" cy="42552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2979720"/>
            <a:ext cx="3246480" cy="1224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поставление 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 косвенной формы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топор-топ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ети-летит-летя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3122640"/>
            <a:ext cx="297180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правление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сказка правиль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ормы сло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54320" y="1311120"/>
            <a:ext cx="11160" cy="16592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9640" y="1311120"/>
            <a:ext cx="204840" cy="182412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0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 u="sng">
                <a:solidFill>
                  <a:srgbClr val="ff0066"/>
                </a:solidFill>
                <a:uFillTx/>
                <a:latin typeface="Arial"/>
              </a:rPr>
              <a:t>Все эти методы реализовываются при помощи игр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5017" t="0" r="0" b="0"/>
          <a:stretch/>
        </p:blipFill>
        <p:spPr>
          <a:xfrm>
            <a:off x="855720" y="4156200"/>
            <a:ext cx="2998800" cy="208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43560" y="4189320"/>
            <a:ext cx="3279600" cy="203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4989" t="9982" r="9978" b="9982"/>
          <a:stretch/>
        </p:blipFill>
        <p:spPr>
          <a:xfrm>
            <a:off x="5443560" y="1557360"/>
            <a:ext cx="3181320" cy="228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4983" t="0" r="29908" b="0"/>
          <a:stretch/>
        </p:blipFill>
        <p:spPr>
          <a:xfrm>
            <a:off x="887400" y="1558800"/>
            <a:ext cx="3009960" cy="2283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dur="indefinite" fill="hold">
                      <p:stCondLst>
                        <p:cond delay="0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6767ff"/>
                </a:solidFill>
                <a:uFillTx/>
                <a:latin typeface="Arial"/>
              </a:rPr>
              <a:t>Игры для грамматического строя реч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 Размыто письмо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 Живое слово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r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Дополни предложение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dur="indefinite" fill="hold">
                      <p:stCondLst>
                        <p:cond delay="0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914400"/>
            <a:ext cx="3429000" cy="160020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04920"/>
            <a:ext cx="3886200" cy="1523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«Игрушки полезные и вредны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«Что делать если у ребёнка плохая памят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70240" y="2590920"/>
            <a:ext cx="3886200" cy="148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одительские собр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е правильной речи ребёнка в сем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ваем речь, игр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чему ребёнку нужна иг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444920"/>
            <a:ext cx="4781520" cy="1955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ение совместных праздников по культуре реч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пуск папок-передвиже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ставки игр и пособий по развитию речи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05320" y="1214280"/>
            <a:ext cx="1143000" cy="314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73560" y="1825560"/>
            <a:ext cx="914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514600"/>
            <a:ext cx="81000" cy="192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0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7:40:19Z</dcterms:created>
  <dc:creator>1</dc:creator>
  <dc:description/>
  <dc:language>en-US</dc:language>
  <cp:lastModifiedBy>1</cp:lastModifiedBy>
  <dcterms:modified xsi:type="dcterms:W3CDTF">2010-12-05T19:07:3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