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wmf" ContentType="image/x-wm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7B3-4162-4F47-9586-2CB7BD39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798-8014-497E-8C97-CC8FFFC1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26C-1B16-4CEB-8CFB-EEC35387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878-A49B-4735-BF14-12D2D654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CB8-016B-44B1-BF27-9179E21E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996-9E1D-442B-BC45-734B8FAC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F6D-B82F-4742-9659-3C51F5DC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59C-9A4A-48BA-8580-642556FA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E73-2A08-4452-A350-B74D5CC8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859-9645-4D31-95B6-FD4961DD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64B-F977-43DA-8307-9A30A053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C0C-83BD-4128-BE58-4A3583B7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3262-2849-406B-8C33-D652D450D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5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79280" y="404640"/>
            <a:ext cx="856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Bookman Old Style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pic>
        <p:nvPicPr>
          <p:cNvPr id="42" name="WordArt 4" descr=""/>
          <p:cNvPicPr/>
          <p:nvPr/>
        </p:nvPicPr>
        <p:blipFill>
          <a:blip r:embed="rId3"/>
          <a:stretch/>
        </p:blipFill>
        <p:spPr>
          <a:xfrm>
            <a:off x="3554280" y="1347840"/>
            <a:ext cx="5418360" cy="4102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3995640" y="6165720"/>
            <a:ext cx="288000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г. Зверево 2011г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3646440" y="1700280"/>
            <a:ext cx="5497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pic>
        <p:nvPicPr>
          <p:cNvPr id="45" name="Picture 7" descr="Сканировать1"/>
          <p:cNvPicPr/>
          <p:nvPr/>
        </p:nvPicPr>
        <p:blipFill>
          <a:blip r:embed="rId8"/>
          <a:srcRect l="26194" t="20207" r="27147" b="29943"/>
          <a:stretch/>
        </p:blipFill>
        <p:spPr>
          <a:xfrm>
            <a:off x="179280" y="1628640"/>
            <a:ext cx="3311640" cy="50403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етодическое объеди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>
            <a:off x="684360" y="189000"/>
            <a:ext cx="77040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ffff"/>
                    </a:gs>
                    <a:gs pos="100000">
                      <a:srgbClr val="00ff00"/>
                    </a:gs>
                  </a:gsLst>
                  <a:lin ang="2700000"/>
                </a:gradFill>
                <a:latin typeface="Arial"/>
              </a:rPr>
              <a:t>Формы работ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ffff"/>
                  </a:gs>
                  <a:gs pos="100000">
                    <a:srgbClr val="00ff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ffff"/>
                    </a:gs>
                    <a:gs pos="100000">
                      <a:srgbClr val="00ff00"/>
                    </a:gs>
                  </a:gsLst>
                  <a:lin ang="2700000"/>
                </a:gradFill>
                <a:latin typeface="Arial"/>
              </a:rPr>
              <a:t>с педагог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ffff"/>
                  </a:gs>
                  <a:gs pos="100000">
                    <a:srgbClr val="00ff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940360" y="4797360"/>
            <a:ext cx="1849680" cy="1635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lin ang="5400000"/>
          </a:gradFill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нары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1042920" y="4869000"/>
            <a:ext cx="1849680" cy="1635120"/>
          </a:xfrm>
          <a:prstGeom prst="ellipse">
            <a:avLst/>
          </a:prstGeom>
          <a:solidFill>
            <a:srgbClr val="ff00ff"/>
          </a:solidFill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со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940360" y="1268280"/>
            <a:ext cx="1849680" cy="1635120"/>
          </a:xfrm>
          <a:prstGeom prst="ellipse">
            <a:avLst/>
          </a:prstGeom>
          <a:solidFill>
            <a:srgbClr val="ff0066"/>
          </a:solidFill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и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V="1">
            <a:off x="4932360" y="2491920"/>
            <a:ext cx="1152360" cy="792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4932360" y="4292640"/>
            <a:ext cx="1152360" cy="865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 flipH="1" flipV="1">
            <a:off x="2626920" y="2565000"/>
            <a:ext cx="1081080" cy="863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H="1">
            <a:off x="2484000" y="4221000"/>
            <a:ext cx="1150920" cy="792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3348000" y="2997360"/>
            <a:ext cx="1849320" cy="1635120"/>
          </a:xfrm>
          <a:prstGeom prst="ellipse">
            <a:avLst/>
          </a:prstGeom>
          <a:solidFill>
            <a:srgbClr val="ff6600"/>
          </a:solidFill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1042920" y="1268280"/>
            <a:ext cx="1849680" cy="1635120"/>
          </a:xfrm>
          <a:prstGeom prst="ellipse">
            <a:avLst/>
          </a:prstGeom>
          <a:solidFill>
            <a:srgbClr val="ffff66"/>
          </a:solidFill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Diagram 2"/>
          <p:cNvGrpSpPr/>
          <p:nvPr/>
        </p:nvGrpSpPr>
        <p:grpSpPr>
          <a:xfrm>
            <a:off x="58680" y="2880"/>
            <a:ext cx="9029520" cy="6677280"/>
            <a:chOff x="58680" y="2880"/>
            <a:chExt cx="9029520" cy="6677280"/>
          </a:xfrm>
        </p:grpSpPr>
        <p:sp>
          <p:nvSpPr>
            <p:cNvPr id="134" name="_s2052"/>
            <p:cNvSpPr/>
            <p:nvPr/>
          </p:nvSpPr>
          <p:spPr>
            <a:xfrm flipH="1" flipV="1">
              <a:off x="297504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3"/>
            <p:cNvSpPr/>
            <p:nvPr/>
          </p:nvSpPr>
          <p:spPr>
            <a:xfrm>
              <a:off x="104976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апки – передвиж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54"/>
            <p:cNvSpPr/>
            <p:nvPr/>
          </p:nvSpPr>
          <p:spPr>
            <a:xfrm flipH="1">
              <a:off x="231336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055"/>
            <p:cNvSpPr/>
            <p:nvPr/>
          </p:nvSpPr>
          <p:spPr>
            <a:xfrm>
              <a:off x="586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Бесе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056"/>
            <p:cNvSpPr/>
            <p:nvPr/>
          </p:nvSpPr>
          <p:spPr>
            <a:xfrm flipH="1">
              <a:off x="297504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104976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нсульта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пециалис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2058"/>
            <p:cNvSpPr/>
            <p:nvPr/>
          </p:nvSpPr>
          <p:spPr>
            <a:xfrm>
              <a:off x="4572000" y="4171680"/>
              <a:ext cx="0" cy="8388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59"/>
            <p:cNvSpPr/>
            <p:nvPr/>
          </p:nvSpPr>
          <p:spPr>
            <a:xfrm>
              <a:off x="3444480" y="50104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сещение на дом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060"/>
            <p:cNvSpPr/>
            <p:nvPr/>
          </p:nvSpPr>
          <p:spPr>
            <a:xfrm>
              <a:off x="536688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061"/>
            <p:cNvSpPr/>
            <p:nvPr/>
          </p:nvSpPr>
          <p:spPr>
            <a:xfrm>
              <a:off x="583920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сульт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62"/>
            <p:cNvSpPr/>
            <p:nvPr/>
          </p:nvSpPr>
          <p:spPr>
            <a:xfrm>
              <a:off x="569592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063"/>
            <p:cNvSpPr/>
            <p:nvPr/>
          </p:nvSpPr>
          <p:spPr>
            <a:xfrm>
              <a:off x="68302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одитель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обр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64"/>
            <p:cNvSpPr/>
            <p:nvPr/>
          </p:nvSpPr>
          <p:spPr>
            <a:xfrm flipV="1">
              <a:off x="536688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065"/>
            <p:cNvSpPr/>
            <p:nvPr/>
          </p:nvSpPr>
          <p:spPr>
            <a:xfrm>
              <a:off x="583920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Анкет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66"/>
            <p:cNvSpPr/>
            <p:nvPr/>
          </p:nvSpPr>
          <p:spPr>
            <a:xfrm flipV="1">
              <a:off x="4572000" y="1670760"/>
              <a:ext cx="0" cy="8380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67"/>
            <p:cNvSpPr/>
            <p:nvPr/>
          </p:nvSpPr>
          <p:spPr>
            <a:xfrm>
              <a:off x="3444480" y="28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ыста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68"/>
            <p:cNvSpPr/>
            <p:nvPr/>
          </p:nvSpPr>
          <p:spPr>
            <a:xfrm>
              <a:off x="3444480" y="2508840"/>
              <a:ext cx="2257920" cy="1670400"/>
            </a:xfrm>
            <a:prstGeom prst="ellipse">
              <a:avLst/>
            </a:prstGeom>
            <a:gradFill rotWithShape="0">
              <a:gsLst>
                <a:gs pos="0">
                  <a:srgbClr val="dcebf5"/>
                </a:gs>
                <a:gs pos="100000">
                  <a:srgbClr val="55261c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ы раб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 родителя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4"/>
          <p:cNvGraphicFramePr/>
          <p:nvPr/>
        </p:nvGraphicFramePr>
        <p:xfrm>
          <a:off x="179280" y="1413000"/>
          <a:ext cx="878544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WordArt 7"/>
          <p:cNvSpPr txBox="1"/>
          <p:nvPr/>
        </p:nvSpPr>
        <p:spPr>
          <a:xfrm>
            <a:off x="324000" y="260280"/>
            <a:ext cx="856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ы диагностики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товности детей к школ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9"/>
          <p:cNvSpPr txBox="1"/>
          <p:nvPr/>
        </p:nvSpPr>
        <p:spPr>
          <a:xfrm>
            <a:off x="611280" y="1844640"/>
            <a:ext cx="799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витие социальной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веренности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дошкольников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Diagram 55"/>
          <p:cNvGrpSpPr/>
          <p:nvPr/>
        </p:nvGrpSpPr>
        <p:grpSpPr>
          <a:xfrm>
            <a:off x="58680" y="2880"/>
            <a:ext cx="9029520" cy="6677280"/>
            <a:chOff x="58680" y="2880"/>
            <a:chExt cx="9029520" cy="6677280"/>
          </a:xfrm>
        </p:grpSpPr>
        <p:sp>
          <p:nvSpPr>
            <p:cNvPr id="49" name="_s1028"/>
            <p:cNvSpPr/>
            <p:nvPr/>
          </p:nvSpPr>
          <p:spPr>
            <a:xfrm flipH="1" flipV="1">
              <a:off x="297504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>
              <a:off x="104976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аст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алыш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доровым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flipH="1">
              <a:off x="231336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586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Азбука общен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 flipH="1">
              <a:off x="297504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104976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итор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алыш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4572000" y="4171680"/>
              <a:ext cx="0" cy="8388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3444480" y="50104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Сказкотерап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>
              <a:off x="536688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583920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азвит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эмоциональ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ра 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>
              <a:off x="569592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9"/>
            <p:cNvSpPr/>
            <p:nvPr/>
          </p:nvSpPr>
          <p:spPr>
            <a:xfrm>
              <a:off x="68302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Здоровьесберегающ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хнологии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0"/>
            <p:cNvSpPr/>
            <p:nvPr/>
          </p:nvSpPr>
          <p:spPr>
            <a:xfrm flipV="1">
              <a:off x="536688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583920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адуемся вместе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42"/>
            <p:cNvSpPr/>
            <p:nvPr/>
          </p:nvSpPr>
          <p:spPr>
            <a:xfrm flipV="1">
              <a:off x="4572000" y="1670760"/>
              <a:ext cx="0" cy="8380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3"/>
            <p:cNvSpPr/>
            <p:nvPr/>
          </p:nvSpPr>
          <p:spPr>
            <a:xfrm>
              <a:off x="3444480" y="28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Игротерап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44"/>
            <p:cNvSpPr/>
            <p:nvPr/>
          </p:nvSpPr>
          <p:spPr>
            <a:xfrm>
              <a:off x="3444480" y="2508840"/>
              <a:ext cx="2257920" cy="167040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ДО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Oval 91"/>
          <p:cNvSpPr/>
          <p:nvPr/>
        </p:nvSpPr>
        <p:spPr>
          <a:xfrm>
            <a:off x="3132000" y="2492280"/>
            <a:ext cx="2808360" cy="1728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92"/>
          <p:cNvSpPr txBox="1"/>
          <p:nvPr/>
        </p:nvSpPr>
        <p:spPr>
          <a:xfrm>
            <a:off x="3419640" y="292428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витие социаль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вереннос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 до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Сканировать1000100"/>
          <p:cNvPicPr/>
          <p:nvPr/>
        </p:nvPicPr>
        <p:blipFill>
          <a:blip r:embed="rId1"/>
          <a:srcRect l="5594" t="0" r="0" b="2142"/>
          <a:stretch/>
        </p:blipFill>
        <p:spPr>
          <a:xfrm>
            <a:off x="3276720" y="1700280"/>
            <a:ext cx="2447640" cy="30240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69" name="Picture 5" descr="Сканировать1000125"/>
          <p:cNvPicPr/>
          <p:nvPr/>
        </p:nvPicPr>
        <p:blipFill>
          <a:blip r:embed="rId2"/>
          <a:srcRect l="2461" t="0" r="5002" b="2747"/>
          <a:stretch/>
        </p:blipFill>
        <p:spPr>
          <a:xfrm>
            <a:off x="250920" y="3933720"/>
            <a:ext cx="2085840" cy="26640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70" name="Picture 6" descr="Сканировать1000223"/>
          <p:cNvPicPr/>
          <p:nvPr/>
        </p:nvPicPr>
        <p:blipFill>
          <a:blip r:embed="rId3"/>
          <a:srcRect l="2693" t="35989" r="0" b="0"/>
          <a:stretch/>
        </p:blipFill>
        <p:spPr>
          <a:xfrm>
            <a:off x="6732720" y="3860640"/>
            <a:ext cx="2160360" cy="27482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71" name="Picture 7" descr="Сканировать1000278"/>
          <p:cNvPicPr/>
          <p:nvPr/>
        </p:nvPicPr>
        <p:blipFill>
          <a:blip r:embed="rId4"/>
          <a:srcRect l="0" t="2350" r="5124" b="0"/>
          <a:stretch/>
        </p:blipFill>
        <p:spPr>
          <a:xfrm>
            <a:off x="250920" y="189000"/>
            <a:ext cx="2085840" cy="26636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72" name="Picture 8" descr="Сканировать10003"/>
          <p:cNvPicPr/>
          <p:nvPr/>
        </p:nvPicPr>
        <p:blipFill>
          <a:blip r:embed="rId5"/>
          <a:srcRect l="21115" t="5480" r="36647" b="51"/>
          <a:stretch/>
        </p:blipFill>
        <p:spPr>
          <a:xfrm>
            <a:off x="6732720" y="189000"/>
            <a:ext cx="2233440" cy="26636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grpSp>
        <p:nvGrpSpPr>
          <p:cNvPr id="73" name="WordArt 9"/>
          <p:cNvGrpSpPr/>
          <p:nvPr/>
        </p:nvGrpSpPr>
        <p:grpSpPr>
          <a:xfrm>
            <a:off x="2408400" y="328680"/>
            <a:ext cx="4181400" cy="946080"/>
            <a:chOff x="2408400" y="328680"/>
            <a:chExt cx="4181400" cy="946080"/>
          </a:xfrm>
        </p:grpSpPr>
        <p:pic>
          <p:nvPicPr>
            <p:cNvPr id="74" name="WordArt 9" descr=""/>
            <p:cNvPicPr/>
            <p:nvPr/>
          </p:nvPicPr>
          <p:blipFill>
            <a:blip r:embed="rId6"/>
            <a:stretch/>
          </p:blipFill>
          <p:spPr>
            <a:xfrm>
              <a:off x="2408400" y="328680"/>
              <a:ext cx="418140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411280" y="333360"/>
              <a:ext cx="4175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и методи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Сканировать10005"/>
          <p:cNvPicPr/>
          <p:nvPr/>
        </p:nvPicPr>
        <p:blipFill>
          <a:blip r:embed="rId1"/>
          <a:srcRect l="5315" t="10130" r="5368" b="10130"/>
          <a:stretch/>
        </p:blipFill>
        <p:spPr>
          <a:xfrm>
            <a:off x="250920" y="3429000"/>
            <a:ext cx="4248000" cy="31687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77" name="Picture 5" descr="Сканировать10005"/>
          <p:cNvPicPr/>
          <p:nvPr/>
        </p:nvPicPr>
        <p:blipFill>
          <a:blip r:embed="rId2"/>
          <a:srcRect l="3696" t="5365" r="3884" b="5272"/>
          <a:stretch/>
        </p:blipFill>
        <p:spPr>
          <a:xfrm>
            <a:off x="4716360" y="189000"/>
            <a:ext cx="4248360" cy="30956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78" name="WordArt 6"/>
          <p:cNvSpPr txBox="1"/>
          <p:nvPr/>
        </p:nvSpPr>
        <p:spPr>
          <a:xfrm>
            <a:off x="684360" y="1413000"/>
            <a:ext cx="31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Bookman Old Style"/>
              </a:rPr>
              <a:t>Нам вмес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364000" y="4797360"/>
            <a:ext cx="304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весело 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55555"/>
          <p:cNvPicPr/>
          <p:nvPr/>
        </p:nvPicPr>
        <p:blipFill>
          <a:blip r:embed="rId1"/>
          <a:stretch/>
        </p:blipFill>
        <p:spPr>
          <a:xfrm>
            <a:off x="179280" y="404640"/>
            <a:ext cx="4248360" cy="122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55555"/>
          <p:cNvPicPr/>
          <p:nvPr/>
        </p:nvPicPr>
        <p:blipFill>
          <a:blip r:embed="rId2"/>
          <a:stretch/>
        </p:blipFill>
        <p:spPr>
          <a:xfrm>
            <a:off x="250920" y="5157720"/>
            <a:ext cx="417672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55555"/>
          <p:cNvPicPr/>
          <p:nvPr/>
        </p:nvPicPr>
        <p:blipFill>
          <a:blip r:embed="rId3"/>
          <a:stretch/>
        </p:blipFill>
        <p:spPr>
          <a:xfrm>
            <a:off x="4643280" y="5157720"/>
            <a:ext cx="410400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55555"/>
          <p:cNvPicPr/>
          <p:nvPr/>
        </p:nvPicPr>
        <p:blipFill>
          <a:blip r:embed="rId4"/>
          <a:stretch/>
        </p:blipFill>
        <p:spPr>
          <a:xfrm>
            <a:off x="4788000" y="404640"/>
            <a:ext cx="4176720" cy="1224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14"/>
          <p:cNvSpPr txBox="1"/>
          <p:nvPr/>
        </p:nvSpPr>
        <p:spPr>
          <a:xfrm>
            <a:off x="468360" y="83664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циальные страх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5219640" y="692280"/>
            <a:ext cx="32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вышенное внимание к себ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539640" y="5589720"/>
            <a:ext cx="3457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веденческие стереотип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17"/>
          <p:cNvSpPr txBox="1"/>
          <p:nvPr/>
        </p:nvSpPr>
        <p:spPr>
          <a:xfrm>
            <a:off x="5148360" y="544500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итика родителей и педаг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AutoShape 21"/>
          <p:cNvSpPr/>
          <p:nvPr/>
        </p:nvSpPr>
        <p:spPr>
          <a:xfrm rot="2515200">
            <a:off x="6011640" y="1557000"/>
            <a:ext cx="476280" cy="1089000"/>
          </a:xfrm>
          <a:prstGeom prst="upArrow">
            <a:avLst>
              <a:gd name="adj1" fmla="val 50000"/>
              <a:gd name="adj2" fmla="val 57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2"/>
          <p:cNvSpPr/>
          <p:nvPr/>
        </p:nvSpPr>
        <p:spPr>
          <a:xfrm rot="18761400">
            <a:off x="2410200" y="1557720"/>
            <a:ext cx="504720" cy="1077840"/>
          </a:xfrm>
          <a:prstGeom prst="upArrow">
            <a:avLst>
              <a:gd name="adj1" fmla="val 50000"/>
              <a:gd name="adj2" fmla="val 53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3"/>
          <p:cNvSpPr/>
          <p:nvPr/>
        </p:nvSpPr>
        <p:spPr>
          <a:xfrm rot="13681800">
            <a:off x="2312640" y="3714120"/>
            <a:ext cx="501480" cy="1368360"/>
          </a:xfrm>
          <a:prstGeom prst="upArrow">
            <a:avLst>
              <a:gd name="adj1" fmla="val 50000"/>
              <a:gd name="adj2" fmla="val 682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4"/>
          <p:cNvSpPr/>
          <p:nvPr/>
        </p:nvSpPr>
        <p:spPr>
          <a:xfrm rot="8698200">
            <a:off x="5939640" y="3789000"/>
            <a:ext cx="522360" cy="1336680"/>
          </a:xfrm>
          <a:prstGeom prst="upArrow">
            <a:avLst>
              <a:gd name="adj1" fmla="val 50000"/>
              <a:gd name="adj2" fmla="val 639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25"/>
          <p:cNvSpPr txBox="1"/>
          <p:nvPr/>
        </p:nvSpPr>
        <p:spPr>
          <a:xfrm>
            <a:off x="681120" y="2905200"/>
            <a:ext cx="77817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cc00ff"/>
                    </a:gs>
                    <a:gs pos="100000">
                      <a:srgbClr val="ff99ff"/>
                    </a:gs>
                  </a:gsLst>
                  <a:lin ang="2700000"/>
                </a:gradFill>
                <a:latin typeface="Arial"/>
              </a:rPr>
              <a:t>Причины и крите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50000">
                    <a:srgbClr val="cc00ff"/>
                  </a:gs>
                  <a:gs pos="100000">
                    <a:srgbClr val="ff99ff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cc00ff"/>
                    </a:gs>
                    <a:gs pos="100000">
                      <a:srgbClr val="ff99ff"/>
                    </a:gs>
                  </a:gsLst>
                  <a:lin ang="2700000"/>
                </a:gradFill>
                <a:latin typeface="Arial"/>
              </a:rPr>
              <a:t>социально неуверенного пове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50000">
                    <a:srgbClr val="cc00ff"/>
                  </a:gs>
                  <a:gs pos="100000">
                    <a:srgbClr val="ff99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2"/>
          <p:cNvPicPr/>
          <p:nvPr/>
        </p:nvPicPr>
        <p:blipFill>
          <a:blip r:embed="rId1"/>
          <a:srcRect l="0" t="0" r="338" b="2316"/>
          <a:stretch/>
        </p:blipFill>
        <p:spPr>
          <a:xfrm>
            <a:off x="4859280" y="260280"/>
            <a:ext cx="4033800" cy="3384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94" name="Picture 5" descr="Сканировать10006123"/>
          <p:cNvPicPr/>
          <p:nvPr/>
        </p:nvPicPr>
        <p:blipFill>
          <a:blip r:embed="rId2"/>
          <a:srcRect l="3255" t="2861" r="2235" b="2861"/>
          <a:stretch/>
        </p:blipFill>
        <p:spPr>
          <a:xfrm>
            <a:off x="250920" y="3645000"/>
            <a:ext cx="4033800" cy="30240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95" name="WordArt 6"/>
          <p:cNvSpPr txBox="1"/>
          <p:nvPr/>
        </p:nvSpPr>
        <p:spPr>
          <a:xfrm>
            <a:off x="684360" y="1413000"/>
            <a:ext cx="33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Игра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</p:txBody>
      </p:sp>
      <p:sp>
        <p:nvSpPr>
          <p:cNvPr id="96" name="WordArt 7"/>
          <p:cNvSpPr txBox="1"/>
          <p:nvPr/>
        </p:nvSpPr>
        <p:spPr>
          <a:xfrm>
            <a:off x="4788000" y="4292640"/>
            <a:ext cx="3671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основ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ви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дея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4" descr="56"/>
          <p:cNvPicPr/>
          <p:nvPr/>
        </p:nvPicPr>
        <p:blipFill>
          <a:blip r:embed="rId1"/>
          <a:stretch/>
        </p:blipFill>
        <p:spPr>
          <a:xfrm>
            <a:off x="250920" y="4581360"/>
            <a:ext cx="3527280" cy="1944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2" descr="56"/>
          <p:cNvPicPr/>
          <p:nvPr/>
        </p:nvPicPr>
        <p:blipFill>
          <a:blip r:embed="rId2"/>
          <a:stretch/>
        </p:blipFill>
        <p:spPr>
          <a:xfrm>
            <a:off x="5435640" y="260280"/>
            <a:ext cx="3492360" cy="209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56"/>
          <p:cNvPicPr/>
          <p:nvPr/>
        </p:nvPicPr>
        <p:blipFill>
          <a:blip r:embed="rId3"/>
          <a:stretch/>
        </p:blipFill>
        <p:spPr>
          <a:xfrm>
            <a:off x="5364000" y="4653000"/>
            <a:ext cx="3600720" cy="194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56"/>
          <p:cNvPicPr/>
          <p:nvPr/>
        </p:nvPicPr>
        <p:blipFill>
          <a:blip r:embed="rId4"/>
          <a:stretch/>
        </p:blipFill>
        <p:spPr>
          <a:xfrm>
            <a:off x="179280" y="189000"/>
            <a:ext cx="3492720" cy="20937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8"/>
          <p:cNvSpPr txBox="1"/>
          <p:nvPr/>
        </p:nvSpPr>
        <p:spPr>
          <a:xfrm>
            <a:off x="1835280" y="3068640"/>
            <a:ext cx="56005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Формы работы с деть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102" name="AutoShape 44"/>
          <p:cNvSpPr/>
          <p:nvPr/>
        </p:nvSpPr>
        <p:spPr>
          <a:xfrm rot="10385400">
            <a:off x="3122640" y="1759680"/>
            <a:ext cx="657360" cy="1295640"/>
          </a:xfrm>
          <a:custGeom>
            <a:avLst/>
            <a:gdLst>
              <a:gd name="textAreaLeft" fmla="*/ 87840 w 657360"/>
              <a:gd name="textAreaRight" fmla="*/ 569520 w 65736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166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5"/>
          <p:cNvSpPr/>
          <p:nvPr/>
        </p:nvSpPr>
        <p:spPr>
          <a:xfrm>
            <a:off x="3203640" y="37893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7"/>
          <p:cNvSpPr/>
          <p:nvPr/>
        </p:nvSpPr>
        <p:spPr>
          <a:xfrm rot="11178000">
            <a:off x="5148000" y="1773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1582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8"/>
          <p:cNvSpPr/>
          <p:nvPr/>
        </p:nvSpPr>
        <p:spPr>
          <a:xfrm>
            <a:off x="5580000" y="3789360"/>
            <a:ext cx="720720" cy="1333440"/>
          </a:xfrm>
          <a:custGeom>
            <a:avLst/>
            <a:gdLst>
              <a:gd name="textAreaLeft" fmla="*/ 96480 w 720720"/>
              <a:gd name="textAreaRight" fmla="*/ 624240 w 720720"/>
              <a:gd name="textAreaTop" fmla="*/ 233280 h 1333440"/>
              <a:gd name="textAreaBottom" fmla="*/ 96696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9"/>
          <p:cNvSpPr txBox="1"/>
          <p:nvPr/>
        </p:nvSpPr>
        <p:spPr>
          <a:xfrm>
            <a:off x="1116000" y="692280"/>
            <a:ext cx="1511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группо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заня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7" name="WordArt 50"/>
          <p:cNvSpPr txBox="1"/>
          <p:nvPr/>
        </p:nvSpPr>
        <p:spPr>
          <a:xfrm>
            <a:off x="6588000" y="620640"/>
            <a:ext cx="129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Arial"/>
              </a:rPr>
              <a:t>работа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в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Arial"/>
              </a:rPr>
              <a:t>занят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8" name="WordArt 51"/>
          <p:cNvSpPr txBox="1"/>
          <p:nvPr/>
        </p:nvSpPr>
        <p:spPr>
          <a:xfrm>
            <a:off x="1332000" y="4941720"/>
            <a:ext cx="1295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Arial"/>
              </a:rPr>
              <a:t>праздни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Arial"/>
              </a:rPr>
              <a:t>развлеч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9" name="WordArt 52"/>
          <p:cNvSpPr txBox="1"/>
          <p:nvPr/>
        </p:nvSpPr>
        <p:spPr>
          <a:xfrm>
            <a:off x="6300720" y="5229360"/>
            <a:ext cx="187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Arial"/>
              </a:rPr>
              <a:t>индивидуаль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stretch/>
                </a:blipFill>
                <a:latin typeface="Arial"/>
              </a:rPr>
              <a:t>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5555"/>
          <p:cNvPicPr/>
          <p:nvPr/>
        </p:nvPicPr>
        <p:blipFill>
          <a:blip r:embed="rId1"/>
          <a:stretch/>
        </p:blipFill>
        <p:spPr>
          <a:xfrm>
            <a:off x="179280" y="404640"/>
            <a:ext cx="4248360" cy="12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55555"/>
          <p:cNvPicPr/>
          <p:nvPr/>
        </p:nvPicPr>
        <p:blipFill>
          <a:blip r:embed="rId2"/>
          <a:stretch/>
        </p:blipFill>
        <p:spPr>
          <a:xfrm>
            <a:off x="250920" y="5157720"/>
            <a:ext cx="4176720" cy="12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55555"/>
          <p:cNvPicPr/>
          <p:nvPr/>
        </p:nvPicPr>
        <p:blipFill>
          <a:blip r:embed="rId3"/>
          <a:stretch/>
        </p:blipFill>
        <p:spPr>
          <a:xfrm>
            <a:off x="4643280" y="5157720"/>
            <a:ext cx="410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55555"/>
          <p:cNvPicPr/>
          <p:nvPr/>
        </p:nvPicPr>
        <p:blipFill>
          <a:blip r:embed="rId4"/>
          <a:stretch/>
        </p:blipFill>
        <p:spPr>
          <a:xfrm>
            <a:off x="4788000" y="404640"/>
            <a:ext cx="417672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468360" y="83664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Наша групп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5219640" y="692280"/>
            <a:ext cx="32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Я в групп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539640" y="5589720"/>
            <a:ext cx="3457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Мои друзь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5148360" y="544500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Один и вмест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AutoShape 10"/>
          <p:cNvSpPr/>
          <p:nvPr/>
        </p:nvSpPr>
        <p:spPr>
          <a:xfrm rot="2515200">
            <a:off x="6011640" y="1557000"/>
            <a:ext cx="476280" cy="1089000"/>
          </a:xfrm>
          <a:prstGeom prst="upArrow">
            <a:avLst>
              <a:gd name="adj1" fmla="val 50000"/>
              <a:gd name="adj2" fmla="val 57162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288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 rot="18761400">
            <a:off x="2410200" y="1557720"/>
            <a:ext cx="504720" cy="1077840"/>
          </a:xfrm>
          <a:prstGeom prst="upArrow">
            <a:avLst>
              <a:gd name="adj1" fmla="val 50000"/>
              <a:gd name="adj2" fmla="val 53388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82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 rot="13681800">
            <a:off x="2312640" y="3714120"/>
            <a:ext cx="501480" cy="1368360"/>
          </a:xfrm>
          <a:prstGeom prst="upArrow">
            <a:avLst>
              <a:gd name="adj1" fmla="val 50000"/>
              <a:gd name="adj2" fmla="val 68216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133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 rot="8698200">
            <a:off x="5939640" y="3789000"/>
            <a:ext cx="522360" cy="1336680"/>
          </a:xfrm>
          <a:prstGeom prst="upArrow">
            <a:avLst>
              <a:gd name="adj1" fmla="val 50000"/>
              <a:gd name="adj2" fmla="val 63973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183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1187280" y="2852640"/>
            <a:ext cx="6985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едагогический проц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13:14Z</dcterms:created>
  <dc:creator>XTreme</dc:creator>
  <dc:description/>
  <dc:language>en-US</dc:language>
  <cp:lastModifiedBy>Admin</cp:lastModifiedBy>
  <dcterms:modified xsi:type="dcterms:W3CDTF">2013-03-28T12:25:48Z</dcterms:modified>
  <cp:revision>33</cp:revision>
  <dc:subject/>
  <dc:title>Слайд 1</dc:title>
</cp:coreProperties>
</file>