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7E5-4660-4A14-A32F-5341EA0B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889-022D-476F-A1F3-5D61700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9E6-8468-45F2-93AD-75FEC166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F00-5E26-409A-A9AA-2D6E22BC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E543-DBA5-44CF-AC99-788F1294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940-9AD9-456D-934D-97402E2D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DF11-B77F-43C4-9AD3-14218164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022-8729-4DB6-A150-0E08650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2A1A-B0A7-4C8C-80E3-07A6640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C5D2-C348-4D45-ACE4-9D10C42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073A-ADE6-4E60-B3D3-D8D7E89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B64-BE87-48E3-B362-20FC42A3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1AC5-A128-4504-BD05-BB620261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7AE-2B79-4B8A-96D3-C05C100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250B-0CAD-4FD1-AE76-EA0310A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A182-978E-490A-9CCD-05ABAF58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306-DE8D-41A5-B4F7-896B471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4B3-27A5-48CF-9978-11B5CAAE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1DB-38FB-44AF-9FFA-780C629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39E-FFCC-4152-A4C5-06E0ED0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A42-DD59-4259-A6CD-96E7BA4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090-A870-45E3-8804-CF7C65E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B55-C937-4B2B-8438-F130114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97B-21F1-413F-90ED-08A6F821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E5D-790F-4A83-9B7B-C512A587014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308-81E3-4B73-B8E8-606DBDC9B56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10920" y="220500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Развитие эмоциональной отзывчивости у детей дошкольного возраста посредством сказкотерапии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3. Ритуал «входа» и «выхода» с занят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700440" cy="2858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2633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4.Расширение –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сширить представление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             ребенка о чем-либо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834000" cy="3121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35290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89440" y="359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Verdana"/>
              </a:rPr>
              <a:t>«Волшебные предметы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1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570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5. Закрепление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чувственно-смысловое проживание новой информаци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обретение нового опыта, проявление новых качеств лич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03280" y="836280"/>
            <a:ext cx="7283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6. Интеграция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бсуждение игрового опыта, объединение нового опыта с реальной жизнь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69944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7. Обобщение -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четко подвести итог всему тому, что происходило на занятии, обобщить приобретенный опыт, связать его с уже имеющимс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65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835280" y="2060640"/>
          <a:ext cx="648180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648180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ключительный этап</a:t>
            </a:r>
            <a:br>
              <a:rPr sz="40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Результативность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моциональная отзывчив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77151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Спасибо за внима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Актуальность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о из интегративных качеств, определяемых ФГ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моционально-отзывчивый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ладеет способами эмоциональной поддержки сверстника и взрослого, проявляет эмпатию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 толерантность, умеет выражать свои чувства и понимать чувства другого. Делится своими пережива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зможности сказкотерапии – интеграция личности, развитие творческих способностей и адаптивных навыков, совершенствование способов взаимодействия с окружающим миром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также обучение, диагностика и коррекция (преодоление любых страхов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Задачи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ить психолого-педагогические аспекты проблемы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ия эмоциональной отзывчивости у детей дошкольного возрас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ать комплексно-тематическое планирование по развитию эмоциональной отзывчивости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спитание у детей доброжелательного отношения к людям, дружеских взаимоотношений со сверстниками, уважения к старшим, заботливого отношения к малышам, слабым, людям с ограниченными возмо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едагогические сред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проведени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упражнения, игр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гры-путешеств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организации дете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группова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дгрупповая, индивидуальна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Метод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словесный, наглядный, игров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рием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эмоциональный настрой, пальчиковая гимнастика, слушание музыки, этюды, пантомимика, вопросы, чтение и рассказывание сказок, загадок, стихотворений, театрализация, упражнения и иг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тапы рабо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одготовите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рсовая подготовка «Работа со сказкой в ДОУ: элементы комплексной сказкотерапии»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ение научно-методической литератур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ниторинг освоения детьми образовательной области « Социализация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ка комплексно-тематического планиро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здание развивающей сред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заимодействие с семьями воспитанник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готовление  кукол-марионето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176720" cy="390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21600" y="61956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Создание сказочной обстановки в групп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2995560" cy="3922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4297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Основной этап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рави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создания сказочного контекс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оллективн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4779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35280" y="907560"/>
            <a:ext cx="68515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 Повторени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вспомнить то, что делали в прошлый раз. Какие выводы для себя сделали, какой опыт приобрели, чему научили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9:07:56Z</dcterms:created>
  <dc:creator>HOME</dc:creator>
  <dc:description/>
  <dc:language>en-US</dc:language>
  <cp:lastModifiedBy>Я</cp:lastModifiedBy>
  <dcterms:modified xsi:type="dcterms:W3CDTF">2013-01-18T12:51:12Z</dcterms:modified>
  <cp:revision>14</cp:revision>
  <dc:subject/>
  <dc:title>«Развитие эмоциональной отзывчивости у детей дошкольного возраста посредством сказкотерапии»</dc:title>
</cp:coreProperties>
</file>