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8F3-8207-46ED-A820-78142000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088-2AD0-4778-97AA-560D3694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B00-A46F-409C-847D-8C5686F0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CC8-8B22-44D9-B46C-670A90F0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7B52-F875-4E15-8899-D70EB94F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CEB9-BE0D-402A-AFDD-1E97666F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1C7E-7FA4-48B4-A5B1-4227A046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3BDB-5A83-4C95-9FBE-69383628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14EE-1C17-48A6-A71D-66CA997A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EB02-87A7-43AF-9D72-564A5B2E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61AB-920D-4E86-B57C-56EDFFC1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0D7-17E0-4536-A45B-4D8A1C64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6652-3246-4916-943B-E86E2505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99FE-37AF-4452-808C-76C14030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733D-CCBF-44A4-AFCC-43C31F88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F9E7-F3BC-436C-B58D-CB39990C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A092-E91C-47C8-8E1A-FAEB9FEC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ACC-2DA4-47F0-B789-6002DDAD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579-2DA6-43BB-B9FF-8B1C0414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481-D0E7-45B2-973B-503CA275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DBF-5108-4A67-A4CC-F3ACD08B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E08-286B-47CF-977B-057A5D77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726-AF6A-4900-B042-EBDD70FE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CD6-327A-45EA-BAB8-8EB78F17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4B41-DCD9-421A-9876-EB364B851BA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F4BD-C158-4F04-A105-39C915F9911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10920" y="2205000"/>
            <a:ext cx="6193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«Развитие эмоциональной отзывчивости у детей дошкольного возраста посредством сказкотерапии»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3. Ритуал «входа» и «выхода» с занят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700440" cy="28587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435640" y="1844640"/>
            <a:ext cx="26337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4.Расширение –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расширить представление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                 ребенка о чем-либо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16360" y="3213000"/>
            <a:ext cx="3834000" cy="3121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352908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989440" y="35928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Verdana"/>
              </a:rPr>
              <a:t>«Волшебные предметы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1563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116000" y="764640"/>
            <a:ext cx="7570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5. Закрепление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чувственно-смысловое проживание новой информаци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иобретение нового опыта, проявление новых качеств личнос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403280" y="836280"/>
            <a:ext cx="7283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6. Интеграция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обсуждение игрового опыта, объединение нового опыта с реальной жизнь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92000" y="103320"/>
            <a:ext cx="699444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7. Обобщение -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четко подвести итог всему тому, что происходило на занятии, обобщить приобретенный опыт, связать его с уже имеющимся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6265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1835280" y="2060640"/>
          <a:ext cx="6481800" cy="37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060640"/>
                    <a:ext cx="648180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Заключительный этап</a:t>
            </a:r>
            <a:br>
              <a:rPr sz="40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Результативность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Эмоциональная отзывчивос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280" y="907560"/>
            <a:ext cx="77151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Спасибо за внимание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Актуальность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дно из интегративных качеств, определяемых ФГТ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Эмоционально-отзывчивый –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ладеет способами эмоциональной поддержки сверстника и взрослого, проявляет эмпатию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 толерантность, умеет выражать свои чувства и понимать чувства другого. Делится своими переживани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озможности сказкотерапии – интеграция личности, развитие творческих способностей и адаптивных навыков, совершенствование способов взаимодействия с окружающим миром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 также обучение, диагностика и коррекция (преодоление любых страхов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Задачи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зучить психолого-педагогические аспекты проблемы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азвития эмоциональной отзывчивости у детей дошкольного возраст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азработать комплексно-тематическое планирование по развитию эмоциональной отзывчивости дет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оспитание у детей доброжелательного отношения к людям, дружеских взаимоотношений со сверстниками, уважения к старшим, заботливого отношения к малышам, слабым, людям с ограниченными возможност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Педагогические средств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Формы проведения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упражнения, игры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гры-путешеств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Формы организации детей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групповая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одгрупповая, индивидуальна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Методы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словесный, наглядный, игрово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Приемы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эмоциональный настрой, пальчиковая гимнастика, слушание музыки, этюды, пантомимика, вопросы, чтение и рассказывание сказок, загадок, стихотворений, театрализация, упражнения и игр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Этапы рабо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Подготовитель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курсовая подготовка «Работа со сказкой в ДОУ: элементы комплексной сказкотерапии»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зучение научно-методической литературы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ониторинг освоения детьми образовательной области « Социализация»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азработка комплексно-тематического планирова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оздание развивающей среды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заимодействие с семьями воспитанников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Изготовление  кукол-марионеток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427640" y="2349360"/>
            <a:ext cx="4176720" cy="3900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21600" y="619560"/>
            <a:ext cx="68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Создание сказочной обстановки в групп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51640" y="2637000"/>
            <a:ext cx="2995560" cy="3922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429768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Основной этап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Правил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создания сказочного контекст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Коллективное упражне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4779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835280" y="907560"/>
            <a:ext cx="685152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2. Повторение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вспомнить то, что делали в прошлый раз. Какие выводы для себя сделали, какой опыт приобрели, чему научилис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09:07:56Z</dcterms:created>
  <dc:creator>HOME</dc:creator>
  <dc:description/>
  <dc:language>en-US</dc:language>
  <cp:lastModifiedBy>Я</cp:lastModifiedBy>
  <dcterms:modified xsi:type="dcterms:W3CDTF">2013-01-18T12:51:12Z</dcterms:modified>
  <cp:revision>14</cp:revision>
  <dc:subject/>
  <dc:title>«Развитие эмоциональной отзывчивости у детей дошкольного возраста посредством сказкотерапии»</dc:title>
</cp:coreProperties>
</file>