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557-23C4-4E7B-89C4-29E7383B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9494-AE1C-4DD3-8E94-0EC0CEFC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13D-AB86-4065-9BE9-56F6F3E2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ACC-8D8E-4171-976F-DA3818D8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1029-2B87-4C39-9286-7D25BC63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244A-559F-4ACB-96EC-AC2E6AF8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175F-30CC-4F08-B6E1-928CB283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77A3-7B15-4D20-A7E7-184080D5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8264-3921-4A81-AA7A-DC3AB4BC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BBA5-C3DC-4469-9101-6EFEF34E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F19C-E87D-49C1-B266-3185509C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D3E-3C1F-4370-8678-26799B13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101E-7797-4B8C-A3C9-F9138637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D424-21A7-4163-A046-C4C2D00E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8167-F1DD-4C69-8024-77F2A700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442C-34AB-4712-9017-697492D4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267D-DB72-4DF6-BD96-C12604FA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EEC-BAF9-43B5-B024-23FC4135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8A2-B3E4-449B-9A1A-8B16D76B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195-5B2E-4530-A6DC-B7CBF15E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968-4601-43D2-8458-3060FB9D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5F54-0518-429D-B0C7-36C206AE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62A-0227-4ECD-B9EC-6657504A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826-84B5-48E7-934F-95CA2955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548A-F2E3-4BA5-B61F-787E5A7687F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5D6F-F86F-4F7F-BA78-95F26944971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10920" y="2205000"/>
            <a:ext cx="6193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«Развитие эмоциональной отзывчивости у детей дошкольного возраста посредством сказкотерапии»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3. Ритуал «входа» и «выхода» с занят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700440" cy="28587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435640" y="1844640"/>
            <a:ext cx="26337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4.Расширение –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расширить представление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                 ребенка о чем-либо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716360" y="3213000"/>
            <a:ext cx="3834000" cy="3121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352908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989440" y="35928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Verdana"/>
              </a:rPr>
              <a:t>«Волшебные предметы»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1563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116000" y="764640"/>
            <a:ext cx="7570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5. Закрепление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чувственно-смысловое проживание новой информации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иобретение нового опыта, проявление новых качеств личнос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403280" y="836280"/>
            <a:ext cx="7283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6. Интеграция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обсуждение игрового опыта, объединение нового опыта с реальной жизнь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92000" y="103320"/>
            <a:ext cx="699444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7. Обобщение -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четко подвести итог всему тому, что происходило на занятии, обобщить приобретенный опыт, связать его с уже имеющимся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6265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1835280" y="2060640"/>
          <a:ext cx="6481800" cy="37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060640"/>
                    <a:ext cx="648180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Заключительный этап</a:t>
            </a:r>
            <a:br>
              <a:rPr sz="40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Результативность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Эмоциональная отзывчивос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280" y="907560"/>
            <a:ext cx="77151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Спасибо за внимание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Актуальность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дно из интегративных качеств, определяемых ФГТ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Эмоционально-отзывчивый –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ладеет способами эмоциональной поддержки сверстника и взрослого, проявляет эмпатию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 толерантность, умеет выражать свои чувства и понимать чувства другого. Делится своими переживания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озможности сказкотерапии – интеграция личности, развитие творческих способностей и адаптивных навыков, совершенствование способов взаимодействия с окружающим миром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 также обучение, диагностика и коррекция (преодоление любых страхов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Задачи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зучить психолого-педагогические аспекты проблемы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развития эмоциональной отзывчивости у детей дошкольного возраст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Разработать комплексно-тематическое планирование по развитию эмоциональной отзывчивости дет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оспитание у детей доброжелательного отношения к людям, дружеских взаимоотношений со сверстниками, уважения к старшим, заботливого отношения к малышам, слабым, людям с ограниченными возможностя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Педагогические средств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Формы проведения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упражнения, игры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гры-путешеств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Формы организации детей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групповая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одгрупповая, индивидуальна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Методы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словесный, наглядный, игрово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Приемы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эмоциональный настрой, пальчиковая гимнастика, слушание музыки, этюды, пантомимика, вопросы, чтение и рассказывание сказок, загадок, стихотворений, театрализация, упражнения и игр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Этапы рабо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Подготовитель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курсовая подготовка «Работа со сказкой в ДОУ: элементы комплексной сказкотерапии»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зучение научно-методической литературы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ониторинг освоения детьми образовательной области « Социализация»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разработка комплексно-тематического планирова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оздание развивающей среды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заимодействие с семьями воспитанников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Изготовление  кукол-марионеток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427640" y="2349360"/>
            <a:ext cx="4176720" cy="3900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367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21600" y="619560"/>
            <a:ext cx="68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Создание сказочной обстановки в групп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651640" y="2637000"/>
            <a:ext cx="2995560" cy="3922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429768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Основной этап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Правил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создания сказочного контекст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Коллективное упражне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4779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835280" y="907560"/>
            <a:ext cx="685152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2. Повторение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вспомнить то, что делали в прошлый раз. Какие выводы для себя сделали, какой опыт приобрели, чему научилис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09:07:56Z</dcterms:created>
  <dc:creator>HOME</dc:creator>
  <dc:description/>
  <dc:language>en-US</dc:language>
  <cp:lastModifiedBy>Я</cp:lastModifiedBy>
  <dcterms:modified xsi:type="dcterms:W3CDTF">2013-01-18T12:51:12Z</dcterms:modified>
  <cp:revision>14</cp:revision>
  <dc:subject/>
  <dc:title>«Развитие эмоциональной отзывчивости у детей дошкольного возраста посредством сказкотерапии»</dc:title>
</cp:coreProperties>
</file>