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D8A-1745-47E3-ACA4-D5500D42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1CB-812B-4FC5-908E-7AC99E9A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417-71C2-4348-BEA1-3111BC0A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A75-AF5B-4B84-AF3A-9404CC84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0B21-A994-4A6B-8E1A-0DFDEE83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3143-A55A-4434-9665-6DD33079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C1FC-8B96-47B6-8A86-5B685F6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F8E-BD8F-45FD-999D-24CD2D5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2654-46E6-4F06-BBA7-D79936E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ADB-A996-4C05-A486-C611EA7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F43-1F04-4340-ABBA-3EC773F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E47-ABEE-4430-AAA0-10CA90A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1C25-4873-4952-8E7B-A73B7A7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CCE-3F0C-41DB-9344-B5553BD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2CF8-F298-46E6-844E-BF114E36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102-34AE-4B8E-8BE0-A3D95615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CF0D-159D-45B0-8566-00F2007F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D9D-672C-46AF-A2F5-589408D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DEC-37C8-43DA-A423-4311E55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F33-AE7D-46DC-8A39-B6F871CE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56F-30E0-43C7-A88F-33654EE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31B-70DA-427C-86F1-3B55160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81C-9CC7-4E72-BDF0-9C43AFE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E16-7198-432A-A08B-7A44426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6A0-E44C-4A62-AD20-D8AE8DE5689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83FE-3EA6-401B-97FF-7AE4F7193CD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1125000"/>
            <a:ext cx="662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 педагога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(СЭ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40" y="3716280"/>
            <a:ext cx="2006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еть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тупляются  представления о ценностях жизни, эмоциональное отношение к миру; человек становится равнодушным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различие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Три аспект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нижение самооцен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тор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одиночеств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юди, страдающие от эмоционального выгорания, не в состоянии установить нормальный контакт с другими людь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эмоциональное истощение, соматизац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лость, апатия и депрессия, сопровождающие эмоциональное вы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сихофиз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постоянной усталости не только по вечерам, но и по утрам, сразу после сна (симптом хронической устал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 эмоционального и физического истощ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нижение восприимчивости и реактивности в связи с изменениями внешней среды (отсутствие реакции любопытства на фактор новизны или реакции страха на опасную ситуацию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астенизация (слабость, снижение активности и энерги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беспричинные головные боли; постоянные расстройства желудочно-кишечного тра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зкая потеря или резкое увеличение вес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лная или частичная бессонниц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заторможенное, сонливое состояние и желание спать в течение всего д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дышка или нарушения дыхания при физической или эмоциональной нагрузк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аметное снижение внешней и внутренней сенсорной чувствительности: ухудшение зрения, слуха, обоняния и ося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оциально-психолог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безразличие, скука, пассивность и депрессия (пониженный эмоциональный тонус, чувство подавленн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вышенная раздражительность на незначительные, мелкие собы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нервные срывы (вспышки немотивированного гнева или отказы от общения, уход в себ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неосознанного беспокойства и повышенной тревожности (ощущение, что «что-то не так, как надо»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гиперответственности и постоянное чувство страха, что «не получится» или «я не справлюсь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ЬЯ ГРУП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оведенческие симптом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, что работа становится все тяжелее и тяжелее, а выполнять ее — все труднее и трудне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трудник заметно меняет свой рабочий режим (увеличивает или сокращает время работы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, без необходимости, берет работу домой, но дома ее не делает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бесполезности, неверие в улучшения, снижение энтузиазма по отношению к работе, безразличие к результат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выполнение важных, приоритетных задач и «застревание» на мелких деталях, не соответствующая служебным требованиям трата большей части рабочего времени на мало осознаваемое или не осознаваемое выполнение автоматических и элементарных действ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истанцированность от коллег, повышение неадекватной критич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лоупотребление алкоголем, резкое возрастание выкуренных за день сигарет, применение наркотических сред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явление ПВ у педагогов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по стажу работы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ще всего у педагогов со стажем работы от 5 до 7 и от 7 до 10 ле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–11% - от 1 года до 3 лет, и у педагогов с 10-летним стажем; (адаптация в ОУ, у педагогов со стажем более 10 лет, выработаны определенные способы саморегуляции и психологической защиты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% - от 15 до 2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3840" y="836640"/>
            <a:ext cx="83548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Назовите ситуац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оторые  способствуют возникновению профессионального выгор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Ситуации, влияющие на возникновение П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чало своей деятельности после отпуска, каникул, курсов (функция – адаптационная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туации эмоционально неадекватного общения с субъектами образовательного процесса, особенно с администрацией и родителями (функция –защитна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е открытых уроков; мероприятий, на которые было потрачено много сил и энергии, а в результате не получено соответствующего удовлетвор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ончание учебного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13924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аковы причины возникновения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офессионального выгорания у педагогов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Основная причина возникновения ПВ -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есоответствие между требованиями, предъявляемыми к работнику, и его реальными возможност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ете ли вы, что такое СЭ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чем обусловлена напряженность в работе педагог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вы её причи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068640"/>
            <a:ext cx="2127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ричины возникновения </a:t>
            </a:r>
            <a:br>
              <a:rPr sz="4200"/>
            </a:b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В у педагогов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эмоциональная включенность в деятельность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эмоциональная перегруз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четкой связи между процессом обучения и получаемым результатом, несоответствие результатов затраченным си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сткие временные рамки деятельности (урок, четверть, год), ограниченность времени урока для реализации поставленны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мение регулировать собственные эмоциональные состо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трегулированность организационных моментов педагогической деятельности: нагрузка, расписание, кабинет, моральное и материальное стимул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ственность перед администрацией, родителями, обществом в целом за результат своего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навыков коммуникации и умения выходить из трудных ситуаций общения с детьми, родителями,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еречень психических процессов,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веденческих реакций, проявляющихся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в состоянии СЭВ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дражительнос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очарова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и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а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а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гнет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устош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реч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чая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фликт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ысход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трудники, которые по роду службы вынуждены много и интенсивно общаться с различными людьми, знакомыми и незнако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ыстро «выгорают» интроверты, индивидуально-психологические особенности которых не согласуются с профессиональными требованиями коммуникативных профессий. Они не имеют избытка жизненной энергии, характеризуются скромностью и застенчивостью, склонны к замкнутости и концентрации на предмете профессиональной деятельности. Именно они способны накапливать эмоциональны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омфо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, испытывающие постоянный внутриличностный конфликт в связи с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— женщины, переживающие внутреннее противоречие между работой и семьей, а также в условиях жесткой конкуренции с муж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ники, профессиональная деятельность которых проходит в условиях острой нестабильности и хронического страха потери рабочего м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казатели психического здоровья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ятие ответственности за свою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опонимание и приняти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мение жить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собность к пониманию и принятию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ПОДХОДЫ К РАБОТЕ С ПРОФЕССИОНАЛЬНЫМ ВЫГОР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 Забота о себе и снижение уровня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равновесию и гармонии, здоровому образу жизни, удовлетворение потребности в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оволь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отвлекаться от переживаний, связанных с раб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 Трансформация негативных убеждений, чувства отчаяния, утраты смысла и безнаде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находить смысл во все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в значительных событиях жизни, так и в привычных, повседневных забо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бороться со своими негативными убежд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ли принадлежность к какому-либо со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Повышение уровня профессионального маст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а, помогающие педагогу избежать профессионального выго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перв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самооценка и уверенность в себе, своих способностях и возмож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втор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успешного преодоления профессионального стр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конструктивно меняться в напряжен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моби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опираться на собственн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-треть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 и других людей и жизни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метод, с помощью которого можно частично или полностью избавляться от физического или психического напря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личные движения типа потягивания, расслабления мышц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купание» (реальное или мысленное) в солнечных луч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дыхание свежего воздух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ение стих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сказывание похвалы, комплиментов кому-либо просто т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Способ . Самоприказ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амоприка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Разговаривать спокойно!», «Молчать, молчать!», «Не поддаваться на провокацию!» — это помогает сдерживать эмоции, вести себя достойно, соблюдать требования этики и правила работы с клиент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формулируйте самоприказ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 Если это возможно, повторите его вслу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6504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Профессиональное выгорание (СЭВ) –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это синдром, развивающийся на фоне хронического стресса и ведущий к истощению эмоциональных, энергетических и личностных ресурсов работающего челове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Способ . Самопрограммир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 многих ситуациях целесообразно «оглянуться назад», вспомнить о своих успехах в аналогичных обстоятельствах. Прошлые успехи говорят человеку о его возможностях, о скрытых резервах в духовной, интеллектуальной, волевой сферах и вселяют уверенность в своих сил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спомните ситуацию, когда вы справились с аналогичными трудностя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формулируйте текст программы, для усиления эффекта можно использовать слова «именно сегодня»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у меня все получится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самой спокойной и выдержа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находчивой и увере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Мне доставляет удовольствие вести разговор спокойным и уверенным голосом, показывать образец выдержки и самообладани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пособ . Самоодобрение (самопоощр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Молодец! Умница! «Здорово получилось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259920"/>
            <a:ext cx="741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Что помогает вам поднять настроение, переключить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Что вы можете использовать из вышеперечисленных способов? (самоприказ, самопрограммирование, самопоощре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Может вы можете добавите свои способ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ражнение  «Обещание самому себ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Запишите три пункта, которые вы могли бы сделать в каждой из трех областей — профессиональной, организационной и лич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Пометьте звездочкой те пункты в каждом разделе, которые вы можете выполнить в течение следующего меся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 В каждом разделе подчеркните тот пункт, который вы можете попробовать выполнить уже на следующей неде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лист может выглядеть пример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Взять от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Встретиться с близкой подруг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Договориться о суперви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. Прогуливаться в конце рабоче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Провести дискуссию с коллегами по теме профессионального сгор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Устроить вечеринку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браться для обсуждения тематики педагогических ч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22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жидайте, что тяжелые состояния, характерные для выгорания, уйдут сами п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е предпринимать мер, они будут посещать вас в течение длите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йте достаточное время для сна, отдыха, размыш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яйте ваши желания прямо, ясно и честно, говорите о них семье, друзьям 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райтесь сохранять нормальный распорядок вашей жизни, насколько это 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11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Будьте внимательны к себе: это поможет вам своевременно заметить первые симптомы устал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Любите себя или по крайней мере старайтесь себе нравить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одбирайте дело по себе: сообразно своим склонностям и возможностям. Это позволит Вам обрести себя, поверить в свои си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искать в работе счастье или спасение. Она — не убежище, а деятельность, которая хороша сама по себ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жить за других их жизнью. Живите, пожалуйста, своей. Не вместо людей, а вместе с ни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Учитесь трезво осмысливать события каждого дня. Можно сделать традицией вечерний пересмотр собы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Если вам очень хочется кому-то помочь или сделать за него его работу, задайте себе вопрос: так ли уж ему это нужно? А может, он справится сам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409400" cy="131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смотреть на вещи оптимистич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ремитесь побороть стр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айдите время, чтобы побыть наедине с соб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позволяйте окружающим требовать от Вас слишком мног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старайтесь делать вид, что Вам нравится то, что Вам на самом деле неприят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оказывайте слишком большое давление на своих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реже говорить: «Я этого не могу сдела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спользуйте возможность выступить с речь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ледите за фигур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Маленькие радости в Ваших ру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забывайте, что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Вы красивы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5445000"/>
            <a:ext cx="1440000" cy="11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116000"/>
            <a:ext cx="122400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. Здоровьесбрегающие образовательные технологии и психология здоровья в школе. – Аркти. М.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тина Л.М. Психология развития и здоровье педагога. «Про-пресс». Библиотечка журнала «Вестник образования». №7/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 Здоровьесбрегающие образовательные технологии в работе учителя школы. М.,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210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cc"/>
                </a:solidFill>
                <a:latin typeface="Arial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948360" y="3068640"/>
            <a:ext cx="1982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Факторы напряженности педагог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ая ответственность педагога за выполнение своих профессиональных функ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руженность рабочего д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ие эмоциональные и интеллектуальные нагруз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увствительность к имеющимся труднос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лагоприятные социальные условия и психологическая обстанов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творческое отношение к профессиональн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ладение современными методиками и технологиями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2411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ная напряженность может привести как к пассивным защитным реакциям, так и к агрессивному поведению, эмоциональным срывам, несдержанности, немотивированной грубости, оскорблени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ое раздражение и возбужденное состояние педагоги нередко переносят на воспитанников, хотя сами этого не замечаю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утомленный педагог не настроен на позитивное восприятие любых нововвед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ессиональное выгорание возникает в результате внутреннего накапливания отрицательных эмоций без соответствующей «разрядки», или «освобождения» от них. Оно ведет к истощению эмоциональных, энергетических и личностных ресурсов человека. С точки зрения концепции стресса (Г. Селье), профессиональное выгорание – это дистресс или третья стадия общего адаптационного синдрома – стадия исто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Фазы и симптомы стресс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Нервное напряж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ое создают: отрицательная психоэмоциональная атмосфера, ощущение повышенной ответственности, трудные учащие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еживание психотравмирующих обстоятельств, неудовлетворенность собой, ощущение загнанности в «клетку», тревога и депре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Сопротивл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которого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неадекватное избирательное эмоциональное реагирование,  расширение сферы экономии эмоций, выборочное выполнение профессиональны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Истощ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изующееся оскудением психических ресурсов, снижением эмоционального тонуса, которое наступает вследствие того, что проявленное сопротивление оказалось неэффект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моциональный дефицит, эмоциональная и личностная отстраненность, психосоматические на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67640" y="836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416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лушение эмоций, сглаживание остроты чувств и свежести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чезают положительные эмоции, появляется отстраненность в отношениях с членам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ет состояние тревожности, неудовлетво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тор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ют недоразумения с колле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яется антипатия, а затем и вспышка раздражения по отношению к коллег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0:47:23Z</dcterms:created>
  <dc:creator>VIENNA XP</dc:creator>
  <dc:description/>
  <dc:language>en-US</dc:language>
  <cp:lastModifiedBy>Admin</cp:lastModifiedBy>
  <dcterms:modified xsi:type="dcterms:W3CDTF">2010-05-10T17:46:35Z</dcterms:modified>
  <cp:revision>5</cp:revision>
  <dc:subject/>
  <dc:title>Профилактика профессионального выгорания педагога </dc:title>
</cp:coreProperties>
</file>