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890-88B4-4D16-B78B-8BC1F275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B46-6544-4BCD-B5E0-986FB5AF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9EA-D26B-4618-A5D5-63055417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492-30B4-4559-B64A-148639AB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069D-CE4B-433A-8781-55D588CD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3C1E-17DC-4616-91B4-3082E475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579F-A519-4B7C-93C8-C4E9CF0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FACE-3DC8-46E9-9579-6AFCADD7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8D49-689A-4684-A236-DC29A06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71C5-929D-47B1-9E95-8221BAF2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738-1BEF-494B-AB76-3F1FC259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D72-B7EF-4F30-B001-2EF2AD5F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60C9-25D5-45FA-BC3D-BF6D81E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504D-F003-4EC2-8E49-EF17F6EA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B476-9D9C-4373-9514-60B9E0FF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52CC-2766-4FFE-B276-C9F06F72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6369-9C73-45A0-BF25-567AE255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927-561C-4817-8A49-7FE7237E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7EA-F890-481B-B717-879FD092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95F-86A3-4948-B8DD-BC375D54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43C-C2F7-4DAA-9E91-17D4B224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93C-8809-4EF0-B0FE-F8221AFB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243-A10F-41BF-9EEE-4D011211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2E8-005B-4E3E-BF53-1F88AE4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D0C-B814-49B0-A124-5F5D121FCD3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7213-CCFE-4BE4-9737-FE185EC1412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5280" y="1125000"/>
            <a:ext cx="6624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 педагога</a:t>
            </a:r>
            <a:br>
              <a:rPr sz="4800"/>
            </a:b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(СЭ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440" y="3716280"/>
            <a:ext cx="2006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Стадии профессионального вы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ретья  стад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тупляются  представления о ценностях жизни, эмоциональное отношение к миру; человек становится равнодушным ко вс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различие ко вс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Три аспект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ервый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нижение самооцен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ствие, такие «сгоревшие» работники чувствуют беспомощность и апатию. Со временем это может перейти в агрессию и отчая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торо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одиночеств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юди, страдающие от эмоционального выгорания, не в состоянии установить нормальный контакт с другими людь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Трети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эмоциональное истощение, соматизац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сталость, апатия и депрессия, сопровождающие эмоциональное выгорание, приводят к серьезным физическим недомоганиям — гастриту, мигрени, повышенному артериальному давлению, синдрому хронической усталости и т.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имптомы профессионального выгоран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ЕРВАЯ ГРУПП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сихофизические симптом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постоянной усталости не только по вечерам, но и по утрам, сразу после сна (симптом хронической усталост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щущение эмоционального и физического истоще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нижение восприимчивости и реактивности в связи с изменениями внешней среды (отсутствие реакции любопытства на фактор новизны или реакции страха на опасную ситуацию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бщая астенизация (слабость, снижение активности и энерги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астые беспричинные головные боли; постоянные расстройства желудочно-кишечного трак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зкая потеря или резкое увеличение вес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лная или частичная бессонниц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тоянное заторможенное, сонливое состояние и желание спать в течение всего дн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дышка или нарушения дыхания при физической или эмоциональной нагрузк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заметное снижение внешней и внутренней сенсорной чувствительности: ухудшение зрения, слуха, обоняния и осяз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имптомы профессионального выгоран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ВТОРАЯ ГРУПП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Социально-психологические симптом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безразличие, скука, пассивность и депрессия (пониженный эмоциональный тонус, чувство подавленност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вышенная раздражительность на незначительные, мелкие событ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астые нервные срывы (вспышки немотивированного гнева или отказы от общения, уход в себ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тоянное переживание негативных эмоций, для которых во внешней ситуации причин нет (чувство вины, обиды, стыда, подозрительность, скованность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неосознанного беспокойства и повышенной тревожности (ощущение, что «что-то не так, как надо»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гиперответственности и постоянное чувство страха, что «не получится» или «я не справлюсь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бщая негативная установка на жизненные и профессиональные перспективы (по типу «как ни старайся, все равно ничего не получится»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имптомы профессионального выгоран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ТРЕТЬЯ ГРУПП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оведенческие симптом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щущение, что работа становится все тяжелее и тяжелее, а выполнять ее — все труднее и трудне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отрудник заметно меняет свой рабочий режим (увеличивает или сокращает время работы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стоянно, без необходимости, берет работу домой, но дома ее не делает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увство бесполезности, неверие в улучшения, снижение энтузиазма по отношению к работе, безразличие к результата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выполнение важных, приоритетных задач и «застревание» на мелких деталях, не соответствующая служебным требованиям трата большей части рабочего времени на мало осознаваемое или не осознаваемое выполнение автоматических и элементарных действи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истанцированность от коллег, повышение неадекватной критич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злоупотребление алкоголем, резкое возрастание выкуренных за день сигарет, применение наркотических сред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явление ПВ у педагогов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(по стажу работы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97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ще всего у педагогов со стажем работы от 5 до 7 и от 7 до 10 ле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–11% - от 1 года до 3 лет, и у педагогов с 10-летним стажем; (адаптация в ОУ, у педагогов со стажем более 10 лет, выработаны определенные способы саморегуляции и психологической защиты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2% - от 15 до 20 л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3840" y="836640"/>
            <a:ext cx="83548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Назовите ситуаци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которые  способствуют возникновению профессионального выгор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04000" y="3284640"/>
            <a:ext cx="21272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Ситуации, влияющие на возникновение П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0661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чало своей деятельности после отпуска, каникул, курсов (функция – адаптационная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туации эмоционально неадекватного общения с субъектами образовательного процесса, особенно с администрацией и родителями (функция –защитна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едение открытых уроков; мероприятий, на которые было потрачено много сил и энергии, а в результате не получено соответствующего удовлетвор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кончание учебного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139240" cy="54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Каковы причины возникновения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офессионального выгорания у педагогов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04000" y="3284640"/>
            <a:ext cx="21272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Основная причина возникновения ПВ -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несоответствие между требованиями, предъявляемыми к работнику, и его реальными возможност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ете ли вы, что такое СЭ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чем обусловлена напряженность в работе педагог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вы её причи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804000" y="3068640"/>
            <a:ext cx="2127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66"/>
                </a:solidFill>
                <a:latin typeface="Arial"/>
              </a:rPr>
              <a:t>Причины возникновения </a:t>
            </a:r>
            <a:br>
              <a:rPr sz="4200"/>
            </a:br>
            <a:r>
              <a:rPr b="1" lang="en-US" sz="4200" spc="-1" strike="noStrike">
                <a:solidFill>
                  <a:srgbClr val="006666"/>
                </a:solidFill>
                <a:latin typeface="Arial"/>
              </a:rPr>
              <a:t>ПВ у педагогов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кая эмоциональная включенность в деятельность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эмоциональная перегруз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утствие четкой связи между процессом обучения и получаемым результатом, несоответствие результатов затраченным сил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сткие временные рамки деятельности (урок, четверть, год), ограниченность времени урока для реализации поставленных ц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мение регулировать собственные эмоциональные состоя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трегулированность организационных моментов педагогической деятельности: нагрузка, расписание, кабинет, моральное и материальное стимул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ственность перед администрацией, родителями, обществом в целом за результат своего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утствие навыков коммуникации и умения выходить из трудных ситуаций общения с детьми, родителями, администр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7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еречень психических процессов,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веденческих реакций, проявляющихся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в состоянии СЭВ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дражительнос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очарова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ид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оса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пат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еспомощ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гнет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устош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ореч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чая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нфликт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езысход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Группа рис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трудники, которые по роду службы вынуждены много и интенсивно общаться с различными людьми, знакомыми и незнако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 быстро «выгорают» интроверты, индивидуально-психологические особенности которых не согласуются с профессиональными требованиями коммуникативных профессий. Они не имеют избытка жизненной энергии, характеризуются скромностью и застенчивостью, склонны к замкнутости и концентрации на предмете профессиональной деятельности. Именно они способны накапливать эмоциональны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омфо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Группа рис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и, испытывающие постоянный внутриличностный конфликт в связи с рабо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— женщины, переживающие внутреннее противоречие между работой и семьей, а также в условиях жесткой конкуренции с муж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ники, профессиональная деятельность которых проходит в условиях острой нестабильности и хронического страха потери рабочего ме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оказатели психического здоровья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нятие ответственности за свою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опонимание и приняти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мение жить в настоящ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особность к пониманию и принятию друг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ПОДХОДЫ К РАБОТЕ С ПРОФЕССИОНАЛЬНЫМ ВЫГОР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. Забота о себе и снижение уровня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к равновесию и гармонии, здоровому образу жизни, удовлетворение потребности в общ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доволь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 отвлекаться от переживаний, связанных с раб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 Трансформация негативных убеждений, чувства отчаяния, утраты смысла и безнадеж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находить смысл во всем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 в значительных событиях жизни, так и в привычных, повседневных забо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бороться со своими негативными убежде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или принадлежность к какому-либо сообщ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Повышение уровня профессионального маст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а, помогающие педагогу избежать профессионального выго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-перв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ее здоровье и сознательная, целенаправленная забота о своем физическом состоянии (постоянные занятия спортом, здоровый образ жиз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ая самооценка и уверенность в себе, своих способностях и возмож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-втор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успешного преодоления профессионального стр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конструктивно меняться в напряженных услов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ая моби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и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опираться на собственны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-треть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формировать и поддерживать в себе позитивные, оптимистичные установки и ценности — как в отношении самих себя, так и других людей и жизни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аморегуляция психическ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Саморегуляц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— это управление своим психоэмоциональным состоянием, которое достигается путем воздействия человека на самого себя с помощью слов, мысленных образов, управления мышечным тонусом и дыхание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Релаксац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— это метод, с помощью которого можно частично или полностью избавляться от физического или психического напря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аморегуляция психическ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ы саморегу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мех, улыбка, юмор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мышления о хорошем, приятно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личные движения типа потягивания, расслабления мышц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сматривание цветов в помещении, пейзажа за окном, фотографий, других приятных или дорогих вещ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ысленное обращение к высшим силам (Богу, Вселенной, великой идее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купание» (реальное или мысленное) в солнечных луча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дыхание свежего воздух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тение стих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сказывание похвалы, комплиментов кому-либо просто та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ы саморег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ормулировки самовнушений строятся в виде простых и кратких утверждений, с позитивной направленностью (без частицы «не»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Способ . Самоприказ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амоприказ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— это короткое, отрывистое распоряжение, сделанное самому себе. Применяйте самоприказ, когда убеждены в том, что надо вести себя определенным образом, но испытываете трудности с выполнени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Разговаривать спокойно!», «Молчать, молчать!», «Не поддаваться на провокацию!» — это помогает сдерживать эмоции, вести себя достойно, соблюдать требования этики и правила работы с клиент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формулируйте самоприказ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ысленно повторите его несколько раз. Если это возможно, повторите его вслу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6504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Профессиональное выгорание (СЭВ) –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это синдром, развивающийся на фоне хронического стресса и ведущий к истощению эмоциональных, энергетических и личностных ресурсов работающего человек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особы саморегуля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69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Способ . Самопрограммиров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о многих ситуациях целесообразно «оглянуться назад», вспомнить о своих успехах в аналогичных обстоятельствах. Прошлые успехи говорят человеку о его возможностях, о скрытых резервах в духовной, интеллектуальной, волевой сферах и вселяют уверенность в своих сил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спомните ситуацию, когда вы справились с аналогичными трудностя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формулируйте текст программы, для усиления эффекта можно использовать слова «именно сегодня»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Именно сегодня у меня все получится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Именно сегодня я буду самой спокойной и выдержанной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Именно сегодня я буду находчивой и уверенной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Мне доставляет удовольствие вести разговор спокойным и уверенным голосом, показывать образец выдержки и самообладания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Мысленно повторите его несколько раз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особы саморегуля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Способ . Самоодобрение (самопоощр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юди часто не получают положительной оценки своего поведения со стороны. Особенно в ситуациях повышенных нервно-психических нагрузок — это одна из причин увеличения нервозности, раздражения. Поэтому важно поощрять себя само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случае даже незначительных успехов целесообразно хвалить себя, мысленно говор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Молодец! Умница! «Здорово получилось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259920"/>
            <a:ext cx="741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ьте на вопрос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 Что помогает вам поднять настроение, переключить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 Что вы можете использовать из вышеперечисленных способов? (самоприказ, самопрограммирование, самопоощрени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Может вы можете добавите свои способ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Обещание самому себ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496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ражнение  «Обещание самому себ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 Запишите три пункта, которые вы могли бы сделать в каждой из трех областей — профессиональной, организационной и лич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 Пометьте звездочкой те пункты в каждом разделе, которые вы можете выполнить в течение следующего меся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 В каждом разделе подчеркните тот пункт, который вы можете попробовать выполнить уже на следующей недел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Обещание самому себ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ш лист может выглядеть примерно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Взять от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елать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Встретиться с близкой подруг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Договориться о суперви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. Прогуливаться в конце рабочего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онная 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Провести дискуссию с коллегами по теме профессионального сгор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Устроить вечеринку сотру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браться для обсуждения тематики педагогических ч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22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424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скрывайте свои чувства. Проявляйте ваши эмоции и давайте вашим друзьям обсуждать их вместе с 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избегайте говорить о том, что случилось. Используйте каждую возможность пересмотреть свой опыт наедине с собой или вместе с друг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озволяйте вашему чувству стеснения останавливать вас, когда другие предоставляют вам шанс говорить или предлагают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жидайте, что тяжелые состояния, характерные для выгорания, уйдут сами по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е предпринимать мер, они будут посещать вас в течение длитель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йте достаточное время для сна, отдыха, размыш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являйте ваши желания прямо, ясно и честно, говорите о них семье, друзьям и на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райтесь сохранять нормальный распорядок вашей жизни, насколько это 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028000" y="549360"/>
            <a:ext cx="111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125892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овет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Будьте внимательны к себе: это поможет вам своевременно заметить первые симптомы устал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Любите себя или по крайней мере старайтесь себе нравить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Подбирайте дело по себе: сообразно своим склонностям и возможностям. Это позволит Вам обрести себя, поверить в свои сил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Перестаньте искать в работе счастье или спасение. Она — не убежище, а деятельность, которая хороша сама по себ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Перестаньте жить за других их жизнью. Живите, пожалуйста, своей. Не вместо людей, а вместе с ни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Учитесь трезво осмысливать события каждого дня. Можно сделать традицией вечерний пересмотр собы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Если вам очень хочется кому-то помочь или сделать за него его работу, задайте себе вопрос: так ли уж ему это нужно? А может, он справится сам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409400" cy="131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1143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филактика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овет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тарайтесь смотреть на вещи оптимистич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тремитесь побороть стр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айдите время, чтобы побыть наедине с соб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позволяйте окружающим требовать от Вас слишком мног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старайтесь делать вид, что Вам нравится то, что Вам на самом деле неприят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оказывайте слишком большое давление на своих де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тарайтесь реже говорить: «Я этого не могу сделать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спользуйте возможность выступить с речь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ледите за фигур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Маленькие радости в Ваших рук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Не забывайте, что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Вы красивы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64360" y="5445000"/>
            <a:ext cx="1440000" cy="119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1116000"/>
            <a:ext cx="1224000" cy="8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мирнов Н.К.. Здоровьесбрегающие образовательные технологии и психология здоровья в школе. – Аркти. М.,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тина Л.М. Психология развития и здоровье педагога. «Про-пресс». Библиотечка журнала «Вестник образования». №7/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мирнов Н.К. Здоровьесбрегающие образовательные технологии в работе учителя школы. М.,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21052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cc"/>
                </a:solidFill>
                <a:latin typeface="Arial"/>
              </a:rPr>
              <a:t>Спасибо за внимание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948360" y="3068640"/>
            <a:ext cx="19828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Факторы напряженности педагог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бая ответственность педагога за выполнение своих профессиональных функц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руженность рабочего д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сокие эмоциональные и интеллектуальные нагруз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увствительность к имеющимся трудностя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благоприятные социальные условия и психологическая обстанов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буется творческое отношение к профессиональной дея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ладение современными методиками и технологиями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32720" y="4221000"/>
            <a:ext cx="24112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шенная напряженность может привести как к пассивным защитным реакциям, так и к агрессивному поведению, эмоциональным срывам, несдержанности, немотивированной грубости, оскорблени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вое раздражение и возбужденное состояние педагоги нередко переносят на воспитанников, хотя сами этого не замечаю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утомленный педагог не настроен на позитивное восприятие любых нововвед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фессиональное выгорание возникает в результате внутреннего накапливания отрицательных эмоций без соответствующей «разрядки», или «освобождения» от них. Оно ведет к истощению эмоциональных, энергетических и личностных ресурсов человека. С точки зрения концепции стресса (Г. Селье), профессиональное выгорание – это дистресс или третья стадия общего адаптационного синдрома – стадия исто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66"/>
                </a:solidFill>
                <a:latin typeface="Arial"/>
              </a:rPr>
              <a:t>Фазы и симптомы стресс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Нервное напряж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ое создают: отрицательная психоэмоциональная атмосфера, ощущение повышенной ответственности, трудные учащие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ереживание психотравмирующих обстоятельств, неудовлетворенность собой, ощущение загнанности в «клетку», тревога и депрес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Сопротивл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ремя которого человек пытается более или менее успешно оградить себя от неприятных впечат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неадекватное избирательное эмоциональное реагирование,  расширение сферы экономии эмоций, выборочное выполнение профессиональных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Истощ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изующееся оскудением психических ресурсов, снижением эмоционального тонуса, которое наступает вследствие того, что проявленное сопротивление оказалось неэффект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моциональный дефицит, эмоциональная и личностная отстраненность, психосоматические на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67640" y="836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416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Стадии профессионального вы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69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рвая  стад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лушение эмоций, сглаживание остроты чувств и свежести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чезают положительные эмоции, появляется отстраненность в отношениях с членам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никает состояние тревожности, неудовлетвор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Стадии профессионального выгор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торая  стад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никают недоразумения с колле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вляется антипатия, а затем и вспышка раздражения по отношению к коллег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00:47:23Z</dcterms:created>
  <dc:creator>VIENNA XP</dc:creator>
  <dc:description/>
  <dc:language>en-US</dc:language>
  <cp:lastModifiedBy>Admin</cp:lastModifiedBy>
  <dcterms:modified xsi:type="dcterms:W3CDTF">2010-05-10T17:46:35Z</dcterms:modified>
  <cp:revision>5</cp:revision>
  <dc:subject/>
  <dc:title>Профилактика профессионального выгорания педагога </dc:title>
</cp:coreProperties>
</file>