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161-2652-4EE8-BFFD-1597489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13A-B24F-4B7B-997F-9CAA0079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43E-3175-4DCF-AA75-6EA4ABF2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55F-9BC8-4227-BCBD-0611E6A2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F76A-EBAE-48D6-901B-8DD3A2A2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A88D-A14F-4C8F-AF82-C415588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F57-3131-4D57-AC1A-1F8A535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3F17-C56B-481E-87BD-8D748425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342F-4E73-4A07-AFD7-CD8CFC7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4B3-2095-4EEE-85A0-FB062078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3A31-DAE4-4EB4-9457-7024CCA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B30-3DC0-42E5-B3DB-C4B9EA8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223-27AB-4F34-9F7F-242A068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2E03-A721-4BE4-89FA-A76417D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1F57-EDFB-4554-82C7-F0E10D67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D8A3-DD25-4770-B710-A28E6CFF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1F2-0770-4E59-B49E-B95DC37E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54D-16E1-4EAC-90F6-C2C5F738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C27-97F2-400C-B842-F73C3CEB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995-9A63-4B1E-B111-DE5041E7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CE2-F679-4980-A762-6427F89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5C4-F5A7-42F0-9AB3-DA1D009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F5A-0360-4380-B519-D7FF6BB9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F8A-2ABC-4DDF-9759-D6C0A0C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76DE-4DF5-4808-B10A-4668C2FB26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8A9-E5A7-44A5-B3E9-C900C31CC38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55640" y="2276640"/>
            <a:ext cx="7777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эмоционального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спитания дошкольни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1010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2.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Организация и проведение спланированных занятий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тражение в зеркал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го цвета твои глаз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ебята и зверята. Дикие животны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й подарок ты хочешь получить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мы выражаем свои чувств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Грус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покойстви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заимопомощ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лохо быть одному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икого роднее мамы в целом мире нет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Этикет для малышей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3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Внедрение элементов театрализованной игр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плоскостной театр на фланелеграфе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ну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-дергунчик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ложе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робо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кукол «Живая ру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яичной скорлуп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4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Проведение родительских собраний и консультаций: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азвитие эмоционально-нравственной сферы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Игра – мир ребён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бщение родителей 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Что такое хорошо и что такое плох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 человеке всё должно быть прекрасн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наказыва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очему он рвёт книж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амооценка ребёнка дошкольного возраст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ль отца в воспитани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апа и дочка: любовь на все времен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лияние биоритмов на эмоциональное состояние ребёнк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112536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 основе анкетирования для родителей «Как изменился мой ребёнок?», проведённого в конце учебного года, были выявлены следующие положительные изменения в поведении и психо-эмоциональном состоянии дете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возросли коммуникативные способности (желание идти на контакт и умение общатьс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чти полностью исчезли нежелательные формы поведения (проявление грубости и недоброжелательности к окружающим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явилось желание выражать преимущественно положительные эмоции (радость, восторг, удивление, восхищение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Arial"/>
              </a:rPr>
              <a:t>Результаты коррекции неконструктивного поведения детей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Object 15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8"/>
          <p:cNvGraphicFramePr/>
          <p:nvPr/>
        </p:nvGraphicFramePr>
        <p:xfrm>
          <a:off x="4795920" y="1600200"/>
          <a:ext cx="37414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1600200"/>
                    <a:ext cx="37414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1042920" y="1700280"/>
          <a:ext cx="6832800" cy="450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700280"/>
                    <a:ext cx="68328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асильева, М.А., Гербова В.В., Комарова Т.С. Программа воспитания и обучения в детском саду. – М.: Мозаика-Синтез, 2007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Дурова Н.В. Очень важный разговор. – М.: Мозаика-Синтез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цепина М.Б. Воспитание и обучение во второй младшей группе детского сада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нязева, О.Л., Стеркина, Р.Б. Я, ты, мы: Социально-эмоциональное развитие детей от 3 до 6 лет. – М.: Просвещение, 2005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ольцова, О.В., Шедько, С.Н. Создание образовательной и предметно-развивающей среды в жизнедеятельности детей дошкольного возраста. – Тамбов: ИПКРО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5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рюкова С.В., Слободяник, Н.П. Удивляюсь, злюсь, боюсь, хвастаюсь и радуюсь. – М.: ГЕНЕЗИС, 200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ирилова, Т.Л. Эмоциональное развитие ребёнка. – Волгоград: Корифей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оломенникова, О.А. Занятия по формированию элементарных экологических представлений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ушкова, И.В. Социально-личностное развитие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плюк, С.Н. Занятия на прогулках с детьми младшего дошкольного возраста. – М.: ВЛАДОС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Вежливые сказки. – М.: Книголюб, 200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Красивые сказки. – М.: Книголюб, 2003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ипицына, Л.М. Азбука общения. – СПб.: Детство Пресс, 2004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Юрчук, Е.Н. Эмоциональное развитие дошкольников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втор проект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 МДОУ «Детский сад «Берёз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пос. Первомайский Первомайского райо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Тамбов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Щавелева Ольга Анатольевн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ворческ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547640" y="2421000"/>
            <a:ext cx="61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 эмоц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Типология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исследовательск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Участник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, дети второй младшей группы, родител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роки реализаци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ннотация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Данный педагогический проект разработан с учётом программы «Я, ты, мы: Социально-эмоциональное развитие детей от трёх до шести лет» О.Л. Князевой, Р.Б. Стеркиной. В последнее время в жизни нашего общества материальные ценности стали преобладать над духовными. Поэтому наряду с акцентом на интеллектуальное развитие необходимо уделить должное внимание и эмоциональному миру дошкольн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едполагается реализация данного проекта как во время занятий с детьми, так и в свободное от них врем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езультатом проекта будут: презентация, цикл занятий, комплексы психогимнастики, сконструированный вместе с детьми настольный теат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ипотез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557360"/>
            <a:ext cx="8496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равильной организа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бо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 социально-эмоциональному воспитанию в ДО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ожно реш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облему вхождения ребён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еальный 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сновополагающий вопро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68360" y="1628640"/>
            <a:ext cx="8136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спланирова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чебно-воспитательную деятельнос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для максимально успешного достиж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ставленных целе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Определить основные направления работы по социально-эмоциональному воспита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зработать комплекс занятий и упражнений по теме проек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ть план взаимодействия с семьями дет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Внедрить в практику учебно-воспитательного процесса разработанные мероприят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оверить результативность педагогической деятельн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Этапы работы над проектом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актически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Заключ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Содержание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Создание комплекса психогимнастических упражнений на основе поэтических текстов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м солнце улыбается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дител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ши алые цвет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 летим под облакам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 лугу растут цветы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етер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Лягуш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рогулка в лес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Ёжик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ш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07:04Z</dcterms:created>
  <dc:creator>Сашок</dc:creator>
  <dc:description/>
  <dc:language>en-US</dc:language>
  <cp:lastModifiedBy>Никита</cp:lastModifiedBy>
  <dcterms:modified xsi:type="dcterms:W3CDTF">2011-12-15T05:27:08Z</dcterms:modified>
  <cp:revision>10</cp:revision>
  <dc:subject/>
  <dc:title>Тема проекта</dc:title>
</cp:coreProperties>
</file>