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91A-065F-4F1E-B7B1-5FF94D46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547-32E1-49F6-AE41-FAACA9F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42F-D77E-472F-863D-B5434BEE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DD6-F311-4628-A6C3-755137B1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EE1-25F2-4C4C-9AB1-42813F00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F8E-31C7-4E20-8C1B-D5B1BB01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952A-0F9F-4CD3-BD25-F86535D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579-FCE8-4B75-933F-64F6CE6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980-FA2C-41CB-81D2-FEC6A4D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84B-EC5D-44D5-986F-88656472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CA23-1FDC-4148-BB86-36CA46A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003-3E6B-4DE1-9A52-E2EBA0F6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F9B2-809D-49AF-9576-72AB91E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2DC-57AF-4216-910A-85A2BB3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794-B14C-477A-AA63-9E584FB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37A-1BFF-43EF-BC1F-3BF16316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90DA-9876-4ACF-9144-7F12852D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EAC-C0DD-415B-9899-23B77896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898-55EF-49C8-8E9B-7F7DB8C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8D6-EB08-4558-A8DF-06CFBF7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EFE-7828-4E55-A07C-DD21E1C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F50-A882-4FD4-A1C0-0EE9516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C88-4D59-43B4-B499-84243CB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B8A-0002-435D-ADC6-E086BA4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573-A727-4DBF-BF42-685A92C978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2BF-38AC-4128-BF1B-59B681A086A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55640" y="2276640"/>
            <a:ext cx="7777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эмоционального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спитания дошкольни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1010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2.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Организация и проведение спланированных занятий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тражение в зеркал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го цвета твои глаз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ебята и зверята. Дикие животны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й подарок ты хочешь получить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мы выражаем свои чувств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Грус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покойстви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заимопомощ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лохо быть одному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икого роднее мамы в целом мире нет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Этикет для малышей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3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Внедрение элементов театрализованной игр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плоскостной театр на фланелеграфе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ну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-дергунчик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ложе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робо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кукол «Живая ру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яичной скорлуп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4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Проведение родительских собраний и консультаций: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азвитие эмоционально-нравственной сферы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Игра – мир ребён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бщение родителей 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Что такое хорошо и что такое плох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 человеке всё должно быть прекрасн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наказыва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очему он рвёт книж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амооценка ребёнка дошкольного возраст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ль отца в воспитани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апа и дочка: любовь на все времен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лияние биоритмов на эмоциональное состояние ребёнк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112536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 основе анкетирования для родителей «Как изменился мой ребёнок?», проведённого в конце учебного года, были выявлены следующие положительные изменения в поведении и психо-эмоциональном состоянии дете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возросли коммуникативные способности (желание идти на контакт и умение общатьс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чти полностью исчезли нежелательные формы поведения (проявление грубости и недоброжелательности к окружающим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явилось желание выражать преимущественно положительные эмоции (радость, восторг, удивление, восхищение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Arial"/>
              </a:rPr>
              <a:t>Результаты коррекции неконструктивного поведения детей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Object 15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8"/>
          <p:cNvGraphicFramePr/>
          <p:nvPr/>
        </p:nvGraphicFramePr>
        <p:xfrm>
          <a:off x="4795920" y="1600200"/>
          <a:ext cx="37414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1600200"/>
                    <a:ext cx="37414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1042920" y="1700280"/>
          <a:ext cx="6832800" cy="450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700280"/>
                    <a:ext cx="68328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асильева, М.А., Гербова В.В., Комарова Т.С. Программа воспитания и обучения в детском саду. – М.: Мозаика-Синтез, 2007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Дурова Н.В. Очень важный разговор. – М.: Мозаика-Синтез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цепина М.Б. Воспитание и обучение во второй младшей группе детского сада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нязева, О.Л., Стеркина, Р.Б. Я, ты, мы: Социально-эмоциональное развитие детей от 3 до 6 лет. – М.: Просвещение, 2005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ольцова, О.В., Шедько, С.Н. Создание образовательной и предметно-развивающей среды в жизнедеятельности детей дошкольного возраста. – Тамбов: ИПКРО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5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рюкова С.В., Слободяник, Н.П. Удивляюсь, злюсь, боюсь, хвастаюсь и радуюсь. – М.: ГЕНЕЗИС, 200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ирилова, Т.Л. Эмоциональное развитие ребёнка. – Волгоград: Корифей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оломенникова, О.А. Занятия по формированию элементарных экологических представлений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ушкова, И.В. Социально-личностное развитие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плюк, С.Н. Занятия на прогулках с детьми младшего дошкольного возраста. – М.: ВЛАДОС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Вежливые сказки. – М.: Книголюб, 200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Красивые сказки. – М.: Книголюб, 2003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ипицына, Л.М. Азбука общения. – СПб.: Детство Пресс, 2004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Юрчук, Е.Н. Эмоциональное развитие дошкольников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втор проект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 МДОУ «Детский сад «Берёз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пос. Первомайский Первомайского райо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Тамбов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Щавелева Ольга Анатольевн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ворческ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547640" y="2421000"/>
            <a:ext cx="61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 эмоц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Типология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исследовательск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Участник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, дети второй младшей группы, родител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роки реализаци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ннотация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Данный педагогический проект разработан с учётом программы «Я, ты, мы: Социально-эмоциональное развитие детей от трёх до шести лет» О.Л. Князевой, Р.Б. Стеркиной. В последнее время в жизни нашего общества материальные ценности стали преобладать над духовными. Поэтому наряду с акцентом на интеллектуальное развитие необходимо уделить должное внимание и эмоциональному миру дошкольн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едполагается реализация данного проекта как во время занятий с детьми, так и в свободное от них врем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езультатом проекта будут: презентация, цикл занятий, комплексы психогимнастики, сконструированный вместе с детьми настольный теат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ипотез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557360"/>
            <a:ext cx="8496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равильной организа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бо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 социально-эмоциональному воспитанию в ДО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ожно реш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облему вхождения ребён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еальный 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сновополагающий вопро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68360" y="1628640"/>
            <a:ext cx="8136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спланирова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чебно-воспитательную деятельнос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для максимально успешного достиж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ставленных целе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Определить основные направления работы по социально-эмоциональному воспита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зработать комплекс занятий и упражнений по теме проек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ть план взаимодействия с семьями дет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Внедрить в практику учебно-воспитательного процесса разработанные мероприят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оверить результативность педагогической деятельн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Этапы работы над проектом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актически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Заключ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Содержание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Создание комплекса психогимнастических упражнений на основе поэтических текстов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м солнце улыбается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дител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ши алые цвет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 летим под облакам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 лугу растут цветы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етер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Лягуш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рогулка в лес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Ёжик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ш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07:04Z</dcterms:created>
  <dc:creator>Сашок</dc:creator>
  <dc:description/>
  <dc:language>en-US</dc:language>
  <cp:lastModifiedBy>Никита</cp:lastModifiedBy>
  <dcterms:modified xsi:type="dcterms:W3CDTF">2011-12-15T05:27:08Z</dcterms:modified>
  <cp:revision>10</cp:revision>
  <dc:subject/>
  <dc:title>Тема проекта</dc:title>
</cp:coreProperties>
</file>